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D1A8-A4AE-4C86-9827-0DCE79DA5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C1C7-31CD-405E-9191-CABF4B6FD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1110-901B-4516-82C3-7624653EF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73D2-B788-44DD-BCE7-E1C68782B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3DB5-E33B-4BA8-8B4C-D19BE90B72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2C97-A4EB-412E-9055-A9CE5F6AB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FF78-8621-40BF-9138-BE6A1CBD46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BA4E-029C-4201-A6D9-7E1BC7D8B3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673B-4D40-4520-B9FD-CC336BE8D1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42A3-9D71-49C4-9E3D-93087E832A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0E8C-0840-4221-A4A9-B222DEC48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435F-98C5-4500-93EE-3E5454BDA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C76C-F28C-4BDF-83FC-A189C8D53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FD56-7144-4A5A-A610-B996585DF5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975A-8564-4243-990E-8385CC1CC9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7065-C56C-4650-8AD4-9693C1A29A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F28D-4926-48DE-A3C8-ABD725EF9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E8EF-B02A-4700-AF41-BD1C8798A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684E-3691-4F23-A0BF-27CA2B93A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DE0D-C363-4AF1-9C2D-716482396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16B0-A925-4826-A365-D08C55B86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92F3-A28E-4EEA-9E1B-C847DC90A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3935-38D6-4808-B05A-ADD150277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9DA2-F8E5-481D-AF6E-352B9B53B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C321-BD47-4940-B5AB-747E6FD38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9D9-6542-46CE-84A0-18026FE19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 - Advanced Swing Graphical User Interface Component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ebBrows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EditorPa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oolBa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wing Text Components and HTML Render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wing Toolba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w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SplitPa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abbedPa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Document Interfac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g and Dro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ational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bilit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rnet and World Wide Web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5-1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ToolBa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ToolBar is a JToolBar subclass that contains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navigating a WebBrowserPane. WebToolBar includes 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forward buttons and a text field for entering UR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back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 forwardButt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url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WebBrowserPane brows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"Web Navigation"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for Hyperlink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= 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.addHyperlink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62520" y="2057400"/>
            <a:ext cx="3885840" cy="1067400"/>
            <a:chOff x="3962520" y="2057400"/>
            <a:chExt cx="3885840" cy="1067400"/>
          </a:xfrm>
        </p:grpSpPr>
        <p:sp>
          <p:nvSpPr>
            <p:cNvPr id="135" name=""/>
            <p:cNvSpPr/>
            <p:nvPr/>
          </p:nvSpPr>
          <p:spPr>
            <a:xfrm>
              <a:off x="4780440" y="2057400"/>
              <a:ext cx="3067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commonly used navigation components fo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962520" y="2438280"/>
              <a:ext cx="81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76560" y="3886200"/>
            <a:ext cx="3047760" cy="1067400"/>
            <a:chOff x="4876560" y="3886200"/>
            <a:chExt cx="3047760" cy="1067400"/>
          </a:xfrm>
        </p:grpSpPr>
        <p:sp>
          <p:nvSpPr>
            <p:cNvPr id="138" name=""/>
            <p:cNvSpPr/>
            <p:nvPr/>
          </p:nvSpPr>
          <p:spPr>
            <a:xfrm>
              <a:off x="5448240" y="3886200"/>
              <a:ext cx="2476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takes as an argumen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Web p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76560" y="4267080"/>
              <a:ext cx="571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53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6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UR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webBrowser to user-entere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ttempt to load URL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urlTextField.getText(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ebBrowserPane.goToURL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invali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navigating to previous history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back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66720" y="762120"/>
            <a:ext cx="3429360" cy="824040"/>
            <a:chOff x="4266720" y="762120"/>
            <a:chExt cx="3429360" cy="824040"/>
          </a:xfrm>
        </p:grpSpPr>
        <p:sp>
          <p:nvSpPr>
            <p:cNvPr id="143" name=""/>
            <p:cNvSpPr/>
            <p:nvPr/>
          </p:nvSpPr>
          <p:spPr>
            <a:xfrm>
              <a:off x="5410080" y="762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rl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266720" y="7621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715000" y="3886200"/>
            <a:ext cx="3276720" cy="824040"/>
            <a:chOff x="5715000" y="3886200"/>
            <a:chExt cx="3276720" cy="824040"/>
          </a:xfrm>
        </p:grpSpPr>
        <p:sp>
          <p:nvSpPr>
            <p:cNvPr id="146" name=""/>
            <p:cNvSpPr/>
            <p:nvPr/>
          </p:nvSpPr>
          <p:spPr>
            <a:xfrm>
              <a:off x="6705720" y="3886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715000" y="426708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9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2-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navigate to previou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 url = webBrowserPane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navigating to next history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forward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navigate to next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 url = webBrowserPane.forw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display new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Buttons and JTextField to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ack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forwar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url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bToolBar constructor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4120" y="2895480"/>
            <a:ext cx="3732840" cy="824040"/>
            <a:chOff x="5334120" y="2895480"/>
            <a:chExt cx="3732840" cy="824040"/>
          </a:xfrm>
        </p:grpSpPr>
        <p:sp>
          <p:nvSpPr>
            <p:cNvPr id="151" name=""/>
            <p:cNvSpPr/>
            <p:nvPr/>
          </p:nvSpPr>
          <p:spPr>
            <a:xfrm>
              <a:off x="6578280" y="2895480"/>
              <a:ext cx="2488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334120" y="2895480"/>
              <a:ext cx="1244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52680" y="5410080"/>
            <a:ext cx="5562720" cy="824040"/>
            <a:chOff x="3352680" y="5410080"/>
            <a:chExt cx="5562720" cy="824040"/>
          </a:xfrm>
        </p:grpSpPr>
        <p:sp>
          <p:nvSpPr>
            <p:cNvPr id="154" name=""/>
            <p:cNvSpPr/>
            <p:nvPr/>
          </p:nvSpPr>
          <p:spPr>
            <a:xfrm>
              <a:off x="4724280" y="541008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rl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352680" y="5867280"/>
              <a:ext cx="1371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3 WebToolBar JToolBar subclass for navigating URLs in a WebBrowser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9-1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200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 for HyperlinkEvents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Update( Hyperlink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hyperlink was activated, go to hyperlink'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EventType() =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yperlinkEvent.EventType.ACTIVATE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URL from Hyperlink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event.getUR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vigate to URL and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bBrowserPane.goToURL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1066680"/>
            <a:ext cx="350532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yperlink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kes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Event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yperlink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heck the event type and retriev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yperlinkEvent’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191120" y="15998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4 WebBrowser application for browsing Web sites using WebBrowserPane and WebToolBa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7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 is an application for browsing Web sit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ToolBar and WebBrowserPa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CEN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4648320"/>
            <a:ext cx="3581640" cy="580680"/>
            <a:chOff x="4952880" y="4648320"/>
            <a:chExt cx="3581640" cy="580680"/>
          </a:xfrm>
        </p:grpSpPr>
        <p:sp>
          <p:nvSpPr>
            <p:cNvPr id="163" name=""/>
            <p:cNvSpPr/>
            <p:nvPr/>
          </p:nvSpPr>
          <p:spPr>
            <a:xfrm>
              <a:off x="5867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952880" y="4952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562360" y="5486400"/>
            <a:ext cx="3353040" cy="824040"/>
            <a:chOff x="5562360" y="5486400"/>
            <a:chExt cx="3353040" cy="824040"/>
          </a:xfrm>
        </p:grpSpPr>
        <p:sp>
          <p:nvSpPr>
            <p:cNvPr id="166" name=""/>
            <p:cNvSpPr/>
            <p:nvPr/>
          </p:nvSpPr>
          <p:spPr>
            <a:xfrm>
              <a:off x="6095880" y="5486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’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6236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4 WebBrowser application for browsing Web sites using WebBrowserPane and WebToolBa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0" name="webbrowser_a" descr=""/>
          <p:cNvPicPr/>
          <p:nvPr/>
        </p:nvPicPr>
        <p:blipFill>
          <a:blip r:embed="rId1"/>
          <a:stretch/>
        </p:blipFill>
        <p:spPr>
          <a:xfrm>
            <a:off x="0" y="2057400"/>
            <a:ext cx="3581280" cy="2441520"/>
          </a:xfrm>
          <a:prstGeom prst="rect">
            <a:avLst/>
          </a:prstGeom>
          <a:ln w="0">
            <a:noFill/>
          </a:ln>
        </p:spPr>
      </p:pic>
      <p:pic>
        <p:nvPicPr>
          <p:cNvPr id="171" name="webbrowser_b" descr=""/>
          <p:cNvPicPr/>
          <p:nvPr/>
        </p:nvPicPr>
        <p:blipFill>
          <a:blip r:embed="rId2"/>
          <a:stretch/>
        </p:blipFill>
        <p:spPr>
          <a:xfrm>
            <a:off x="3505320" y="4219560"/>
            <a:ext cx="3659040" cy="2638440"/>
          </a:xfrm>
          <a:prstGeom prst="rect">
            <a:avLst/>
          </a:prstGeom>
          <a:ln w="0">
            <a:noFill/>
          </a:ln>
        </p:spPr>
      </p:pic>
      <p:pic>
        <p:nvPicPr>
          <p:cNvPr id="172" name="webbrowser_toolbar" descr=""/>
          <p:cNvPicPr/>
          <p:nvPr/>
        </p:nvPicPr>
        <p:blipFill>
          <a:blip r:embed="rId3"/>
          <a:stretch/>
        </p:blipFill>
        <p:spPr>
          <a:xfrm>
            <a:off x="3581280" y="3352680"/>
            <a:ext cx="34387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 Swing A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functionality once in a reusabl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d method of the Command design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generated by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nable or disabl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3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3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onSamp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mmand design pattern with Swing A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wing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ample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exi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amp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Ac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ample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ActionSampl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ampleAction was invok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81280" y="2666880"/>
            <a:ext cx="3962520" cy="580680"/>
            <a:chOff x="3581280" y="2666880"/>
            <a:chExt cx="3962520" cy="580680"/>
          </a:xfrm>
        </p:grpSpPr>
        <p:sp>
          <p:nvSpPr>
            <p:cNvPr id="178" name=""/>
            <p:cNvSpPr/>
            <p:nvPr/>
          </p:nvSpPr>
          <p:spPr>
            <a:xfrm>
              <a:off x="4191120" y="26668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feren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58128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48320" y="3429000"/>
            <a:ext cx="3886200" cy="1310760"/>
            <a:chOff x="4648320" y="3429000"/>
            <a:chExt cx="3886200" cy="1310760"/>
          </a:xfrm>
        </p:grpSpPr>
        <p:sp>
          <p:nvSpPr>
            <p:cNvPr id="181" name=""/>
            <p:cNvSpPr/>
            <p:nvPr/>
          </p:nvSpPr>
          <p:spPr>
            <a:xfrm>
              <a:off x="5943600" y="342900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nonymous inner class that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s the instance to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648320" y="41148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67280" y="3733920"/>
            <a:ext cx="3124440" cy="1554120"/>
            <a:chOff x="5867280" y="3733920"/>
            <a:chExt cx="3124440" cy="1554120"/>
          </a:xfrm>
        </p:grpSpPr>
        <p:sp>
          <p:nvSpPr>
            <p:cNvPr id="184" name=""/>
            <p:cNvSpPr/>
            <p:nvPr/>
          </p:nvSpPr>
          <p:spPr>
            <a:xfrm>
              <a:off x="6400800" y="3733920"/>
              <a:ext cx="2590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ng event mechanism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activates a GUI component associat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867280" y="44197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4120" y="5105520"/>
            <a:ext cx="3429000" cy="1067400"/>
            <a:chOff x="5334120" y="5105520"/>
            <a:chExt cx="3429000" cy="1067400"/>
          </a:xfrm>
        </p:grpSpPr>
        <p:sp>
          <p:nvSpPr>
            <p:cNvPr id="187" name=""/>
            <p:cNvSpPr/>
            <p:nvPr/>
          </p:nvSpPr>
          <p:spPr>
            <a:xfrm>
              <a:off x="6172200" y="510552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 dialog to inform the user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invok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33412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468680" y="5943600"/>
            <a:ext cx="3760920" cy="580680"/>
            <a:chOff x="4468680" y="5943600"/>
            <a:chExt cx="3760920" cy="580680"/>
          </a:xfrm>
        </p:grpSpPr>
        <p:sp>
          <p:nvSpPr>
            <p:cNvPr id="190" name=""/>
            <p:cNvSpPr/>
            <p:nvPr/>
          </p:nvSpPr>
          <p:spPr>
            <a:xfrm>
              <a:off x="5334120" y="5943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GUI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468680" y="6248520"/>
              <a:ext cx="8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6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5-7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 Actio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Help24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Sampl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exitAc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exit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.showMessageDialog( ActionSampl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exitAction was invok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XI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181480" y="533520"/>
            <a:ext cx="3429000" cy="2209680"/>
            <a:chOff x="5181480" y="533520"/>
            <a:chExt cx="3429000" cy="2209680"/>
          </a:xfrm>
        </p:grpSpPr>
        <p:sp>
          <p:nvSpPr>
            <p:cNvPr id="195" name=""/>
            <p:cNvSpPr/>
            <p:nvPr/>
          </p:nvSpPr>
          <p:spPr>
            <a:xfrm>
              <a:off x="6629400" y="533520"/>
              <a:ext cx="19810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edly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fig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866920" y="7621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24120" y="121932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562360" y="1219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81480" y="121932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647960" y="2590920"/>
            <a:ext cx="4115160" cy="1310760"/>
            <a:chOff x="4647960" y="2590920"/>
            <a:chExt cx="4115160" cy="1310760"/>
          </a:xfrm>
        </p:grpSpPr>
        <p:sp>
          <p:nvSpPr>
            <p:cNvPr id="201" name=""/>
            <p:cNvSpPr/>
            <p:nvPr/>
          </p:nvSpPr>
          <p:spPr>
            <a:xfrm>
              <a:off x="6172200" y="25909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nonymous inner class that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s the instance to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647960" y="327672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867280" y="2819520"/>
            <a:ext cx="3124440" cy="1554120"/>
            <a:chOff x="5867280" y="2819520"/>
            <a:chExt cx="3124440" cy="1554120"/>
          </a:xfrm>
        </p:grpSpPr>
        <p:sp>
          <p:nvSpPr>
            <p:cNvPr id="204" name=""/>
            <p:cNvSpPr/>
            <p:nvPr/>
          </p:nvSpPr>
          <p:spPr>
            <a:xfrm>
              <a:off x="6400800" y="2819520"/>
              <a:ext cx="2590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ng event mechanism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activates a GUI component associat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867280" y="34290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81480" y="5181480"/>
            <a:ext cx="3810240" cy="1143000"/>
            <a:chOff x="5181480" y="5181480"/>
            <a:chExt cx="3810240" cy="1143000"/>
          </a:xfrm>
        </p:grpSpPr>
        <p:sp>
          <p:nvSpPr>
            <p:cNvPr id="207" name=""/>
            <p:cNvSpPr/>
            <p:nvPr/>
          </p:nvSpPr>
          <p:spPr>
            <a:xfrm>
              <a:off x="6553080" y="518148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edly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fig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5181480" y="563868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095880" y="57150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86400" y="4038480"/>
            <a:ext cx="3429000" cy="1067400"/>
            <a:chOff x="5486400" y="4038480"/>
            <a:chExt cx="3429000" cy="1067400"/>
          </a:xfrm>
        </p:grpSpPr>
        <p:sp>
          <p:nvSpPr>
            <p:cNvPr id="211" name=""/>
            <p:cNvSpPr/>
            <p:nvPr/>
          </p:nvSpPr>
          <p:spPr>
            <a:xfrm>
              <a:off x="6324480" y="403848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ssage dialog to inform the user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invok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86400" y="4571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9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3-9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8-1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File menu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MenuItem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Bar and add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JToolBar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Buttons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52520" y="228600"/>
            <a:ext cx="3657960" cy="1067400"/>
            <a:chOff x="4952520" y="228600"/>
            <a:chExt cx="3657960" cy="1067400"/>
          </a:xfrm>
        </p:grpSpPr>
        <p:sp>
          <p:nvSpPr>
            <p:cNvPr id="216" name=""/>
            <p:cNvSpPr/>
            <p:nvPr/>
          </p:nvSpPr>
          <p:spPr>
            <a:xfrm>
              <a:off x="6172200" y="22860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edly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fig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5409720" y="53316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952520" y="68580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038480" y="1676520"/>
            <a:ext cx="3760920" cy="580680"/>
            <a:chOff x="4038480" y="1676520"/>
            <a:chExt cx="3760920" cy="580680"/>
          </a:xfrm>
        </p:grpSpPr>
        <p:sp>
          <p:nvSpPr>
            <p:cNvPr id="220" name=""/>
            <p:cNvSpPr/>
            <p:nvPr/>
          </p:nvSpPr>
          <p:spPr>
            <a:xfrm>
              <a:off x="4903920" y="16765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associated GUI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038480" y="1981440"/>
              <a:ext cx="8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733560" y="2590920"/>
            <a:ext cx="4496040" cy="1218960"/>
            <a:chOff x="3733560" y="2590920"/>
            <a:chExt cx="4496040" cy="1218960"/>
          </a:xfrm>
        </p:grpSpPr>
        <p:sp>
          <p:nvSpPr>
            <p:cNvPr id="223" name=""/>
            <p:cNvSpPr/>
            <p:nvPr/>
          </p:nvSpPr>
          <p:spPr>
            <a:xfrm>
              <a:off x="5181480" y="259092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set menu mnemonic ke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571640" y="25909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886200" y="30481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33560" y="3048120"/>
              <a:ext cx="1447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657600" y="4191120"/>
            <a:ext cx="5181480" cy="824040"/>
            <a:chOff x="3657600" y="4191120"/>
            <a:chExt cx="5181480" cy="824040"/>
          </a:xfrm>
        </p:grpSpPr>
        <p:sp>
          <p:nvSpPr>
            <p:cNvPr id="228" name=""/>
            <p:cNvSpPr/>
            <p:nvPr/>
          </p:nvSpPr>
          <p:spPr>
            <a:xfrm>
              <a:off x="4495680" y="4191120"/>
              <a:ext cx="4343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6576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33560" y="5105520"/>
            <a:ext cx="4419720" cy="990360"/>
            <a:chOff x="3733560" y="5105520"/>
            <a:chExt cx="4419720" cy="990360"/>
          </a:xfrm>
        </p:grpSpPr>
        <p:sp>
          <p:nvSpPr>
            <p:cNvPr id="231" name=""/>
            <p:cNvSpPr/>
            <p:nvPr/>
          </p:nvSpPr>
          <p:spPr>
            <a:xfrm>
              <a:off x="5257800" y="5105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4343400" y="53337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733560" y="556272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Windowing Toolkit (AW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w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Split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abbed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swing components to build applications for users with dis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3-11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8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ampl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Button.setAction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exit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ex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exitAction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JButtons in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sampl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ex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oolBar and buttonPanel to JFrame's content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Sample samp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800240" y="304920"/>
            <a:ext cx="4267440" cy="1067400"/>
            <a:chOff x="4800240" y="304920"/>
            <a:chExt cx="4267440" cy="1067400"/>
          </a:xfrm>
        </p:grpSpPr>
        <p:sp>
          <p:nvSpPr>
            <p:cNvPr id="237" name=""/>
            <p:cNvSpPr/>
            <p:nvPr/>
          </p:nvSpPr>
          <p:spPr>
            <a:xfrm>
              <a:off x="5867280" y="3049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ssoc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800240" y="6094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486400" y="76212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0760" y="1828800"/>
            <a:ext cx="3505320" cy="337320"/>
            <a:chOff x="4190760" y="1828800"/>
            <a:chExt cx="3505320" cy="337320"/>
          </a:xfrm>
        </p:grpSpPr>
        <p:sp>
          <p:nvSpPr>
            <p:cNvPr id="241" name=""/>
            <p:cNvSpPr/>
            <p:nvPr/>
          </p:nvSpPr>
          <p:spPr>
            <a:xfrm>
              <a:off x="4876920" y="182880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9076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333760" y="2438280"/>
            <a:ext cx="3048120" cy="824040"/>
            <a:chOff x="5333760" y="2438280"/>
            <a:chExt cx="3048120" cy="824040"/>
          </a:xfrm>
        </p:grpSpPr>
        <p:sp>
          <p:nvSpPr>
            <p:cNvPr id="244" name=""/>
            <p:cNvSpPr/>
            <p:nvPr/>
          </p:nvSpPr>
          <p:spPr>
            <a:xfrm>
              <a:off x="6019920" y="24382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33376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5 ActionSample application demonstrating the Command design pattern with Swing Actions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actionsample_a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248" name="actionsample_b" descr=""/>
          <p:cNvPicPr/>
          <p:nvPr/>
        </p:nvPicPr>
        <p:blipFill>
          <a:blip r:embed="rId2"/>
          <a:stretch/>
        </p:blipFill>
        <p:spPr>
          <a:xfrm>
            <a:off x="3886200" y="45720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249" name="actionsample_c" descr=""/>
          <p:cNvPicPr/>
          <p:nvPr/>
        </p:nvPicPr>
        <p:blipFill>
          <a:blip r:embed="rId3"/>
          <a:stretch/>
        </p:blipFill>
        <p:spPr>
          <a:xfrm>
            <a:off x="2438280" y="2133720"/>
            <a:ext cx="2390760" cy="1238040"/>
          </a:xfrm>
          <a:prstGeom prst="rect">
            <a:avLst/>
          </a:prstGeom>
          <a:ln w="0">
            <a:noFill/>
          </a:ln>
        </p:spPr>
      </p:pic>
      <p:pic>
        <p:nvPicPr>
          <p:cNvPr id="250" name="actionsample_d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251" name="actionsample_e" descr=""/>
          <p:cNvPicPr/>
          <p:nvPr/>
        </p:nvPicPr>
        <p:blipFill>
          <a:blip r:embed="rId5"/>
          <a:stretch/>
        </p:blipFill>
        <p:spPr>
          <a:xfrm>
            <a:off x="3962520" y="4114800"/>
            <a:ext cx="25714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w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ctions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447920" y="1336680"/>
          <a:ext cx="6095880" cy="40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36680"/>
                    <a:ext cx="609588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4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SplitPa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abbedPa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information in a small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litP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wo components with a div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TabbedP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parate components with file-folder-style t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7 FavoritesWebBrowser application for displaying two Web pages side-by-side using JSplit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1-3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avorites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avoritesWebBrowser is an application for browsing Web sit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WebToolBar and WebBrowserPane and displaying an 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ge containing links to favorite Web si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split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vorites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favorites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voritesWebBrow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itel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for displaying favorite si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23920" y="5334120"/>
            <a:ext cx="3657960" cy="1067400"/>
            <a:chOff x="4723920" y="5334120"/>
            <a:chExt cx="3657960" cy="1067400"/>
          </a:xfrm>
        </p:grpSpPr>
        <p:sp>
          <p:nvSpPr>
            <p:cNvPr id="260" name=""/>
            <p:cNvSpPr/>
            <p:nvPr/>
          </p:nvSpPr>
          <p:spPr>
            <a:xfrm>
              <a:off x="5410080" y="53341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Web pages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navigating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723920" y="5867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257800" y="5791320"/>
            <a:ext cx="2590920" cy="824040"/>
            <a:chOff x="5257800" y="5791320"/>
            <a:chExt cx="2590920" cy="824040"/>
          </a:xfrm>
        </p:grpSpPr>
        <p:sp>
          <p:nvSpPr>
            <p:cNvPr id="263" name=""/>
            <p:cNvSpPr/>
            <p:nvPr/>
          </p:nvSpPr>
          <p:spPr>
            <a:xfrm>
              <a:off x="5715000" y="579132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n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ne to display favorites.htm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257800" y="62485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7 FavoritesWebBrowser application for displaying two Web pages side-by-side using JSplit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bToolBar as listener for Hyperlink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 favorites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BrowserPane.addHyperlinkListener( toolBar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favorites.html in favorites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BrowserPane.goToUR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s.htm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SplitPane with horizontal split (side-by-sid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add WebBrowserPanes with JScrollPa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plitPane split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litPa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litPan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RIZONTAL_SPL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avorites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ition divider between WebBrowserPa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itPane.setDividerLoc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uttons for expanding/contracting divi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plitPane.setOneTouchExpand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splitPane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638680" y="990720"/>
            <a:ext cx="3353040" cy="1067400"/>
            <a:chOff x="5638680" y="990720"/>
            <a:chExt cx="3353040" cy="1067400"/>
          </a:xfrm>
        </p:grpSpPr>
        <p:sp>
          <p:nvSpPr>
            <p:cNvPr id="268" name=""/>
            <p:cNvSpPr/>
            <p:nvPr/>
          </p:nvSpPr>
          <p:spPr>
            <a:xfrm>
              <a:off x="6248520" y="9907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To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vorites.htm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vorites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638680" y="1523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00240" y="2057400"/>
            <a:ext cx="3505680" cy="1067400"/>
            <a:chOff x="4800240" y="2057400"/>
            <a:chExt cx="3505680" cy="1067400"/>
          </a:xfrm>
        </p:grpSpPr>
        <p:sp>
          <p:nvSpPr>
            <p:cNvPr id="271" name=""/>
            <p:cNvSpPr/>
            <p:nvPr/>
          </p:nvSpPr>
          <p:spPr>
            <a:xfrm>
              <a:off x="5410080" y="205740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croll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reate a horizontal-spli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crollPan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80024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571640" y="2590920"/>
            <a:ext cx="3581640" cy="1554120"/>
            <a:chOff x="4571640" y="2590920"/>
            <a:chExt cx="3581640" cy="1554120"/>
          </a:xfrm>
        </p:grpSpPr>
        <p:sp>
          <p:nvSpPr>
            <p:cNvPr id="274" name=""/>
            <p:cNvSpPr/>
            <p:nvPr/>
          </p:nvSpPr>
          <p:spPr>
            <a:xfrm>
              <a:off x="5181480" y="2590920"/>
              <a:ext cx="29718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DividerLoc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exact divider position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vorites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57164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76560" y="3048120"/>
            <a:ext cx="3429360" cy="1797480"/>
            <a:chOff x="4876560" y="3048120"/>
            <a:chExt cx="3429360" cy="1797480"/>
          </a:xfrm>
        </p:grpSpPr>
        <p:sp>
          <p:nvSpPr>
            <p:cNvPr id="277" name=""/>
            <p:cNvSpPr/>
            <p:nvPr/>
          </p:nvSpPr>
          <p:spPr>
            <a:xfrm>
              <a:off x="5486400" y="3048120"/>
              <a:ext cx="28195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OneTouchExpand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wo buttons to the divider that enable the user to expand or collapse the divider to one side or the other with a single clic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87656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7 FavoritesWebBrowser application for displaying two Web pages side-by-side using JSplitPan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vorites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vorites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81" name="favoriteswebbrowser_a" descr=""/>
          <p:cNvPicPr/>
          <p:nvPr/>
        </p:nvPicPr>
        <p:blipFill>
          <a:blip r:embed="rId1"/>
          <a:stretch/>
        </p:blipFill>
        <p:spPr>
          <a:xfrm>
            <a:off x="0" y="19810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82" name="favoriteswebbrowser_b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8 Tabbed interface of Display Properties dialog box in Window 200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display_properties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3848400" cy="4267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560" y="5257800"/>
            <a:ext cx="67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bed interface of Display Properties dialog box in Windows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657600" y="76212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14800" y="7621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495680" y="7621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952880" y="7621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905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371600" y="7621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bedPane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bedPaneWebBrowser is an application that us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TabbedPane to display multiple Web brows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tabbed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bedPane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abbedPane for displaying multiple browser ta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bedPane tabbed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bed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abbedPane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bedPaneWebBrows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TabbedPane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rst browser ta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NewTa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TabbedPane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tabbedPan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638680" y="3352680"/>
            <a:ext cx="3200400" cy="580680"/>
            <a:chOff x="5638680" y="3352680"/>
            <a:chExt cx="3200400" cy="580680"/>
          </a:xfrm>
        </p:grpSpPr>
        <p:sp>
          <p:nvSpPr>
            <p:cNvPr id="296" name=""/>
            <p:cNvSpPr/>
            <p:nvPr/>
          </p:nvSpPr>
          <p:spPr>
            <a:xfrm>
              <a:off x="6095880" y="33526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38680" y="365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66880" y="4572000"/>
            <a:ext cx="4724640" cy="1067400"/>
            <a:chOff x="2666880" y="4572000"/>
            <a:chExt cx="4724640" cy="1067400"/>
          </a:xfrm>
        </p:grpSpPr>
        <p:sp>
          <p:nvSpPr>
            <p:cNvPr id="299" name=""/>
            <p:cNvSpPr/>
            <p:nvPr/>
          </p:nvSpPr>
          <p:spPr>
            <a:xfrm>
              <a:off x="4038480" y="457200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bbedPane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the fir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lace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66880" y="5105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19720" y="5181480"/>
            <a:ext cx="3352680" cy="824040"/>
            <a:chOff x="4419720" y="5181480"/>
            <a:chExt cx="3352680" cy="824040"/>
          </a:xfrm>
        </p:grpSpPr>
        <p:sp>
          <p:nvSpPr>
            <p:cNvPr id="302" name=""/>
            <p:cNvSpPr/>
            <p:nvPr/>
          </p:nvSpPr>
          <p:spPr>
            <a:xfrm>
              <a:off x="4876920" y="5181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bbedPane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419720" y="563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6-6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3-5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JMenu for creating new browser tab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ab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abbedPane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browser ta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NewTab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to contain WebBrowserPane and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bBrowserPane and WebToolBar to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ne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Panel to JTabbed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bedPane.addTab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rows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tabbedPane.getTabCount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343040" y="533520"/>
            <a:ext cx="3886560" cy="1067400"/>
            <a:chOff x="4343040" y="533520"/>
            <a:chExt cx="3886560" cy="1067400"/>
          </a:xfrm>
        </p:grpSpPr>
        <p:sp>
          <p:nvSpPr>
            <p:cNvPr id="307" name=""/>
            <p:cNvSpPr/>
            <p:nvPr/>
          </p:nvSpPr>
          <p:spPr>
            <a:xfrm>
              <a:off x="5029200" y="5335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nu, and ad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xiting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343040" y="10666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428640" y="2362320"/>
            <a:ext cx="3886560" cy="824040"/>
            <a:chOff x="3428640" y="2362320"/>
            <a:chExt cx="3886560" cy="824040"/>
          </a:xfrm>
        </p:grpSpPr>
        <p:sp>
          <p:nvSpPr>
            <p:cNvPr id="310" name=""/>
            <p:cNvSpPr/>
            <p:nvPr/>
          </p:nvSpPr>
          <p:spPr>
            <a:xfrm>
              <a:off x="4114800" y="236232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s i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28640" y="28954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38320" y="3124080"/>
            <a:ext cx="3353400" cy="824040"/>
            <a:chOff x="5638320" y="3124080"/>
            <a:chExt cx="3353400" cy="824040"/>
          </a:xfrm>
        </p:grpSpPr>
        <p:sp>
          <p:nvSpPr>
            <p:cNvPr id="313" name=""/>
            <p:cNvSpPr/>
            <p:nvPr/>
          </p:nvSpPr>
          <p:spPr>
            <a:xfrm>
              <a:off x="6324480" y="3124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laying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638320" y="35053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952520" y="4266720"/>
            <a:ext cx="3962880" cy="824400"/>
            <a:chOff x="4952520" y="4266720"/>
            <a:chExt cx="3962880" cy="824400"/>
          </a:xfrm>
        </p:grpSpPr>
        <p:sp>
          <p:nvSpPr>
            <p:cNvPr id="316" name=""/>
            <p:cNvSpPr/>
            <p:nvPr/>
          </p:nvSpPr>
          <p:spPr>
            <a:xfrm>
              <a:off x="6248520" y="4267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dd them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52520" y="464832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5866920" y="426672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86400" y="4724280"/>
            <a:ext cx="3505320" cy="1797480"/>
            <a:chOff x="5486400" y="4724280"/>
            <a:chExt cx="3505320" cy="1797480"/>
          </a:xfrm>
        </p:grpSpPr>
        <p:sp>
          <p:nvSpPr>
            <p:cNvPr id="320" name=""/>
            <p:cNvSpPr/>
            <p:nvPr/>
          </p:nvSpPr>
          <p:spPr>
            <a:xfrm>
              <a:off x="6400800" y="472428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application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48640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 WebBrowser Us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EditorPa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oolBa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rows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text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ng containe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7-8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8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7-10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creating new browser ta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ab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ewTab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Tab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Browser Ta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 New Web Browser Ta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create new browser ta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NewTab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w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0" y="609480"/>
            <a:ext cx="4267080" cy="580680"/>
            <a:chOff x="4572000" y="609480"/>
            <a:chExt cx="4267080" cy="580680"/>
          </a:xfrm>
        </p:grpSpPr>
        <p:sp>
          <p:nvSpPr>
            <p:cNvPr id="325" name=""/>
            <p:cNvSpPr/>
            <p:nvPr/>
          </p:nvSpPr>
          <p:spPr>
            <a:xfrm>
              <a:off x="5562720" y="60948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Tab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4572000" y="68544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971800" y="2819520"/>
            <a:ext cx="4800600" cy="1067400"/>
            <a:chOff x="2971800" y="2819520"/>
            <a:chExt cx="4800600" cy="1067400"/>
          </a:xfrm>
        </p:grpSpPr>
        <p:sp>
          <p:nvSpPr>
            <p:cNvPr id="328" name=""/>
            <p:cNvSpPr/>
            <p:nvPr/>
          </p:nvSpPr>
          <p:spPr>
            <a:xfrm>
              <a:off x="3962520" y="281952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Ta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new tab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971800" y="3123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343400" y="4267080"/>
            <a:ext cx="4267080" cy="580680"/>
            <a:chOff x="4343400" y="4267080"/>
            <a:chExt cx="4267080" cy="580680"/>
          </a:xfrm>
        </p:grpSpPr>
        <p:sp>
          <p:nvSpPr>
            <p:cNvPr id="331" name=""/>
            <p:cNvSpPr/>
            <p:nvPr/>
          </p:nvSpPr>
          <p:spPr>
            <a:xfrm>
              <a:off x="5334120" y="426708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4343400" y="434304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9 TabbedPaneWebBrowser application using JTabbedPane to browse multiple Web sites concurrentl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bedPane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bedPane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5 Multiple-Document Interf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Docum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multiple documents in a single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DesktopP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InternalFr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DI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DIWebBrowser is an application that uses J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JInternalFrames to create a multiple-document-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lication for Web brows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md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DI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DesktopPane for multiple document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JDesktopPane desktop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Desktop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DI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DIWebBrows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DI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rst browser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DesktopPane to conten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desktopPan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81120" y="3048120"/>
            <a:ext cx="3277080" cy="824040"/>
            <a:chOff x="5181120" y="3048120"/>
            <a:chExt cx="3277080" cy="824040"/>
          </a:xfrm>
        </p:grpSpPr>
        <p:sp>
          <p:nvSpPr>
            <p:cNvPr id="340" name=""/>
            <p:cNvSpPr/>
            <p:nvPr/>
          </p:nvSpPr>
          <p:spPr>
            <a:xfrm>
              <a:off x="5867280" y="3048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s a contain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181120" y="35053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95320" y="5486400"/>
            <a:ext cx="3353400" cy="580680"/>
            <a:chOff x="4495320" y="5486400"/>
            <a:chExt cx="3353400" cy="580680"/>
          </a:xfrm>
        </p:grpSpPr>
        <p:sp>
          <p:nvSpPr>
            <p:cNvPr id="343" name=""/>
            <p:cNvSpPr/>
            <p:nvPr/>
          </p:nvSpPr>
          <p:spPr>
            <a:xfrm>
              <a:off x="5181480" y="5486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5320" y="5715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2-5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JMenu for creating new window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Window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Sepa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new browser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NewWindow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new JInternalFrame that is resizable, closabl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ximizable and iconif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InternalFrame fr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InternalFram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os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iz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conif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WebBrowserPane and WebToolBar to JInternalFr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frame.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038480" y="685800"/>
            <a:ext cx="4343400" cy="1371600"/>
            <a:chOff x="4038480" y="685800"/>
            <a:chExt cx="4343400" cy="1371600"/>
          </a:xfrm>
        </p:grpSpPr>
        <p:sp>
          <p:nvSpPr>
            <p:cNvPr id="348" name=""/>
            <p:cNvSpPr/>
            <p:nvPr/>
          </p:nvSpPr>
          <p:spPr>
            <a:xfrm>
              <a:off x="5029200" y="68580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 the application menu.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nu includ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creating new browser window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exiting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266720" y="1143000"/>
              <a:ext cx="76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38480" y="1219320"/>
              <a:ext cx="9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733920" y="2286000"/>
            <a:ext cx="4647960" cy="824040"/>
            <a:chOff x="3733920" y="2286000"/>
            <a:chExt cx="4647960" cy="824040"/>
          </a:xfrm>
        </p:grpSpPr>
        <p:sp>
          <p:nvSpPr>
            <p:cNvPr id="352" name=""/>
            <p:cNvSpPr/>
            <p:nvPr/>
          </p:nvSpPr>
          <p:spPr>
            <a:xfrm>
              <a:off x="4495680" y="228600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NewWind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response to the user invok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Window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733920" y="274320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81280" y="3581280"/>
            <a:ext cx="4647960" cy="824040"/>
            <a:chOff x="3581280" y="3581280"/>
            <a:chExt cx="4647960" cy="824040"/>
          </a:xfrm>
        </p:grpSpPr>
        <p:sp>
          <p:nvSpPr>
            <p:cNvPr id="355" name=""/>
            <p:cNvSpPr/>
            <p:nvPr/>
          </p:nvSpPr>
          <p:spPr>
            <a:xfrm>
              <a:off x="4343040" y="358128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itle “Browser” and configure it as resizable, colsable, maximizable and iconif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581280" y="403848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876920" y="4419720"/>
            <a:ext cx="3809880" cy="824040"/>
            <a:chOff x="4876920" y="4419720"/>
            <a:chExt cx="3809880" cy="824040"/>
          </a:xfrm>
        </p:grpSpPr>
        <p:sp>
          <p:nvSpPr>
            <p:cNvPr id="358" name=""/>
            <p:cNvSpPr/>
            <p:nvPr/>
          </p:nvSpPr>
          <p:spPr>
            <a:xfrm>
              <a:off x="5638680" y="441972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and navigating Web pa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876920" y="487692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562720" y="5410080"/>
            <a:ext cx="3200400" cy="1310760"/>
            <a:chOff x="5562720" y="5410080"/>
            <a:chExt cx="3200400" cy="1310760"/>
          </a:xfrm>
        </p:grpSpPr>
        <p:sp>
          <p:nvSpPr>
            <p:cNvPr id="361" name=""/>
            <p:cNvSpPr/>
            <p:nvPr/>
          </p:nvSpPr>
          <p:spPr>
            <a:xfrm>
              <a:off x="6019920" y="541008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ontent pane and 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content pa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562720" y="6019560"/>
              <a:ext cx="457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3-7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4-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JInternalFrame opaque and set its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JInternalFrame to prevent it from obscuring ot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 offse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desktopPane.getAllFrames()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Location( offset, offset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InternalFrame to JDesktop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sktopPane.add( fr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JInternalFrame vi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am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creating new browser window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Window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ewWindow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Window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SHORT_DESCRIP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 New Web Browser Windo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MNEMONIC_KEY, new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create new browser wind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NewWindo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581280" y="304920"/>
            <a:ext cx="5334120" cy="580680"/>
            <a:chOff x="3581280" y="304920"/>
            <a:chExt cx="5334120" cy="580680"/>
          </a:xfrm>
        </p:grpSpPr>
        <p:sp>
          <p:nvSpPr>
            <p:cNvPr id="366" name=""/>
            <p:cNvSpPr/>
            <p:nvPr/>
          </p:nvSpPr>
          <p:spPr>
            <a:xfrm>
              <a:off x="4038480" y="304920"/>
              <a:ext cx="4876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iz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ropriat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581280" y="53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95680" y="685800"/>
            <a:ext cx="4114800" cy="1067400"/>
            <a:chOff x="4495680" y="685800"/>
            <a:chExt cx="4114800" cy="1067400"/>
          </a:xfrm>
        </p:grpSpPr>
        <p:sp>
          <p:nvSpPr>
            <p:cNvPr id="369" name=""/>
            <p:cNvSpPr/>
            <p:nvPr/>
          </p:nvSpPr>
          <p:spPr>
            <a:xfrm>
              <a:off x="4952880" y="685800"/>
              <a:ext cx="3657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Loc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osition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an offset from the previous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495680" y="1219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05320" y="1600200"/>
            <a:ext cx="4572000" cy="580680"/>
            <a:chOff x="3505320" y="1600200"/>
            <a:chExt cx="4572000" cy="580680"/>
          </a:xfrm>
        </p:grpSpPr>
        <p:sp>
          <p:nvSpPr>
            <p:cNvPr id="372" name=""/>
            <p:cNvSpPr/>
            <p:nvPr/>
          </p:nvSpPr>
          <p:spPr>
            <a:xfrm>
              <a:off x="3962520" y="160020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Desktop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displ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50532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05320" y="2133720"/>
            <a:ext cx="5562360" cy="580680"/>
            <a:chOff x="3505320" y="2133720"/>
            <a:chExt cx="5562360" cy="580680"/>
          </a:xfrm>
        </p:grpSpPr>
        <p:sp>
          <p:nvSpPr>
            <p:cNvPr id="375" name=""/>
            <p:cNvSpPr/>
            <p:nvPr/>
          </p:nvSpPr>
          <p:spPr>
            <a:xfrm>
              <a:off x="3809880" y="2133720"/>
              <a:ext cx="5257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Visi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mak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i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5053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657600" y="3200040"/>
            <a:ext cx="5029200" cy="414000"/>
            <a:chOff x="3657600" y="3200040"/>
            <a:chExt cx="5029200" cy="414000"/>
          </a:xfrm>
        </p:grpSpPr>
        <p:sp>
          <p:nvSpPr>
            <p:cNvPr id="378" name=""/>
            <p:cNvSpPr/>
            <p:nvPr/>
          </p:nvSpPr>
          <p:spPr>
            <a:xfrm>
              <a:off x="4952880" y="3276720"/>
              <a:ext cx="3733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ewWindow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3657600" y="320004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4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 for exiting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Ac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itActi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name,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NAM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SHORT_DESCRIP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utValue( Action.MNEMONIC_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hen Action invoked, exit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DI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DI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200040" y="685440"/>
            <a:ext cx="4343400" cy="414000"/>
            <a:chOff x="3200040" y="685440"/>
            <a:chExt cx="4343400" cy="414000"/>
          </a:xfrm>
        </p:grpSpPr>
        <p:sp>
          <p:nvSpPr>
            <p:cNvPr id="383" name=""/>
            <p:cNvSpPr/>
            <p:nvPr/>
          </p:nvSpPr>
          <p:spPr>
            <a:xfrm>
              <a:off x="4318920" y="762120"/>
              <a:ext cx="3224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inne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3200040" y="685440"/>
              <a:ext cx="1118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0 MDIWebBrowser application using JDesktopPane and JInternalFrames to browse multiple Web sites concurrently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mdiwebbrowser_a" descr=""/>
          <p:cNvPicPr/>
          <p:nvPr/>
        </p:nvPicPr>
        <p:blipFill>
          <a:blip r:embed="rId1"/>
          <a:stretch/>
        </p:blipFill>
        <p:spPr>
          <a:xfrm>
            <a:off x="0" y="0"/>
            <a:ext cx="4726080" cy="3543480"/>
          </a:xfrm>
          <a:prstGeom prst="rect">
            <a:avLst/>
          </a:prstGeom>
          <a:ln w="0">
            <a:noFill/>
          </a:ln>
        </p:spPr>
      </p:pic>
      <p:pic>
        <p:nvPicPr>
          <p:cNvPr id="387" name="mdiwebbrowser_b" descr=""/>
          <p:cNvPicPr/>
          <p:nvPr/>
        </p:nvPicPr>
        <p:blipFill>
          <a:blip r:embed="rId2"/>
          <a:stretch/>
        </p:blipFill>
        <p:spPr>
          <a:xfrm>
            <a:off x="2895480" y="3486240"/>
            <a:ext cx="4497480" cy="33717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952880" y="2286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InternalFr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352320" y="457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523520" y="457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2057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on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36232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2720" y="2362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666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81680" y="30481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on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Internal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28600" y="34286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51814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Internal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828800" y="3962160"/>
            <a:ext cx="2362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685800"/>
            <a:ext cx="205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the mouse over any corner of a child window to resize the window (if resizing is allow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648320" y="1295280"/>
            <a:ext cx="3045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6 Drag and Drop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ve items around the desk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ve and copy data among applications using mouse ges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transfer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g-and-drop 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nD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nDWebBrowser is an application for viewing Web pag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g and dro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d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nd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datatransf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nD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nD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nDWebBrow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rag-and-Drop Web Brows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495320" y="4572000"/>
            <a:ext cx="3810600" cy="1447920"/>
            <a:chOff x="4495320" y="4572000"/>
            <a:chExt cx="3810600" cy="1447920"/>
          </a:xfrm>
        </p:grpSpPr>
        <p:sp>
          <p:nvSpPr>
            <p:cNvPr id="408" name=""/>
            <p:cNvSpPr/>
            <p:nvPr/>
          </p:nvSpPr>
          <p:spPr>
            <a:xfrm>
              <a:off x="5257800" y="457200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ponent for viewing Web pages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navigation contro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495320" y="5105520"/>
              <a:ext cx="76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.1 Swing Text Components and HTML Rende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Tex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Fiel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single-line text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multiple lines text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rendering HTML documents and Rich Text Format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1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1-10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WebBrowserPane to accept drop operations,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opTargetHandler as the DropTarget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.setDropTarge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( browserPan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Handler()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ner class to handle DropTarget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Hand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Target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drop op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( DropTargetDrop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dropped Transferab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ansferable transferable = event.getTransfer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Transferable is a List of Files, accept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ransferable.isDataFlavorSuppor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Flav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vaFileListFlav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ccept the drop operation to copy the object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op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647960" y="990720"/>
            <a:ext cx="4115160" cy="824040"/>
            <a:chOff x="4647960" y="990720"/>
            <a:chExt cx="4115160" cy="824040"/>
          </a:xfrm>
        </p:grpSpPr>
        <p:sp>
          <p:nvSpPr>
            <p:cNvPr id="413" name=""/>
            <p:cNvSpPr/>
            <p:nvPr/>
          </p:nvSpPr>
          <p:spPr>
            <a:xfrm>
              <a:off x="5638680" y="99072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7960" y="9907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724280" y="1447920"/>
            <a:ext cx="4267440" cy="1218960"/>
            <a:chOff x="4724280" y="1447920"/>
            <a:chExt cx="4267440" cy="1218960"/>
          </a:xfrm>
        </p:grpSpPr>
        <p:sp>
          <p:nvSpPr>
            <p:cNvPr id="416" name=""/>
            <p:cNvSpPr/>
            <p:nvPr/>
          </p:nvSpPr>
          <p:spPr>
            <a:xfrm>
              <a:off x="5181480" y="144792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drag-and-drop operation events related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724280" y="20574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333760" y="2057400"/>
            <a:ext cx="3276360" cy="1219320"/>
            <a:chOff x="5333760" y="2057400"/>
            <a:chExt cx="3276360" cy="1219320"/>
          </a:xfrm>
        </p:grpSpPr>
        <p:sp>
          <p:nvSpPr>
            <p:cNvPr id="419" name=""/>
            <p:cNvSpPr/>
            <p:nvPr/>
          </p:nvSpPr>
          <p:spPr>
            <a:xfrm>
              <a:off x="5790960" y="205740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drop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invoked when the user drops an object o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333760" y="266724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486400" y="2514600"/>
            <a:ext cx="3276720" cy="1310760"/>
            <a:chOff x="5486400" y="2514600"/>
            <a:chExt cx="3276720" cy="1310760"/>
          </a:xfrm>
        </p:grpSpPr>
        <p:sp>
          <p:nvSpPr>
            <p:cNvPr id="422" name=""/>
            <p:cNvSpPr/>
            <p:nvPr/>
          </p:nvSpPr>
          <p:spPr>
            <a:xfrm>
              <a:off x="5943600" y="2514600"/>
              <a:ext cx="28195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the user dro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86400" y="31244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181480" y="3200400"/>
            <a:ext cx="3581640" cy="1310760"/>
            <a:chOff x="5181480" y="3200400"/>
            <a:chExt cx="3581640" cy="1310760"/>
          </a:xfrm>
        </p:grpSpPr>
        <p:sp>
          <p:nvSpPr>
            <p:cNvPr id="425" name=""/>
            <p:cNvSpPr/>
            <p:nvPr/>
          </p:nvSpPr>
          <p:spPr>
            <a:xfrm>
              <a:off x="5638680" y="320040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DataFlavorSuppor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the type of data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conta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81480" y="3809880"/>
              <a:ext cx="457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3886200"/>
            <a:ext cx="3048120" cy="1554120"/>
            <a:chOff x="5867280" y="3886200"/>
            <a:chExt cx="3048120" cy="1554120"/>
          </a:xfrm>
        </p:grpSpPr>
        <p:sp>
          <p:nvSpPr>
            <p:cNvPr id="428" name=""/>
            <p:cNvSpPr/>
            <p:nvPr/>
          </p:nvSpPr>
          <p:spPr>
            <a:xfrm>
              <a:off x="6324480" y="3886200"/>
              <a:ext cx="2590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ptDr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e drop operation is allowed for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867280" y="4648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7-6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3-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8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process list of files and display each in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get List of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java.util.List fileLis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( java.util.List ) transferable.getTransferData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DataFlav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vaFileListFlav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terator iterator = fileList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 file = ( File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isplay File in browser and complete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browserPane.goToURL( file.toUR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indicate successful drop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if DataFlavor not suppor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nsupportedFlavorException flavor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lavor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handle exception reading Transferabl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vent.dropComple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343040" y="152280"/>
            <a:ext cx="4724640" cy="990720"/>
            <a:chOff x="4343040" y="152280"/>
            <a:chExt cx="4724640" cy="990720"/>
          </a:xfrm>
        </p:grpSpPr>
        <p:sp>
          <p:nvSpPr>
            <p:cNvPr id="433" name=""/>
            <p:cNvSpPr/>
            <p:nvPr/>
          </p:nvSpPr>
          <p:spPr>
            <a:xfrm>
              <a:off x="4572000" y="152280"/>
              <a:ext cx="4495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Li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ransfe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343040" y="6094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800600" y="1371600"/>
            <a:ext cx="3581280" cy="838080"/>
            <a:chOff x="4800600" y="1371600"/>
            <a:chExt cx="3581280" cy="838080"/>
          </a:xfrm>
        </p:grpSpPr>
        <p:sp>
          <p:nvSpPr>
            <p:cNvPr id="436" name=""/>
            <p:cNvSpPr/>
            <p:nvPr/>
          </p:nvSpPr>
          <p:spPr>
            <a:xfrm>
              <a:off x="5181480" y="13716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erate the List of Files, displaying each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ToU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800600" y="17524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495680" y="2438280"/>
            <a:ext cx="4267440" cy="1218960"/>
            <a:chOff x="4495680" y="2438280"/>
            <a:chExt cx="4267440" cy="1218960"/>
          </a:xfrm>
        </p:grpSpPr>
        <p:sp>
          <p:nvSpPr>
            <p:cNvPr id="439" name=""/>
            <p:cNvSpPr/>
            <p:nvPr/>
          </p:nvSpPr>
          <p:spPr>
            <a:xfrm>
              <a:off x="4952880" y="243828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Comp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op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true argument to indicate that the drag-and-drop operation was successf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495680" y="30477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3-1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0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ropped object is not file list, reject dr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rejectDro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drag operation entering Drop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nter( DropTargetDrag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if data is javaFileListFlavor, accept drag for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isDataFlavorSupport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ataFlavor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javaFileListFlav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acceptDrag( DnDConstants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ON_COP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ject all other DataFlav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vent.rejectDrag(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d when drag operation exits Drop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Exit( DropTargetEvent event ) {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d when drag operation occurs over DropTarg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gOver( DropTargetDragEvent event 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voked if dropAction changes (e.g., from COPY to LINK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opActionChanged( DropTargetDrag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ropTarget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333760" y="152280"/>
            <a:ext cx="3657960" cy="1219320"/>
            <a:chOff x="5333760" y="152280"/>
            <a:chExt cx="3657960" cy="1219320"/>
          </a:xfrm>
        </p:grpSpPr>
        <p:sp>
          <p:nvSpPr>
            <p:cNvPr id="444" name=""/>
            <p:cNvSpPr/>
            <p:nvPr/>
          </p:nvSpPr>
          <p:spPr>
            <a:xfrm>
              <a:off x="5943600" y="15228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g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interf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when a drag-and-drop operation enter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333760" y="685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648320" y="1295280"/>
            <a:ext cx="3962160" cy="762120"/>
            <a:chOff x="4648320" y="1295280"/>
            <a:chExt cx="3962160" cy="762120"/>
          </a:xfrm>
        </p:grpSpPr>
        <p:sp>
          <p:nvSpPr>
            <p:cNvPr id="447" name=""/>
            <p:cNvSpPr/>
            <p:nvPr/>
          </p:nvSpPr>
          <p:spPr>
            <a:xfrm>
              <a:off x="5486400" y="1295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Flav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ansfer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suppor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648320" y="16002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105160" y="1219320"/>
            <a:ext cx="3657960" cy="1310760"/>
            <a:chOff x="5105160" y="1219320"/>
            <a:chExt cx="3657960" cy="1310760"/>
          </a:xfrm>
        </p:grpSpPr>
        <p:sp>
          <p:nvSpPr>
            <p:cNvPr id="450" name=""/>
            <p:cNvSpPr/>
            <p:nvPr/>
          </p:nvSpPr>
          <p:spPr>
            <a:xfrm>
              <a:off x="5715000" y="121932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ptDr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ag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the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105160" y="1752480"/>
              <a:ext cx="6094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504960" y="2057400"/>
            <a:ext cx="4115160" cy="1219320"/>
            <a:chOff x="3504960" y="2057400"/>
            <a:chExt cx="4115160" cy="1219320"/>
          </a:xfrm>
        </p:grpSpPr>
        <p:sp>
          <p:nvSpPr>
            <p:cNvPr id="453" name=""/>
            <p:cNvSpPr/>
            <p:nvPr/>
          </p:nvSpPr>
          <p:spPr>
            <a:xfrm>
              <a:off x="4114800" y="205740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jectDra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Drag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dicate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opTar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es not allow this drag-and-drop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504960" y="25909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1676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nD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nDWebBrows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7" name="dnd_a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600720" cy="1990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80880" y="3124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3352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1 DnDWebBrowser application for browsing Web sites that also accepts drag-and-drop operations for viewing HTML pag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dnd_c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4573440" cy="3429000"/>
          </a:xfrm>
          <a:prstGeom prst="rect">
            <a:avLst/>
          </a:prstGeom>
          <a:ln w="0">
            <a:noFill/>
          </a:ln>
        </p:spPr>
      </p:pic>
      <p:pic>
        <p:nvPicPr>
          <p:cNvPr id="462" name="dnd_b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800600" y="6858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 cursor dragg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4191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152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05320" y="3808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285640" y="1066680"/>
            <a:ext cx="2514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320" y="3733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BrowserPa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play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7 Internation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entities that present in a particular country or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ourceBound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od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local-sensitive classes to forma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0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ToolBa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tionalized WebToolBar with components for naviga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BrowserPa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i18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.MyAbstrac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Listen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url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WebBrowserPane browser, Locale loca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resource bundle for internationalized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ourceBundle resources = ResourceBundle.getBund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AndLabe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Name(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olBar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562720" y="3352680"/>
            <a:ext cx="2743200" cy="2286000"/>
            <a:chOff x="5562720" y="3352680"/>
            <a:chExt cx="2743200" cy="2286000"/>
          </a:xfrm>
        </p:grpSpPr>
        <p:sp>
          <p:nvSpPr>
            <p:cNvPr id="474" name=""/>
            <p:cNvSpPr/>
            <p:nvPr/>
          </p:nvSpPr>
          <p:spPr>
            <a:xfrm>
              <a:off x="5562720" y="335268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sAndLabe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Locale by invok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019560" y="464832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419720" y="4343400"/>
            <a:ext cx="4572000" cy="1752480"/>
            <a:chOff x="4419720" y="4343400"/>
            <a:chExt cx="4572000" cy="1752480"/>
          </a:xfrm>
        </p:grpSpPr>
        <p:sp>
          <p:nvSpPr>
            <p:cNvPr id="477" name=""/>
            <p:cNvSpPr/>
            <p:nvPr/>
          </p:nvSpPr>
          <p:spPr>
            <a:xfrm>
              <a:off x="5257800" y="4343400"/>
              <a:ext cx="37339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Tit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ing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name to the retrieved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419720" y="5257800"/>
              <a:ext cx="838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for HyperlinkEv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 = 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Pane.addHyperlinkListen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UR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TextField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webBrowser to user-entere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to load URL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 ur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 urlTextField.getTex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webBrowserPane.goToURL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handle invalid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lformedURLException url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url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2-7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7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7-7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1-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backAction and configure its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AbstractAction back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to previou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 url = webBrowserPane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Action.setSmall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back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ckAction.setShort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ToolTi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rwardAction and configure its propertie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yAbstractAction forward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navigate to next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 url = webBrowserPane.forw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new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333760" y="609480"/>
            <a:ext cx="3657960" cy="824040"/>
            <a:chOff x="5333760" y="609480"/>
            <a:chExt cx="3657960" cy="824040"/>
          </a:xfrm>
        </p:grpSpPr>
        <p:sp>
          <p:nvSpPr>
            <p:cNvPr id="484" name=""/>
            <p:cNvSpPr/>
            <p:nvPr/>
          </p:nvSpPr>
          <p:spPr>
            <a:xfrm>
              <a:off x="6019920" y="60948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5333760" y="6858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800240" y="2057400"/>
            <a:ext cx="3810240" cy="685800"/>
            <a:chOff x="4800240" y="2057400"/>
            <a:chExt cx="3810240" cy="685800"/>
          </a:xfrm>
        </p:grpSpPr>
        <p:sp>
          <p:nvSpPr>
            <p:cNvPr id="487" name=""/>
            <p:cNvSpPr/>
            <p:nvPr/>
          </p:nvSpPr>
          <p:spPr>
            <a:xfrm>
              <a:off x="5486400" y="205740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800240" y="22096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267080" y="2514600"/>
            <a:ext cx="3657600" cy="838080"/>
            <a:chOff x="4267080" y="2514600"/>
            <a:chExt cx="3657600" cy="838080"/>
          </a:xfrm>
        </p:grpSpPr>
        <p:sp>
          <p:nvSpPr>
            <p:cNvPr id="490" name=""/>
            <p:cNvSpPr/>
            <p:nvPr/>
          </p:nvSpPr>
          <p:spPr>
            <a:xfrm>
              <a:off x="5181480" y="25146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internationalized tooltip text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ck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267080" y="28954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495320" y="3886200"/>
            <a:ext cx="4496400" cy="824040"/>
            <a:chOff x="4495320" y="3886200"/>
            <a:chExt cx="4496400" cy="824040"/>
          </a:xfrm>
        </p:grpSpPr>
        <p:sp>
          <p:nvSpPr>
            <p:cNvPr id="493" name=""/>
            <p:cNvSpPr/>
            <p:nvPr/>
          </p:nvSpPr>
          <p:spPr>
            <a:xfrm>
              <a:off x="5638680" y="3886200"/>
              <a:ext cx="335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yAbstrac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ward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495320" y="411444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2 WebToolBar that uses Resourcebundles for internationalization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Action.setSmallIc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forward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rwardAction.setShortDescripti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rwardToolTi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JButtons and JTextField to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ack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forward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url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ebToolBa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isten for HyperlinkEvents in WebBrowse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yperlinkUpdate( Hyperlink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hyperlink was activated, go to hyperlink'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EventType() =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yperlinkEvent.EventTyp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CTIVA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URL from HyperlinkEv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 url = event.getUR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navigate to URL and display URL in url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webBrowserPane.goToURL( event.getURL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rlTextField.setText( url.toString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 WebBrowserPane subclass of JEditorPane for viewing Web sites and maintaining URL histo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320" y="228240"/>
            <a:ext cx="685800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Pan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Pane is a simple Web-browsing component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tends JEditorPane and maintains a history of visited UR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EditorPan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history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story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Pan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diting to enable hyperlin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given URL and add it to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oToURL( URL 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ge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.add( ur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Index = history.siz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95680" y="1981080"/>
            <a:ext cx="3276720" cy="685800"/>
            <a:chOff x="4495680" y="1981080"/>
            <a:chExt cx="3276720" cy="685800"/>
          </a:xfrm>
        </p:grpSpPr>
        <p:sp>
          <p:nvSpPr>
            <p:cNvPr id="98" name=""/>
            <p:cNvSpPr/>
            <p:nvPr/>
          </p:nvSpPr>
          <p:spPr>
            <a:xfrm>
              <a:off x="5562720" y="19810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Edito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render HTML 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95680" y="22860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76360" y="4267080"/>
            <a:ext cx="3733920" cy="337320"/>
            <a:chOff x="3276360" y="4267080"/>
            <a:chExt cx="3733920" cy="337320"/>
          </a:xfrm>
        </p:grpSpPr>
        <p:sp>
          <p:nvSpPr>
            <p:cNvPr id="101" name=""/>
            <p:cNvSpPr/>
            <p:nvPr/>
          </p:nvSpPr>
          <p:spPr>
            <a:xfrm>
              <a:off x="5181480" y="42670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 text edi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276360" y="44197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3 MyAbstractAction AbstractAction subclass that provides set methods for Action propert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6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AbstractAction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yAbstractAction is an AbstractAction subclass that provi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ethods for Action properties (e.g., name, icon, etc.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) {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 MyAbstractAction with given name,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cription and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AbstractAction( String name, Icon ic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description, Integer mnemoni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itialize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Name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mallIcon(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hortDescription(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Mnemonic(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ame( String 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257800" y="2666880"/>
            <a:ext cx="3657600" cy="1067400"/>
            <a:chOff x="5257800" y="2666880"/>
            <a:chExt cx="3657600" cy="1067400"/>
          </a:xfrm>
        </p:grpSpPr>
        <p:sp>
          <p:nvSpPr>
            <p:cNvPr id="500" name=""/>
            <p:cNvSpPr/>
            <p:nvPr/>
          </p:nvSpPr>
          <p:spPr>
            <a:xfrm>
              <a:off x="6172200" y="266688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rguments the nam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escription and mnemonic key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257800" y="304776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581280" y="3733920"/>
            <a:ext cx="3505320" cy="838080"/>
            <a:chOff x="3581280" y="3733920"/>
            <a:chExt cx="3505320" cy="838080"/>
          </a:xfrm>
        </p:grpSpPr>
        <p:sp>
          <p:nvSpPr>
            <p:cNvPr id="503" name=""/>
            <p:cNvSpPr/>
            <p:nvPr/>
          </p:nvSpPr>
          <p:spPr>
            <a:xfrm>
              <a:off x="4495680" y="37339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the appropriate set methods to configu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given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581280" y="4114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3 MyAbstractAction AbstractAction subclass that provides set methods for Action properties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mallIcon( Icon ic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c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short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hortDescription( String descriptio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rip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nemonic( Integer mnemoni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mnemonic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 actionPerformed method to be implemen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y concrete sub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4 WebBrowser that uses ResourceBundles for internationaliz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8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ebBrowser is an application for browsing Web sites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WebToolBar and WebBrowserPa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i18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ne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itel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webbrowser.Web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ourceBundle resourc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 toolB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 browserPa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ebBrows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 Locale loca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ources = ResourceBundle.getBund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AndLabel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Title( resources.get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plicationTi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114800" y="4038480"/>
            <a:ext cx="3885840" cy="838080"/>
            <a:chOff x="4114800" y="4038480"/>
            <a:chExt cx="3885840" cy="838080"/>
          </a:xfrm>
        </p:grpSpPr>
        <p:sp>
          <p:nvSpPr>
            <p:cNvPr id="510" name=""/>
            <p:cNvSpPr/>
            <p:nvPr/>
          </p:nvSpPr>
          <p:spPr>
            <a:xfrm>
              <a:off x="5086080" y="4038480"/>
              <a:ext cx="2914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s an argumen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hich the application should be localiz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14800" y="4419360"/>
              <a:ext cx="971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724280" y="4267080"/>
            <a:ext cx="4267440" cy="1067400"/>
            <a:chOff x="4724280" y="4267080"/>
            <a:chExt cx="4267440" cy="1067400"/>
          </a:xfrm>
        </p:grpSpPr>
        <p:sp>
          <p:nvSpPr>
            <p:cNvPr id="513" name=""/>
            <p:cNvSpPr/>
            <p:nvPr/>
          </p:nvSpPr>
          <p:spPr>
            <a:xfrm>
              <a:off x="5638680" y="4267080"/>
              <a:ext cx="3353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static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the appropriate internationalized str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724280" y="48769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1480" y="4876920"/>
            <a:ext cx="3810240" cy="1067400"/>
            <a:chOff x="5181480" y="4876920"/>
            <a:chExt cx="3810240" cy="1067400"/>
          </a:xfrm>
        </p:grpSpPr>
        <p:sp>
          <p:nvSpPr>
            <p:cNvPr id="516" name=""/>
            <p:cNvSpPr/>
            <p:nvPr/>
          </p:nvSpPr>
          <p:spPr>
            <a:xfrm>
              <a:off x="5791320" y="48769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ourceBund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riev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plicationTit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r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181480" y="54864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4 WebBrowser that uses ResourceBundles for internationalization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WebBrowserPane and WebToolBar for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Pane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ToolBar( browserPane,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WebBrows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browserPan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owserLaunch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owserLauncher provides a list of Locales and launches a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nationalized WebBrowser for the selected Loca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i18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owserLaunch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ComboBox for selecting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 localeComboBo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rowserLaunch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owserLaunch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rowser Launc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ComboBox and add Loc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ComboBox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nited States, Engli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ance, Fren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ussia, Russ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5029200"/>
            <a:ext cx="3200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Combo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dd sample Locale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Combo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266720" y="4800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57200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3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7-6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unch new WebBrowser when Locale selection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ocaleComboBox.addItem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temStateChanged( Item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vent.getStateChange() == ItemEven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EL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aunchBrowser( ( Loca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localeComboBox.getSelectedItem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Loca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localeComboBox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aunch new WebBrowser for given Loca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unchBrowser( Locale loca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ebBrowser brows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bBrowser( loca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ISPOSE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723920" y="1599840"/>
            <a:ext cx="4286880" cy="1311120"/>
            <a:chOff x="4723920" y="1599840"/>
            <a:chExt cx="4286880" cy="1311120"/>
          </a:xfrm>
        </p:grpSpPr>
        <p:sp>
          <p:nvSpPr>
            <p:cNvPr id="528" name=""/>
            <p:cNvSpPr/>
            <p:nvPr/>
          </p:nvSpPr>
          <p:spPr>
            <a:xfrm>
              <a:off x="5943600" y="1600200"/>
              <a:ext cx="3067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unch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owserLaunch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aunch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the user selects a Locale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4723920" y="159984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876920" y="3276720"/>
            <a:ext cx="3885840" cy="1067400"/>
            <a:chOff x="4876920" y="3276720"/>
            <a:chExt cx="3885840" cy="1067400"/>
          </a:xfrm>
        </p:grpSpPr>
        <p:sp>
          <p:nvSpPr>
            <p:cNvPr id="531" name=""/>
            <p:cNvSpPr/>
            <p:nvPr/>
          </p:nvSpPr>
          <p:spPr>
            <a:xfrm>
              <a:off x="5848200" y="3276720"/>
              <a:ext cx="2914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aunch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et its size and display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876920" y="3657240"/>
              <a:ext cx="971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rowserLauncher launch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rowserLaunch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uncher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uncher.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uncher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5" name="i18n_a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i18n_b" descr=""/>
          <p:cNvPicPr/>
          <p:nvPr/>
        </p:nvPicPr>
        <p:blipFill>
          <a:blip r:embed="rId2"/>
          <a:stretch/>
        </p:blipFill>
        <p:spPr>
          <a:xfrm>
            <a:off x="16765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5 BrowserLauncher application for selecting a Locale and launching an internationalized WebBrowser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i18n_c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39" name="i18n_d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60962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6 Properties file for default Locale (US English) – StringsAndLabels.propert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English language strings for internationalized Web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application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ication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itel Web 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itle for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olBar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eb Navig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forward toolba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xt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evious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7 Properties file for French Locale – StringsAndLabels_fr_FR.properti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362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French language strings for internationalized WebBrow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back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age pr\u00E9c\u00E9den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application tit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ication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giciel de Navigation de Deit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itle for Web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olBarTit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vigation des Pages sur la To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# tooltip for forward toolbar butt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ToolTi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ochaine P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 WebBrowserPane subclass of JEditorPane for viewing Web sites and maintaining URL histo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3-44 and 59-6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xt history URL in edito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 forw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Index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go past end of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istoryIndex &gt;= history.size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storyIndex = history.size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( URL ) history.get( history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ge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revious history URL in edito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 back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istoryIndex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go past beginning of his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istoryInde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historyInde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previous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RL url = ( URL ) history.get( historyIndex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isplayPage( 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given URL in JEditor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Page( URL pageURL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00400" y="2133720"/>
            <a:ext cx="4724280" cy="3047760"/>
            <a:chOff x="3200400" y="2133720"/>
            <a:chExt cx="4724280" cy="3047760"/>
          </a:xfrm>
        </p:grpSpPr>
        <p:sp>
          <p:nvSpPr>
            <p:cNvPr id="106" name=""/>
            <p:cNvSpPr/>
            <p:nvPr/>
          </p:nvSpPr>
          <p:spPr>
            <a:xfrm>
              <a:off x="5029200" y="21337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rieve the URL from the histo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isplay the URL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ebBrowserP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200400" y="2223720"/>
              <a:ext cx="182880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181120" y="2971800"/>
              <a:ext cx="9651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52680" y="3657600"/>
            <a:ext cx="4114800" cy="685800"/>
            <a:chOff x="3352680" y="3657600"/>
            <a:chExt cx="4114800" cy="685800"/>
          </a:xfrm>
        </p:grpSpPr>
        <p:sp>
          <p:nvSpPr>
            <p:cNvPr id="110" name=""/>
            <p:cNvSpPr/>
            <p:nvPr/>
          </p:nvSpPr>
          <p:spPr>
            <a:xfrm>
              <a:off x="5178600" y="3657600"/>
              <a:ext cx="2288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istoryInde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oes not fall below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352680" y="4038480"/>
              <a:ext cx="1828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8 Accessibilit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accessible to people with dis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ccessibility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oltip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ptive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onSample2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tionSample2 demonstrates the Accessibility features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ing compon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gui.action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accessibility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2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wing A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sample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 exit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tionSample2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2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Actio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ample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 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ptionPa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ampleAction was invok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723920" y="3886200"/>
            <a:ext cx="3677040" cy="1067400"/>
            <a:chOff x="4723920" y="3886200"/>
            <a:chExt cx="3677040" cy="1067400"/>
          </a:xfrm>
        </p:grpSpPr>
        <p:sp>
          <p:nvSpPr>
            <p:cNvPr id="549" name=""/>
            <p:cNvSpPr/>
            <p:nvPr/>
          </p:nvSpPr>
          <p:spPr>
            <a:xfrm>
              <a:off x="5715000" y="3886200"/>
              <a:ext cx="26859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accessible text in the dialog box that opens 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i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723920" y="4495680"/>
              <a:ext cx="971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9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ccessibleContext for action and set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cessibleContext action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ction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tion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tionContext.setAccessibleDescri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Action opens a dialog box to demonstr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he Action clas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and display dialog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tion.createDialog( ActionSample2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n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Help24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Sample 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800600" y="0"/>
            <a:ext cx="4343400" cy="1067400"/>
            <a:chOff x="4800600" y="0"/>
            <a:chExt cx="4343400" cy="1067400"/>
          </a:xfrm>
        </p:grpSpPr>
        <p:sp>
          <p:nvSpPr>
            <p:cNvPr id="554" name=""/>
            <p:cNvSpPr/>
            <p:nvPr/>
          </p:nvSpPr>
          <p:spPr>
            <a:xfrm>
              <a:off x="5334120" y="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Option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ion by calling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800600" y="53352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248520" y="1143000"/>
            <a:ext cx="2743200" cy="732960"/>
            <a:chOff x="6248520" y="1143000"/>
            <a:chExt cx="2743200" cy="732960"/>
          </a:xfrm>
        </p:grpSpPr>
        <p:sp>
          <p:nvSpPr>
            <p:cNvPr id="557" name=""/>
            <p:cNvSpPr/>
            <p:nvPr/>
          </p:nvSpPr>
          <p:spPr>
            <a:xfrm>
              <a:off x="6629400" y="12952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action’s nam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248520" y="1143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648320" y="1523880"/>
            <a:ext cx="4038480" cy="1067400"/>
            <a:chOff x="4648320" y="1523880"/>
            <a:chExt cx="4038480" cy="1067400"/>
          </a:xfrm>
        </p:grpSpPr>
        <p:sp>
          <p:nvSpPr>
            <p:cNvPr id="560" name=""/>
            <p:cNvSpPr/>
            <p:nvPr/>
          </p:nvSpPr>
          <p:spPr>
            <a:xfrm>
              <a:off x="5486400" y="15238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Accessible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descri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648320" y="16002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638680" y="4114800"/>
            <a:ext cx="2590920" cy="914400"/>
            <a:chOff x="5638680" y="4114800"/>
            <a:chExt cx="2590920" cy="914400"/>
          </a:xfrm>
        </p:grpSpPr>
        <p:sp>
          <p:nvSpPr>
            <p:cNvPr id="563" name=""/>
            <p:cNvSpPr/>
            <p:nvPr/>
          </p:nvSpPr>
          <p:spPr>
            <a:xfrm>
              <a:off x="6477120" y="41148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a short description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38680" y="4572000"/>
              <a:ext cx="819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92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bstractAction subclass for exitAction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tion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message indicating sampleAction invo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JOptionPane exi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OptionPan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exitAction was invok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get AccessibleContext for exit and set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ccessibleContext exit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pens a dialog box to demonstrate t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ction class and then exits the program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create and display dialog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.createDialog( ActionSample2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A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exit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ystem.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ic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MALL_IC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ageIcon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Class().getResour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ages/EXIT.g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571640" y="228600"/>
            <a:ext cx="4210560" cy="1067400"/>
            <a:chOff x="4571640" y="228600"/>
            <a:chExt cx="4210560" cy="1067400"/>
          </a:xfrm>
        </p:grpSpPr>
        <p:sp>
          <p:nvSpPr>
            <p:cNvPr id="568" name=""/>
            <p:cNvSpPr/>
            <p:nvPr/>
          </p:nvSpPr>
          <p:spPr>
            <a:xfrm>
              <a:off x="6095880" y="228600"/>
              <a:ext cx="2686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accessible text in the dialog box that opens wh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i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571640" y="53316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3-1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short description (tooltip tex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ORT_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 Applica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Action mnemonic ke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putValue( Action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NEMONIC_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able exitAction and associated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Action.setEnabl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 fileMenu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File menu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MenuItem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Menu.setMnemoni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MenuBar and add File men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MenuBar menu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Menu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nuBar.add( fileMenu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JMenuBar( menuBa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ool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ToolBar toolBa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oolBa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sampleAction and exitAction to JToolBar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JButtons for each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Bar.add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724280" y="2438280"/>
            <a:ext cx="4191120" cy="1067400"/>
            <a:chOff x="4724280" y="2438280"/>
            <a:chExt cx="4191120" cy="1067400"/>
          </a:xfrm>
        </p:grpSpPr>
        <p:sp>
          <p:nvSpPr>
            <p:cNvPr id="573" name=""/>
            <p:cNvSpPr/>
            <p:nvPr/>
          </p:nvSpPr>
          <p:spPr>
            <a:xfrm>
              <a:off x="5562720" y="243828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mple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xitA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set mnemonic key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24280" y="2895480"/>
              <a:ext cx="819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7-1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0-1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essibleContext for toolBar and set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essibleContext tool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oolBar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olB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ol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olBar contain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ampleAction button and exitAction butto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sample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sample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Button.setAction( sample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essibleContext for sampleButton and set nam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essibleContext sample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ampleButton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mple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oduces a sampleAction 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and set its Action to exit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ex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exit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essibleContext for exitButton and set name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scri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essibleContext exitContex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xitButton.getAccessibleCont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Context.setAccessibleNa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Context.setAccessibleDescri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itButt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oduces an exitAction event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JButtons in JPan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button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sampl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ttonPanel.add( ex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267080" y="228600"/>
            <a:ext cx="3810240" cy="609480"/>
            <a:chOff x="4267080" y="228600"/>
            <a:chExt cx="3810240" cy="609480"/>
          </a:xfrm>
        </p:grpSpPr>
        <p:sp>
          <p:nvSpPr>
            <p:cNvPr id="578" name=""/>
            <p:cNvSpPr/>
            <p:nvPr/>
          </p:nvSpPr>
          <p:spPr>
            <a:xfrm>
              <a:off x="4876920" y="228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ol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267080" y="533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181120" y="762120"/>
            <a:ext cx="3048480" cy="580680"/>
            <a:chOff x="5181120" y="762120"/>
            <a:chExt cx="3048480" cy="580680"/>
          </a:xfrm>
        </p:grpSpPr>
        <p:sp>
          <p:nvSpPr>
            <p:cNvPr id="581" name=""/>
            <p:cNvSpPr/>
            <p:nvPr/>
          </p:nvSpPr>
          <p:spPr>
            <a:xfrm>
              <a:off x="5867280" y="7621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toolbar’s nam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181120" y="1066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648320" y="1523880"/>
            <a:ext cx="4038480" cy="1067400"/>
            <a:chOff x="4648320" y="1523880"/>
            <a:chExt cx="4038480" cy="1067400"/>
          </a:xfrm>
        </p:grpSpPr>
        <p:sp>
          <p:nvSpPr>
            <p:cNvPr id="584" name=""/>
            <p:cNvSpPr/>
            <p:nvPr/>
          </p:nvSpPr>
          <p:spPr>
            <a:xfrm>
              <a:off x="5486400" y="152388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AccessibleDescri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essibleCon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oobar’s descri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4648320" y="16002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8 ActionSamle2 demonstrates Accessibility packag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toolBar and buttonPanel to JFrame's content 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toolBar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button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tionSample2 samp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Sample2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p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mple.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9 Actions sampleAction and exitAction of ActionSample2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access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590" name="access2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591" name="access3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390760" cy="1238400"/>
          </a:xfrm>
          <a:prstGeom prst="rect">
            <a:avLst/>
          </a:prstGeom>
          <a:ln w="0">
            <a:noFill/>
          </a:ln>
        </p:spPr>
      </p:pic>
      <p:pic>
        <p:nvPicPr>
          <p:cNvPr id="592" name="access4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593" name="access5" descr=""/>
          <p:cNvPicPr/>
          <p:nvPr/>
        </p:nvPicPr>
        <p:blipFill>
          <a:blip r:embed="rId5"/>
          <a:stretch/>
        </p:blipFill>
        <p:spPr>
          <a:xfrm>
            <a:off x="2590920" y="3581280"/>
            <a:ext cx="2390760" cy="12384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95520" y="5416560"/>
            <a:ext cx="69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ple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amp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.20 AccessibleDescription of sampleButt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access6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2390760" cy="12384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227240" y="5264280"/>
            <a:ext cx="54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ssibleDescri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ple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733920" y="1600200"/>
            <a:ext cx="2743200" cy="2362320"/>
            <a:chOff x="3733920" y="1600200"/>
            <a:chExt cx="2743200" cy="2362320"/>
          </a:xfrm>
        </p:grpSpPr>
        <p:sp>
          <p:nvSpPr>
            <p:cNvPr id="599" name=""/>
            <p:cNvSpPr/>
            <p:nvPr/>
          </p:nvSpPr>
          <p:spPr>
            <a:xfrm>
              <a:off x="4495680" y="16002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mpleButton produces a sampleActio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733920" y="2438280"/>
              <a:ext cx="8380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.21 AccessibleDesceiption of exitButt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access7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390760" cy="12380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912680" y="5035680"/>
            <a:ext cx="51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ssibleDescri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t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962520" y="1676520"/>
            <a:ext cx="2209680" cy="1981080"/>
            <a:chOff x="3962520" y="1676520"/>
            <a:chExt cx="2209680" cy="1981080"/>
          </a:xfrm>
        </p:grpSpPr>
        <p:sp>
          <p:nvSpPr>
            <p:cNvPr id="605" name=""/>
            <p:cNvSpPr/>
            <p:nvPr/>
          </p:nvSpPr>
          <p:spPr>
            <a:xfrm>
              <a:off x="3962520" y="16765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ExitButton produces an exitAction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800600" y="22860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2.1 WebBrowserPane subclass of JEditorPane for viewing Web sites and maintaining URL history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2133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etPage( pageUR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handle exception reading from UR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OException io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oException.printStackTr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76720" y="304920"/>
            <a:ext cx="3581280" cy="824040"/>
            <a:chOff x="3276720" y="304920"/>
            <a:chExt cx="3581280" cy="824040"/>
          </a:xfrm>
        </p:grpSpPr>
        <p:sp>
          <p:nvSpPr>
            <p:cNvPr id="115" name=""/>
            <p:cNvSpPr/>
            <p:nvPr/>
          </p:nvSpPr>
          <p:spPr>
            <a:xfrm>
              <a:off x="4191120" y="304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Pa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Editor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the page referenc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ge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276720" y="6854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 descri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access8" descr=""/>
          <p:cNvPicPr/>
          <p:nvPr/>
        </p:nvPicPr>
        <p:blipFill>
          <a:blip r:embed="rId1"/>
          <a:stretch/>
        </p:blipFill>
        <p:spPr>
          <a:xfrm>
            <a:off x="3376440" y="2809800"/>
            <a:ext cx="2391120" cy="12384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838160" y="4883040"/>
            <a:ext cx="44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 item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91120" y="1828800"/>
            <a:ext cx="1752480" cy="1295280"/>
            <a:chOff x="4191120" y="1828800"/>
            <a:chExt cx="1752480" cy="1295280"/>
          </a:xfrm>
        </p:grpSpPr>
        <p:sp>
          <p:nvSpPr>
            <p:cNvPr id="611" name=""/>
            <p:cNvSpPr/>
            <p:nvPr/>
          </p:nvSpPr>
          <p:spPr>
            <a:xfrm>
              <a:off x="4191120" y="18288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mple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343040" y="2133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menu item descrip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access9" descr=""/>
          <p:cNvPicPr/>
          <p:nvPr/>
        </p:nvPicPr>
        <p:blipFill>
          <a:blip r:embed="rId1"/>
          <a:stretch/>
        </p:blipFill>
        <p:spPr>
          <a:xfrm>
            <a:off x="3376440" y="2809800"/>
            <a:ext cx="2391120" cy="1238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217240" y="510552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menu item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648320" y="1905120"/>
            <a:ext cx="609480" cy="914400"/>
            <a:chOff x="4648320" y="1905120"/>
            <a:chExt cx="609480" cy="914400"/>
          </a:xfrm>
        </p:grpSpPr>
        <p:sp>
          <p:nvSpPr>
            <p:cNvPr id="617" name=""/>
            <p:cNvSpPr/>
            <p:nvPr/>
          </p:nvSpPr>
          <p:spPr>
            <a:xfrm>
              <a:off x="4648320" y="1905120"/>
              <a:ext cx="609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648320" y="2209680"/>
              <a:ext cx="304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.2 Swing Toolba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bar – GUI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tt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toolbars with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2.2 Toolbars for navigating the Web in Internet Explorer and Mozill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ietoolbar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mozillatoolbar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4591080" cy="312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0840" y="6400800"/>
            <a:ext cx="64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ars for navigating the Web in Internet Explorer and Mozi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37160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ar but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200400" y="53316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666880" y="53316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209680" y="53316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1981080"/>
            <a:ext cx="228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198108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5335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495680" y="4568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914400"/>
            <a:ext cx="9903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3T19:39:30Z</dcterms:modified>
  <cp:revision>117</cp:revision>
  <dc:subject/>
  <dc:title>PowerPoint Presentation</dc:title>
</cp:coreProperties>
</file>