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C054-F052-4EC0-9C06-05390D3B3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8FA7-BE09-4B05-BCDE-AE7960D98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0C1A-9E31-464C-8744-8ADCB9BB8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5E83-AC72-443E-82F1-FD6D96366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B068-F3B5-4E47-A4E6-D2320B88C3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B029-A56C-4799-AE20-420F31059C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0618-59B5-43C4-B2E0-4B5C693152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F16C-699E-4DE6-BD4D-FA7A2DFD44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279B-720A-42D3-95C7-6B5F8CBE9B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B38F-6F7E-420C-A661-60D20240AA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619E-B4F2-4976-9255-06833F78DF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520F-4CFC-4939-AAE3-3D5369083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4696-D8B7-4CDE-BCA2-C4ACFBE645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8397-5448-405E-9587-9AA6883D54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4A8A8-022B-430B-B11B-84A5962FE4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8549-B56C-4568-8FFE-F330C01B49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42FF-8A59-4931-A40D-86517837D6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DF63-A051-4004-B77F-65BADEDFC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976A-84AB-4ADE-8D19-A57E59F28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486A-F19F-4C69-8DD1-82EAD0A33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C1DA-5476-4FC3-97D6-FB70F4C40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828E-177E-4960-87A7-F7D9392D6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B5DA-FFE0-4EB1-BA45-55667DA1A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EF4A-AD37-4448-85F6-A0BF03EC7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FF82-B04B-42D2-8309-99886B7D7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E658-FDE2-4343-873E-11CC7FF49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1 Application Server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2EE Specification and Benefi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mercial Application Serv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EA WebLogic 6.0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Planet Application Server 6.0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BM WebSphere Advanced Application Server 4.0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3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Boss 2.2.2 Application Serv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the Deitel Bookstore on BEA WebLog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the Deitel Bookstore on IBM WebSphe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1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-docs.bea.com/wls/docs60/install/instpr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udsc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logic_sp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logic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udscape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on cons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calhost:7001/conso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9" name="bea_console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400800" cy="4648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81320" y="5943600"/>
            <a:ext cx="60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1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Logic administration console. (Courtesy BEA Systems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DBC data pool and data source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ea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85944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29040" y="5381640"/>
            <a:ext cx="663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1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BC Connection pool properties. (Courtesy of BEA 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ment descri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kstore.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r xvf bookstore.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-8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-3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-7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-2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8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9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-4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3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29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ejb-jar.xml deployment descriptor for bookstor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describes weblogic specific properties of each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ejb-jar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//EN'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ejb-jar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ustomer EJB weblogic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ejb-ja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termines caching properti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ax-beans-in-cach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ax-beans-in-cach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cmp types for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TA-INF/weblogic-cmp-rdbms-jar-Customer.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257800" y="914400"/>
            <a:ext cx="2057040" cy="580680"/>
            <a:chOff x="5257800" y="914400"/>
            <a:chExt cx="2057040" cy="580680"/>
          </a:xfrm>
        </p:grpSpPr>
        <p:sp>
          <p:nvSpPr>
            <p:cNvPr id="120" name=""/>
            <p:cNvSpPr/>
            <p:nvPr/>
          </p:nvSpPr>
          <p:spPr>
            <a:xfrm>
              <a:off x="5608440" y="914400"/>
              <a:ext cx="170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e DTD for the descrip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257800" y="129528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666880" y="1752480"/>
            <a:ext cx="5028840" cy="580680"/>
            <a:chOff x="2666880" y="1752480"/>
            <a:chExt cx="5028840" cy="580680"/>
          </a:xfrm>
        </p:grpSpPr>
        <p:sp>
          <p:nvSpPr>
            <p:cNvPr id="123" name=""/>
            <p:cNvSpPr/>
            <p:nvPr/>
          </p:nvSpPr>
          <p:spPr>
            <a:xfrm>
              <a:off x="3520800" y="1752480"/>
              <a:ext cx="4174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blogic-ejb-j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deployment information for all EJBs in the EJB J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666880" y="2133360"/>
              <a:ext cx="85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429000" y="2133720"/>
            <a:ext cx="4876560" cy="580680"/>
            <a:chOff x="3429000" y="2133720"/>
            <a:chExt cx="4876560" cy="580680"/>
          </a:xfrm>
        </p:grpSpPr>
        <p:sp>
          <p:nvSpPr>
            <p:cNvPr id="126" name=""/>
            <p:cNvSpPr/>
            <p:nvPr/>
          </p:nvSpPr>
          <p:spPr>
            <a:xfrm>
              <a:off x="4257000" y="2133720"/>
              <a:ext cx="4048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blogic-enterprise-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deployment information for the Customer EJ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429000" y="2514600"/>
              <a:ext cx="82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962160" y="2362320"/>
            <a:ext cx="3124080" cy="580680"/>
            <a:chOff x="3962160" y="2362320"/>
            <a:chExt cx="3124080" cy="580680"/>
          </a:xfrm>
        </p:grpSpPr>
        <p:sp>
          <p:nvSpPr>
            <p:cNvPr id="129" name=""/>
            <p:cNvSpPr/>
            <p:nvPr/>
          </p:nvSpPr>
          <p:spPr>
            <a:xfrm>
              <a:off x="4491360" y="2362320"/>
              <a:ext cx="2594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-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the name of this bea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962160" y="27432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200400" y="2895480"/>
            <a:ext cx="2666520" cy="580680"/>
            <a:chOff x="3200400" y="2895480"/>
            <a:chExt cx="2666520" cy="580680"/>
          </a:xfrm>
        </p:grpSpPr>
        <p:sp>
          <p:nvSpPr>
            <p:cNvPr id="132" name=""/>
            <p:cNvSpPr/>
            <p:nvPr/>
          </p:nvSpPr>
          <p:spPr>
            <a:xfrm>
              <a:off x="3654000" y="2895480"/>
              <a:ext cx="2212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in the descriptions of caching proper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200400" y="3276360"/>
              <a:ext cx="4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638320" y="3048120"/>
            <a:ext cx="3276720" cy="1067400"/>
            <a:chOff x="5638320" y="3048120"/>
            <a:chExt cx="3276720" cy="1067400"/>
          </a:xfrm>
        </p:grpSpPr>
        <p:sp>
          <p:nvSpPr>
            <p:cNvPr id="135" name=""/>
            <p:cNvSpPr/>
            <p:nvPr/>
          </p:nvSpPr>
          <p:spPr>
            <a:xfrm>
              <a:off x="6194880" y="3048120"/>
              <a:ext cx="2720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c-beans-in-cach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es the maximum number of active instances the container should all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638320" y="3428640"/>
              <a:ext cx="55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86040" y="3276720"/>
            <a:ext cx="3124080" cy="580680"/>
            <a:chOff x="5486040" y="3276720"/>
            <a:chExt cx="3124080" cy="580680"/>
          </a:xfrm>
        </p:grpSpPr>
        <p:sp>
          <p:nvSpPr>
            <p:cNvPr id="138" name=""/>
            <p:cNvSpPr/>
            <p:nvPr/>
          </p:nvSpPr>
          <p:spPr>
            <a:xfrm>
              <a:off x="6016680" y="3276720"/>
              <a:ext cx="2593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che-strateg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s how EJBs should cache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486040" y="36576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429000" y="4191120"/>
            <a:ext cx="4266720" cy="580680"/>
            <a:chOff x="3429000" y="4191120"/>
            <a:chExt cx="4266720" cy="580680"/>
          </a:xfrm>
        </p:grpSpPr>
        <p:sp>
          <p:nvSpPr>
            <p:cNvPr id="141" name=""/>
            <p:cNvSpPr/>
            <p:nvPr/>
          </p:nvSpPr>
          <p:spPr>
            <a:xfrm>
              <a:off x="4153320" y="4191120"/>
              <a:ext cx="3542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istence-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es the EJBs persistence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429000" y="4572000"/>
              <a:ext cx="72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00040" y="4572000"/>
            <a:ext cx="3886200" cy="824040"/>
            <a:chOff x="3200040" y="4572000"/>
            <a:chExt cx="3886200" cy="824040"/>
          </a:xfrm>
        </p:grpSpPr>
        <p:sp>
          <p:nvSpPr>
            <p:cNvPr id="144" name=""/>
            <p:cNvSpPr/>
            <p:nvPr/>
          </p:nvSpPr>
          <p:spPr>
            <a:xfrm>
              <a:off x="3860280" y="4572000"/>
              <a:ext cx="3225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istence-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the e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ype-identifi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bLogic_CMP_RDBM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200040" y="4952880"/>
              <a:ext cx="65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15000" y="5486400"/>
            <a:ext cx="2590920" cy="824040"/>
            <a:chOff x="5715000" y="5486400"/>
            <a:chExt cx="2590920" cy="824040"/>
          </a:xfrm>
        </p:grpSpPr>
        <p:sp>
          <p:nvSpPr>
            <p:cNvPr id="147" name=""/>
            <p:cNvSpPr/>
            <p:nvPr/>
          </p:nvSpPr>
          <p:spPr>
            <a:xfrm>
              <a:off x="6154920" y="5486400"/>
              <a:ext cx="2151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ype-stor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the location of the CMP descrip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715000" y="5867280"/>
              <a:ext cx="4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transaction paramater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ans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ans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references to ejb nam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Addre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Addre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assigns JNDI name to 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123720" y="76320"/>
            <a:ext cx="4039200" cy="580680"/>
            <a:chOff x="3123720" y="76320"/>
            <a:chExt cx="4039200" cy="580680"/>
          </a:xfrm>
        </p:grpSpPr>
        <p:sp>
          <p:nvSpPr>
            <p:cNvPr id="152" name=""/>
            <p:cNvSpPr/>
            <p:nvPr/>
          </p:nvSpPr>
          <p:spPr>
            <a:xfrm>
              <a:off x="3809880" y="7632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ll WebLogic to use the persistence given in the previous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123720" y="380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505320" y="2514600"/>
            <a:ext cx="4343040" cy="580680"/>
            <a:chOff x="3505320" y="2514600"/>
            <a:chExt cx="4343040" cy="580680"/>
          </a:xfrm>
        </p:grpSpPr>
        <p:sp>
          <p:nvSpPr>
            <p:cNvPr id="155" name=""/>
            <p:cNvSpPr/>
            <p:nvPr/>
          </p:nvSpPr>
          <p:spPr>
            <a:xfrm>
              <a:off x="4242600" y="2514600"/>
              <a:ext cx="3605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e-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ps each reference to the current JNDI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505320" y="2895480"/>
              <a:ext cx="7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customer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equence factory EJB weblogic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nages beans caching behavi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ax-beans-in-cach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ax-beans-in-cach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idle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dle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 bean to CMP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TA-INF/weblogic-cmp-rdbms-jar-Sequence.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transaction management properti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ans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ans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assigns JNDI name to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nd SequenceFactory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Order EJB weblogic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&lt;!-- defines caching properties, set to defaul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ax-beans-in-cach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ax-beans-in-cach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idle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dle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bean to specific CMP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storage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TA-INF/weblogic-cmp-rdbms-jar-order.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transaction attribut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ans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ans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bean references to JNDI nam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Order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ddress EJB weblogic deploymen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caching properties for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ax-beans-in-cach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ax-beans-in-cach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idle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dle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EJB to specific cmp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ETA-INF/weblogic-cmp-rdbms-jar-address.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 Enterprise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 Web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 Web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lanet Applicati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Boss open-source applicati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transaction properti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ans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ans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referenced to JNDI names of bea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assigns JNDI name to this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Addre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Address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OrderProduct EJB weblogic deploymen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sets default caching properti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ax-beans-in-cach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ax-beans-in-cach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idle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dle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this bean to specific cmp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ETA-INF/weblogic-cmp-rdbms-jar-orderProduct.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references to JNDI names of bea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assigns JNDI name of this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nd OrderProduc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Product EJB weblogic deploymen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caching properties for 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idle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dle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this bean to its CMP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TA-INF/weblogic-cmp-rdbms-jar-product.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stor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identifi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_CMP_RDBM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ype-identifi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ype-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ype-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ersistence-us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5-3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transaction properti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ans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ans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assigns JNDI nam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Produc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hoppingCart EJB weblogic deploymen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weblogic-enterprise-bean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pping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chaching properties, set to defaul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ax-beans-in-cach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ax-beans-in-cach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idle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dle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che-strateg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-Wr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che-strateg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read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ad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caching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assigns a store directory for 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stateful-session-persistent-store-di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config/deitel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stateful-session-persistent-store-di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ersist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defines transaction attribut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ans-timeout-second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ans-timeout-second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ansaction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657600" y="1981080"/>
            <a:ext cx="4647960" cy="580680"/>
            <a:chOff x="3657600" y="1981080"/>
            <a:chExt cx="4647960" cy="580680"/>
          </a:xfrm>
        </p:grpSpPr>
        <p:sp>
          <p:nvSpPr>
            <p:cNvPr id="174" name=""/>
            <p:cNvSpPr/>
            <p:nvPr/>
          </p:nvSpPr>
          <p:spPr>
            <a:xfrm>
              <a:off x="4446720" y="1981080"/>
              <a:ext cx="3858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ful session EJB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ires slightly different deployment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657600" y="2361960"/>
              <a:ext cx="78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4 Weblogic-ejb-jar.xml defines WebLogic deployment properties for Bookstore case stud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EJB references to JNDI nam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hopping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weblogic-enterprise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ShoppingCar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ejb-jar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weblogic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85800" y="5943600"/>
            <a:ext cx="7772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1.5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t 1 of 3)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tags for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-ejb-jar.xm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t used in t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5791320"/>
            <a:ext cx="7772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1.5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t 2 of 3)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tags for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weblogic-ejb-jar.xm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t used in t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6 Weblogic-cmp-rdbms-jar-address.xml defines WebLogic CMP database properties for EJB Addres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-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cmp-rdbms-jar-address.xml rdbms deployment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descriptor for EJB Address. Defines database properties --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rdbms-bean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 RDBMS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//EN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rdbms-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main block for rdbms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Sets data pool to BookstorePoo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ool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Poo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ol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Sets database table to ADDRES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maps EJB fields to database field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ipCod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ipCod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666520" y="2209680"/>
            <a:ext cx="4038840" cy="580680"/>
            <a:chOff x="2666520" y="2209680"/>
            <a:chExt cx="4038840" cy="580680"/>
          </a:xfrm>
        </p:grpSpPr>
        <p:sp>
          <p:nvSpPr>
            <p:cNvPr id="192" name=""/>
            <p:cNvSpPr/>
            <p:nvPr/>
          </p:nvSpPr>
          <p:spPr>
            <a:xfrm>
              <a:off x="3352680" y="220968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blogic-rdbms-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base element for the descrip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666520" y="2590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495320" y="2743200"/>
            <a:ext cx="3429000" cy="824040"/>
            <a:chOff x="4495320" y="2743200"/>
            <a:chExt cx="3429000" cy="824040"/>
          </a:xfrm>
        </p:grpSpPr>
        <p:sp>
          <p:nvSpPr>
            <p:cNvPr id="195" name=""/>
            <p:cNvSpPr/>
            <p:nvPr/>
          </p:nvSpPr>
          <p:spPr>
            <a:xfrm>
              <a:off x="5076360" y="2743200"/>
              <a:ext cx="2847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ol-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ust contain the name for a data pool already defined in WebLogi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5320" y="3124080"/>
              <a:ext cx="58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191120" y="3276720"/>
            <a:ext cx="2285640" cy="580680"/>
            <a:chOff x="4191120" y="3276720"/>
            <a:chExt cx="2285640" cy="580680"/>
          </a:xfrm>
        </p:grpSpPr>
        <p:sp>
          <p:nvSpPr>
            <p:cNvPr id="198" name=""/>
            <p:cNvSpPr/>
            <p:nvPr/>
          </p:nvSpPr>
          <p:spPr>
            <a:xfrm>
              <a:off x="4578120" y="3276720"/>
              <a:ext cx="189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rites to t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91120" y="36576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343040" y="4038480"/>
            <a:ext cx="3581280" cy="824040"/>
            <a:chOff x="4343040" y="4038480"/>
            <a:chExt cx="3581280" cy="824040"/>
          </a:xfrm>
        </p:grpSpPr>
        <p:sp>
          <p:nvSpPr>
            <p:cNvPr id="201" name=""/>
            <p:cNvSpPr/>
            <p:nvPr/>
          </p:nvSpPr>
          <p:spPr>
            <a:xfrm>
              <a:off x="4951440" y="4038480"/>
              <a:ext cx="2972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-lin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the mappings between the EJB fields and database fields for zipC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343040" y="441936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6 Weblogic-cmp-rdbms-jar-address.xml defines WebLogic CMP database properties for EJB Addres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AddressLine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AddressLine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AddressLine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AddressLine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oneNumb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oneNumb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 J2EE Specification and Benefi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 Enterprise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rtable application-server plat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EE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I sup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ment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6 Weblogic-cmp-rdbms-jar-address.xml defines WebLogic CMP database properties for EJB Addres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76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use-quoted-nam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-quoted-nam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/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rdbms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Address RDBMS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7 WebLogic-cmp-rdbm-jar-Customer.xml defines WebLogic CMP database properties for EJB Customer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cmp-rdbms-jar-Customer.xml ejb descriptor for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ustomerEJB defines rdbms properties for WebLogic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rdbms-bean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 RDBMS Persistence//EN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rdbms-persistence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lement containing rdbms properties for Customer 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pool named BookstorePoo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ool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Poo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ol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table named CUSTOME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ble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lement containing field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custom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creditCardExpirationDat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CardExpirationDa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CardExpirationDa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7 WebLogic-cmp-rdbm-jar-Customer.xml defines WebLogic CMP database properties for EJB Customer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shippingAddress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ippingAddress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ippingAddress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billingAddress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illingAddress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illingAddress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passwordHi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sword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sword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creditCardNam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Card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Card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firstNam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passwor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swor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swor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7 WebLogic-cmp-rdbm-jar-Customer.xml defines WebLogic CMP database properties for EJB CustomerEJB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1-1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9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6-9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lastNam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us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creditCardNumbe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CardNumb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CardNumb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list of custom finder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nder for findByUs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ByUs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method-para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get fields where userID matches argument string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finder-query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![CDATA[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( like userID $0 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]]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209320" y="3809880"/>
            <a:ext cx="3810240" cy="580680"/>
            <a:chOff x="2209320" y="3809880"/>
            <a:chExt cx="3810240" cy="580680"/>
          </a:xfrm>
        </p:grpSpPr>
        <p:sp>
          <p:nvSpPr>
            <p:cNvPr id="214" name=""/>
            <p:cNvSpPr/>
            <p:nvPr/>
          </p:nvSpPr>
          <p:spPr>
            <a:xfrm>
              <a:off x="2856600" y="3809880"/>
              <a:ext cx="3162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er-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finder methods for the customer EJ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209320" y="4190760"/>
              <a:ext cx="64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105160" y="4572000"/>
            <a:ext cx="3657600" cy="824040"/>
            <a:chOff x="5105160" y="4572000"/>
            <a:chExt cx="3657600" cy="824040"/>
          </a:xfrm>
        </p:grpSpPr>
        <p:sp>
          <p:nvSpPr>
            <p:cNvPr id="217" name=""/>
            <p:cNvSpPr/>
            <p:nvPr/>
          </p:nvSpPr>
          <p:spPr>
            <a:xfrm>
              <a:off x="5726520" y="4572000"/>
              <a:ext cx="3036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-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string that matches a finder method defined in the home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105160" y="495288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971800" y="4724280"/>
            <a:ext cx="4571640" cy="824040"/>
            <a:chOff x="2971800" y="4724280"/>
            <a:chExt cx="4571640" cy="824040"/>
          </a:xfrm>
        </p:grpSpPr>
        <p:sp>
          <p:nvSpPr>
            <p:cNvPr id="220" name=""/>
            <p:cNvSpPr/>
            <p:nvPr/>
          </p:nvSpPr>
          <p:spPr>
            <a:xfrm>
              <a:off x="3747960" y="4724280"/>
              <a:ext cx="37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-param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-par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specifies the fully qualified type of any passed parame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971800" y="510516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7 WebLogic-cmp-rdbm-jar-Customer.xml defines WebLogic CMP database properties for EJB CustomerEJB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7-1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nder for findByLogi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ByLogi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method-para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method-para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fields where userID and password match argumen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finder-query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![CDATA[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(&amp; ( like userID $0 )( like password $1 )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]]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dditional op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use-quoted-nam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-quoted-nam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rdbms-bean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rdbms descriptor for Customer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23920" y="380880"/>
            <a:ext cx="3429000" cy="824040"/>
            <a:chOff x="4723920" y="380880"/>
            <a:chExt cx="3429000" cy="824040"/>
          </a:xfrm>
        </p:grpSpPr>
        <p:sp>
          <p:nvSpPr>
            <p:cNvPr id="225" name=""/>
            <p:cNvSpPr/>
            <p:nvPr/>
          </p:nvSpPr>
          <p:spPr>
            <a:xfrm>
              <a:off x="5306400" y="380880"/>
              <a:ext cx="284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ByLog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takes two arguments and returns only the fields that match bo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723920" y="761760"/>
              <a:ext cx="58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Deploying the Deitel Bookstore on BEA WebLogic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9 Weblogic-cmp-rdbms-jar-order.xml defines WebLogic CMP database properties for EJB Order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cmp-rdbms-jar-order.xml ejb descriptor for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OrderEJB defines rdbms properties for WebLogic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rdbms-bean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 RDBMS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//EN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rdbms-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lement containing rdbms properties for Order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pool named BookstorePoo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ool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Poo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ol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table named CUSTOMERORDER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ble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Order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lement containing field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orderDat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Da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Da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shippe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9 Weblogic-cmp-rdbms-jar-order.xml defines WebLogic CMP database properties for EJB Order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ippe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ippe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custom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ord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nder for findByCustom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ByCustom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method-para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Integ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return enumeration where customerID = arg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![CDATA[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( = customerID $0 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]]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9 Weblogic-cmp-rdbms-jar-order.xml defines WebLogic CMP database properties for EJB Order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dditional op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use-quoted-nam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-quoted-nam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rdbms descriptor for Order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0 Weblogic-cmp-rdbms-jar-orderProduct.xml defines WebLogic CMP database properties for the OrderProduct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cmp-rdbms-jar-orderProduct.xml ejb descriptor f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OrderProductEJB defines rdbms properties for WebLogic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rdbms-bean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 RDBMS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//EN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rdbms-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lement containing rdbms properties for OrderProducts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pool named BookstorePoo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ool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Poo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ol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table named ORDERPRODUC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ble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lement containing field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attribute-ma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quantity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ISB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 J2EE Specification and Benefi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0 Weblogic-cmp-rdbms-jar-orderProduct.xml defines WebLogic CMP database properties for the OrderProduct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ord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&lt;!-- finder for findByOrder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ByOrder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method-para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Integ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select fields where orderID matches arg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![CDATA[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( like orderID $0 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]]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dditional op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use-quoted-nam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-quoted-nam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rdbms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OrderProduc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1 Weblogic-cmp-rdbms-jar-product.xml defines WebLogic CMP database properties for the Product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cmp-rdbms-jar-product.xml ejb descriptor for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ProductEJB defines rdbms properties for WebLogic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rdbms-bean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 RDBMS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//EN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rdbms-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lement containing rdbms properties for Product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pool named BookstorePoo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ool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Poo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ol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table named PRODUC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ble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lement containing field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pag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auth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1 Weblogic-cmp-rdbms-jar-product.xml defines WebLogic CMP database properties for the Product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publishe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pric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imag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ISB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titl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1 Weblogic-cmp-rdbms-jar-product.xml defines WebLogic CMP database properties for the Product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&lt;!-- finder for findAllProduc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finder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AllProduc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select fields where ISBN is not nul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![CDATA[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( isNotNull ISBN 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]]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&lt;!-- finder for findByTitl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ByTit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method-para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lang.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thod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method-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select fields that title matches arg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![CDATA[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( like title $0 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]]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inder-que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find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inder-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dditional op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-quoted-nam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-quoted-nam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rdbms-bean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ProductEJB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2 Weblogic-cmp-rdbms-jar-sequence.xml defines WebLogic CMP database properties for the SequenceFactory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-cmp-rdbms-jar-sequence.xml ejb descriptor f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SequenceFactory defines rdbms properties for WebLogic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rdbms-bean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-//BEA Systems, Inc.//DTD WebLogic 5.1.0 EJB RDBMS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//EN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'http://www.bea.com/servers/wls510/dtd/weblogic-rdbms-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ersistence.dtd'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lement containing rdbms properties for SequenceFactoryEJB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pool named BookstorePoo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ool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Poo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ol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ssigns this bean to table SEQUENCEFACTORY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ble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quenceFactor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element containing field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addressID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field mapping for primaryKey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ean-fie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ean-fie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bms-colum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bms-colum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object-link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1.12 Weblogic-cmp-rdbms-jar-sequence.xml defines WebLogic CMP database properties for the SequenceFactory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attribute-ma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-quoted-nam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-quoted-nam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option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rdbms-be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21.13 Weblogic.xml Web application deployment descripto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es 22-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eblogic.xml Deployment descriptor for servle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maps ejb references to JNDI nam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logic-web-app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-//BEA Systems, Inc.//DTD Web Application 6.0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http://www.bea.com/servers/wls600/dtd/weblogic-web-jar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main block for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logic-web-ap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optional, provides description for war file.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store servle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block contains ejb reference map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individual reference ma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reference name defined in web.x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hopping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JNDI name specified within weblogic-ejb-jar.x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Shopping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individual reference ma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09520" y="3809880"/>
            <a:ext cx="3124440" cy="580680"/>
            <a:chOff x="3809520" y="3809880"/>
            <a:chExt cx="3124440" cy="580680"/>
          </a:xfrm>
        </p:grpSpPr>
        <p:sp>
          <p:nvSpPr>
            <p:cNvPr id="253" name=""/>
            <p:cNvSpPr/>
            <p:nvPr/>
          </p:nvSpPr>
          <p:spPr>
            <a:xfrm>
              <a:off x="4340160" y="3809880"/>
              <a:ext cx="2593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reference to its JNDI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3809520" y="419076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21.13 Weblogic.xml Web application deployment descripto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individual reference ma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Custom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individual reference ma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ejb-ref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jb-ref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jndi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jb/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ndi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ejb-reference-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reference-descrip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logic-web-ap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servlet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 Deploying the Deitel Bookstore on IBM WebSphe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udsc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Sphere applicati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BM HTTP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parser and XSL transfor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alan.j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erces.j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erver ad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host:9090/adm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DBC driver and data source 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ment descri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 Deploying the Deitel Bookstore on IBM WebSphe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 Commercial Application Serv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application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A Web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Planet Applicati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BM WebSp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B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1 BEA WebLogic 6.0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Logic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po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t deploy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ilover sup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poo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ced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2 iPlanet Application Server 6.0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lanet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conn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cky load 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ghtweight Directory Access Protocol (LDA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ww.iplanet.com/ias_deit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3 IBM WebSphere Advanced Application Server 4.0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pher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ilover sup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poo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-level security contr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4 JBoss 2.2.2 Application Serv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Boss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t deploy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memory footpr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2-04T15:54:27Z</dcterms:modified>
  <cp:revision>27</cp:revision>
  <dc:subject/>
  <dc:title>PowerPoint Presentation</dc:title>
</cp:coreProperties>
</file>