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6C49-84A2-4887-8335-C212FE9FB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1EA8-7510-4173-8EFE-B90B0F541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D99F-B26B-499F-8D1D-6B3BF5529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C892-EF95-48F3-BC3F-33517D208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0619-7639-4F27-93E0-6FDCE5D60F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394F-E20E-44EC-BBDC-3BD8F4CABF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F8B0-CE77-4F3C-B08F-943ACB938E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D0F4-A2E1-483F-88E3-1507C381CE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5675-B8FD-49D7-AD9F-EE6C15994B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57E6-CA78-4C0D-85D7-9FC86B3A8F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3264-5638-4CBE-A831-DAF82290C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2CB6-D8A4-4C9D-BDD3-A9B7C9927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3965-7993-4789-A3F9-377F03301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3738-E2B7-4C39-91D0-19D907849E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B5EA-2908-4139-A15A-9834FC5B4B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BB27-3AA7-4F00-8851-E7270071C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2812-5704-4EA0-A687-75768FBC4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9657-70EE-4415-A8E1-AF539CCEE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658B-B24C-44B8-8605-0D00D4651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EF72-D2BC-45EF-B645-56F9DFBAB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EA4E-BBB2-40E4-8BAA-49E575D26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B863-1792-4BCC-877F-4972B762E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D3B8-026C-4F48-9D63-4913E93A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AC44-F1BD-447B-8D60-8DEB5244E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57DC-28C8-4ABB-A693-1D22792A2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62F4-48E7-4080-B302-31AE84B1D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6: Common Object Request Broker Architecture(CORBA):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ep-by-Step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rst Exampl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id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Impl.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ystemClockClient.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unning th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chnical/Architectural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RBA Basic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id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Impl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larmClockClien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stributed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ystemClock.id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declared in IDL file is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DL compiler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l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il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.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comm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dlj –td c:\src –pkgPrefix clock com.deitel.advjhtp1.idl –fall systemclock.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following fi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lock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lock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SystemClock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 Java interface generated b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dlj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com/deitel/jhtp4/idl/clock/SystemClock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systemclock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Wednesday, February 28, 2001 8:24:01 PM P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Operation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rg.omg.CORBA.Object, org.omg.CORBA.portable.IDLE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terface SystemClo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280" y="2438280"/>
            <a:ext cx="3581640" cy="1495080"/>
            <a:chOff x="152280" y="2438280"/>
            <a:chExt cx="3581640" cy="1495080"/>
          </a:xfrm>
        </p:grpSpPr>
        <p:sp>
          <p:nvSpPr>
            <p:cNvPr id="131" name=""/>
            <p:cNvSpPr/>
            <p:nvPr/>
          </p:nvSpPr>
          <p:spPr>
            <a:xfrm>
              <a:off x="152280" y="33526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BA-defined types from which all CORBA-enabled objects inher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447920" y="2438280"/>
              <a:ext cx="268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447920" y="24382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600" y="2209680"/>
            <a:ext cx="2743200" cy="1495080"/>
            <a:chOff x="5943600" y="2209680"/>
            <a:chExt cx="2743200" cy="1495080"/>
          </a:xfrm>
        </p:grpSpPr>
        <p:sp>
          <p:nvSpPr>
            <p:cNvPr id="135" name=""/>
            <p:cNvSpPr/>
            <p:nvPr/>
          </p:nvSpPr>
          <p:spPr>
            <a:xfrm>
              <a:off x="6019920" y="3124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public operations of server (generated from ID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5943600" y="22096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Operations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 generated b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dlj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com/deitel/advjhtp1/idl/clock/SystemClockOperation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from systemclock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 Sunday, July 1, 2001 10:36:53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definition of the CORBA-enabled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Opera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TimeMillis 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SystemClockOpe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71800" y="2971800"/>
            <a:ext cx="3276720" cy="1328040"/>
            <a:chOff x="2971800" y="2971800"/>
            <a:chExt cx="3276720" cy="1328040"/>
          </a:xfrm>
        </p:grpSpPr>
        <p:sp>
          <p:nvSpPr>
            <p:cNvPr id="140" name=""/>
            <p:cNvSpPr/>
            <p:nvPr/>
          </p:nvSpPr>
          <p:spPr>
            <a:xfrm>
              <a:off x="3581280" y="3962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efined in ID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971800" y="2971800"/>
              <a:ext cx="1905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0880" y="2971800"/>
            <a:ext cx="2667240" cy="1571400"/>
            <a:chOff x="380880" y="2971800"/>
            <a:chExt cx="2667240" cy="1571400"/>
          </a:xfrm>
        </p:grpSpPr>
        <p:sp>
          <p:nvSpPr>
            <p:cNvPr id="143" name=""/>
            <p:cNvSpPr/>
            <p:nvPr/>
          </p:nvSpPr>
          <p:spPr>
            <a:xfrm>
              <a:off x="380880" y="3962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L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pped to Jav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066680" y="29718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4: SystemClock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ystemClock service implemen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SystemClock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computer's current time in millisec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TimeMilli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.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ystemClockImpl object by calling method 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Impl( String param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ime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SystemClockImpl object with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corbaName,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notProceed, Not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4 Implementation of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5-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7-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2-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name of service. If name is null or bla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ttempt to bind to Naming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orba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rba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"Registration name cannot be null or blank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initialize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is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.connect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meComponent array with path information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ingCompon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corba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ing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SystemClockImpl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pa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bind comple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e SystemClock CORBA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Clock time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Impl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19360" y="1676520"/>
            <a:ext cx="4115160" cy="337320"/>
            <a:chOff x="4419360" y="1676520"/>
            <a:chExt cx="4115160" cy="337320"/>
          </a:xfrm>
        </p:grpSpPr>
        <p:sp>
          <p:nvSpPr>
            <p:cNvPr id="150" name=""/>
            <p:cNvSpPr/>
            <p:nvPr/>
          </p:nvSpPr>
          <p:spPr>
            <a:xfrm>
              <a:off x="5867280" y="1676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ion of a new ORB objec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419360" y="1828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8120" y="2209680"/>
            <a:ext cx="5867280" cy="337320"/>
            <a:chOff x="3048120" y="2209680"/>
            <a:chExt cx="5867280" cy="337320"/>
          </a:xfrm>
        </p:grpSpPr>
        <p:sp>
          <p:nvSpPr>
            <p:cNvPr id="153" name=""/>
            <p:cNvSpPr/>
            <p:nvPr/>
          </p:nvSpPr>
          <p:spPr>
            <a:xfrm>
              <a:off x="5791320" y="220968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 implementation object to OR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048120" y="23623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66920" y="2895480"/>
            <a:ext cx="3124800" cy="580680"/>
            <a:chOff x="5866920" y="2895480"/>
            <a:chExt cx="3124800" cy="580680"/>
          </a:xfrm>
        </p:grpSpPr>
        <p:sp>
          <p:nvSpPr>
            <p:cNvPr id="156" name=""/>
            <p:cNvSpPr/>
            <p:nvPr/>
          </p:nvSpPr>
          <p:spPr>
            <a:xfrm>
              <a:off x="6324480" y="289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Naming Service object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866920" y="3124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334120" y="3124080"/>
            <a:ext cx="3581280" cy="1067400"/>
            <a:chOff x="5334120" y="3124080"/>
            <a:chExt cx="3581280" cy="1067400"/>
          </a:xfrm>
        </p:grpSpPr>
        <p:sp>
          <p:nvSpPr>
            <p:cNvPr id="159" name=""/>
            <p:cNvSpPr/>
            <p:nvPr/>
          </p:nvSpPr>
          <p:spPr>
            <a:xfrm>
              <a:off x="6248520" y="312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BA mechanism to cast one Object reference to another (in this case, NamingContex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334120" y="34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723920" y="4038480"/>
            <a:ext cx="4267800" cy="824040"/>
            <a:chOff x="4723920" y="4038480"/>
            <a:chExt cx="4267800" cy="824040"/>
          </a:xfrm>
        </p:grpSpPr>
        <p:sp>
          <p:nvSpPr>
            <p:cNvPr id="162" name=""/>
            <p:cNvSpPr/>
            <p:nvPr/>
          </p:nvSpPr>
          <p:spPr>
            <a:xfrm>
              <a:off x="63244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 context (identifies object reference in naming servi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723920" y="441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733920" y="4952880"/>
            <a:ext cx="5257800" cy="824040"/>
            <a:chOff x="3733920" y="4952880"/>
            <a:chExt cx="5257800" cy="824040"/>
          </a:xfrm>
        </p:grpSpPr>
        <p:sp>
          <p:nvSpPr>
            <p:cNvPr id="165" name=""/>
            <p:cNvSpPr/>
            <p:nvPr/>
          </p:nvSpPr>
          <p:spPr>
            <a:xfrm>
              <a:off x="6324480" y="4952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reference to current object using provided naming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733920" y="510552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4 Implementation of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requests from the outsid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.lang.Object 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server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objec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ystemClock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ystemClockClient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the client that connec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vice, requests current time and displays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5 Client that connect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5: SystemClock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 application for the SystemClock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Option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 time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TimeClient( String param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ToTimeServer(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Ti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NameService to connect to tim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ToTimeServer(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Found, CannotProc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ystemClock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343400" y="5410080"/>
            <a:ext cx="4572000" cy="1067040"/>
            <a:chOff x="4343400" y="5410080"/>
            <a:chExt cx="4572000" cy="1067040"/>
          </a:xfrm>
        </p:grpSpPr>
        <p:sp>
          <p:nvSpPr>
            <p:cNvPr id="174" name=""/>
            <p:cNvSpPr/>
            <p:nvPr/>
          </p:nvSpPr>
          <p:spPr>
            <a:xfrm>
              <a:off x="6248520" y="5410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R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343400" y="5715000"/>
              <a:ext cx="1905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5 Client that connect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rbaObject = naming.resolve( 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Server = SystemClock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imer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Tim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lk to server on regular basis and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forma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getTimeInstance(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imeStr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 = timeServer.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String = format.format( 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4120" y="838080"/>
            <a:ext cx="3581280" cy="1328040"/>
            <a:chOff x="5334120" y="838080"/>
            <a:chExt cx="3581280" cy="1328040"/>
          </a:xfrm>
        </p:grpSpPr>
        <p:sp>
          <p:nvSpPr>
            <p:cNvPr id="179" name=""/>
            <p:cNvSpPr/>
            <p:nvPr/>
          </p:nvSpPr>
          <p:spPr>
            <a:xfrm>
              <a:off x="5791320" y="182880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334120" y="8380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2520" y="1600200"/>
            <a:ext cx="3505680" cy="580680"/>
            <a:chOff x="4952520" y="1600200"/>
            <a:chExt cx="3505680" cy="580680"/>
          </a:xfrm>
        </p:grpSpPr>
        <p:sp>
          <p:nvSpPr>
            <p:cNvPr id="182" name=""/>
            <p:cNvSpPr/>
            <p:nvPr/>
          </p:nvSpPr>
          <p:spPr>
            <a:xfrm>
              <a:off x="57913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of object bound to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me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952520" y="18288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5520" y="2209680"/>
            <a:ext cx="2896200" cy="337320"/>
            <a:chOff x="6095520" y="2209680"/>
            <a:chExt cx="2896200" cy="337320"/>
          </a:xfrm>
        </p:grpSpPr>
        <p:sp>
          <p:nvSpPr>
            <p:cNvPr id="185" name=""/>
            <p:cNvSpPr/>
            <p:nvPr/>
          </p:nvSpPr>
          <p:spPr>
            <a:xfrm>
              <a:off x="6324480" y="22096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to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095520" y="2362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952880" y="5715000"/>
            <a:ext cx="3962520" cy="457200"/>
            <a:chOff x="4952880" y="5715000"/>
            <a:chExt cx="3962520" cy="457200"/>
          </a:xfrm>
        </p:grpSpPr>
        <p:sp>
          <p:nvSpPr>
            <p:cNvPr id="188" name=""/>
            <p:cNvSpPr/>
            <p:nvPr/>
          </p:nvSpPr>
          <p:spPr>
            <a:xfrm>
              <a:off x="6019920" y="57150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on remot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952880" y="5867280"/>
              <a:ext cx="10670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5 Client that connect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= JOptionPane.showConfirm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tring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SystemClock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_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us out of 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lien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exceptions that occur while client exec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thrown by SystemClockClien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class SystemClock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92" name="SystemClock1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2568600" cy="1123920"/>
          </a:xfrm>
          <a:prstGeom prst="rect">
            <a:avLst/>
          </a:prstGeom>
          <a:ln w="0">
            <a:noFill/>
          </a:ln>
        </p:spPr>
      </p:pic>
      <p:pic>
        <p:nvPicPr>
          <p:cNvPr id="193" name="SystemClock2" descr=""/>
          <p:cNvPicPr/>
          <p:nvPr/>
        </p:nvPicPr>
        <p:blipFill>
          <a:blip r:embed="rId2"/>
          <a:stretch/>
        </p:blipFill>
        <p:spPr>
          <a:xfrm>
            <a:off x="3962520" y="5410080"/>
            <a:ext cx="257004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6: Common Object Request Broker Architecture(CORBA):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588600" y="1227240"/>
            <a:ext cx="570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id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Impl.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itelMesseng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.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unning Cha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8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ssu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ments and Comparis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6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4   Running th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JDK 1.3 is installed on workstation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ironment variable includes JDK’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re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to exec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IDL file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l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(source code in c:\sr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lj –pkgPrefix clock com.deitel.advjhtp1.idl –td c:\src    -fall SystemClock.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server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clien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Nam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ameser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vided included in JDK 1.3 as a CORBA Object Service Naming Service test too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ameserv -ORBInitialPort 1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-41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37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com.deitel.advjhtp1.idl.clock.SystemClockImpl –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4   Running the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run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com.deitel.advjhtp1.idl.clock.SystemClockClient          -ORBInitialPort 10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B is the central mechanism of COR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B must exist for every object in a CORBA-enabled distribut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B’s relationship to services in a distributed system is comparable to the relationship between a computer’s communication bus and devices connect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communicate with an ORB by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L compiler generated stub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interface (using CORBA’s dynamic invocation API)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B’s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16640" cy="202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44880" y="457200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path from a client to a distributed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RB communicates with servants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tatic skelet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ynamic interface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rvant’s object adap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38480" y="2392200"/>
            <a:ext cx="4667040" cy="207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52480" y="480060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 request-interface structure. Courtesy of Object Management Group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BA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baseline services available to all objects sitting on the ORB communication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Management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e Cycl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 Stat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urrenc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shi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rnaliza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pert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ica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s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BAfaci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e in two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rizontal fac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client-sid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tical fac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domai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facilities spec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bile Agents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ing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ization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facilities domain-specific services are being developed for various business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Enterprise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nce/Insur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ic Comme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lthc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Object Request Brok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grams written in various languages to communicate with each other as would two processes in the same address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 leveraged by cli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cation transpar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transpar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transpar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e Science Re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4I (Command, Control, Communications, Computers, and Intellig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51240" y="2444760"/>
            <a:ext cx="4241520" cy="19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16640" y="4800600"/>
            <a:ext cx="46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Management Architecture referen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. Courtesy of Object Management Group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4   Technical/Architectural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Objects are the top layer of the 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bjecs have the functionality not found at the domain layer, facilities layer or the services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concepts of distributed systems are the same regardless of the designed system’s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nderstanding of the OMA means a head start in developing an architecture, because most pieces needed are defined in the 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5   CORBA Basic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0 IDL file testing many of the IDL keywords and typ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Any comments located outside of the module declaration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ignored by the IDL compiler. This multi-line comment d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not appear in any of the files generated by idlj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single-line comment is also ignored by the IDL compi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is comment appears in the generated files for Struct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is comment appears at start of the type 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ct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cte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xed fixedValue; not supported by Java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qu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uctMap&gt; StructMapSeq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qu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uctMap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BoundStructMapSeq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33720" y="1676520"/>
            <a:ext cx="6629040" cy="337320"/>
            <a:chOff x="2133720" y="1676520"/>
            <a:chExt cx="6629040" cy="337320"/>
          </a:xfrm>
        </p:grpSpPr>
        <p:sp>
          <p:nvSpPr>
            <p:cNvPr id="229" name=""/>
            <p:cNvSpPr/>
            <p:nvPr/>
          </p:nvSpPr>
          <p:spPr>
            <a:xfrm>
              <a:off x="5088600" y="1676520"/>
              <a:ext cx="3674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directly to Java pack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133720" y="1828800"/>
              <a:ext cx="29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666520" y="2209680"/>
            <a:ext cx="6325200" cy="824040"/>
            <a:chOff x="2666520" y="2209680"/>
            <a:chExt cx="6325200" cy="824040"/>
          </a:xfrm>
        </p:grpSpPr>
        <p:sp>
          <p:nvSpPr>
            <p:cNvPr id="232" name=""/>
            <p:cNvSpPr/>
            <p:nvPr/>
          </p:nvSpPr>
          <p:spPr>
            <a:xfrm>
              <a:off x="3352680" y="2209680"/>
              <a:ext cx="5639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directly to a Java class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y contain object references but is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prevents it from being subclasse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66652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05320" y="3504960"/>
            <a:ext cx="4876560" cy="1143360"/>
            <a:chOff x="3505320" y="3504960"/>
            <a:chExt cx="4876560" cy="1143360"/>
          </a:xfrm>
        </p:grpSpPr>
        <p:sp>
          <p:nvSpPr>
            <p:cNvPr id="235" name=""/>
            <p:cNvSpPr/>
            <p:nvPr/>
          </p:nvSpPr>
          <p:spPr>
            <a:xfrm>
              <a:off x="5181480" y="3733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mitive types map to corresponding Java primitive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505320" y="3504960"/>
              <a:ext cx="1676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886200" y="4038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657240" y="4038480"/>
              <a:ext cx="1523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23920" y="6019920"/>
            <a:ext cx="3657960" cy="824040"/>
            <a:chOff x="4723920" y="6019920"/>
            <a:chExt cx="3657960" cy="824040"/>
          </a:xfrm>
        </p:grpSpPr>
        <p:sp>
          <p:nvSpPr>
            <p:cNvPr id="240" name=""/>
            <p:cNvSpPr/>
            <p:nvPr/>
          </p:nvSpPr>
          <p:spPr>
            <a:xfrm>
              <a:off x="5562720" y="601992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bounded sequence maps to a Java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3920" y="6172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86040" y="6267600"/>
            <a:ext cx="3200760" cy="580680"/>
            <a:chOff x="5486040" y="6267600"/>
            <a:chExt cx="3200760" cy="580680"/>
          </a:xfrm>
        </p:grpSpPr>
        <p:sp>
          <p:nvSpPr>
            <p:cNvPr id="243" name=""/>
            <p:cNvSpPr/>
            <p:nvPr/>
          </p:nvSpPr>
          <p:spPr>
            <a:xfrm>
              <a:off x="6019560" y="6267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unded sequence map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of s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486040" y="6419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0 IDL file testing many of the IDL keywords and typ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is comment appears abo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interface declaration for interfac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N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ent above the readwrite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ttribu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Attribu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ad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ttribu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Attribu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ant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ent above th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Seq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Seq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StructMapSeq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Array arr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Out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out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odule map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428640" y="457200"/>
            <a:ext cx="5105880" cy="1175400"/>
            <a:chOff x="3428640" y="457200"/>
            <a:chExt cx="5105880" cy="1175400"/>
          </a:xfrm>
        </p:grpSpPr>
        <p:sp>
          <p:nvSpPr>
            <p:cNvPr id="248" name=""/>
            <p:cNvSpPr/>
            <p:nvPr/>
          </p:nvSpPr>
          <p:spPr>
            <a:xfrm>
              <a:off x="5410080" y="129528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s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3428640" y="457200"/>
              <a:ext cx="1981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120" y="1219320"/>
            <a:ext cx="6934680" cy="2333160"/>
            <a:chOff x="1752120" y="1219320"/>
            <a:chExt cx="6934680" cy="2333160"/>
          </a:xfrm>
        </p:grpSpPr>
        <p:sp>
          <p:nvSpPr>
            <p:cNvPr id="251" name=""/>
            <p:cNvSpPr/>
            <p:nvPr/>
          </p:nvSpPr>
          <p:spPr>
            <a:xfrm>
              <a:off x="4343400" y="2971800"/>
              <a:ext cx="4343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exposes public functionality available to remote clien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1752120" y="1219320"/>
              <a:ext cx="48006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981080" y="1676520"/>
            <a:ext cx="6477120" cy="1677240"/>
            <a:chOff x="1981080" y="1676520"/>
            <a:chExt cx="6477120" cy="1677240"/>
          </a:xfrm>
        </p:grpSpPr>
        <p:sp>
          <p:nvSpPr>
            <p:cNvPr id="254" name=""/>
            <p:cNvSpPr/>
            <p:nvPr/>
          </p:nvSpPr>
          <p:spPr>
            <a:xfrm>
              <a:off x="4419720" y="1905120"/>
              <a:ext cx="4038480" cy="144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methods with signatur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anAttribute(int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anAttribut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1981080" y="1676520"/>
              <a:ext cx="2438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62160" y="1904760"/>
            <a:ext cx="4648320" cy="1774800"/>
            <a:chOff x="3962160" y="1904760"/>
            <a:chExt cx="4648320" cy="1774800"/>
          </a:xfrm>
        </p:grpSpPr>
        <p:sp>
          <p:nvSpPr>
            <p:cNvPr id="257" name=""/>
            <p:cNvSpPr/>
            <p:nvPr/>
          </p:nvSpPr>
          <p:spPr>
            <a:xfrm>
              <a:off x="5105520" y="2971800"/>
              <a:ext cx="3504960" cy="707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method with signatur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roAttribut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3962160" y="1904760"/>
              <a:ext cx="11430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19520" y="2133720"/>
            <a:ext cx="5105160" cy="2089800"/>
            <a:chOff x="2819520" y="2133720"/>
            <a:chExt cx="5105160" cy="2089800"/>
          </a:xfrm>
        </p:grpSpPr>
        <p:sp>
          <p:nvSpPr>
            <p:cNvPr id="260" name=""/>
            <p:cNvSpPr/>
            <p:nvPr/>
          </p:nvSpPr>
          <p:spPr>
            <a:xfrm>
              <a:off x="4038480" y="388620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immu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eld with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819520" y="2133720"/>
              <a:ext cx="12189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38080" y="2590560"/>
            <a:ext cx="3657600" cy="2972520"/>
            <a:chOff x="838080" y="2590560"/>
            <a:chExt cx="3657600" cy="2972520"/>
          </a:xfrm>
        </p:grpSpPr>
        <p:sp>
          <p:nvSpPr>
            <p:cNvPr id="263" name=""/>
            <p:cNvSpPr/>
            <p:nvPr/>
          </p:nvSpPr>
          <p:spPr>
            <a:xfrm>
              <a:off x="838080" y="4495680"/>
              <a:ext cx="3657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will pass a copy of argument, i.e.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-by-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methods defined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ss references as arguments, i.e.,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-by-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43200" y="25905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895480" y="29714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200400" y="27432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352320" y="3200400"/>
            <a:ext cx="4267800" cy="2271960"/>
            <a:chOff x="3352320" y="3200400"/>
            <a:chExt cx="4267800" cy="2271960"/>
          </a:xfrm>
        </p:grpSpPr>
        <p:sp>
          <p:nvSpPr>
            <p:cNvPr id="268" name=""/>
            <p:cNvSpPr/>
            <p:nvPr/>
          </p:nvSpPr>
          <p:spPr>
            <a:xfrm>
              <a:off x="4952880" y="4648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s arguments as references, regardless of primitives or object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352320" y="320040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1 IDL-generated f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uctMap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2,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aptest/StructMap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maptes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onday, May 14, 2001 4:18:09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omment appears in the generated files for Struct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rg.omg.CORBA.portable.IDLE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is comment appears at start of the type 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Char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ctet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ing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String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rt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hortValue = 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hor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Value = 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Long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LongLong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 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666520" y="6019920"/>
            <a:ext cx="6096600" cy="580680"/>
            <a:chOff x="2666520" y="6019920"/>
            <a:chExt cx="6096600" cy="580680"/>
          </a:xfrm>
        </p:grpSpPr>
        <p:sp>
          <p:nvSpPr>
            <p:cNvPr id="273" name=""/>
            <p:cNvSpPr/>
            <p:nvPr/>
          </p:nvSpPr>
          <p:spPr>
            <a:xfrm>
              <a:off x="5791320" y="60199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 constructor-all fields initializ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666520" y="62485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029200" y="2514240"/>
            <a:ext cx="3809880" cy="609840"/>
            <a:chOff x="5029200" y="2514240"/>
            <a:chExt cx="3809880" cy="609840"/>
          </a:xfrm>
        </p:grpSpPr>
        <p:sp>
          <p:nvSpPr>
            <p:cNvPr id="276" name=""/>
            <p:cNvSpPr/>
            <p:nvPr/>
          </p:nvSpPr>
          <p:spPr>
            <a:xfrm>
              <a:off x="5867280" y="26668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ents appearing in ID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029200" y="28195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5029200" y="25142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676520" y="1447920"/>
            <a:ext cx="4647960" cy="990360"/>
            <a:chOff x="1676520" y="1447920"/>
            <a:chExt cx="4647960" cy="990360"/>
          </a:xfrm>
        </p:grpSpPr>
        <p:sp>
          <p:nvSpPr>
            <p:cNvPr id="280" name=""/>
            <p:cNvSpPr/>
            <p:nvPr/>
          </p:nvSpPr>
          <p:spPr>
            <a:xfrm>
              <a:off x="3352680" y="14479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not inherit from this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676520" y="1600200"/>
              <a:ext cx="1676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1 IDL-generated f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uctMap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uctM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bool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char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wChar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octetValue, String _string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wString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short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uShort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long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uLong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longLong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uLongLong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float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doubl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lValue = _bool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rValue = _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CharValue = _wCha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ctetValue = _octe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Value = _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StringValue = _wStri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rtValue = _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hortValue = _uShor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ngValue = _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LongValue = _u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ngLongValue = _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LongLongValue = _uLongLong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oatValue = _floa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Value = _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ass Struct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2 IDL-generated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NameOperations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,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-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aptest/InterfaceNameOperation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maptes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onday, May 14, 2001 4:18:09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nterface declaration for Interfac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 InterfaceNameOpera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ent above the readwrite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Attribu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ent above the readwrite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Attribute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nAttribute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Attribu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ent abov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Method( maptest.StructMap[]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SeqMethod( maptest.StructMap[] seq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Metho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r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OutMethod( org.omg.CORBA.IntHolder i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InterfaceNameOpe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343040" y="2438280"/>
            <a:ext cx="4572360" cy="580680"/>
            <a:chOff x="4343040" y="2438280"/>
            <a:chExt cx="4572360" cy="580680"/>
          </a:xfrm>
        </p:grpSpPr>
        <p:sp>
          <p:nvSpPr>
            <p:cNvPr id="287" name=""/>
            <p:cNvSpPr/>
            <p:nvPr/>
          </p:nvSpPr>
          <p:spPr>
            <a:xfrm>
              <a:off x="5943600" y="2438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from IDL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343040" y="2590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666520" y="3123720"/>
            <a:ext cx="5715360" cy="657360"/>
            <a:chOff x="2666520" y="3123720"/>
            <a:chExt cx="5715360" cy="657360"/>
          </a:xfrm>
        </p:grpSpPr>
        <p:sp>
          <p:nvSpPr>
            <p:cNvPr id="290" name=""/>
            <p:cNvSpPr/>
            <p:nvPr/>
          </p:nvSpPr>
          <p:spPr>
            <a:xfrm>
              <a:off x="5791320" y="32004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from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666520" y="3123720"/>
              <a:ext cx="3124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3400" y="33526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90920" y="3581280"/>
            <a:ext cx="6172200" cy="580680"/>
            <a:chOff x="2590920" y="3581280"/>
            <a:chExt cx="6172200" cy="580680"/>
          </a:xfrm>
        </p:grpSpPr>
        <p:sp>
          <p:nvSpPr>
            <p:cNvPr id="294" name=""/>
            <p:cNvSpPr/>
            <p:nvPr/>
          </p:nvSpPr>
          <p:spPr>
            <a:xfrm>
              <a:off x="5791320" y="3581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from read-only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590920" y="38862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866920" y="4572000"/>
            <a:ext cx="3048480" cy="337320"/>
            <a:chOff x="5866920" y="4572000"/>
            <a:chExt cx="3048480" cy="337320"/>
          </a:xfrm>
        </p:grpSpPr>
        <p:sp>
          <p:nvSpPr>
            <p:cNvPr id="297" name=""/>
            <p:cNvSpPr/>
            <p:nvPr/>
          </p:nvSpPr>
          <p:spPr>
            <a:xfrm>
              <a:off x="6172200" y="45720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d method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866920" y="4724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3 IDL-generated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Name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t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aptest/InterfaceN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Generated by the IDL-to-Java compiler (portable), version "3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from maptes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 Monday, May 14, 2001 4:18:09 PM PD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*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nterface declaration for Interfac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N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NameOperation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rg.omg.CORBA.Object, org.omg.CORBA.portable.IDLEnt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antValue = 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Interface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67080" y="2895120"/>
            <a:ext cx="4496040" cy="1357920"/>
            <a:chOff x="4267080" y="2895120"/>
            <a:chExt cx="4496040" cy="1357920"/>
          </a:xfrm>
        </p:grpSpPr>
        <p:sp>
          <p:nvSpPr>
            <p:cNvPr id="302" name=""/>
            <p:cNvSpPr/>
            <p:nvPr/>
          </p:nvSpPr>
          <p:spPr>
            <a:xfrm>
              <a:off x="5791320" y="3429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ants will always appear in file named af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267080" y="2895120"/>
              <a:ext cx="1524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re descrip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evelopers to describe an interface they wish to use remotely in a language-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specific compiler required for each participating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files required by each language for CORBA related tasks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5   CORBA Basic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call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kes call on remote block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method call on remo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kes call on remote non-block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method qualifi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ew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ifier in ID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method receives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kes synchronous call on remote method, remote service responds at a later time by calling method on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qualifi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ew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prevent 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5 CORBA Basic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27480" y="2532240"/>
            <a:ext cx="2489040" cy="1798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461240" y="4648320"/>
            <a:ext cx="61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6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ock caused by client calling a server that calls the cl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6   Example: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AlarmClock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a typic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sh-mode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sets alarm 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notifies client each time internal alarm event ocur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1.id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5: alarmclock1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DL for the AlarmClock exam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armClo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neway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larm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la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04920" y="2438280"/>
            <a:ext cx="2971800" cy="2623320"/>
            <a:chOff x="304920" y="2438280"/>
            <a:chExt cx="2971800" cy="2623320"/>
          </a:xfrm>
        </p:grpSpPr>
        <p:sp>
          <p:nvSpPr>
            <p:cNvPr id="314" name=""/>
            <p:cNvSpPr/>
            <p:nvPr/>
          </p:nvSpPr>
          <p:spPr>
            <a:xfrm>
              <a:off x="304920" y="47242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non-blocking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371600" y="24382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76160" y="2666880"/>
            <a:ext cx="5867640" cy="2090160"/>
            <a:chOff x="1676160" y="2666880"/>
            <a:chExt cx="5867640" cy="2090160"/>
          </a:xfrm>
        </p:grpSpPr>
        <p:sp>
          <p:nvSpPr>
            <p:cNvPr id="317" name=""/>
            <p:cNvSpPr/>
            <p:nvPr/>
          </p:nvSpPr>
          <p:spPr>
            <a:xfrm>
              <a:off x="4572000" y="44197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copy of listener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1676160" y="2666880"/>
              <a:ext cx="2895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6: AlarmClock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ation of AlarmClock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ala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AlarmClock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 contains name/alarm pairs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ed objects waiting for an ala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table alarm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t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AlarmClockImpl object with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corbaName,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notProceed, Not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orba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rba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Registration name cannot be null or blan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initialize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is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.connec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181120" y="2971800"/>
            <a:ext cx="3734280" cy="762120"/>
            <a:chOff x="5181120" y="2971800"/>
            <a:chExt cx="3734280" cy="762120"/>
          </a:xfrm>
        </p:grpSpPr>
        <p:sp>
          <p:nvSpPr>
            <p:cNvPr id="322" name=""/>
            <p:cNvSpPr/>
            <p:nvPr/>
          </p:nvSpPr>
          <p:spPr>
            <a:xfrm>
              <a:off x="5410080" y="2971800"/>
              <a:ext cx="3505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 with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181120" y="320040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reference to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Servi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meComponent array with path information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ingCompon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corba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ing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AlarmClockImpl objec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pa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bind comple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used by clients wanting to 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 callback/listener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larmListener( String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listener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 cannot be null or blan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larmList.get( listenerName )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"Name is already registered, please choose anot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440" y="2743200"/>
            <a:ext cx="3734280" cy="990720"/>
            <a:chOff x="5257440" y="2743200"/>
            <a:chExt cx="3734280" cy="990720"/>
          </a:xfrm>
        </p:grpSpPr>
        <p:sp>
          <p:nvSpPr>
            <p:cNvPr id="327" name=""/>
            <p:cNvSpPr/>
            <p:nvPr/>
          </p:nvSpPr>
          <p:spPr>
            <a:xfrm>
              <a:off x="6019920" y="27432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listener to internal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257440" y="2895480"/>
              <a:ext cx="762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"Listener cannot be nu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Timer and save it under listen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List.put( listen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( listen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n alarm for a client.  If client not regis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a runtime excep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larm( String 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larm for particula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Timer timer = ( AlarmTimer ) alarmList.get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im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o clock found for the incoming 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r.schedu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skWrapper(timer.getListener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conds), seconds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AlarmClock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Impl alar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Imp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.register( AlarmClock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.lang.Object 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86400" y="3276720"/>
            <a:ext cx="3505320" cy="761760"/>
            <a:chOff x="5486400" y="3276720"/>
            <a:chExt cx="3505320" cy="761760"/>
          </a:xfrm>
        </p:grpSpPr>
        <p:sp>
          <p:nvSpPr>
            <p:cNvPr id="332" name=""/>
            <p:cNvSpPr/>
            <p:nvPr/>
          </p:nvSpPr>
          <p:spPr>
            <a:xfrm>
              <a:off x="6019920" y="32767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hedule an alarm for time specified by remot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86400" y="35812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server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objec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very listener get an AlarmTimer assigned to the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The listener this Timer is assigned t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( AlarmListener 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listener = 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Accessor method so we can get to th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object referen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get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private inner class TaskWrap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skWrapper takes care of calling ou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en their alarm expir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skWrapp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Tas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e reference to ou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 second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257440" y="5334120"/>
            <a:ext cx="3734280" cy="337320"/>
            <a:chOff x="5257440" y="5334120"/>
            <a:chExt cx="3734280" cy="337320"/>
          </a:xfrm>
        </p:grpSpPr>
        <p:sp>
          <p:nvSpPr>
            <p:cNvPr id="337" name=""/>
            <p:cNvSpPr/>
            <p:nvPr/>
          </p:nvSpPr>
          <p:spPr>
            <a:xfrm>
              <a:off x="6019920" y="53341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s client when alarm exp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257440" y="5486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l.java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erver 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askWrapper needs to know who to call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ow long was the alarm set (in second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skWrapper( AlarmListener 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 = 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s = 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o wake them up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.updateTime(seconds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card this TaskWrapper.  When th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nts a new alarm we create a new TaskWrapp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canc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vate inner class TaskWrap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larmClock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114800" y="2209680"/>
            <a:ext cx="3733920" cy="337320"/>
            <a:chOff x="4114800" y="2209680"/>
            <a:chExt cx="3733920" cy="337320"/>
          </a:xfrm>
        </p:grpSpPr>
        <p:sp>
          <p:nvSpPr>
            <p:cNvPr id="342" name=""/>
            <p:cNvSpPr/>
            <p:nvPr/>
          </p:nvSpPr>
          <p:spPr>
            <a:xfrm>
              <a:off x="5867280" y="22096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-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114800" y="2362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ckClientGUI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forms the user when the alarm has sounded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7: ClockCli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UI used by the AlarmClock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ala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output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ck GU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ab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larm has not gone off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outputLab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screenSiz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ocation( ( screenSize.width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creenSize.height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of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reference pointing to a remote obj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s from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bject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contai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(network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the adapter that created object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sing object reference to transm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messages needed by ORBs to communicate with each o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OP (Internet Inter-ORB Protocol)-GIOP implemen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ckClientGUI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forms the user when the alarm has sounde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bel's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xt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abel.setText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class ClockClient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8: AlarmClock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 of the AlarmClock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ala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AlarmListener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the GUI to be displa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 gu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the alarm clock server we connect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 alarmClo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ame of this client used by server to make proper call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Client( String param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isplayable name that is unique among V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unning on same computer (or at least randomly uniqu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currentTimeMillis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UI to display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 of seconds before alarm expi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Client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ime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ToAlarmServer( name,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48320" y="5486400"/>
            <a:ext cx="3429000" cy="838080"/>
            <a:chOff x="4648320" y="5486400"/>
            <a:chExt cx="3429000" cy="838080"/>
          </a:xfrm>
        </p:grpSpPr>
        <p:sp>
          <p:nvSpPr>
            <p:cNvPr id="351" name=""/>
            <p:cNvSpPr/>
            <p:nvPr/>
          </p:nvSpPr>
          <p:spPr>
            <a:xfrm>
              <a:off x="5867280" y="54864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 to service through helper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648320" y="5791320"/>
              <a:ext cx="12189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1-6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GUI and wait for user to terminate a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.sh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connection to Alarm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ToAlarmSer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, String param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Found, CannotProc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AlarmClockClient to an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Naming Service and fin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ference for AlarmClock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AlarmClock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armClockHelper.narrow( naming.resolve( path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is object with AlarmClock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.addAlarmListener( 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.sh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562720" y="2666880"/>
            <a:ext cx="3429000" cy="381240"/>
            <a:chOff x="5562720" y="2666880"/>
            <a:chExt cx="3429000" cy="381240"/>
          </a:xfrm>
        </p:grpSpPr>
        <p:sp>
          <p:nvSpPr>
            <p:cNvPr id="356" name=""/>
            <p:cNvSpPr/>
            <p:nvPr/>
          </p:nvSpPr>
          <p:spPr>
            <a:xfrm>
              <a:off x="6019920" y="26668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5638320" y="274284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56272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638320" y="2895480"/>
              <a:ext cx="38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81120" y="5486400"/>
            <a:ext cx="3734280" cy="337320"/>
            <a:chOff x="5181120" y="5486400"/>
            <a:chExt cx="3734280" cy="337320"/>
          </a:xfrm>
        </p:grpSpPr>
        <p:sp>
          <p:nvSpPr>
            <p:cNvPr id="361" name=""/>
            <p:cNvSpPr/>
            <p:nvPr/>
          </p:nvSpPr>
          <p:spPr>
            <a:xfrm>
              <a:off x="5943600" y="54864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listener with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181120" y="5638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1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callback method defined in AlarmListen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ime( long second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up a length of time to use for the alarm sett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im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i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arm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ame in a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conds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s.  Resetting to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newTi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armClock.setAlarm( name, new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armClock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Client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exceptions that occur while client exec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thrown by AlarmClockClient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class AlarmClock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486400" y="1752120"/>
            <a:ext cx="3505320" cy="490320"/>
            <a:chOff x="5486400" y="1752120"/>
            <a:chExt cx="3505320" cy="490320"/>
          </a:xfrm>
        </p:grpSpPr>
        <p:sp>
          <p:nvSpPr>
            <p:cNvPr id="366" name=""/>
            <p:cNvSpPr/>
            <p:nvPr/>
          </p:nvSpPr>
          <p:spPr>
            <a:xfrm>
              <a:off x="6019920" y="19051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call-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486400" y="17521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ent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AlarmClock1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4268880" cy="949320"/>
          </a:xfrm>
          <a:prstGeom prst="rect">
            <a:avLst/>
          </a:prstGeom>
          <a:ln w="0">
            <a:noFill/>
          </a:ln>
        </p:spPr>
      </p:pic>
      <p:pic>
        <p:nvPicPr>
          <p:cNvPr id="370" name="AlarmClock2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57168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7   Distributed Excep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specifies two exception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stem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for use by CORBA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using IDL by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CORBA exceptions map to Java exceptions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9 A user-defined CORBA exceptio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DataseException)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nd an operation capable of throwing the exce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ai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base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ai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base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" y="609120"/>
            <a:ext cx="2971800" cy="2395080"/>
            <a:chOff x="228600" y="609120"/>
            <a:chExt cx="2971800" cy="2395080"/>
          </a:xfrm>
        </p:grpSpPr>
        <p:sp>
          <p:nvSpPr>
            <p:cNvPr id="376" name=""/>
            <p:cNvSpPr/>
            <p:nvPr/>
          </p:nvSpPr>
          <p:spPr>
            <a:xfrm>
              <a:off x="228600" y="26668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ation of 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371600" y="6091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6000" y="1523880"/>
            <a:ext cx="2971800" cy="1328040"/>
            <a:chOff x="2286000" y="1523880"/>
            <a:chExt cx="2971800" cy="1328040"/>
          </a:xfrm>
        </p:grpSpPr>
        <p:sp>
          <p:nvSpPr>
            <p:cNvPr id="379" name=""/>
            <p:cNvSpPr/>
            <p:nvPr/>
          </p:nvSpPr>
          <p:spPr>
            <a:xfrm>
              <a:off x="2286000" y="25146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s to Java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row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733920" y="1523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0 The generate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atabaseException.java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ile (reformatted for clarity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final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bas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User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portable.IDLE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s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 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( String _ms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sg = _ms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atabas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05120" y="609120"/>
            <a:ext cx="4647960" cy="4162680"/>
            <a:chOff x="1905120" y="609120"/>
            <a:chExt cx="4647960" cy="4162680"/>
          </a:xfrm>
        </p:grpSpPr>
        <p:sp>
          <p:nvSpPr>
            <p:cNvPr id="384" name=""/>
            <p:cNvSpPr/>
            <p:nvPr/>
          </p:nvSpPr>
          <p:spPr>
            <a:xfrm>
              <a:off x="1905120" y="419112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xceptions inheri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which indirectly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.lang.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429000" y="60912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5800" y="1218960"/>
            <a:ext cx="2362320" cy="2775960"/>
            <a:chOff x="685800" y="1218960"/>
            <a:chExt cx="2362320" cy="2775960"/>
          </a:xfrm>
        </p:grpSpPr>
        <p:sp>
          <p:nvSpPr>
            <p:cNvPr id="387" name=""/>
            <p:cNvSpPr/>
            <p:nvPr/>
          </p:nvSpPr>
          <p:spPr>
            <a:xfrm>
              <a:off x="685800" y="36576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d in ID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1905120" y="121896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2.id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 IDL for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examp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-7, 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21: alarmclock2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DL for the AlarmClock exam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armClo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Alarm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ai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DuplicateName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la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long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38280" y="1371600"/>
            <a:ext cx="6553440" cy="2057400"/>
            <a:chOff x="2438280" y="1371600"/>
            <a:chExt cx="6553440" cy="2057400"/>
          </a:xfrm>
        </p:grpSpPr>
        <p:sp>
          <p:nvSpPr>
            <p:cNvPr id="392" name=""/>
            <p:cNvSpPr/>
            <p:nvPr/>
          </p:nvSpPr>
          <p:spPr>
            <a:xfrm>
              <a:off x="4876920" y="220968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es to previous alarm clock IDL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190760" y="236232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438280" y="1371600"/>
              <a:ext cx="24386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2 Excerpt fro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larmClockImp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larmListener( String listen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larmListener listene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enerName.trim().length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 cannot be null or blan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.get( listenerName )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uplicateName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 is already registered, please choose anoth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Listener cannot be nu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 new Timer and save it under the listener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larmList.put( listen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armTimer( listen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29200" y="761760"/>
            <a:ext cx="3809880" cy="1328040"/>
            <a:chOff x="5029200" y="761760"/>
            <a:chExt cx="3809880" cy="1328040"/>
          </a:xfrm>
        </p:grpSpPr>
        <p:sp>
          <p:nvSpPr>
            <p:cNvPr id="398" name=""/>
            <p:cNvSpPr/>
            <p:nvPr/>
          </p:nvSpPr>
          <p:spPr>
            <a:xfrm>
              <a:off x="5562720" y="175248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can now throw 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5029200" y="761760"/>
              <a:ext cx="533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2   Step-by-Ste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ystem implementation steps using Java and CORB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ysis and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problem into smaller fundamental services or 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ubsystems to configure as distribut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functionality each service will ex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data structures received and returned by each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ing the serv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ing a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ion of servant’s object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ning the servant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ning the cli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   Case Study: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asic network application using a central broadcasting point where a collection of clients pushes in messages and the middleware pushes out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use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: A client finds and connects to a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nnect:  A client completes a chat session by disconnecting from the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message: A connected client creates a chat message and gives the message to the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message: A connected client receives messages delivered by the cha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 definition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-22, 24-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file contains the IDL defining the API to the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well as the ChatClient and Chat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tMessag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thod called when server shuting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new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::ChatClient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819520" y="1143000"/>
            <a:ext cx="5486400" cy="1554120"/>
            <a:chOff x="2819520" y="1143000"/>
            <a:chExt cx="5486400" cy="1554120"/>
          </a:xfrm>
        </p:grpSpPr>
        <p:sp>
          <p:nvSpPr>
            <p:cNvPr id="405" name=""/>
            <p:cNvSpPr/>
            <p:nvPr/>
          </p:nvSpPr>
          <p:spPr>
            <a:xfrm>
              <a:off x="5029200" y="1143000"/>
              <a:ext cx="3276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tracting messag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s each client to receive its own copy of message object. Prevents bottleneck problem associated with sending reference to one messag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819520" y="12952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028840" y="3886200"/>
            <a:ext cx="3962880" cy="914400"/>
            <a:chOff x="5028840" y="3886200"/>
            <a:chExt cx="3962880" cy="914400"/>
          </a:xfrm>
        </p:grpSpPr>
        <p:sp>
          <p:nvSpPr>
            <p:cNvPr id="408" name=""/>
            <p:cNvSpPr/>
            <p:nvPr/>
          </p:nvSpPr>
          <p:spPr>
            <a:xfrm>
              <a:off x="5715000" y="41911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o different scop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5028840" y="38862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028840" y="43434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276720" y="4952880"/>
            <a:ext cx="3657600" cy="1219320"/>
            <a:chOff x="3276720" y="4952880"/>
            <a:chExt cx="3657600" cy="1219320"/>
          </a:xfrm>
        </p:grpSpPr>
        <p:sp>
          <p:nvSpPr>
            <p:cNvPr id="412" name=""/>
            <p:cNvSpPr/>
            <p:nvPr/>
          </p:nvSpPr>
          <p:spPr>
            <a:xfrm>
              <a:off x="3276720" y="49528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s IDL namespace in same way 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 resolves Java package/class name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52880" y="5562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715000" y="4800600"/>
            <a:ext cx="3276720" cy="1295280"/>
            <a:chOff x="5715000" y="4800600"/>
            <a:chExt cx="3276720" cy="1295280"/>
          </a:xfrm>
        </p:grpSpPr>
        <p:sp>
          <p:nvSpPr>
            <p:cNvPr id="415" name=""/>
            <p:cNvSpPr/>
            <p:nvPr/>
          </p:nvSpPr>
          <p:spPr>
            <a:xfrm>
              <a:off x="5715000" y="480060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cope level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790960" y="541008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 defini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nregister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::ChatClient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combination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ice : ChatServer,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odule corb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Impl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compiler generates following server-side use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_ChatClient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_ChatServer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Impl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compiler also generates following support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 implements the CORBA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ChatServerImpl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ORB that connects us to the networ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B 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p of ChatClient refere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clie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new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er( ChatServ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67080" y="4724280"/>
            <a:ext cx="3429000" cy="1143000"/>
            <a:chOff x="4267080" y="4724280"/>
            <a:chExt cx="3429000" cy="1143000"/>
          </a:xfrm>
        </p:grpSpPr>
        <p:sp>
          <p:nvSpPr>
            <p:cNvPr id="426" name=""/>
            <p:cNvSpPr/>
            <p:nvPr/>
          </p:nvSpPr>
          <p:spPr>
            <a:xfrm>
              <a:off x="5638680" y="47242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267080" y="487692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295280" y="685800"/>
            <a:ext cx="5486400" cy="2895480"/>
            <a:chOff x="1295280" y="685800"/>
            <a:chExt cx="5486400" cy="2895480"/>
          </a:xfrm>
        </p:grpSpPr>
        <p:sp>
          <p:nvSpPr>
            <p:cNvPr id="429" name=""/>
            <p:cNvSpPr/>
            <p:nvPr/>
          </p:nvSpPr>
          <p:spPr>
            <a:xfrm>
              <a:off x="1295280" y="685800"/>
              <a:ext cx="548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tract class that requi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mplement operations defined in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12952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lient to Map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key = orb.object_to_string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put( key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k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lient from Map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key = orb.object_to_string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remove( k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k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n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.entrySet()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ChatClient ) ( ( Map.Entry ) iterator.next() )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deliver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ChatServerImpl object with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serverName, String[] parameter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Found, CannotProceed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RBA.ORBPackage.Invalid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rver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ation name can not be nul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ChatServerImpl object to Naming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initialize OR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= ORB.init( parameter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rvant and register it with OR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.connec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ing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server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ing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pa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733920" y="1371600"/>
            <a:ext cx="5257800" cy="718200"/>
            <a:chOff x="3733920" y="1371600"/>
            <a:chExt cx="5257800" cy="718200"/>
          </a:xfrm>
        </p:grpSpPr>
        <p:sp>
          <p:nvSpPr>
            <p:cNvPr id="436" name=""/>
            <p:cNvSpPr/>
            <p:nvPr/>
          </p:nvSpPr>
          <p:spPr>
            <a:xfrm>
              <a:off x="5029200" y="1752480"/>
              <a:ext cx="3962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method invocation send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3733920" y="137160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bound to nam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each client that server is shutting dow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.entrySet()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serverStopping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read to terminate application af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Server method returns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ermin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leep for 5 seconds, print message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gnore Interrupte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terminate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inator.star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erminatio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stop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ChatServerImpl object and bind to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hatServer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Impl chatServerImp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.lang.Object 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server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objec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ject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505320" y="5334120"/>
            <a:ext cx="5333760" cy="337320"/>
            <a:chOff x="3505320" y="5334120"/>
            <a:chExt cx="5333760" cy="337320"/>
          </a:xfrm>
        </p:grpSpPr>
        <p:sp>
          <p:nvSpPr>
            <p:cNvPr id="443" name=""/>
            <p:cNvSpPr/>
            <p:nvPr/>
          </p:nvSpPr>
          <p:spPr>
            <a:xfrm>
              <a:off x="4800600" y="5334120"/>
              <a:ext cx="4038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server object not garbage col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505320" y="5486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   First Example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ystemClo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basic service by enabling client to query for curren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 the current system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the retrieved time in GUI wind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the CORB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problems setting up ChatServer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DeitelMessenger.jav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compiler generates following client-use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_ChatClientStub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_ChatServerStub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DeitelMessenger.java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generated server-side files are available for client to accept callback invocations from ser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_ChatClientImplBas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upport files gener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lient\ChatClient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elp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ChatMessage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enger\server\ChatServerHold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BA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BAMessageManager implements the ChatClient remo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and manages incoming and outgoing chat mess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RB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Messag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_ChatClientImpl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Mana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coming ORB configuration param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configurationParame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s for incoming messages and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disconnect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tServer for sending and receiv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914400"/>
            <a:ext cx="6705720" cy="3352680"/>
            <a:chOff x="228600" y="914400"/>
            <a:chExt cx="6705720" cy="3352680"/>
          </a:xfrm>
        </p:grpSpPr>
        <p:sp>
          <p:nvSpPr>
            <p:cNvPr id="454" name=""/>
            <p:cNvSpPr/>
            <p:nvPr/>
          </p:nvSpPr>
          <p:spPr>
            <a:xfrm>
              <a:off x="228600" y="914400"/>
              <a:ext cx="6705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tract class requi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RBA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 operation defin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ClientOper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ive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6920" y="15238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3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RBAMessage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MessageManager( String[] parameter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configurationParameters = parame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orb = ORB.init( configurationParameter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th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ChatServ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Helper.narrow( naming.resolve( path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client with ChatServer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ener for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971440" y="1828800"/>
            <a:ext cx="5715360" cy="565920"/>
            <a:chOff x="2971440" y="1828800"/>
            <a:chExt cx="5715360" cy="565920"/>
          </a:xfrm>
        </p:grpSpPr>
        <p:sp>
          <p:nvSpPr>
            <p:cNvPr id="459" name=""/>
            <p:cNvSpPr/>
            <p:nvPr/>
          </p:nvSpPr>
          <p:spPr>
            <a:xfrm>
              <a:off x="4495680" y="2057400"/>
              <a:ext cx="4191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s ORB and gets Naming Servic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2971440" y="1828800"/>
              <a:ext cx="1523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2-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listener of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hat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User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tMessage with message text and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Message cha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fromUser,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postMessage( chat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181480" y="4495680"/>
            <a:ext cx="3810240" cy="337320"/>
            <a:chOff x="5181480" y="4495680"/>
            <a:chExt cx="3810240" cy="337320"/>
          </a:xfrm>
        </p:grpSpPr>
        <p:sp>
          <p:nvSpPr>
            <p:cNvPr id="464" name=""/>
            <p:cNvSpPr/>
            <p:nvPr/>
          </p:nvSpPr>
          <p:spPr>
            <a:xfrm>
              <a:off x="5715000" y="449568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py sent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181480" y="4648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RBA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 of interfa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CORB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04-1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delivery of ChatMessage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Listener.messageReceived( message.from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server shutting down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hut dow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disconnect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ServerDisconnected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sconnect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nnectListener.serverDisconnected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809880" y="1295280"/>
            <a:ext cx="5105520" cy="1175760"/>
            <a:chOff x="3809880" y="1295280"/>
            <a:chExt cx="5105520" cy="1175760"/>
          </a:xfrm>
        </p:grpSpPr>
        <p:sp>
          <p:nvSpPr>
            <p:cNvPr id="469" name=""/>
            <p:cNvSpPr/>
            <p:nvPr/>
          </p:nvSpPr>
          <p:spPr>
            <a:xfrm>
              <a:off x="5638680" y="21337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broadcasts from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3809880" y="129528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eitelMessen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launching the CORBA chat client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 uses ClientGUI and CORBAMessageManag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 an CORBA chat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corba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Messen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DeitelMesseng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RBAMessageManager for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message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BAMessageManager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chat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 client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4   Running Ch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for running example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IDL file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l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dlj -pkgPrefix chat com.deitel.advjhtp1.id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td c:\src -fall chat.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server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compile client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window,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nameser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ing Serv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nameserv –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window, run serv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com.deitel.messenger.corba.server.ChatServerIm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window, run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com.deitel.messenger.corba.client.DeitelMessen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ORBInitialPort 1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 local objects for the messages received by the cli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ma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distributed object alter the application’s complex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3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ystemClock.id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ver IDL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a single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rrentTimeM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ly defined API and proper encapsula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be remote object (all clients could inspect message object and see any changes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sharing single remote object could create network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eal with data locking issues due to synchronous data access by multiple cli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s-by-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BV) specification defines new kin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behavior semantics (ability to support declaration of oper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to pass copies of “objects” around a distributed system that contain behavior in addition to d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.id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hanged to b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-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-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-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27: Chat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file contains the IDL defining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I to the ChatServer as well as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 and Chat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vcorba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tMessag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nder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cto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::ChatClient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648320" y="2057400"/>
            <a:ext cx="4114800" cy="337320"/>
            <a:chOff x="4648320" y="2057400"/>
            <a:chExt cx="4114800" cy="337320"/>
          </a:xfrm>
        </p:grpSpPr>
        <p:sp>
          <p:nvSpPr>
            <p:cNvPr id="484" name=""/>
            <p:cNvSpPr/>
            <p:nvPr/>
          </p:nvSpPr>
          <p:spPr>
            <a:xfrm>
              <a:off x="5486400" y="205740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648320" y="2209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809520" y="1905120"/>
            <a:ext cx="4115160" cy="337320"/>
            <a:chOff x="3809520" y="1905120"/>
            <a:chExt cx="4115160" cy="337320"/>
          </a:xfrm>
        </p:grpSpPr>
        <p:sp>
          <p:nvSpPr>
            <p:cNvPr id="487" name=""/>
            <p:cNvSpPr/>
            <p:nvPr/>
          </p:nvSpPr>
          <p:spPr>
            <a:xfrm>
              <a:off x="4648320" y="190512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eld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809520" y="2057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809520" y="2514600"/>
            <a:ext cx="4115160" cy="337320"/>
            <a:chOff x="3809520" y="2514600"/>
            <a:chExt cx="4115160" cy="337320"/>
          </a:xfrm>
        </p:grpSpPr>
        <p:sp>
          <p:nvSpPr>
            <p:cNvPr id="490" name=""/>
            <p:cNvSpPr/>
            <p:nvPr/>
          </p:nvSpPr>
          <p:spPr>
            <a:xfrm>
              <a:off x="4648320" y="251460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809520" y="2666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666880" y="2133720"/>
            <a:ext cx="3276720" cy="838080"/>
            <a:chOff x="2666880" y="2133720"/>
            <a:chExt cx="3276720" cy="838080"/>
          </a:xfrm>
        </p:grpSpPr>
        <p:sp>
          <p:nvSpPr>
            <p:cNvPr id="493" name=""/>
            <p:cNvSpPr/>
            <p:nvPr/>
          </p:nvSpPr>
          <p:spPr>
            <a:xfrm>
              <a:off x="2666880" y="21337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1480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.id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Messag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hanged to b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nregister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module obvmessen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8.5   Issu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Jav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an 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 definition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dl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new class from ba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defin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2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Messag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29: ChatMessage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obvcorb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 for empty ChatMessage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Imp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to initialize from and messag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Impl( String sender, String 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from = se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message =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e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nder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Messag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648320" y="1066680"/>
            <a:ext cx="4114800" cy="1251720"/>
            <a:chOff x="4648320" y="1066680"/>
            <a:chExt cx="4114800" cy="1251720"/>
          </a:xfrm>
        </p:grpSpPr>
        <p:sp>
          <p:nvSpPr>
            <p:cNvPr id="505" name=""/>
            <p:cNvSpPr/>
            <p:nvPr/>
          </p:nvSpPr>
          <p:spPr>
            <a:xfrm>
              <a:off x="5486400" y="198108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rive gener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4648320" y="1066680"/>
              <a:ext cx="838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6.9   Comments and Comparis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mechanism in JDK 1.2 implements stub-only communication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uses skeleton-stub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is a powerful means of designing robust distribut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gacy applications have become valuable long-term assets, and new applications have become reusable services that can exchange data in a platform-neutral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6.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DL definition for ser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-2 and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, 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-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6.1: systemclock.i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DL definition of SystemCloc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definition of the CORBA-enabled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280" y="609120"/>
            <a:ext cx="2667240" cy="2547720"/>
            <a:chOff x="152280" y="609120"/>
            <a:chExt cx="2667240" cy="2547720"/>
          </a:xfrm>
        </p:grpSpPr>
        <p:sp>
          <p:nvSpPr>
            <p:cNvPr id="106" name=""/>
            <p:cNvSpPr/>
            <p:nvPr/>
          </p:nvSpPr>
          <p:spPr>
            <a:xfrm>
              <a:off x="15228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note single line 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520" y="1371600"/>
              <a:ext cx="3808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33520" y="609120"/>
              <a:ext cx="1522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43000" y="990720"/>
            <a:ext cx="4648320" cy="2409480"/>
            <a:chOff x="1143000" y="990720"/>
            <a:chExt cx="4648320" cy="2409480"/>
          </a:xfrm>
        </p:grpSpPr>
        <p:sp>
          <p:nvSpPr>
            <p:cNvPr id="110" name=""/>
            <p:cNvSpPr/>
            <p:nvPr/>
          </p:nvSpPr>
          <p:spPr>
            <a:xfrm>
              <a:off x="3124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u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eyword maps given name to a Java 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143000" y="990720"/>
              <a:ext cx="3276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" y="990360"/>
            <a:ext cx="2666880" cy="2943000"/>
            <a:chOff x="228600" y="990360"/>
            <a:chExt cx="2666880" cy="2943000"/>
          </a:xfrm>
        </p:grpSpPr>
        <p:sp>
          <p:nvSpPr>
            <p:cNvPr id="113" name=""/>
            <p:cNvSpPr/>
            <p:nvPr/>
          </p:nvSpPr>
          <p:spPr>
            <a:xfrm>
              <a:off x="228600" y="3352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ly braces denote scope boundaries of b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00200" y="990360"/>
              <a:ext cx="22860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85800" y="2133720"/>
              <a:ext cx="9144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838080" y="1828800"/>
            <a:ext cx="4953240" cy="2333160"/>
            <a:chOff x="838080" y="1828800"/>
            <a:chExt cx="4953240" cy="2333160"/>
          </a:xfrm>
        </p:grpSpPr>
        <p:sp>
          <p:nvSpPr>
            <p:cNvPr id="117" name=""/>
            <p:cNvSpPr/>
            <p:nvPr/>
          </p:nvSpPr>
          <p:spPr>
            <a:xfrm>
              <a:off x="3124080" y="3581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colon identifies end of b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066320" y="1828800"/>
              <a:ext cx="3429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38080" y="2057040"/>
              <a:ext cx="3657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8600" y="1523520"/>
            <a:ext cx="3276720" cy="3669480"/>
            <a:chOff x="228600" y="1523520"/>
            <a:chExt cx="3276720" cy="3669480"/>
          </a:xfrm>
        </p:grpSpPr>
        <p:sp>
          <p:nvSpPr>
            <p:cNvPr id="121" name=""/>
            <p:cNvSpPr/>
            <p:nvPr/>
          </p:nvSpPr>
          <p:spPr>
            <a:xfrm>
              <a:off x="228600" y="4114800"/>
              <a:ext cx="3276720" cy="107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type from client’s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implemented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905120" y="1523520"/>
              <a:ext cx="34920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3520" y="1752480"/>
            <a:ext cx="4800960" cy="3567240"/>
            <a:chOff x="1523520" y="1752480"/>
            <a:chExt cx="4800960" cy="3567240"/>
          </a:xfrm>
        </p:grpSpPr>
        <p:sp>
          <p:nvSpPr>
            <p:cNvPr id="124" name=""/>
            <p:cNvSpPr/>
            <p:nvPr/>
          </p:nvSpPr>
          <p:spPr>
            <a:xfrm>
              <a:off x="3657600" y="4495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ype - maps to Jav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 sing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ps to Jav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523520" y="1752480"/>
              <a:ext cx="3429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Edward J. Cadillo</cp:lastModifiedBy>
  <dcterms:modified xsi:type="dcterms:W3CDTF">2002-02-06T15:56:57Z</dcterms:modified>
  <cp:revision>178</cp:revision>
  <dc:subject/>
  <dc:title>PowerPoint Presentation</dc:title>
</cp:coreProperties>
</file>