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BA02-B3F9-4628-A7B6-1E9F2993F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E065-AB92-47CF-BD5A-9EC046303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E5D0-CC4E-43F2-B8D9-FFA41D5B8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5DBB-4526-4797-AEC7-A95D7FAA7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7A61A-DE25-49A2-A295-E5BA232D71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C7193-AA42-41F1-97F6-1ABC01A48E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918CF-60BD-4AA2-84C6-912E3A46F5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A2677-A5FB-4D12-A913-EC2893CAD5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9CE84-64DB-479E-8435-520347CEFC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7264C-6219-49B2-B6D9-A0AEA96D24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87370-1F72-4DEA-9C75-4A7DD20013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E588-3CF8-46CD-82C4-7AEC70564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905D1-E646-40C0-9E2E-B050B49D96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91381-72A3-4398-AF6F-52F8249203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EEEFE-EE3B-4C4A-BB82-F580A84279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75921-F1C3-4ABF-96AB-0B9B173D22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56E38-ED02-4377-AEE2-DEE4D01BB9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6491-5903-4738-808D-3D17D8BC3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A74F-BF95-4357-B5B8-FD71604CC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17FD-47D6-4EF7-A817-54A26602C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513F-5A5A-4B36-8B0C-CEEDBFE1A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D997-C3EF-4E5D-B419-1DDA6873C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F688-7768-400E-A2AE-076BD3711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E3CF-8C39-449A-81C0-9258C8443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9942-F753-420C-95E5-41CBF0B85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75D9-F4ED-4843-80E2-C69F23920F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7: Enterprise Java Case Study: Architectural Overview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1430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itel Booksto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ystem Architectu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nterprise JavaBea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ntity EJB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teful Session EJB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rvlet Controller Logic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7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XSLT Presentation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.2   Stateful Session EJB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ppingC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ful session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ages customer’s shopping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mary business-logic component in Deitel Books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5   Servlet Controller Log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ddle-tier interface between client and business log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 the controller in MVC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act with EJB business-logic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e client requests (via HTTP and W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data as XML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 XML documents through XSL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e presentation for each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6   XSLT Presentation Log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appropriate presentation for each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servlet employs XS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ansform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XS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XLST for producing X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XLST for producing W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XLST for producing c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file generated b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-Product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-1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ncoding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catalo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roduc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sb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13028417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sb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ublisher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entice Hal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ublish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author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itel, Deitel, Nieto, Lin &amp;amp; Sadhu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uth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 How to Program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ric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9.95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ric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ages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ag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mag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s/xmlhtp1.jp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mag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media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edi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quantit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quantit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produc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atalo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43400" y="1752480"/>
            <a:ext cx="4114800" cy="1357560"/>
            <a:chOff x="4343400" y="1752480"/>
            <a:chExt cx="4114800" cy="1357560"/>
          </a:xfrm>
        </p:grpSpPr>
        <p:sp>
          <p:nvSpPr>
            <p:cNvPr id="120" name=""/>
            <p:cNvSpPr/>
            <p:nvPr/>
          </p:nvSpPr>
          <p:spPr>
            <a:xfrm>
              <a:off x="5257800" y="228600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ML document marks up a product, including the product’s ISBN, title, author, publisher and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4343400" y="1752480"/>
              <a:ext cx="9144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SL transformation for generating XHTML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Product-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-9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ProductDetails.xsl                         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XSLT stylesheet for transforming content generated by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GetProductServlet into XHTML.              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xmlns:xs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omit-xml-decla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inde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doctype-syste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TD/xhtml1-strict.dtd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publi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include template for processing error element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include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XSLT/XHTML/error.xs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template for product ele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html xmln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xml:la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la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-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link r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hee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/default.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copy navigation header into XHTML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xsl:for-each sel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cument( '/XSLT/XHTML/navigation.xml' )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xsl:copy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3048120"/>
            <a:ext cx="281952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t relevant pieces of information from the XML document to create appropriate XHTML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SL transformation for generating XHTML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Product-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xsl:for-eac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iv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ad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iv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tho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tho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create div element with details of Produc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div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Detail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able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100%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td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center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img class = "bookCover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sr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{image}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al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title} cover image.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p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c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p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p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s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ge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p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SL transformation for generating XHTML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Product-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p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sher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blish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   &lt;!-- AddToCart butto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form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ac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To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p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center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to 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dd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HTML document generated by XSLT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-Product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encoding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lang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xml:lang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 How to Program -- Descrip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link href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/default.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rel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hee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div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g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able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100%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td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lef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mg src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logotiny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alt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&amp;amp; Associates, Inc. logo.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d sty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div style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ition: relative; bottom: -50px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form act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Search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metho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p&gt;&lt;input type="text" size="15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nam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archString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input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arch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HTML document generated by XSLT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-Product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div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vigatio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able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nu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d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nu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a href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AllProduct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Product Catalog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d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nu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a href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gistration.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Create Account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d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nu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a href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gin.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Log in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d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nu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a href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iew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Shopping Cart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d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nu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a href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iewOrderHistory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Order History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iv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ad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XML How to Program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iv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tho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by Deitel, Deitel, Nieto, Lin &amp;amp; Sadhu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iv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Detail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able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100%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d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center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HTML document generated by XSLT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-Product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img alt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 How to Program cover image.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src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xmlhtp1.jpg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kCov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: $69.95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: 013028417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s: 11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sher: Prentice Hal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form act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To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metho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p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center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input va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to 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input va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0284173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nam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dd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ine bookstore e-business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SL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VC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HTML document generated by XSLT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-Product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4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roductDetails_XHTM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6210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6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SL transformation for generating WML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Product-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-5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xmlns:xs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omit-xml-decla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syste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apforum.org/DTD/wml_1.1.xml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publi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APFORUM//DTD WML 1.1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include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XSLT/WML/error.xs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w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rd i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it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title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o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ep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lab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To 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go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To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postfield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g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o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ev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lab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ck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rev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Description: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tho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able column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it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f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28800"/>
            <a:ext cx="274320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t relevant pieces of information from the XML document to create appropriate WML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6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SL transformation for generating WML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Product-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$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c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sher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blish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s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ge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car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w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7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L document generated by XSLT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-Product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-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wml PUBLIC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APFORUM//DTD WML 1.1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apforum.org/DTD/wml_1.1.x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w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card tit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 How to Progra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i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do label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To 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ep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go metho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href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To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ostfield va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0284173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g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do label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ck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ev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&lt;prev/&gt;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 How to Program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y Deitel, Deitel, Nieto, Lin &amp;amp; Sadhu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able tit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f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column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: 013028417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: $$69.95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sher: Prentice Hal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s: 11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car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w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3352680"/>
            <a:ext cx="29718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ML document contains little formatting information, because display capabilities are lim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7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L document generated by XSLT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-Product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roductDetails_WML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21906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SL transformation for generating cHTML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Product-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-7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xmlns:xs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omit-xml-decla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inde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syste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MarkUp/html-spec/html-spec_toc.html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publi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HTML 2.0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include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XSLT/cHTML/error.xs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-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iv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ad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iv class = "author"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by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tho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4191120"/>
            <a:ext cx="274320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t relevant pieces of information from the XML document to create appropriate cHTML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SL transformation for generating cHTML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Product-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&lt;!-- create div element with details of Produc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iv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Detail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d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center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img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kCov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sr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{image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p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c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p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p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s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ge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p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p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sher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xsl:value-of select = "publisher"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      &lt;!-- AddToCart butto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form metho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act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To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p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center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  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to 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SL transformation for generating cHTML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Product-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362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dd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ISBN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9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TML document generated by XSLT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-Product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HTML 2.0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MarkUp/html-spec/html-spec_toc.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META http-equiv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content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; charset=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 How to Program -- Descrip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iv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ad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 How to Program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iv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tho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y Deitel, Deitel, Nieto, Lin &amp;amp; Sadhu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iv 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Detail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d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center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img src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xmlhtp1.jpg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kCov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: $69.95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: 013028417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s: 110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p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righ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sher: Prentice Hal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form act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To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metho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p styl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-align: center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input va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to 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input va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0284173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dd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7.9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TML document generated by XSLT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-Product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219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58" name="productDetails_cHTML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28958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2   Deitel Booksto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 functionality for commercial on-line s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product cat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shopping 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customer 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customers to view previous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functionality for several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Web brow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ML brow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TML brow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3   System Archite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tier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t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ains data for application (RDB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s business logic and controller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interactions between information and client t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t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’s user interface (e.g., Web brows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3   System Architectur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835360" y="3105000"/>
            <a:ext cx="3471840" cy="650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743200" y="3124080"/>
            <a:ext cx="3705120" cy="839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15560" y="4572000"/>
            <a:ext cx="510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7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tier application model in Deitel Bookst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3   System Architectur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666880" y="1066680"/>
            <a:ext cx="4419360" cy="4800600"/>
            <a:chOff x="2666880" y="1066680"/>
            <a:chExt cx="4419360" cy="48006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666880" y="1066680"/>
              <a:ext cx="355860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6276240" y="1909440"/>
              <a:ext cx="785520" cy="348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6276240" y="3103200"/>
              <a:ext cx="810000" cy="95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1233360" y="6095880"/>
            <a:ext cx="66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7.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ed architecture of Deitel Bookstore Enterprise Java case stud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   Enterprise JavaBea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 business logic and database abstraction lay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ful session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s a customer’s shopping 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ity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object-based interface to information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EJB business logic to create an on-line s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.1   Entity EJB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object-based interface to information t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resents object stored in application’s relational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lling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ping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-card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.1   Entity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entity EJB has corresponding model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properties for each entity EJB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JB has correspond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Mo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proper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Jonathan Gadzik</dc:creator>
  <dc:description/>
  <dc:language>en-US</dc:language>
  <cp:lastModifiedBy>gadzik</cp:lastModifiedBy>
  <dcterms:modified xsi:type="dcterms:W3CDTF">2002-01-31T13:50:26Z</dcterms:modified>
  <cp:revision>44</cp:revision>
  <dc:subject/>
  <dc:title>Chapter 17: Enterprise Java Case Study: Architectural Overview</dc:title>
</cp:coreProperties>
</file>