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49D7-99E3-4C80-93C5-7DF741F8A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D109-6164-4F41-96D5-50BCD9A07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6F33-51FA-4A7B-A17B-873136BB5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039A-22AC-426D-8FFE-C76EC4089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2988-E07C-4FD3-8C50-25AB320E3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F522-8CD9-4F7D-A96E-6312207587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851F-B956-4DA5-854A-6950D20746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C531-D4C3-45A9-843E-E503F2E7C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515D-0F36-4A0C-868F-F5DE509593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0D2E-90ED-4564-B944-50640B9306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8CF9-F541-483F-A513-0019002C9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4BB7-6F87-44CA-88FA-5DCB1A03B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22C2-30B9-4882-9540-991B763D3E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F83B-A36A-45B6-AA18-850D79DB3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2398-0A08-4AC7-A7FB-E45C4A3020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94F4-E540-4CC2-8BAA-F1CB6E3597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A617-70CB-4683-8658-2800B9812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4AAD-6B17-4C84-B14A-4B2E0D3FF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9EB3-2C30-4A62-9AD2-C3496767D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27C0-EA5A-4E75-8489-D69C8866D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EC15-82B0-4D40-B449-DAE1E8537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5FFE-3BDC-44F9-AC6E-B3126E14B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0A06-B80B-4376-9547-BACE5BB28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9B8F-E786-4588-A387-6CB5CE966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93DE-842D-4CB4-B755-E53A04D80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D68-0B61-49E3-819C-E1956B6AD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: Security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cient Ciphers to Modern Crypto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cret-key Cryptograp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blic-key Cryptograp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yptanalysi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y Agreement Protoco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y Manage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Cryptography Extension (JCE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word-Based Encoding with JCE|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orator Design Patter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gital Signatur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ublic-key Infrastructure, Certificates and Certification Authori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Keystores and keytoo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Policy Fil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igital Signatures for Java Co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"/>
          <p:cNvSpPr/>
          <p:nvPr/>
        </p:nvSpPr>
        <p:spPr>
          <a:xfrm>
            <a:off x="1456920" y="4572000"/>
            <a:ext cx="56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ng a session key with a key distribution cen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07_02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00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   Public-key Cryptograp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-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-k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istributed)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vate-ke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ept secr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-key decrypts private-key and vice-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ationally infeasible to deduce private-key from public-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eceiver’s public-key and sender’s private key are both used, both parties are authent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ost common public-key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most Fortune 1000 and e-commerce busin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tty Good Privacy (PG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rypts e-mails and files using “web of trus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   Public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"/>
          <p:cNvSpPr/>
          <p:nvPr/>
        </p:nvSpPr>
        <p:spPr>
          <a:xfrm>
            <a:off x="845640" y="4800600"/>
            <a:ext cx="67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ng and decrypting a message using public-key cryptograp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07_03" descr=""/>
          <p:cNvPicPr/>
          <p:nvPr/>
        </p:nvPicPr>
        <p:blipFill>
          <a:blip r:embed="rId1"/>
          <a:stretch/>
        </p:blipFill>
        <p:spPr>
          <a:xfrm>
            <a:off x="2195640" y="2247840"/>
            <a:ext cx="4751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   Public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"/>
          <p:cNvSpPr/>
          <p:nvPr/>
        </p:nvSpPr>
        <p:spPr>
          <a:xfrm>
            <a:off x="1989000" y="487692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with a public-key algorit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07_04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662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   Cryptanalysi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f keys are secret, it is possible to compromise the security of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ypt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rying to decrypt ciphertext without knowledge of the decryp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yptanalytic at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can be reduced if proper key management structures are in place and keys use expiration d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   Key Agreement Protoco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algorithms not efficient for large amount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 computing power requirements slow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 Agre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parties exchange keys over unsecure med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gital envelo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ymmetric secret key encrypted using public-key encry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   Key  Agreement Protocol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"/>
          <p:cNvSpPr/>
          <p:nvPr/>
        </p:nvSpPr>
        <p:spPr>
          <a:xfrm>
            <a:off x="2900880" y="49528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 digital envelo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07_05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0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   Key Manag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cy of private keys crucial to system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or key manag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ishandling of private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gener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process by which keys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s random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rute-force crack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crypting message using every possible decryptio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   Java Cryptography Extension (JC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ryptography Extension (J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Java applications with various security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-key 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-key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izable levels of encryption 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encryption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key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tecture is provider-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add algorithms by adding providers’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  Password-Based Encoding with J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EncipherDe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Password-Based Encryption (PB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andomize sets of generated keys, u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bytes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 Security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34680" y="1219320"/>
            <a:ext cx="80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uthentic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rbero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ngle Sign-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3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Authentication and Authorization Service (JAAS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cure Sockets Layer (SSL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Secure Socket Extension (JSSE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Language Security and Secure Cod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8-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8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cipherDeciph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a frame that allows users to specif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password and a file name. Contents writt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n Editor Pane can be encrypted and writt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 file, or encrypted contents can be read fro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le and decryp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spe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crypto.provider.SunJ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crypt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crypto.spec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ipherDeciph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lt for password-based encryption-decryption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alt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f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0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2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b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c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e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x7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teration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ration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24480" y="5486400"/>
            <a:ext cx="1600200" cy="337320"/>
            <a:chOff x="6324480" y="5486400"/>
            <a:chExt cx="1600200" cy="337320"/>
          </a:xfrm>
        </p:grpSpPr>
        <p:sp>
          <p:nvSpPr>
            <p:cNvPr id="133" name=""/>
            <p:cNvSpPr/>
            <p:nvPr/>
          </p:nvSpPr>
          <p:spPr>
            <a:xfrm flipH="1">
              <a:off x="6324480" y="563868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5486400"/>
              <a:ext cx="1143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120" y="6248520"/>
            <a:ext cx="2972160" cy="337320"/>
            <a:chOff x="4038120" y="6248520"/>
            <a:chExt cx="2972160" cy="337320"/>
          </a:xfrm>
        </p:grpSpPr>
        <p:sp>
          <p:nvSpPr>
            <p:cNvPr id="136" name=""/>
            <p:cNvSpPr/>
            <p:nvPr/>
          </p:nvSpPr>
          <p:spPr>
            <a:xfrm flipH="1">
              <a:off x="4038120" y="640080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62485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ion 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038120" y="5790960"/>
            <a:ext cx="4343760" cy="657000"/>
            <a:chOff x="4038120" y="5790960"/>
            <a:chExt cx="4343760" cy="657000"/>
          </a:xfrm>
        </p:grpSpPr>
        <p:sp>
          <p:nvSpPr>
            <p:cNvPr id="139" name=""/>
            <p:cNvSpPr/>
            <p:nvPr/>
          </p:nvSpPr>
          <p:spPr>
            <a:xfrm flipH="1" flipV="1">
              <a:off x="5409720" y="5790960"/>
              <a:ext cx="1119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5867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ndomize sets of generated ke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038120" y="6019920"/>
              <a:ext cx="2514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input compon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password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fileName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EditorPane fileContentsEdito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ipherDeciph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ecurity prov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curity.addProvi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nJC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main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cryption and Decryption Examp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top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op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setBorder( BorderFactory.createLine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.black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nel where password and file name labels will be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label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s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password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sswor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fileNam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le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sPanel.add( fileNam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sPanel.add( password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label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00240" y="1828800"/>
            <a:ext cx="2972160" cy="1310760"/>
            <a:chOff x="4800240" y="1828800"/>
            <a:chExt cx="2972160" cy="1310760"/>
          </a:xfrm>
        </p:grpSpPr>
        <p:sp>
          <p:nvSpPr>
            <p:cNvPr id="145" name=""/>
            <p:cNvSpPr/>
            <p:nvPr/>
          </p:nvSpPr>
          <p:spPr>
            <a:xfrm flipH="1">
              <a:off x="4800240" y="198108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828800"/>
              <a:ext cx="2209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security provider implementation. Provides system with various algorithm implement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nel where password and file name textfields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extFields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Fields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ssword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Nam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FieldsPanel.add( fileNam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FieldsPanel.add( password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textFields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middle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middle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Panel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and place title label for contents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fileContents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Label.set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le Cont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Panel.add( fileContentsLab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nd place editor pane within scroll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Edito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Edito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Panel.add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ileContentsEditorPane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bottom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ottom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ncryp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encrypt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crypt and Write to 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crypt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cryptAndWriteToFi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ttomPanel.add( encryp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ecrypt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decrypt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 from File and Decryp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crypt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adFromFileAndDecryp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ttomPanel.add( decryp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main fram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ntentPane = ( JPanel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p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middle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bottom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OU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47-1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1-1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8-1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6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65-1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contents from editor pane and encry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ryptAndWriteToFi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originalText = fileContentsEditorPane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assword = password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fileName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cret key and get cipher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pher cip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assword based encryption ke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KeySpec key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KeySpec( password.toCharArra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instance for secret key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Factory key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cretKeyFactory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 secret key for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 secretKey = keyFactory.generateSecret( key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ies parameters used with password based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ParameterSpec parameter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ParameterSpec( salt, iteration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cipher instance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 = Cipher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cipher in encrypt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.init( Ciph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CRYPT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cretKe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62720" y="2971800"/>
            <a:ext cx="3429000" cy="1310760"/>
            <a:chOff x="5562720" y="2971800"/>
            <a:chExt cx="3429000" cy="1310760"/>
          </a:xfrm>
        </p:grpSpPr>
        <p:sp>
          <p:nvSpPr>
            <p:cNvPr id="154" name=""/>
            <p:cNvSpPr/>
            <p:nvPr/>
          </p:nvSpPr>
          <p:spPr>
            <a:xfrm flipH="1">
              <a:off x="5562720" y="312408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4480" y="29718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BEKeySpe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acts as wrapper for array of characters that represents password for encrypting and decrypting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095520" y="4114440"/>
            <a:ext cx="2896200" cy="1510200"/>
            <a:chOff x="6095520" y="4114440"/>
            <a:chExt cx="2896200" cy="1510200"/>
          </a:xfrm>
        </p:grpSpPr>
        <p:sp>
          <p:nvSpPr>
            <p:cNvPr id="157" name=""/>
            <p:cNvSpPr/>
            <p:nvPr/>
          </p:nvSpPr>
          <p:spPr>
            <a:xfrm flipH="1" flipV="1">
              <a:off x="6095520" y="411444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48006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retKey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generates secret ke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57800" y="3809880"/>
            <a:ext cx="2743200" cy="685800"/>
            <a:chOff x="5257800" y="3809880"/>
            <a:chExt cx="2743200" cy="685800"/>
          </a:xfrm>
        </p:grpSpPr>
        <p:sp>
          <p:nvSpPr>
            <p:cNvPr id="160" name=""/>
            <p:cNvSpPr/>
            <p:nvPr/>
          </p:nvSpPr>
          <p:spPr>
            <a:xfrm flipH="1">
              <a:off x="5257800" y="3962520"/>
              <a:ext cx="509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1320" y="38098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te secret key from pass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38320" y="5029200"/>
            <a:ext cx="3353400" cy="580680"/>
            <a:chOff x="5638320" y="5029200"/>
            <a:chExt cx="3353400" cy="580680"/>
          </a:xfrm>
        </p:grpSpPr>
        <p:sp>
          <p:nvSpPr>
            <p:cNvPr id="163" name=""/>
            <p:cNvSpPr/>
            <p:nvPr/>
          </p:nvSpPr>
          <p:spPr>
            <a:xfrm flipH="1">
              <a:off x="563832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ins randomization information (salt, iteration cou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19920" y="5715000"/>
            <a:ext cx="2971800" cy="824040"/>
            <a:chOff x="6019920" y="5715000"/>
            <a:chExt cx="2971800" cy="824040"/>
          </a:xfrm>
        </p:grpSpPr>
        <p:sp>
          <p:nvSpPr>
            <p:cNvPr id="166" name=""/>
            <p:cNvSpPr/>
            <p:nvPr/>
          </p:nvSpPr>
          <p:spPr>
            <a:xfrm flipH="1">
              <a:off x="6019920" y="586728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571500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BEWithMD5And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gorit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562720" y="6248520"/>
            <a:ext cx="3429000" cy="337320"/>
            <a:chOff x="5562720" y="6248520"/>
            <a:chExt cx="3429000" cy="337320"/>
          </a:xfrm>
        </p:grpSpPr>
        <p:sp>
          <p:nvSpPr>
            <p:cNvPr id="169" name=""/>
            <p:cNvSpPr/>
            <p:nvPr/>
          </p:nvSpPr>
          <p:spPr>
            <a:xfrm flipH="1">
              <a:off x="5562720" y="640080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6248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0-1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76-17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2-18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88-19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94-1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Algorithm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Algorithm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Spec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Spec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Padding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Padding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AlgorithmParameter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AlgorithmParameter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outputAr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343040" y="1143000"/>
            <a:ext cx="3810240" cy="565920"/>
            <a:chOff x="4343040" y="1143000"/>
            <a:chExt cx="3810240" cy="565920"/>
          </a:xfrm>
        </p:grpSpPr>
        <p:sp>
          <p:nvSpPr>
            <p:cNvPr id="174" name=""/>
            <p:cNvSpPr/>
            <p:nvPr/>
          </p:nvSpPr>
          <p:spPr>
            <a:xfrm flipH="1" flipV="1">
              <a:off x="4343040" y="1143000"/>
              <a:ext cx="1576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13716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gorithm does not ex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105160" y="2286000"/>
            <a:ext cx="3353040" cy="1615680"/>
            <a:chOff x="5105160" y="2286000"/>
            <a:chExt cx="3353040" cy="1615680"/>
          </a:xfrm>
        </p:grpSpPr>
        <p:sp>
          <p:nvSpPr>
            <p:cNvPr id="177" name=""/>
            <p:cNvSpPr/>
            <p:nvPr/>
          </p:nvSpPr>
          <p:spPr>
            <a:xfrm flipH="1" flipV="1">
              <a:off x="5105160" y="2286000"/>
              <a:ext cx="1119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590920"/>
              <a:ext cx="2209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key specification is sent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nerateSecr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retKey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028840" y="3124080"/>
            <a:ext cx="2972160" cy="824040"/>
            <a:chOff x="5028840" y="3124080"/>
            <a:chExt cx="2972160" cy="824040"/>
          </a:xfrm>
        </p:grpSpPr>
        <p:sp>
          <p:nvSpPr>
            <p:cNvPr id="180" name=""/>
            <p:cNvSpPr/>
            <p:nvPr/>
          </p:nvSpPr>
          <p:spPr>
            <a:xfrm flipH="1">
              <a:off x="5028840" y="327672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31240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key handed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028840" y="4267080"/>
            <a:ext cx="3810240" cy="337320"/>
            <a:chOff x="5028840" y="4267080"/>
            <a:chExt cx="3810240" cy="337320"/>
          </a:xfrm>
        </p:grpSpPr>
        <p:sp>
          <p:nvSpPr>
            <p:cNvPr id="183" name=""/>
            <p:cNvSpPr/>
            <p:nvPr/>
          </p:nvSpPr>
          <p:spPr>
            <a:xfrm flipH="1">
              <a:off x="5028840" y="441972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67080"/>
              <a:ext cx="3047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padding scheme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028840" y="5410080"/>
            <a:ext cx="3962880" cy="580680"/>
            <a:chOff x="5028840" y="5410080"/>
            <a:chExt cx="3962880" cy="580680"/>
          </a:xfrm>
        </p:grpSpPr>
        <p:sp>
          <p:nvSpPr>
            <p:cNvPr id="186" name=""/>
            <p:cNvSpPr/>
            <p:nvPr/>
          </p:nvSpPr>
          <p:spPr>
            <a:xfrm flipH="1">
              <a:off x="5028840" y="556272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4100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alid algorithm parameters handed to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0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7-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32-2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Array = originalText.getByt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O-8859-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UnsupportedEncoding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Encoding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Out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OutputStream fileOutputStre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OutputStrea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Out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ipherOut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pherOutputStream ou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pherOutputStream( fileOutputStream, cip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contents to file and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write( outputArr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90920" y="685440"/>
            <a:ext cx="3657600" cy="1647720"/>
            <a:chOff x="2590920" y="685440"/>
            <a:chExt cx="3657600" cy="1647720"/>
          </a:xfrm>
        </p:grpSpPr>
        <p:sp>
          <p:nvSpPr>
            <p:cNvPr id="191" name=""/>
            <p:cNvSpPr/>
            <p:nvPr/>
          </p:nvSpPr>
          <p:spPr>
            <a:xfrm flipV="1">
              <a:off x="4038480" y="6854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17524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vert user input into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conforming to ISO-8859-1 stand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419720" y="3276720"/>
            <a:ext cx="4572000" cy="641880"/>
            <a:chOff x="4419720" y="3276720"/>
            <a:chExt cx="4572000" cy="641880"/>
          </a:xfrm>
        </p:grpSpPr>
        <p:sp>
          <p:nvSpPr>
            <p:cNvPr id="194" name=""/>
            <p:cNvSpPr/>
            <p:nvPr/>
          </p:nvSpPr>
          <p:spPr>
            <a:xfrm flipH="1" flipV="1">
              <a:off x="4419720" y="3276720"/>
              <a:ext cx="81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581280"/>
              <a:ext cx="3733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output stream to selected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4419720"/>
            <a:ext cx="3581280" cy="580680"/>
            <a:chOff x="4876920" y="4419720"/>
            <a:chExt cx="3581280" cy="580680"/>
          </a:xfrm>
        </p:grpSpPr>
        <p:sp>
          <p:nvSpPr>
            <p:cNvPr id="197" name=""/>
            <p:cNvSpPr/>
            <p:nvPr/>
          </p:nvSpPr>
          <p:spPr>
            <a:xfrm flipH="1">
              <a:off x="4876920" y="47242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5000" y="44197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deco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ipherOutput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572000" y="5257440"/>
            <a:ext cx="3581280" cy="871200"/>
            <a:chOff x="4572000" y="5257440"/>
            <a:chExt cx="3581280" cy="871200"/>
          </a:xfrm>
        </p:grpSpPr>
        <p:sp>
          <p:nvSpPr>
            <p:cNvPr id="200" name=""/>
            <p:cNvSpPr/>
            <p:nvPr/>
          </p:nvSpPr>
          <p:spPr>
            <a:xfrm flipH="1" flipV="1">
              <a:off x="4572000" y="5257440"/>
              <a:ext cx="966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579132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orates out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191120" y="5257440"/>
            <a:ext cx="3047760" cy="947160"/>
            <a:chOff x="4191120" y="5257440"/>
            <a:chExt cx="3047760" cy="947160"/>
          </a:xfrm>
        </p:grpSpPr>
        <p:sp>
          <p:nvSpPr>
            <p:cNvPr id="203" name=""/>
            <p:cNvSpPr/>
            <p:nvPr/>
          </p:nvSpPr>
          <p:spPr>
            <a:xfrm flipV="1">
              <a:off x="5562720" y="525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5867280"/>
              <a:ext cx="3047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enco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y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47760" y="6171840"/>
            <a:ext cx="2819520" cy="337680"/>
            <a:chOff x="3047760" y="6171840"/>
            <a:chExt cx="2819520" cy="337680"/>
          </a:xfrm>
        </p:grpSpPr>
        <p:sp>
          <p:nvSpPr>
            <p:cNvPr id="206" name=""/>
            <p:cNvSpPr/>
            <p:nvPr/>
          </p:nvSpPr>
          <p:spPr>
            <a:xfrm flipH="1" flipV="1">
              <a:off x="3047760" y="6171840"/>
              <a:ext cx="509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6172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to file and cl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tain bytes rea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fileByt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contents from file to show user encrypted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bytes from stre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.availabl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nt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in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Bytes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( contents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yte array from contents in Vector file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encrypted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fileBytes.size()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leByt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cryptedText[ i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( Byte ) fileBytes.elementAt( i ) ).byt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ditor Pane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EditorPane.setTex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encryptedText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contents from file and decry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FromFileAndDecryp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d to rebuild byte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 fileByt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password = password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fileNameTextField.get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ecret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pher cip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assword based encryption ke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KeySpec key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KeySpec( password.toCharArra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instance for secret key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Factory key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cretKeyFactory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1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13-1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nerate secret key for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retKey secretKey = keyFactory.generateSecret( key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ies parameters used with password based encry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BEParameterSpec parameterSpec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BEParameterSpec( salt, iterationCount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cipher instance refere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 = Cipher.getInst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BEWithMD5And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cipher in decrypt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.init( Ciph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RYPT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ecretKe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arameterSpe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Algorithm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Algorithm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Spec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Spec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Key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Key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57440" y="2057040"/>
            <a:ext cx="3277080" cy="794880"/>
            <a:chOff x="5257440" y="2057040"/>
            <a:chExt cx="3277080" cy="794880"/>
          </a:xfrm>
        </p:grpSpPr>
        <p:sp>
          <p:nvSpPr>
            <p:cNvPr id="215" name=""/>
            <p:cNvSpPr/>
            <p:nvPr/>
          </p:nvSpPr>
          <p:spPr>
            <a:xfrm flipH="1" flipV="1">
              <a:off x="5257440" y="2057040"/>
              <a:ext cx="585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280" y="25146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p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48320" y="2590560"/>
            <a:ext cx="3809880" cy="870840"/>
            <a:chOff x="4648320" y="2590560"/>
            <a:chExt cx="3809880" cy="870840"/>
          </a:xfrm>
        </p:grpSpPr>
        <p:sp>
          <p:nvSpPr>
            <p:cNvPr id="218" name=""/>
            <p:cNvSpPr/>
            <p:nvPr/>
          </p:nvSpPr>
          <p:spPr>
            <a:xfrm flipH="1" flipV="1">
              <a:off x="4648320" y="2590560"/>
              <a:ext cx="1195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31240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o decryp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Internet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s buying products, trading stocks and banking o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-card, social security and confidential business information ex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 at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heft and hacker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ransmissions easier to inter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transaction fundamen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 third pa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nformation unal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proving ident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n-repudi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gal proof of message recei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51-3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54-3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NoSuchPadding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Padding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nvalidAlgorithmParameter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validAlgorithmParameter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nd decrypt contents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fileInput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ipherInputStream i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pherInputStream( fileInputStream, cip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bytes from stre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in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tents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Bytes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( contents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ntents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in.rea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1640" y="3200400"/>
            <a:ext cx="3277080" cy="337320"/>
            <a:chOff x="4571640" y="3200400"/>
            <a:chExt cx="3277080" cy="337320"/>
          </a:xfrm>
        </p:grpSpPr>
        <p:sp>
          <p:nvSpPr>
            <p:cNvPr id="223" name=""/>
            <p:cNvSpPr/>
            <p:nvPr/>
          </p:nvSpPr>
          <p:spPr>
            <a:xfrm flipH="1">
              <a:off x="4571640" y="335268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8680" y="320040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81120" y="4191120"/>
            <a:ext cx="3734280" cy="565920"/>
            <a:chOff x="5181120" y="4191120"/>
            <a:chExt cx="3734280" cy="565920"/>
          </a:xfrm>
        </p:grpSpPr>
        <p:sp>
          <p:nvSpPr>
            <p:cNvPr id="226" name=""/>
            <p:cNvSpPr/>
            <p:nvPr/>
          </p:nvSpPr>
          <p:spPr>
            <a:xfrm flipH="1" flipV="1">
              <a:off x="5181120" y="4191120"/>
              <a:ext cx="662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7280" y="44197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put stream deco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05520" y="5181480"/>
            <a:ext cx="3124080" cy="337320"/>
            <a:chOff x="5105520" y="5181480"/>
            <a:chExt cx="3124080" cy="337320"/>
          </a:xfrm>
        </p:grpSpPr>
        <p:sp>
          <p:nvSpPr>
            <p:cNvPr id="229" name=""/>
            <p:cNvSpPr/>
            <p:nvPr/>
          </p:nvSpPr>
          <p:spPr>
            <a:xfrm flipH="1">
              <a:off x="5105520" y="533412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5181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decrypted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ciphyerDeciph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pplication for demonstrating Password-Based Encry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yte array from contents in Vector fileBy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ecrypted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y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fileBytes.size()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leByt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cryptedText[ i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( Byte )fileBytes.elementAt( i ) ).byte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Editor Pane cont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ontentsEditorPane.setTex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decryptedTex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frame and 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cipherDecipher crypto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cipherDecip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ypto.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ypto.setVisi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  Password-Based Encoding with JC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34" name="BeforeEncryption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35" name="AfterEncryption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86600" y="5575320"/>
            <a:ext cx="60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cipherDecip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fore and after encrypting cont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   Decorator Design Patter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cypherDecip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corator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rator design pattern is “chaining” two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create additional classes to extend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pher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or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ipherOutput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akes reference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decorate an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pher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or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ipherInput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akes reference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decorate an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   Digital Signa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vide authentication and integrity in public-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calculation assig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ash valu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c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ll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wo messages with same hash value is statistically insignific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signature, hash function and encrypted message sent to recei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 integ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calculated message hash value matches that sent in signature, verifies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imestamp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olves non-repudiation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stamping ag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 only sees encrypted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gital Signature Algorith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tandard for digital sign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9524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7.10   Public-key Infrastructure, Certificates and Certification Authorities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-key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s public-key cryptography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gital certificat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ertification authorities (CA’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rtificate: identifies user, issued by certification authority (such as Veri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rtificates stor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icate repos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ertificate authority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ot certification auth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net Policy Registration Authority (IPRA), signs certificat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icy creation author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 set policies for obtaining digital certif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creation authorities sign for CA’s who sign for individuals and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ngs use public-key cryptograp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7.10   Public-key Infrastructure, Certificates and Certification Authorities (cont.)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keys necessary for maintain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certificates have expiration d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celed and revoked certificates plac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ertificate revocation list (CR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ing authen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certificate with CRL (inconveni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nline Certificate Status Protoc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OCSP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idates certificates in real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 and digital certificate transactions are more secure than phone line, mail or even credit-car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7.10   Public-key Infrastructure, Certificates and Certification Authorities (cont.)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6" name="07_06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610240" cy="4811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77960" y="5943600"/>
            <a:ext cx="69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rtion of the VeriSign digital certificate. (Courtesy of VeriSign, In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.1   Java Keystores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keytoo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vides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keytoo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ing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ng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storing public and privat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ing stored keys requires use of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keystore locat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me/user/.key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 lin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gen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duces private and public key p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ex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port a certific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im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mport certificate from trusted 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ist all contents of keyst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alia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&lt;alias_na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dentify public and private pair for later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.1   Java Keystores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keytoo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keytoo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-generated certificates identified thr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mmonName (C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organizationUnit (OU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organizationName (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ocalityName (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eName (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untry (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  Introduc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work stays in operation continuously and are becoming wire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main securit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repu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.1   Java Keystores and </a:t>
            </a:r>
            <a:r>
              <a:rPr b="1" lang="en-US" sz="3000" spc="-1" strike="noStrike">
                <a:solidFill>
                  <a:srgbClr val="ff3300"/>
                </a:solidFill>
                <a:latin typeface="Courier New"/>
              </a:rPr>
              <a:t>keytoo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nerate a public and private key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genkey –alias My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igital certificate from certificate author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certreq –alias MyCertificate –file myRequest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certificate file to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 authority’s steps on Web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nerate certificate other users may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export –alias MyCertificate –file myCertificate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Java security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Sand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ected environment in which Java applications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ust grant application resource per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andbox security model compri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code ver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o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urity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nted on basi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curit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rised of varying levels of access to system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to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ng to identified port on hos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icy files declare permissions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ssion not declared explicitly, permission not gra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-wide policy loaded automatically by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poli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cat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/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ular applications can specify custom security policy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ompromise original system-wide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uthorizedFileWrit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rites to file using a security manager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orizedFileWri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orizedFileWriter writes to file using a security manag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missions must be given via policy fi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policy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orizedFileWri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nd set security mana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setSecurityMana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urityManag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command-line arguments for proper u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com.deitel.advjhtp1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curity.policyfile.AuthorizedFileWriter fil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bod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write fileBody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Body =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rite fileBody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File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Writer fileWri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Writer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Writer.write( fileBod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562360" y="2133720"/>
            <a:ext cx="3200760" cy="824040"/>
            <a:chOff x="5562360" y="2133720"/>
            <a:chExt cx="3200760" cy="824040"/>
          </a:xfrm>
        </p:grpSpPr>
        <p:sp>
          <p:nvSpPr>
            <p:cNvPr id="264" name=""/>
            <p:cNvSpPr/>
            <p:nvPr/>
          </p:nvSpPr>
          <p:spPr>
            <a:xfrm flipH="1">
              <a:off x="5562360" y="2286000"/>
              <a:ext cx="966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213372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urity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tects against unauthorized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638680" y="5105520"/>
            <a:ext cx="2514600" cy="609480"/>
            <a:chOff x="5638680" y="5105520"/>
            <a:chExt cx="2514600" cy="609480"/>
          </a:xfrm>
        </p:grpSpPr>
        <p:sp>
          <p:nvSpPr>
            <p:cNvPr id="267" name=""/>
            <p:cNvSpPr/>
            <p:nvPr/>
          </p:nvSpPr>
          <p:spPr>
            <a:xfrm flipH="1">
              <a:off x="5638680" y="5257800"/>
              <a:ext cx="890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3080" y="51055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to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uthorizedFileWrit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writes to file using a security manager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Writer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handle IO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horized.poli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ants writ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ilePermiss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for fil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uthorized.t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mandli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 –Djava.security.policy=authorized.policy com.deitel.advjhtp1.security.policyfile.AuthorizedFileWriter “authorized.txt” “Policy file authorized.policy granted file write permission for file authorized.txt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command line specifies different file, permission is deni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1 Policy file grants permission to write to fil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orized.txt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orized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that grants file write permi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ly to file "authorized.tx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orized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9320" y="1600200"/>
            <a:ext cx="1981080" cy="1738440"/>
            <a:chOff x="1219320" y="1600200"/>
            <a:chExt cx="1981080" cy="1738440"/>
          </a:xfrm>
        </p:grpSpPr>
        <p:sp>
          <p:nvSpPr>
            <p:cNvPr id="276" name=""/>
            <p:cNvSpPr/>
            <p:nvPr/>
          </p:nvSpPr>
          <p:spPr>
            <a:xfrm flipV="1">
              <a:off x="220968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5146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ize write permission to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uthorized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  Java Policy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base_authorized.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:/myclas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debase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Permis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base_authorized.t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and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java –Djava.security.policy=codebase_authorized.policy com.deitel.advjhtp1.security.policyfile.AuthorizedFileWriter “codebase_authorized.txt” “Policy file codebase_authorized.policy granted file write permission for file codebase_authorized.txt to codebase c:/myclasses.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ode executing from different codebase, permission den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2 Policy file grants permission to the specified codebas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base_authorized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that grants write permission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"codebase_authorized.txt" for codebase "C:/myclasse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/C:/myclass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debase_authorized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90720" y="1600200"/>
            <a:ext cx="2209680" cy="1281240"/>
            <a:chOff x="990720" y="1600200"/>
            <a:chExt cx="2209680" cy="1281240"/>
          </a:xfrm>
        </p:grpSpPr>
        <p:sp>
          <p:nvSpPr>
            <p:cNvPr id="283" name=""/>
            <p:cNvSpPr/>
            <p:nvPr/>
          </p:nvSpPr>
          <p:spPr>
            <a:xfrm flipV="1">
              <a:off x="2057400" y="1600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0720" y="20574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izes write permission to codeba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:/my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  Ancient Ciphers to Modern Crypto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pher/cryptosyst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lgorithm) encrypts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nencryp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ncryp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sed by sender and receiver to encrypt and decrypt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ient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stitution cip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given letter replaced by different le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ransposition cip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tter ordering shif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stricted algorith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ecurity relies on keeping encryption algorithm secr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ng applets with special per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ign applets with digital sign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s to verify applet originated from truste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TreePanel displays tree of user’s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sandbox does not allow default file access from appl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ign appl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Plug-in prompts user of digital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grants pe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tore applet in JA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3 Applet that browses a user’s local filesystem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TreeApple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Applet that browses files on the local file sys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ileTreePan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signatur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signatures.FileTree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Apple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pple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JAppl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ootDirectory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ootDirectory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 directory nam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TreePanel for browsing user's hard dr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Panel( rootDirecto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lug-in supports RSA-signed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RSA keyp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genkey –keyalg RSA –alias My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rt digital signature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export –alias MyCertificate –file myCertificate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to key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import –alias MyTrustedCertificate –keystore cacert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–file myCertificate.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acer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is complete path to key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 applet’s JAR file with digital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rsigner FileTreeApplet.jar My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Java Plug-in instead of Web browser’s JV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mlconverter signedApple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5 HTML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TreeApple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TreeApplet Signed Apple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Brows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ppl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.deitel.advjhtp1.security.signatures.FileTreeApple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rchiv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TreeApplet.j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ppl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00200" y="2743200"/>
            <a:ext cx="2057400" cy="1251720"/>
            <a:chOff x="1600200" y="2743200"/>
            <a:chExt cx="2057400" cy="1251720"/>
          </a:xfrm>
        </p:grpSpPr>
        <p:sp>
          <p:nvSpPr>
            <p:cNvPr id="297" name=""/>
            <p:cNvSpPr/>
            <p:nvPr/>
          </p:nvSpPr>
          <p:spPr>
            <a:xfrm flipV="1">
              <a:off x="2590920" y="2743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0200" y="3657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ed applet ja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0" name="signedappletIE_a" descr=""/>
          <p:cNvPicPr/>
          <p:nvPr/>
        </p:nvPicPr>
        <p:blipFill>
          <a:blip r:embed="rId1"/>
          <a:stretch/>
        </p:blipFill>
        <p:spPr>
          <a:xfrm>
            <a:off x="1967040" y="2209680"/>
            <a:ext cx="5209920" cy="24386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531440" y="4876920"/>
            <a:ext cx="59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lug-in security warning when loading a signed appl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2   Digital Signatures for Java Cod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3" name="signedappletIE_b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810160" cy="1209600"/>
          </a:xfrm>
          <a:prstGeom prst="rect">
            <a:avLst/>
          </a:prstGeom>
          <a:ln w="0">
            <a:noFill/>
          </a:ln>
        </p:spPr>
      </p:pic>
      <p:pic>
        <p:nvPicPr>
          <p:cNvPr id="304" name="signedappletIE_c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457880" cy="3714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990440" y="542304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reeApp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ow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jdk1.3.1\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   Authent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uthenticatio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 access to certain aspects of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ers to connect to 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te resources available to users on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Authentication and Authorization Service (JA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plug-in fra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ngle sign-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1   Kerbe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 secret key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beros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s client’s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cket Granting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to key distribution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s client’s rights to acces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ubmits user name and password to Kerbero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returns Ticket-Granting Ticket (T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with client’s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decrypts T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reques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e tick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sending decrypted TGT to T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authorizes client with renewable service 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2   Single Sign-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sign-on allows users to log into different servers once with single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tation login 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 script sends password to each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password on works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server 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e users with centra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authenticated, non-reusable token identifies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  Ancient Ciphers to Modern Cryptosystem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rypt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bas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its/bloc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inary 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mputer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tronger encryption for longer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 government used to limit key length of exported crypt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tions now less strin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3   Java Authentication and Authorization Service (JAAS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tects applications from unauthorized us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luggable Authentication Module (PA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multiple authentication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authentication systems may be comb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control access 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s access to resources on user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s user to group, bases policies on group 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e-based security poli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group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group policies, no default policie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obtain privileges to needed applications based on intended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e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to authenticate a user and invoke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0-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enticat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henticates a user using the NTLoginModule and perfor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riteFileAction PrivilegedA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aa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login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enticateNT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[] arg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uthenticate user and perform Privilege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LoginContext for AuthenticateNT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Context login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on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thenticat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Context.lo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login executes without exceptions,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s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 Successfu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ubject now associated with Login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ject subject = loginContext.getSubjec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Subject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out.println( subjec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257800" y="3733920"/>
            <a:ext cx="3505320" cy="1067400"/>
            <a:chOff x="5257800" y="3733920"/>
            <a:chExt cx="3505320" cy="1067400"/>
          </a:xfrm>
        </p:grpSpPr>
        <p:sp>
          <p:nvSpPr>
            <p:cNvPr id="317" name=""/>
            <p:cNvSpPr/>
            <p:nvPr/>
          </p:nvSpPr>
          <p:spPr>
            <a:xfrm flipH="1">
              <a:off x="5257800" y="3886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5720" y="373392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in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uthentica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581280" y="4419720"/>
            <a:ext cx="3048120" cy="337320"/>
            <a:chOff x="3581280" y="4419720"/>
            <a:chExt cx="3048120" cy="337320"/>
          </a:xfrm>
        </p:grpSpPr>
        <p:sp>
          <p:nvSpPr>
            <p:cNvPr id="320" name=""/>
            <p:cNvSpPr/>
            <p:nvPr/>
          </p:nvSpPr>
          <p:spPr>
            <a:xfrm flipH="1">
              <a:off x="3581280" y="457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4800" y="44197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 authenticatio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62720" y="5257800"/>
            <a:ext cx="3429000" cy="1067400"/>
            <a:chOff x="5562720" y="5257800"/>
            <a:chExt cx="3429000" cy="1067400"/>
          </a:xfrm>
        </p:grpSpPr>
        <p:sp>
          <p:nvSpPr>
            <p:cNvPr id="323" name=""/>
            <p:cNvSpPr/>
            <p:nvPr/>
          </p:nvSpPr>
          <p:spPr>
            <a:xfrm flipH="1">
              <a:off x="5562720" y="586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7120" y="52578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presents particular user or entity (this particular case, user currently logged 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343400" y="4800600"/>
            <a:ext cx="2590920" cy="1797480"/>
            <a:chOff x="4343400" y="4800600"/>
            <a:chExt cx="2590920" cy="1797480"/>
          </a:xfrm>
        </p:grpSpPr>
        <p:sp>
          <p:nvSpPr>
            <p:cNvPr id="326" name=""/>
            <p:cNvSpPr/>
            <p:nvPr/>
          </p:nvSpPr>
          <p:spPr>
            <a:xfrm flipH="1">
              <a:off x="4343400" y="6400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6920" y="4800600"/>
              <a:ext cx="20574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formation inclu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cip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represent different role or identities a user assumes during particular log sess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e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to authenticate a user and invoke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erform the WriteFileAction as current Su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bject.doAs( subject, new WriteFile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g out current Su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Context.logout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loggin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ginException logi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ogin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3657600"/>
            <a:ext cx="678204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n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User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Name: sa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Domain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mainName DEI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User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21-1275210071-1682526488-1343024091-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PrimaryGroup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21-1275210071-1682526488-1343024091-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21-1275210071-1682526488-1343024091-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95680" y="762120"/>
            <a:ext cx="4267440" cy="1342440"/>
            <a:chOff x="4495680" y="762120"/>
            <a:chExt cx="4267440" cy="1342440"/>
          </a:xfrm>
        </p:grpSpPr>
        <p:sp>
          <p:nvSpPr>
            <p:cNvPr id="332" name=""/>
            <p:cNvSpPr/>
            <p:nvPr/>
          </p:nvSpPr>
          <p:spPr>
            <a:xfrm flipH="1" flipV="1">
              <a:off x="4495680" y="762120"/>
              <a:ext cx="609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05520" y="15238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ke request using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iledged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581280" y="914400"/>
            <a:ext cx="2590920" cy="580680"/>
            <a:chOff x="3581280" y="914400"/>
            <a:chExt cx="2590920" cy="580680"/>
          </a:xfrm>
        </p:grpSpPr>
        <p:sp>
          <p:nvSpPr>
            <p:cNvPr id="335" name=""/>
            <p:cNvSpPr/>
            <p:nvPr/>
          </p:nvSpPr>
          <p:spPr>
            <a:xfrm flipH="1">
              <a:off x="3581280" y="1066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14800" y="9144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out from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in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uses th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to authenticate a user and invoke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495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1-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32-5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32-5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5-0-396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2-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cipal: NTSidGroupPrincip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TSid:  S-1-5-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redential: NTNumericCredentia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: 8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riteFileAction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is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vilegedAction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writing a simple text fi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FileAc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FileAction is a PrivilegedAction implementation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y writes a file to the local file syst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aa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Privileged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File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ileged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erform the Privileged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ru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write a message to the specifie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Writer fileWri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Writer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rite message to File and close FileWri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Writer.wri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JAAS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Writer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writin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86400" y="2133720"/>
            <a:ext cx="2743200" cy="809280"/>
            <a:chOff x="5486400" y="2133720"/>
            <a:chExt cx="2743200" cy="809280"/>
          </a:xfrm>
        </p:grpSpPr>
        <p:sp>
          <p:nvSpPr>
            <p:cNvPr id="342" name=""/>
            <p:cNvSpPr/>
            <p:nvPr/>
          </p:nvSpPr>
          <p:spPr>
            <a:xfrm flipH="1" flipV="1">
              <a:off x="5486400" y="2133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3600" y="2362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ileged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0 Configuration file for authentication us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TLoginModu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as.confi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figures JAAS to use NTLoginModu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uthent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enticat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m.sun.security.auth.module.NTLoginModu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qui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bug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24080" y="1218960"/>
            <a:ext cx="1905120" cy="1738440"/>
            <a:chOff x="3124080" y="1218960"/>
            <a:chExt cx="1905120" cy="1738440"/>
          </a:xfrm>
        </p:grpSpPr>
        <p:sp>
          <p:nvSpPr>
            <p:cNvPr id="347" name=""/>
            <p:cNvSpPr/>
            <p:nvPr/>
          </p:nvSpPr>
          <p:spPr>
            <a:xfrm flipV="1">
              <a:off x="4038480" y="12189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4080" y="213336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ject must authenticate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TLogin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1 JAAS policy file for granting permissions to 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incipa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codebase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-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9-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as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defining the permissions for the named Princip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D:/JavaProjects/advjhtp1/src/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cipal com.sun.security.auth.NTUserPrincipal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505320" y="1066320"/>
            <a:ext cx="1676160" cy="2014200"/>
            <a:chOff x="3505320" y="1066320"/>
            <a:chExt cx="1676160" cy="2014200"/>
          </a:xfrm>
        </p:grpSpPr>
        <p:sp>
          <p:nvSpPr>
            <p:cNvPr id="352" name=""/>
            <p:cNvSpPr/>
            <p:nvPr/>
          </p:nvSpPr>
          <p:spPr>
            <a:xfrm flipV="1">
              <a:off x="4419720" y="106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05320" y="274320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su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4920" y="1523880"/>
            <a:ext cx="3047760" cy="2104920"/>
            <a:chOff x="304920" y="1523880"/>
            <a:chExt cx="3047760" cy="2104920"/>
          </a:xfrm>
        </p:grpSpPr>
        <p:sp>
          <p:nvSpPr>
            <p:cNvPr id="355" name=""/>
            <p:cNvSpPr/>
            <p:nvPr/>
          </p:nvSpPr>
          <p:spPr>
            <a:xfrm flipV="1">
              <a:off x="1523880" y="1523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920" y="304812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write permission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:/privilegedFile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0880" y="2057400"/>
            <a:ext cx="2819520" cy="2714040"/>
            <a:chOff x="380880" y="2057400"/>
            <a:chExt cx="2819520" cy="2714040"/>
          </a:xfrm>
        </p:grpSpPr>
        <p:sp>
          <p:nvSpPr>
            <p:cNvPr id="358" name=""/>
            <p:cNvSpPr/>
            <p:nvPr/>
          </p:nvSpPr>
          <p:spPr>
            <a:xfrm flipV="1">
              <a:off x="1447920" y="205740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0880" y="419076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read permission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:/privilegedFile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914400" y="761760"/>
            <a:ext cx="2057400" cy="3552840"/>
            <a:chOff x="914400" y="761760"/>
            <a:chExt cx="2057400" cy="3552840"/>
          </a:xfrm>
        </p:grpSpPr>
        <p:sp>
          <p:nvSpPr>
            <p:cNvPr id="361" name=""/>
            <p:cNvSpPr/>
            <p:nvPr/>
          </p:nvSpPr>
          <p:spPr>
            <a:xfrm flipV="1">
              <a:off x="1752480" y="76176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4400" y="37339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base to which apply permiss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2 Policy file for JAAS appl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15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.poli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icy file that grants All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JAAS modules and specific permis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the D:\Projects\Java code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/D:/jdk1.3.1/jre/lib/ext/jaas.j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security.AllPermis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de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:/D:/JavaProjects/advjhtp1/src/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AuthPermiss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LoginCon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ecurity.auth.Auth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ri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ermis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Permissio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:/privilegedFile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a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71640" y="1294920"/>
            <a:ext cx="4420080" cy="657360"/>
            <a:chOff x="4571640" y="1294920"/>
            <a:chExt cx="4420080" cy="657360"/>
          </a:xfrm>
        </p:grpSpPr>
        <p:sp>
          <p:nvSpPr>
            <p:cNvPr id="366" name=""/>
            <p:cNvSpPr/>
            <p:nvPr/>
          </p:nvSpPr>
          <p:spPr>
            <a:xfrm flipH="1" flipV="1">
              <a:off x="4571640" y="12949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38680" y="13716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JAAS to perform authentication on behalf of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943600" y="2362320"/>
            <a:ext cx="2895480" cy="1067400"/>
            <a:chOff x="5943600" y="2362320"/>
            <a:chExt cx="2895480" cy="1067400"/>
          </a:xfrm>
        </p:grpSpPr>
        <p:sp>
          <p:nvSpPr>
            <p:cNvPr id="369" name=""/>
            <p:cNvSpPr/>
            <p:nvPr/>
          </p:nvSpPr>
          <p:spPr>
            <a:xfrm flipH="1">
              <a:off x="594360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77120" y="2362320"/>
              <a:ext cx="2361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s permission to execu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ileged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90920" y="3048120"/>
            <a:ext cx="4343400" cy="1799640"/>
            <a:chOff x="2590920" y="3048120"/>
            <a:chExt cx="4343400" cy="1799640"/>
          </a:xfrm>
        </p:grpSpPr>
        <p:sp>
          <p:nvSpPr>
            <p:cNvPr id="372" name=""/>
            <p:cNvSpPr/>
            <p:nvPr/>
          </p:nvSpPr>
          <p:spPr>
            <a:xfrm flipH="1" flipV="1">
              <a:off x="2666520" y="304812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42670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mission to read and write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:/privilegedFile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590920" y="358092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3.3   Java Authentication and Authorization Service (JAAS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hentica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–Djava.security.policy==java.polic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Djava.security.auth.policy==jaas.polic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Djava.security.auth.login.config==jaas.confi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.deitel.advjhtp1.security.jaas.Authentica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   Secure Sockets Layer (SS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onproprietary protoc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ed to secure communications between compu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-key technology using RSA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certifica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uthenticat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tect priva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require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/secret-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key encrypts and decrypts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secure method to transfe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uthentication because same key used on both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needs separate secret key for each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distribution center (KD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s secret key with users in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ssion 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secret keys to sender and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key used for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keys and less couriers for transactions, but security depends on security on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   Secure Sockets Layer (SSL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ends message 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responds with digital 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nd server negotiate session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ublic key cryptography for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keys established, communication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encry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decrypted at receiving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sec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.1   Java Secure Socket Extension (JS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SL encryption integrated into Java through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Java Secure Socket Extension (JSEE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ures passage of information between two cli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e of SSL connections transparent to us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LServerSocke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secure commun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Server uses an SSLServerSocket to demonstrate JSSE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SL implemen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s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et.ss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USER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PASSWO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wToPr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SLServerSocket serverSock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ginServ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SLServerSocketFactory for building SSLServerSock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SLServerSocketFactory socket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SSLServerSocketFa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SLServerSocketFactory.getDefaul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SLServerSocket on specified 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Socket = ( SSLServerSocke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ketFactory.createServerSocke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LoginServ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05160" y="4572000"/>
            <a:ext cx="2590920" cy="337320"/>
            <a:chOff x="5105160" y="4572000"/>
            <a:chExt cx="2590920" cy="337320"/>
          </a:xfrm>
        </p:grpSpPr>
        <p:sp>
          <p:nvSpPr>
            <p:cNvPr id="386" name=""/>
            <p:cNvSpPr/>
            <p:nvPr/>
          </p:nvSpPr>
          <p:spPr>
            <a:xfrm flipH="1">
              <a:off x="5105160" y="4724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38680" y="4572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factory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333760" y="5334120"/>
            <a:ext cx="2590920" cy="337320"/>
            <a:chOff x="5333760" y="5334120"/>
            <a:chExt cx="2590920" cy="337320"/>
          </a:xfrm>
        </p:grpSpPr>
        <p:sp>
          <p:nvSpPr>
            <p:cNvPr id="389" name=""/>
            <p:cNvSpPr/>
            <p:nvPr/>
          </p:nvSpPr>
          <p:spPr>
            <a:xfrm flipH="1">
              <a:off x="5333760" y="5486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67280" y="53341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SL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LServerSocke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secure commun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49-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7-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0-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server and listen fo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Serv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erpetually listen for cl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ait for client connection and check login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rr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aiting for connection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new SSLSocket for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SLSocket 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SSLSocket ) serverSocket.accep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pen BufferedReader for reading data from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fferedReader in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socket.getInput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open PrintWriter for writing data to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Writer out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Wri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treamWri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ocket.getOutput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userName = input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ring password = input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USER_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password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RRECT_PASSWO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utput.printl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gin Fail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4120" y="2590920"/>
            <a:ext cx="3581280" cy="337320"/>
            <a:chOff x="5334120" y="2590920"/>
            <a:chExt cx="3581280" cy="337320"/>
          </a:xfrm>
        </p:grpSpPr>
        <p:sp>
          <p:nvSpPr>
            <p:cNvPr id="394" name=""/>
            <p:cNvSpPr/>
            <p:nvPr/>
          </p:nvSpPr>
          <p:spPr>
            <a:xfrm flipH="1">
              <a:off x="5334120" y="2743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5880" y="259092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epts new clien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81120" y="3657600"/>
            <a:ext cx="3657960" cy="809280"/>
            <a:chOff x="5181120" y="3657600"/>
            <a:chExt cx="3657960" cy="809280"/>
          </a:xfrm>
        </p:grpSpPr>
        <p:sp>
          <p:nvSpPr>
            <p:cNvPr id="397" name=""/>
            <p:cNvSpPr/>
            <p:nvPr/>
          </p:nvSpPr>
          <p:spPr>
            <a:xfrm flipH="1" flipV="1">
              <a:off x="6248160" y="365760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81680" y="38862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input and output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181120" y="403848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333760" y="4648320"/>
            <a:ext cx="3048120" cy="824040"/>
            <a:chOff x="5333760" y="4648320"/>
            <a:chExt cx="3048120" cy="824040"/>
          </a:xfrm>
        </p:grpSpPr>
        <p:sp>
          <p:nvSpPr>
            <p:cNvPr id="401" name=""/>
            <p:cNvSpPr/>
            <p:nvPr/>
          </p:nvSpPr>
          <p:spPr>
            <a:xfrm flipH="1">
              <a:off x="53337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67280" y="46483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first two lines of text. Details of encryption hidden from develop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172200" y="5257800"/>
            <a:ext cx="2590920" cy="580680"/>
            <a:chOff x="6172200" y="5257800"/>
            <a:chExt cx="2590920" cy="580680"/>
          </a:xfrm>
        </p:grpSpPr>
        <p:sp>
          <p:nvSpPr>
            <p:cNvPr id="404" name=""/>
            <p:cNvSpPr/>
            <p:nvPr/>
          </p:nvSpPr>
          <p:spPr>
            <a:xfrm flipH="1">
              <a:off x="61722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05720" y="5257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user name and 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LServerSocke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or secure communicati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71-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lean up streams and SSL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communicating with cl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un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inServer serv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rver.runServ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2160" y="914400"/>
            <a:ext cx="2590920" cy="337320"/>
            <a:chOff x="3962160" y="914400"/>
            <a:chExt cx="2590920" cy="337320"/>
          </a:xfrm>
        </p:grpSpPr>
        <p:sp>
          <p:nvSpPr>
            <p:cNvPr id="409" name=""/>
            <p:cNvSpPr/>
            <p:nvPr/>
          </p:nvSpPr>
          <p:spPr>
            <a:xfrm flipH="1">
              <a:off x="3962160" y="1066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95680" y="9144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all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municates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ia SS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26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31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Cli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inClient uses an SSLSocket to transmit fake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formation to LoginServ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security.js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net.ss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li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gin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l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SSLSocket connection to server and send lo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obtain SSLSocketFactory for creating SSLSock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SLSocketFactory socket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SLSocketFactory ) SSLSocketFactory.getDefaul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SLSocket from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SLSocket socke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SSLSocket ) socketFactory.createSocke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PrintWriter for sending login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ntWriter out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Writ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treamWriter( socket.getOutputStrea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324480" y="4114800"/>
            <a:ext cx="2590920" cy="580680"/>
            <a:chOff x="6324480" y="4114800"/>
            <a:chExt cx="2590920" cy="580680"/>
          </a:xfrm>
        </p:grpSpPr>
        <p:sp>
          <p:nvSpPr>
            <p:cNvPr id="414" name=""/>
            <p:cNvSpPr/>
            <p:nvPr/>
          </p:nvSpPr>
          <p:spPr>
            <a:xfrm flipH="1">
              <a:off x="6324480" y="4267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SL socket fa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943600" y="4952880"/>
            <a:ext cx="2590920" cy="337320"/>
            <a:chOff x="5943600" y="4952880"/>
            <a:chExt cx="2590920" cy="337320"/>
          </a:xfrm>
        </p:grpSpPr>
        <p:sp>
          <p:nvSpPr>
            <p:cNvPr id="417" name=""/>
            <p:cNvSpPr/>
            <p:nvPr/>
          </p:nvSpPr>
          <p:spPr>
            <a:xfrm flipH="1">
              <a:off x="5943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7712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SL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400800" y="5715000"/>
            <a:ext cx="2590920" cy="337320"/>
            <a:chOff x="6400800" y="5715000"/>
            <a:chExt cx="2590920" cy="337320"/>
          </a:xfrm>
        </p:grpSpPr>
        <p:sp>
          <p:nvSpPr>
            <p:cNvPr id="420" name=""/>
            <p:cNvSpPr/>
            <p:nvPr/>
          </p:nvSpPr>
          <p:spPr>
            <a:xfrm flipH="1">
              <a:off x="64008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4320" y="57150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ut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municates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ia SS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51-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 5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Lines 61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mpt user for user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userName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User Nam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user name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println( user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mpt user for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password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Password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nd password to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println(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flus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BufferedReader for reading server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Reader inpu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Re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treamReader( socket.getInputStream 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response from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response = input.read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response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spon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ean up streams and SSLSock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ocket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114800" y="2362320"/>
            <a:ext cx="2819520" cy="337320"/>
            <a:chOff x="4114800" y="2362320"/>
            <a:chExt cx="2819520" cy="337320"/>
          </a:xfrm>
        </p:grpSpPr>
        <p:sp>
          <p:nvSpPr>
            <p:cNvPr id="425" name=""/>
            <p:cNvSpPr/>
            <p:nvPr/>
          </p:nvSpPr>
          <p:spPr>
            <a:xfrm flipH="1">
              <a:off x="411480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8320" y="23623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password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248160" y="3352680"/>
            <a:ext cx="2590920" cy="337320"/>
            <a:chOff x="6248160" y="3352680"/>
            <a:chExt cx="2590920" cy="337320"/>
          </a:xfrm>
        </p:grpSpPr>
        <p:sp>
          <p:nvSpPr>
            <p:cNvPr id="428" name=""/>
            <p:cNvSpPr/>
            <p:nvPr/>
          </p:nvSpPr>
          <p:spPr>
            <a:xfrm flipH="1">
              <a:off x="6248160" y="3505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81680" y="33526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952880" y="4038480"/>
            <a:ext cx="2590920" cy="337320"/>
            <a:chOff x="4952880" y="4038480"/>
            <a:chExt cx="2590920" cy="337320"/>
          </a:xfrm>
        </p:grpSpPr>
        <p:sp>
          <p:nvSpPr>
            <p:cNvPr id="431" name=""/>
            <p:cNvSpPr/>
            <p:nvPr/>
          </p:nvSpPr>
          <p:spPr>
            <a:xfrm flipH="1">
              <a:off x="495288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86400" y="40384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server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038480" y="1066680"/>
            <a:ext cx="2743200" cy="337320"/>
            <a:chOff x="4038480" y="1066680"/>
            <a:chExt cx="2743200" cy="337320"/>
          </a:xfrm>
        </p:grpSpPr>
        <p:sp>
          <p:nvSpPr>
            <p:cNvPr id="434" name=""/>
            <p:cNvSpPr/>
            <p:nvPr/>
          </p:nvSpPr>
          <p:spPr>
            <a:xfrm flipH="1">
              <a:off x="4038480" y="1219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2000" y="106668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 user name to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038480" y="5334120"/>
            <a:ext cx="2590920" cy="337320"/>
            <a:chOff x="4038480" y="5334120"/>
            <a:chExt cx="2590920" cy="337320"/>
          </a:xfrm>
        </p:grpSpPr>
        <p:sp>
          <p:nvSpPr>
            <p:cNvPr id="437" name=""/>
            <p:cNvSpPr/>
            <p:nvPr/>
          </p:nvSpPr>
          <p:spPr>
            <a:xfrm flipH="1">
              <a:off x="403848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0" y="53341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 all str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Fig. 7.2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Client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ommunicates wi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ginServ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ia SSL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ommunicating with 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oginCli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inCli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.1   Java Secure Socket Extension (JSSE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2" name="ssl_a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3" name="ssl_b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4" name="ssl_c" descr=""/>
          <p:cNvPicPr/>
          <p:nvPr/>
        </p:nvPicPr>
        <p:blipFill>
          <a:blip r:embed="rId3"/>
          <a:stretch/>
        </p:blipFill>
        <p:spPr>
          <a:xfrm>
            <a:off x="1523880" y="3809880"/>
            <a:ext cx="2571840" cy="1123920"/>
          </a:xfrm>
          <a:prstGeom prst="rect">
            <a:avLst/>
          </a:prstGeom>
          <a:ln w="0">
            <a:noFill/>
          </a:ln>
        </p:spPr>
      </p:pic>
      <p:pic>
        <p:nvPicPr>
          <p:cNvPr id="445" name="ssl_d" descr=""/>
          <p:cNvPicPr/>
          <p:nvPr/>
        </p:nvPicPr>
        <p:blipFill>
          <a:blip r:embed="rId4"/>
          <a:stretch/>
        </p:blipFill>
        <p:spPr>
          <a:xfrm>
            <a:off x="4572000" y="121932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6" name="ssl_e" descr=""/>
          <p:cNvPicPr/>
          <p:nvPr/>
        </p:nvPicPr>
        <p:blipFill>
          <a:blip r:embed="rId5"/>
          <a:stretch/>
        </p:blipFill>
        <p:spPr>
          <a:xfrm>
            <a:off x="4572000" y="2514600"/>
            <a:ext cx="2809800" cy="1209600"/>
          </a:xfrm>
          <a:prstGeom prst="rect">
            <a:avLst/>
          </a:prstGeom>
          <a:ln w="0">
            <a:noFill/>
          </a:ln>
        </p:spPr>
      </p:pic>
      <p:pic>
        <p:nvPicPr>
          <p:cNvPr id="447" name="ssl_f" descr=""/>
          <p:cNvPicPr/>
          <p:nvPr/>
        </p:nvPicPr>
        <p:blipFill>
          <a:blip r:embed="rId6"/>
          <a:stretch/>
        </p:blipFill>
        <p:spPr>
          <a:xfrm>
            <a:off x="4724280" y="3809880"/>
            <a:ext cx="2571840" cy="1123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065680" y="5423040"/>
            <a:ext cx="511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ample executions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in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4.1   Java Secure Socket Extension (JSSE)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L requir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certif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key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ytool –genkey –keystore SSLStore –alias SSL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keystore cont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inSer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Djavax.net.ssl.keyStore=SSLSto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avax.net.ssl.keyStorePassword=passwo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security.jsse.Logi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keystore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in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keystore cont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inCl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–Djavax.net.ssl.trustStore=SSLSto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Djavax.net.ssl.trustStorePassword=passwo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.deitel.advjhtp1.security.jsse.Login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uststore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Encryption Standard (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lock cip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creates bit groups from message and applies algorithm to whol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standard set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years, no loner considered sec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 Cracker Mach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ed to crack DE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DES (3DES) replaced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DES systems in row with unique secret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ced Encryption Standard (A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ew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tion Institute of Standards and Technology (NIST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 evaluat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A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5   Java Language Security and Secure Co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language provides security other languages l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JVM ensures memory beyond end of array not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ompiler performs security checks comp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do not read from uninitialized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modifiers ensure method access r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s illegal casts betwee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tecode ver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sures that byte codes do not perform illegal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5   Java Language Security and Secure Cod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VM performs remaining integrity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s remaining cast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-bounds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ass load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separ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s malicious code from interacting with saf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ccess permission checks while code is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   Secret-key Cryptography (cont.)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"/>
          <p:cNvSpPr/>
          <p:nvPr/>
        </p:nvSpPr>
        <p:spPr>
          <a:xfrm>
            <a:off x="1231560" y="4648320"/>
            <a:ext cx="65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ng and decrypting a message using a symmetric secret k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07_01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51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Kyle Lomeli</cp:lastModifiedBy>
  <dcterms:modified xsi:type="dcterms:W3CDTF">2002-01-31T15:22:03Z</dcterms:modified>
  <cp:revision>153</cp:revision>
  <dc:subject/>
  <dc:title>PowerPoint Presentation</dc:title>
</cp:coreProperties>
</file>