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88F8-F419-41E1-99DD-ED7BA48F8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ACC5-915E-49DD-B5CD-7DD414F05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E84D-7EEE-4D56-BE45-013AEA6EE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2B0E-02B1-4E24-92EF-61FC387CA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BDD3-5F22-428E-8D92-E0359AD49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BCBE-2F0A-4781-974F-1A7966DE2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54B8-F253-4EFB-BE64-40E01BF0A6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C7C5-8CB7-4FAD-8633-CBE57BCC34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16BE-F125-49D5-807E-3D32B4708D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E297-938A-452A-892F-44CBF57D9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611C-E7A2-4D28-A436-662437C39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0AFA-ABC9-4DB5-A9A6-5C34FC122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0CD5-DD66-4053-8828-533F92A5D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216C-7300-4816-B0B2-F0B84B18EF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0824-4C2C-4E08-ABC7-4A6198FA35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4575-95F1-4696-A357-43D90E5873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9A44-5E3F-44D9-94DF-2EDCBB1BB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CC87-90DC-4307-965E-297BFE953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0FD4-4796-4C68-BF3A-ABF2C770A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7969-265D-4283-B8FB-A5144B3D9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EF15-842C-425C-871F-07C8EB510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0A75-EF35-47DC-8292-08B3A2A4B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7CAC-2C6A-46F5-9466-AA2868AB6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70E5-44E3-4BB3-A200-3052F8B19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62A-8679-447E-A331-B73E2DD6C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C0F0-D8C9-4310-8A73-50A95E6B2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8: Peer-to-Peer Applications and JXTA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ient/Server and Peer-to-Peer 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entralized vs. Decentralized Network 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er Discovery and Search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Deitel Instant Messeng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Servic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Service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gistering the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nd Other Pe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roving Deitel Instant Messeng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Instant Messenger with Multicast Sock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gistering the Pe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inding Other Pe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8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JX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interaction between peer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-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hat all Peer to Peer apps must imp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s Message to pe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00240" y="2057400"/>
            <a:ext cx="3810240" cy="580680"/>
            <a:chOff x="4800240" y="2057400"/>
            <a:chExt cx="3810240" cy="580680"/>
          </a:xfrm>
        </p:grpSpPr>
        <p:sp>
          <p:nvSpPr>
            <p:cNvPr id="114" name=""/>
            <p:cNvSpPr/>
            <p:nvPr/>
          </p:nvSpPr>
          <p:spPr>
            <a:xfrm>
              <a:off x="5867280" y="20574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s send messages to peers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00240" y="2362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3200" y="762120"/>
            <a:ext cx="5410080" cy="990360"/>
            <a:chOff x="2743200" y="762120"/>
            <a:chExt cx="5410080" cy="990360"/>
          </a:xfrm>
        </p:grpSpPr>
        <p:sp>
          <p:nvSpPr>
            <p:cNvPr id="117" name=""/>
            <p:cNvSpPr/>
            <p:nvPr/>
          </p:nvSpPr>
          <p:spPr>
            <a:xfrm>
              <a:off x="5410080" y="762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es the interface for communicating between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743200" y="1066680"/>
              <a:ext cx="2666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an object for sending and receiving messages between peer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 represents an object that can be sent to an 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the sender and content of the 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808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( String messageSend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Cont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om = messageSend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 = message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onte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send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723920" y="990720"/>
            <a:ext cx="3886560" cy="761760"/>
            <a:chOff x="4723920" y="990720"/>
            <a:chExt cx="3886560" cy="761760"/>
          </a:xfrm>
        </p:grpSpPr>
        <p:sp>
          <p:nvSpPr>
            <p:cNvPr id="122" name=""/>
            <p:cNvSpPr/>
            <p:nvPr/>
          </p:nvSpPr>
          <p:spPr>
            <a:xfrm>
              <a:off x="5867280" y="990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must be serialized for delivery over R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723920" y="12952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04960" y="3352680"/>
            <a:ext cx="4876920" cy="824040"/>
            <a:chOff x="3504960" y="3352680"/>
            <a:chExt cx="4876920" cy="824040"/>
          </a:xfrm>
        </p:grpSpPr>
        <p:sp>
          <p:nvSpPr>
            <p:cNvPr id="125" name=""/>
            <p:cNvSpPr/>
            <p:nvPr/>
          </p:nvSpPr>
          <p:spPr>
            <a:xfrm>
              <a:off x="5867280" y="3352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takes as arguments the sender’s name and message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4960" y="3733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an object for sending and receiving messages between peers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nt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7   Defining the Service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implementation for our case stud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Impl implements IMServic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service side of IM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ringTokeniz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,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808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Service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MService constructor take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String 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38680" y="3200400"/>
            <a:ext cx="2819520" cy="580680"/>
            <a:chOff x="5638680" y="3200400"/>
            <a:chExt cx="2819520" cy="580680"/>
          </a:xfrm>
        </p:grpSpPr>
        <p:sp>
          <p:nvSpPr>
            <p:cNvPr id="134" name=""/>
            <p:cNvSpPr/>
            <p:nvPr/>
          </p:nvSpPr>
          <p:spPr>
            <a:xfrm>
              <a:off x="6705720" y="32004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servic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638680" y="35053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114440" y="5410080"/>
            <a:ext cx="4648680" cy="1143720"/>
            <a:chOff x="4114440" y="5410080"/>
            <a:chExt cx="4648680" cy="1143720"/>
          </a:xfrm>
        </p:grpSpPr>
        <p:sp>
          <p:nvSpPr>
            <p:cNvPr id="137" name=""/>
            <p:cNvSpPr/>
            <p:nvPr/>
          </p:nvSpPr>
          <p:spPr>
            <a:xfrm>
              <a:off x="6248520" y="5486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constructor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user’s name, which appear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114440" y="5410080"/>
              <a:ext cx="2133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implementation for our case stud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service 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MI reference to an IMPeer on the receiver s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connect( IMPeer sender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a GUI and IMPeerImpl to be sent to remot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Peer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PeerImpl 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.add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remote peer to my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.addPeer( sen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send my IMPeerImpl to hi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419360" y="1066680"/>
            <a:ext cx="4419720" cy="1067400"/>
            <a:chOff x="4419360" y="1066680"/>
            <a:chExt cx="4419720" cy="1067400"/>
          </a:xfrm>
        </p:grpSpPr>
        <p:sp>
          <p:nvSpPr>
            <p:cNvPr id="142" name=""/>
            <p:cNvSpPr/>
            <p:nvPr/>
          </p:nvSpPr>
          <p:spPr>
            <a:xfrm flipH="1">
              <a:off x="4419360" y="1600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7120" y="1066680"/>
              <a:ext cx="2361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eer sends reference of itself to second peer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2514600"/>
            <a:ext cx="5029200" cy="1066680"/>
            <a:chOff x="3733920" y="2514600"/>
            <a:chExt cx="5029200" cy="1066680"/>
          </a:xfrm>
        </p:grpSpPr>
        <p:sp>
          <p:nvSpPr>
            <p:cNvPr id="145" name=""/>
            <p:cNvSpPr/>
            <p:nvPr/>
          </p:nvSpPr>
          <p:spPr>
            <a:xfrm>
              <a:off x="6477120" y="25146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Peer stores first peer’s reference for use when conversation st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733920" y="289548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720" y="3886200"/>
            <a:ext cx="6324480" cy="580680"/>
            <a:chOff x="2133720" y="3886200"/>
            <a:chExt cx="6324480" cy="580680"/>
          </a:xfrm>
        </p:grpSpPr>
        <p:sp>
          <p:nvSpPr>
            <p:cNvPr id="148" name=""/>
            <p:cNvSpPr/>
            <p:nvPr/>
          </p:nvSpPr>
          <p:spPr>
            <a:xfrm>
              <a:off x="571500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peer returns reference of itself to first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133720" y="41911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Listener extends JFrame and provides GUI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ations with other pe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s for displaying and inputt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essage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inpu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ending messages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en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Name to add to outgo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eer to send messages to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remote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24280" y="3505320"/>
            <a:ext cx="3886200" cy="580680"/>
            <a:chOff x="4724280" y="3505320"/>
            <a:chExt cx="3886200" cy="580680"/>
          </a:xfrm>
        </p:grpSpPr>
        <p:sp>
          <p:nvSpPr>
            <p:cNvPr id="153" name=""/>
            <p:cNvSpPr/>
            <p:nvPr/>
          </p:nvSpPr>
          <p:spPr>
            <a:xfrm>
              <a:off x="6629400" y="35053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 for starting peer 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724280" y="3809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versation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and wrap words at end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essage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enter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p Enter key in inputArea area to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 keyMap = inputArea.getKey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Stroke enterKey = KeyStroke.getKeyStrok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.addActionForKeyStroke( enterKey, sen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inputArea and sendAction JButton in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box = Box.createVertical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inpu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sendA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an Instant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and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messag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 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(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 RMI reference to send a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Peer.send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tch error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nable to send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nd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Message uses SwingUntilities.invokeLa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ensure thread-safe access to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SenderName(), message.getConte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Displayer displays a new message by app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essage to the messageAre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on the event-disp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ead, as it modifies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Mess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00240" y="838080"/>
            <a:ext cx="4191480" cy="733320"/>
            <a:chOff x="4800240" y="838080"/>
            <a:chExt cx="4191480" cy="733320"/>
          </a:xfrm>
        </p:grpSpPr>
        <p:sp>
          <p:nvSpPr>
            <p:cNvPr id="162" name=""/>
            <p:cNvSpPr/>
            <p:nvPr/>
          </p:nvSpPr>
          <p:spPr>
            <a:xfrm>
              <a:off x="5486400" y="9907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800240" y="838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-to-peer (P2P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ode performs both client and serv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ion of processing responsi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that starts peer communication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7-1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U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Display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String from, String bod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omUser =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Body = 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 new message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romUs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Body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getText().length() )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ssageDisplayer inner cl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Peer takes IMPeer as ar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ociates IMPeer with sendAction to send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eer( IMPeer pe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tePeer = 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title of window to name of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remotePeer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19520" y="5333760"/>
            <a:ext cx="5715000" cy="1220040"/>
            <a:chOff x="2819520" y="5333760"/>
            <a:chExt cx="5715000" cy="1220040"/>
          </a:xfrm>
        </p:grpSpPr>
        <p:sp>
          <p:nvSpPr>
            <p:cNvPr id="167" name=""/>
            <p:cNvSpPr/>
            <p:nvPr/>
          </p:nvSpPr>
          <p:spPr>
            <a:xfrm>
              <a:off x="6019920" y="5486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reference to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et title of conversation window to the name of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3809520" y="533376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19520" y="5638320"/>
              <a:ext cx="320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191120" y="601992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e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s the IMPe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 outp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takes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String my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my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410080" y="2971800"/>
            <a:ext cx="2971800" cy="580680"/>
            <a:chOff x="5410080" y="2971800"/>
            <a:chExt cx="2971800" cy="580680"/>
          </a:xfrm>
        </p:grpSpPr>
        <p:sp>
          <p:nvSpPr>
            <p:cNvPr id="174" name=""/>
            <p:cNvSpPr/>
            <p:nvPr/>
          </p:nvSpPr>
          <p:spPr>
            <a:xfrm>
              <a:off x="6858000" y="2971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peer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410080" y="3276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Im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e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1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Listener( IMPeer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nd message to this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.display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ccessor fo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800600" y="1523520"/>
            <a:ext cx="4038480" cy="581040"/>
            <a:chOff x="4800600" y="1523520"/>
            <a:chExt cx="4038480" cy="581040"/>
          </a:xfrm>
        </p:grpSpPr>
        <p:sp>
          <p:nvSpPr>
            <p:cNvPr id="179" name=""/>
            <p:cNvSpPr/>
            <p:nvPr/>
          </p:nvSpPr>
          <p:spPr>
            <a:xfrm>
              <a:off x="5791320" y="15238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message to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00600" y="1523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486400" y="228600"/>
            <a:ext cx="3352680" cy="824040"/>
            <a:chOff x="5486400" y="228600"/>
            <a:chExt cx="3352680" cy="824040"/>
          </a:xfrm>
        </p:grpSpPr>
        <p:sp>
          <p:nvSpPr>
            <p:cNvPr id="182" name=""/>
            <p:cNvSpPr/>
            <p:nvPr/>
          </p:nvSpPr>
          <p:spPr>
            <a:xfrm>
              <a:off x="5943600" y="2286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n object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486400" y="4568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8   Registering the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bootstrap) service with pe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Manager uses JoinManager to find Lookup service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 the IMService with the Lookup service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nages lease renew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Joi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ServiceID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oinManager 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okupDiscoveryManager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rvic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takes name of the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( String screen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952520" y="5181480"/>
            <a:ext cx="3886560" cy="914400"/>
            <a:chOff x="4952520" y="5181480"/>
            <a:chExt cx="3886560" cy="914400"/>
          </a:xfrm>
        </p:grpSpPr>
        <p:sp>
          <p:nvSpPr>
            <p:cNvPr id="189" name=""/>
            <p:cNvSpPr/>
            <p:nvPr/>
          </p:nvSpPr>
          <p:spPr>
            <a:xfrm>
              <a:off x="6248520" y="518148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spec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520" y="5638680"/>
              <a:ext cx="1295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s the serviceName of thi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Name = screen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oinManager to register SeminarInfo servi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manag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DiscoveryManager for disco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me used from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Entry[] entries = new Entry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serviceName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inManager( createProxy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okupManag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handle exception creating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he LookupDiscoveryManager created by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getDiscoveryMana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57800" y="3581280"/>
            <a:ext cx="3657600" cy="824040"/>
            <a:chOff x="5257800" y="3581280"/>
            <a:chExt cx="3657600" cy="824040"/>
          </a:xfrm>
        </p:grpSpPr>
        <p:sp>
          <p:nvSpPr>
            <p:cNvPr id="194" name=""/>
            <p:cNvSpPr/>
            <p:nvPr/>
          </p:nvSpPr>
          <p:spPr>
            <a:xfrm>
              <a:off x="6172200" y="3581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ini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i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 to register the service with all known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25780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Im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lookup serv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Proxy for SeminarInfo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serviceName 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ServiceI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Notify( ServiceID service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ice 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ic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forms all lookup services that service is 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termin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9   Find Other Pe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GUI enabling user to find other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s ServiceManager, starts service 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lists all IM services in a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Templ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62160" y="5943600"/>
            <a:ext cx="4953240" cy="580680"/>
            <a:chOff x="3962160" y="5943600"/>
            <a:chExt cx="4953240" cy="580680"/>
          </a:xfrm>
        </p:grpSpPr>
        <p:sp>
          <p:nvSpPr>
            <p:cNvPr id="203" name=""/>
            <p:cNvSpPr/>
            <p:nvPr/>
          </p:nvSpPr>
          <p:spPr>
            <a:xfrm>
              <a:off x="6019920" y="5943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main window of the Deitel Instant Messen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62160" y="6248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7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e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peer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serviceItem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Manager service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Cache cach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 m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userName to anonym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iceDiscoveryManager fi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 service adds service proxy to service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s Service name to ListModel for J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Add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dded service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item = event.getPostEventServiceItem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 attributes[] = item.attributeS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terates through attributes to fin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ttributes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ttributes[ i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Items.add( item.service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ers.ad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( Name )attributes[ i ] ).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ice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method ignores seviceChanged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Chang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86040" y="2743200"/>
            <a:ext cx="3429360" cy="609480"/>
            <a:chOff x="5486040" y="2743200"/>
            <a:chExt cx="3429360" cy="609480"/>
          </a:xfrm>
        </p:grpSpPr>
        <p:sp>
          <p:nvSpPr>
            <p:cNvPr id="208" name=""/>
            <p:cNvSpPr/>
            <p:nvPr/>
          </p:nvSpPr>
          <p:spPr>
            <a:xfrm>
              <a:off x="6248520" y="274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vice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represents the added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86040" y="30481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09720" y="4572000"/>
            <a:ext cx="3505680" cy="824040"/>
            <a:chOff x="5409720" y="4572000"/>
            <a:chExt cx="3505680" cy="824040"/>
          </a:xfrm>
        </p:grpSpPr>
        <p:sp>
          <p:nvSpPr>
            <p:cNvPr id="211" name=""/>
            <p:cNvSpPr/>
            <p:nvPr/>
          </p:nvSpPr>
          <p:spPr>
            <a:xfrm>
              <a:off x="62485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rvice prox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-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09720" y="4952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2   Client/Server and Peer-to-Peer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Yahoo! search eng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offers common stores of program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access the data provided by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-to-peer (P2P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computers act as both client and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s services from PeerList GUI and data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en serviceRemoved even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moved( Service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PreEvent because item has been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PostEvent would return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item = event.getPreEventService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 attributes[ ] = item.attributeS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bu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Event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move from arraylist and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serviceItems.indexOf( item.serv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name of person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from Lis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Items.remove( index 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from Def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ers.elementAt( index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s.removeElementA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ice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er 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5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hange titl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user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s Peer List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 L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e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VisibleRow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onnec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 allow multiple sel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Selection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NGLE_SE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et up event handler for connec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Index = peerList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iceItems.get( item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Service peer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IMService )selected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05520" y="5486400"/>
            <a:ext cx="3809880" cy="824040"/>
            <a:chOff x="5105520" y="5486400"/>
            <a:chExt cx="3809880" cy="824040"/>
          </a:xfrm>
        </p:grpSpPr>
        <p:sp>
          <p:nvSpPr>
            <p:cNvPr id="218" name=""/>
            <p:cNvSpPr/>
            <p:nvPr/>
          </p:nvSpPr>
          <p:spPr>
            <a:xfrm>
              <a:off x="6781680" y="54864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ndex of selec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tem to 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095520" y="56383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05520" y="5943600"/>
              <a:ext cx="1676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4-1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nd info to remot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RMI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up gui and my pe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Listener 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Impl 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.addListener( gu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myGui to remote IMPe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 myPeer = peerProxy.connect( 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ui.addPeer( myPe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ing may cause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n't 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Button 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05520" y="1523880"/>
            <a:ext cx="3809880" cy="580680"/>
            <a:chOff x="5105520" y="1523880"/>
            <a:chExt cx="3809880" cy="580680"/>
          </a:xfrm>
        </p:grpSpPr>
        <p:sp>
          <p:nvSpPr>
            <p:cNvPr id="224" name=""/>
            <p:cNvSpPr/>
            <p:nvPr/>
          </p:nvSpPr>
          <p:spPr>
            <a:xfrm>
              <a:off x="6400800" y="1523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5410080" y="167616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105520" y="182880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343400" y="2590920"/>
            <a:ext cx="4572000" cy="824040"/>
            <a:chOff x="4343400" y="2590920"/>
            <a:chExt cx="4572000" cy="824040"/>
          </a:xfrm>
        </p:grpSpPr>
        <p:sp>
          <p:nvSpPr>
            <p:cNvPr id="228" name=""/>
            <p:cNvSpPr/>
            <p:nvPr/>
          </p:nvSpPr>
          <p:spPr>
            <a:xfrm>
              <a:off x="6248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post all messages sent by remote pe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4343400" y="2895480"/>
              <a:ext cx="1905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9-2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bout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about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Instant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LAI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about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Locator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federate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Loc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ederate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ederate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LookupService url to be 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loc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locator in th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m: jini://host:port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Locator newLoc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ca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95320" y="3352680"/>
            <a:ext cx="4191480" cy="1067040"/>
            <a:chOff x="4495320" y="3352680"/>
            <a:chExt cx="4191480" cy="1067040"/>
          </a:xfrm>
        </p:grpSpPr>
        <p:sp>
          <p:nvSpPr>
            <p:cNvPr id="233" name=""/>
            <p:cNvSpPr/>
            <p:nvPr/>
          </p:nvSpPr>
          <p:spPr>
            <a:xfrm>
              <a:off x="5791320" y="33526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dialog box to prompt user for Jini-lookup-service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95320" y="36576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365760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ake one element LookupLoca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Locator[] locators = { newLocator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because addLocators take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DiscoveryManager.addLocators( locato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URLException url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ur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federate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ow window 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w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SING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s from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Manag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9920" y="1371240"/>
            <a:ext cx="2666880" cy="2377800"/>
            <a:chOff x="6019920" y="1371240"/>
            <a:chExt cx="2666880" cy="2377800"/>
          </a:xfrm>
        </p:grpSpPr>
        <p:sp>
          <p:nvSpPr>
            <p:cNvPr id="239" name=""/>
            <p:cNvSpPr/>
            <p:nvPr/>
          </p:nvSpPr>
          <p:spPr>
            <a:xfrm>
              <a:off x="6248520" y="2438280"/>
              <a:ext cx="2438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 registers with newly added lookup service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ndow lists all other peers registered with new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6019920" y="137124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FixedCell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connec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peerList )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er list displays only other IM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IMServic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IMTempl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IMServiceManager, Service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Manager( userNam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LookupDiscoveryMana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d by IMService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Manager = myManager.getDiscovery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rviceDiscoveryManager uses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Discovery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DiscoveryManager( lookupDiscoveryManag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LookupCac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che = serviceDiscoveryManager.createLookupCach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Templa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1640" y="2971800"/>
            <a:ext cx="4343760" cy="1143000"/>
            <a:chOff x="4571640" y="2971800"/>
            <a:chExt cx="4343760" cy="1143000"/>
          </a:xfrm>
        </p:grpSpPr>
        <p:sp>
          <p:nvSpPr>
            <p:cNvPr id="244" name=""/>
            <p:cNvSpPr/>
            <p:nvPr/>
          </p:nvSpPr>
          <p:spPr>
            <a:xfrm>
              <a:off x="5791320" y="29718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ame th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71640" y="3276720"/>
              <a:ext cx="1219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GUI for finding pe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all exceptions and inform user of probl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manager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initializing IMServiceMa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 ServiceDisoveryMana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8" name="Fig%20Peer%20List%20Window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1857600" cy="1790640"/>
          </a:xfrm>
          <a:prstGeom prst="rect">
            <a:avLst/>
          </a:prstGeom>
          <a:ln w="0">
            <a:noFill/>
          </a:ln>
        </p:spPr>
      </p:pic>
      <p:pic>
        <p:nvPicPr>
          <p:cNvPr id="249" name="Fig%20sample%20conversatio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9047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0   Compiling and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Compil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ompile remote classes vi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tart HT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Start lookup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1   Improving Deitel Instant Messen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the number of service proxie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iceDiscovery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wn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ed sear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locating p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   Deitel Instant Messenger with Multicast Sock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P2P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ode must run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significant amounts of memory and processo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cast so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 and find peers i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2   Client/Server and Peer-to-Peer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6448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64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.1   Registering the Pe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d mechanism to register and find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must implement this mechanism via multicast so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SendingThrea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nds a multicast periodically containing a remote refere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IMService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gis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tAddress of group for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etAddress multicastNe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ocket for multicast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gram packet to be re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 multicastPa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ub of local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peerStub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lag for terminating MulticastSend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epSend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3760" y="2971800"/>
            <a:ext cx="3581640" cy="580680"/>
            <a:chOff x="5333760" y="2971800"/>
            <a:chExt cx="3581640" cy="580680"/>
          </a:xfrm>
        </p:grpSpPr>
        <p:sp>
          <p:nvSpPr>
            <p:cNvPr id="261" name=""/>
            <p:cNvSpPr/>
            <p:nvPr/>
          </p:nvSpPr>
          <p:spPr>
            <a:xfrm>
              <a:off x="6019920" y="29718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end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lticasts a peer’s pres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9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end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( String my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 to nam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Send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my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registry on default port 10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gistry regist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eRegistry.createRegist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Stu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erStub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ulticastSocket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SEND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TL for Multicast 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tTimeToLiv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InetAddress reserved for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 = InetAddress.getBy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greeting pa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gree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257440" y="2133720"/>
            <a:ext cx="3429360" cy="824040"/>
            <a:chOff x="5257440" y="2133720"/>
            <a:chExt cx="3429360" cy="824040"/>
          </a:xfrm>
        </p:grpSpPr>
        <p:sp>
          <p:nvSpPr>
            <p:cNvPr id="266" name=""/>
            <p:cNvSpPr/>
            <p:nvPr/>
          </p:nvSpPr>
          <p:spPr>
            <a:xfrm>
              <a:off x="6324480" y="21337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tantiate an RMI registry on po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0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257440" y="2590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57800" y="3048120"/>
            <a:ext cx="3352680" cy="732960"/>
            <a:chOff x="5257800" y="3048120"/>
            <a:chExt cx="3352680" cy="732960"/>
          </a:xfrm>
        </p:grpSpPr>
        <p:sp>
          <p:nvSpPr>
            <p:cNvPr id="269" name=""/>
            <p:cNvSpPr/>
            <p:nvPr/>
          </p:nvSpPr>
          <p:spPr>
            <a:xfrm>
              <a:off x="6095880" y="32004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Service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5257800" y="30481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19920" y="4800240"/>
            <a:ext cx="2971800" cy="809640"/>
            <a:chOff x="6019920" y="4800240"/>
            <a:chExt cx="2971800" cy="809640"/>
          </a:xfrm>
        </p:grpSpPr>
        <p:sp>
          <p:nvSpPr>
            <p:cNvPr id="272" name=""/>
            <p:cNvSpPr/>
            <p:nvPr/>
          </p:nvSpPr>
          <p:spPr>
            <a:xfrm>
              <a:off x="601992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nding messages to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095520" y="48002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eeting.getBytes(), greeting.getBytes().leng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NetAddre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ULTICAST_ADDRESS IS UNKNOWN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UnknownHostException unknownHost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_ADDRESS is unknow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knownHos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y othe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iver greeting message to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Send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iver gree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greeting pa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Socket.send( multicast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171840" y="457200"/>
            <a:ext cx="2819880" cy="580680"/>
            <a:chOff x="6171840" y="457200"/>
            <a:chExt cx="2819880" cy="580680"/>
          </a:xfrm>
        </p:grpSpPr>
        <p:sp>
          <p:nvSpPr>
            <p:cNvPr id="277" name=""/>
            <p:cNvSpPr/>
            <p:nvPr/>
          </p:nvSpPr>
          <p:spPr>
            <a:xfrm>
              <a:off x="6858000" y="457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essage packet containing peer’s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171840" y="762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486040" y="5334120"/>
            <a:ext cx="3277080" cy="580680"/>
            <a:chOff x="5486040" y="5334120"/>
            <a:chExt cx="3277080" cy="580680"/>
          </a:xfrm>
        </p:grpSpPr>
        <p:sp>
          <p:nvSpPr>
            <p:cNvPr id="280" name=""/>
            <p:cNvSpPr/>
            <p:nvPr/>
          </p:nvSpPr>
          <p:spPr>
            <a:xfrm>
              <a:off x="6705720" y="53341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 vi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486040" y="5638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3-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deliver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goodby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goodby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goodby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oodbye.getBytes(), goodbye.getBytes().leng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nd( multicast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rror multicas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Say Goodbye“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81120" y="3809880"/>
            <a:ext cx="3734280" cy="1067040"/>
            <a:chOff x="5181120" y="3809880"/>
            <a:chExt cx="3734280" cy="1067040"/>
          </a:xfrm>
        </p:grpSpPr>
        <p:sp>
          <p:nvSpPr>
            <p:cNvPr id="285" name=""/>
            <p:cNvSpPr/>
            <p:nvPr/>
          </p:nvSpPr>
          <p:spPr>
            <a:xfrm>
              <a:off x="63244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 indicating that the peer is leav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5714640" y="38098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181120" y="42670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Send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gram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binding may cause many possib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unbind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bind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epSend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Consta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Deitel-Instant-Messenger consta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Constant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constants used by IM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28.5.6.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local machine for broadcas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SEND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local machine for receiving broadca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RECEIV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rt on multicast ip address to send packe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LISTEN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IM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ODBY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ime in milliseconds to wait between each multi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w many MUTLICAST_INTERVALS before LEASE EXPI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ER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866920" y="2361960"/>
            <a:ext cx="3124800" cy="2590920"/>
            <a:chOff x="5866920" y="2361960"/>
            <a:chExt cx="3124800" cy="2590920"/>
          </a:xfrm>
        </p:grpSpPr>
        <p:sp>
          <p:nvSpPr>
            <p:cNvPr id="293" name=""/>
            <p:cNvSpPr/>
            <p:nvPr/>
          </p:nvSpPr>
          <p:spPr>
            <a:xfrm>
              <a:off x="7086600" y="2819520"/>
              <a:ext cx="1905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ition of several constants used in the multicast-socket version of Deitel Instant Messen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6920" y="3505320"/>
              <a:ext cx="1219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6019560" y="2361960"/>
              <a:ext cx="1066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0958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2.2   Finding Other Pe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ed new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d peers that left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ReceivingThrea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and process multicasts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.Peer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containing peer names and time to 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d to implement lea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 peerTTLMa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easingThread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 leasingThrea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that will respond to peer added or remov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 peer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Socket for receiving broadcast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 multicast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tAddress of group for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etAddress multicastNe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lag for terminating MulticastReceiv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epListen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9720" y="1828800"/>
            <a:ext cx="3429360" cy="1310760"/>
            <a:chOff x="5409720" y="1828800"/>
            <a:chExt cx="3429360" cy="1310760"/>
          </a:xfrm>
        </p:grpSpPr>
        <p:sp>
          <p:nvSpPr>
            <p:cNvPr id="302" name=""/>
            <p:cNvSpPr/>
            <p:nvPr/>
          </p:nvSpPr>
          <p:spPr>
            <a:xfrm>
              <a:off x="6248520" y="1828800"/>
              <a:ext cx="25905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Receiving-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contain notifications of peers joining and leav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09720" y="243828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8-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9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Receiv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( String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DiscoveryListener peerEventHandl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 to nam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ulticastReceiv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eer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DiscoveryListener = peerEvent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MulticastSocket to multicast address and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ock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RECEIVING_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Net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etAddress.getBy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ADDR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join multicast group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joinGroup( multicastNet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5 second time-out when waiting for new pa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setSoTime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multicas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TTLMa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easing thread which decrements TTL of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.setDaem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172200" y="2286000"/>
            <a:ext cx="2666880" cy="824040"/>
            <a:chOff x="6172200" y="2286000"/>
            <a:chExt cx="2666880" cy="824040"/>
          </a:xfrm>
        </p:grpSpPr>
        <p:sp>
          <p:nvSpPr>
            <p:cNvPr id="307" name=""/>
            <p:cNvSpPr/>
            <p:nvPr/>
          </p:nvSpPr>
          <p:spPr>
            <a:xfrm>
              <a:off x="6705720" y="228600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join 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172200" y="2743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95680" y="6095880"/>
            <a:ext cx="4267440" cy="580680"/>
            <a:chOff x="4495680" y="6095880"/>
            <a:chExt cx="4267440" cy="580680"/>
          </a:xfrm>
        </p:grpSpPr>
        <p:sp>
          <p:nvSpPr>
            <p:cNvPr id="310" name=""/>
            <p:cNvSpPr/>
            <p:nvPr/>
          </p:nvSpPr>
          <p:spPr>
            <a:xfrm>
              <a:off x="6477120" y="6095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eas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deamon th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495680" y="64008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3   Centralized vs. Decentralized Network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akness: dependency on central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entral server fails, so does the entir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ntralize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dependency on single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node fails, the application can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ingThread.start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ulticastReceivingThrea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messages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keepListen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 for incom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atagramPacket for incom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gramPacket pack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gramPacket( buff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SSAGE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new DatagramPacket (blocking call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ulticastSocket.receive( pack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receive times 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IOException interrupted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ntinue to next iteration to keep liste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ading packet from multicast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876920" y="2819160"/>
            <a:ext cx="3962160" cy="838440"/>
            <a:chOff x="4876920" y="2819160"/>
            <a:chExt cx="3962160" cy="838440"/>
          </a:xfrm>
        </p:grpSpPr>
        <p:sp>
          <p:nvSpPr>
            <p:cNvPr id="315" name=""/>
            <p:cNvSpPr/>
            <p:nvPr/>
          </p:nvSpPr>
          <p:spPr>
            <a:xfrm>
              <a:off x="61722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76920" y="33526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334120" y="28191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8-1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5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ut message data into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packet.getData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cket.getOffset(), packet.get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non-null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trim extra whitespace from end of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 = message.tri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cide if goodbye or hell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essage.start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cessHell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ssag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LO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()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acket.getAddress().getHost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.start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cessGoodbye( message.sub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OODBYE_HEA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eave multicast group and close Multicast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leaveGroup( multicastNet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562720" y="380880"/>
            <a:ext cx="3429000" cy="580680"/>
            <a:chOff x="5562720" y="380880"/>
            <a:chExt cx="3429000" cy="580680"/>
          </a:xfrm>
        </p:grpSpPr>
        <p:sp>
          <p:nvSpPr>
            <p:cNvPr id="321" name=""/>
            <p:cNvSpPr/>
            <p:nvPr/>
          </p:nvSpPr>
          <p:spPr>
            <a:xfrm>
              <a:off x="6324480" y="380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message stored in receiv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gramPa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62720" y="685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714640" y="2819520"/>
            <a:ext cx="3277080" cy="1066680"/>
            <a:chOff x="5714640" y="2819520"/>
            <a:chExt cx="3277080" cy="1066680"/>
          </a:xfrm>
        </p:grpSpPr>
        <p:sp>
          <p:nvSpPr>
            <p:cNvPr id="324" name=""/>
            <p:cNvSpPr/>
            <p:nvPr/>
          </p:nvSpPr>
          <p:spPr>
            <a:xfrm>
              <a:off x="6477120" y="2819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message is “hello” or “goodby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790960" y="312408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714640" y="28195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95880" y="5486400"/>
            <a:ext cx="2743200" cy="580680"/>
            <a:chOff x="6095880" y="5486400"/>
            <a:chExt cx="2743200" cy="580680"/>
          </a:xfrm>
        </p:grpSpPr>
        <p:sp>
          <p:nvSpPr>
            <p:cNvPr id="328" name=""/>
            <p:cNvSpPr/>
            <p:nvPr/>
          </p:nvSpPr>
          <p:spPr>
            <a:xfrm>
              <a:off x="6705720" y="54864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subscribe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880" y="57913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2-1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eaving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hello message from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Hello( String pe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gistryAddress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ryAddress +=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BINDING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t is a new peer, call peerAdded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peerTTLMap.containsKey( pe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erDiscoveryListener.peerAdded( pe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yAddress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o map or if present, refresh TT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TTLMap.put( pe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ER_TT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goodbye message from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Goodbye( String pe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pe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.containsKey( pe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peerDiscoveryListener.peerRemoved(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866920" y="3200400"/>
            <a:ext cx="3124800" cy="337320"/>
            <a:chOff x="5866920" y="3200400"/>
            <a:chExt cx="3124800" cy="337320"/>
          </a:xfrm>
        </p:grpSpPr>
        <p:sp>
          <p:nvSpPr>
            <p:cNvPr id="333" name=""/>
            <p:cNvSpPr/>
            <p:nvPr/>
          </p:nvSpPr>
          <p:spPr>
            <a:xfrm>
              <a:off x="6629400" y="3200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eer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866920" y="3352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790960" y="6248520"/>
            <a:ext cx="3200760" cy="337320"/>
            <a:chOff x="5790960" y="6248520"/>
            <a:chExt cx="3200760" cy="337320"/>
          </a:xfrm>
        </p:grpSpPr>
        <p:sp>
          <p:nvSpPr>
            <p:cNvPr id="336" name=""/>
            <p:cNvSpPr/>
            <p:nvPr/>
          </p:nvSpPr>
          <p:spPr>
            <a:xfrm>
              <a:off x="6324480" y="6248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peer to RMI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790960" y="6400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peerTTLMap.remove( pe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iodically decrements the TTL of peers li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ingThrea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Listen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ULTICAST_INTER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terruptedException may interrupt Thread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ck hashmap while decrementing TT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TTLMap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ecrement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 peer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eerTTLMap.entrySet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eer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ake new TTL of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ap.Entry tempMapEnt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Map.Entry ) peer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560" y="1143000"/>
            <a:ext cx="3886560" cy="580680"/>
            <a:chOff x="4876560" y="1143000"/>
            <a:chExt cx="3886560" cy="580680"/>
          </a:xfrm>
        </p:grpSpPr>
        <p:sp>
          <p:nvSpPr>
            <p:cNvPr id="341" name=""/>
            <p:cNvSpPr/>
            <p:nvPr/>
          </p:nvSpPr>
          <p:spPr>
            <a:xfrm>
              <a:off x="6019920" y="1143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iodically decrement TTL of each pe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TTL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876560" y="144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6-2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ger tempIntegerTT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Integer ) tempMapEntry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IntTTL = tempIntegerTTL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ecrement TT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empIntTTL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if lease expired, remove 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mpIntTTL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DiscoveryListener.peerRemov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( String ) tempMapEntry.getKe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eerIterato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otherwise set TTL of peer to new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empMapEntry.setValu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tempIntTT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iterating through pe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in run metho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Leasing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419720" y="1371600"/>
            <a:ext cx="4495680" cy="824040"/>
            <a:chOff x="4419720" y="1371600"/>
            <a:chExt cx="4495680" cy="824040"/>
          </a:xfrm>
        </p:grpSpPr>
        <p:sp>
          <p:nvSpPr>
            <p:cNvPr id="346" name=""/>
            <p:cNvSpPr/>
            <p:nvPr/>
          </p:nvSpPr>
          <p:spPr>
            <a:xfrm>
              <a:off x="6629400" y="13716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peer’s lease has expired, remove that pe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TTL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19720" y="18288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91320" y="182880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threads to add and remove pe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top listening for multica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u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terminate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epListen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s for when peers are added and removed from peer group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Discovery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for listening to peerAdded or peerRemov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eer with given name and ip addre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Added( String name, String peerStub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eer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Removed( String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1752120"/>
            <a:ext cx="4191120" cy="1677600"/>
            <a:chOff x="4495680" y="1752120"/>
            <a:chExt cx="4191120" cy="1677600"/>
          </a:xfrm>
        </p:grpSpPr>
        <p:sp>
          <p:nvSpPr>
            <p:cNvPr id="354" name=""/>
            <p:cNvSpPr/>
            <p:nvPr/>
          </p:nvSpPr>
          <p:spPr>
            <a:xfrm>
              <a:off x="601992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Discovery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 peer has entered, or has been removed from, the 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495680" y="228564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800240" y="175212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er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s broadcasting and receiving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lists all IM peers in a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2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.IM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client.IMPeer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Imp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DiscoveryListener, IMConstant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userName to anonym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 multicastSen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 multicastRecei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eerNames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eer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peerStubAddresses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eer st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038120" y="4343400"/>
            <a:ext cx="4800960" cy="824040"/>
            <a:chOff x="4038120" y="4343400"/>
            <a:chExt cx="4800960" cy="824040"/>
          </a:xfrm>
        </p:grpSpPr>
        <p:sp>
          <p:nvSpPr>
            <p:cNvPr id="360" name=""/>
            <p:cNvSpPr/>
            <p:nvPr/>
          </p:nvSpPr>
          <p:spPr>
            <a:xfrm>
              <a:off x="5638680" y="43434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ulticastReceivingThre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Discovery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038120" y="4724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-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peerJ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eer name and peer stub to l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Added( String name, String peerStub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ame to peer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.addElemen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tub to peerStub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.add( peerStubAddress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er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s services from PeerList GUI and data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Removed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name from peer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peerNames.indexOf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.removeElementA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tub from peerStub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.remove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er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er 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800240" y="1066680"/>
            <a:ext cx="3734280" cy="1190520"/>
            <a:chOff x="4800240" y="1066680"/>
            <a:chExt cx="3734280" cy="1190520"/>
          </a:xfrm>
        </p:grpSpPr>
        <p:sp>
          <p:nvSpPr>
            <p:cNvPr id="365" name=""/>
            <p:cNvSpPr/>
            <p:nvPr/>
          </p:nvSpPr>
          <p:spPr>
            <a:xfrm>
              <a:off x="6019920" y="1676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-Add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peers to 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4800240" y="106668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419360" y="3200040"/>
            <a:ext cx="4038840" cy="1053000"/>
            <a:chOff x="4419360" y="3200040"/>
            <a:chExt cx="4038840" cy="1053000"/>
          </a:xfrm>
        </p:grpSpPr>
        <p:sp>
          <p:nvSpPr>
            <p:cNvPr id="368" name=""/>
            <p:cNvSpPr/>
            <p:nvPr/>
          </p:nvSpPr>
          <p:spPr>
            <a:xfrm>
              <a:off x="6324480" y="3429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erRemo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peers from 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419360" y="3200040"/>
              <a:ext cx="1904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2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titl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user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s Peer List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List data struc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StubAddress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eerNam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VisibleRow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onnec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llow multiple sel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Selection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NGLE_SE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event handler for connec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Index = peerJList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stub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String ) peerStubAddresses.get( item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RMI reference to IMService and IMPe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Service peerStub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IMService ) Naming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tub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190760" y="3505320"/>
            <a:ext cx="4572360" cy="337320"/>
            <a:chOff x="4190760" y="3505320"/>
            <a:chExt cx="4572360" cy="337320"/>
          </a:xfrm>
        </p:grpSpPr>
        <p:sp>
          <p:nvSpPr>
            <p:cNvPr id="373" name=""/>
            <p:cNvSpPr/>
            <p:nvPr/>
          </p:nvSpPr>
          <p:spPr>
            <a:xfrm>
              <a:off x="5715000" y="35053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handler for connecting p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1907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67080" y="5638680"/>
            <a:ext cx="4648320" cy="457200"/>
            <a:chOff x="4267080" y="5638680"/>
            <a:chExt cx="4648320" cy="457200"/>
          </a:xfrm>
        </p:grpSpPr>
        <p:sp>
          <p:nvSpPr>
            <p:cNvPr id="376" name=""/>
            <p:cNvSpPr/>
            <p:nvPr/>
          </p:nvSpPr>
          <p:spPr>
            <a:xfrm>
              <a:off x="6095880" y="563868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remote 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267080" y="579132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4   Peer Discovery and Search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ing peers in 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entralizing an application often slows peer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er sends search criteria to several nearby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ing performed by several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up gui and my pe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Listener 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Listener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Impl 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Impl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.addListener( gu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myGui to remote IMPe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Peer myPeer = peerStub.connect( 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ui.addPeer( myPe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malformedURL passed to look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ub address incorrectly format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te object not bound to remote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NotBoundException notBoun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 object not present in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otBoun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onnecting may cause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n't 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Button 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bout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about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Item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Peer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Instant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LAI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about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1-1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ow window 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w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SING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s from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ulticastSend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ulticastReceiver.log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join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Sender.jo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Receiver.jo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JList.setFixedCell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connec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peerJList ) 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95680" y="2362320"/>
            <a:ext cx="4191120" cy="580680"/>
            <a:chOff x="4495680" y="2362320"/>
            <a:chExt cx="4191120" cy="580680"/>
          </a:xfrm>
        </p:grpSpPr>
        <p:sp>
          <p:nvSpPr>
            <p:cNvPr id="385" name=""/>
            <p:cNvSpPr/>
            <p:nvPr/>
          </p:nvSpPr>
          <p:spPr>
            <a:xfrm>
              <a:off x="6019920" y="2362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 each thread before closing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4495680" y="2362320"/>
              <a:ext cx="1524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the user of clas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lticast-Receiving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erDiscovery-Liste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eitel Instant Messenger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Recei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ReceivingThread( user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Receiv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e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SendingThread( userNam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ulticastSend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all exceptions and inform user of probl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manag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initializing MulticastSend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 MulticastReceivingTh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 peer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er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erlist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3   Introduction to JXT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X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that promotes interoperability among P2P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, platform-independent and language-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s to solve problems of P2P applic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/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In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 In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13   Introduction to JXTA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5800" y="1371600"/>
          <a:ext cx="776448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4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5   Case Study: Deitel Instant Messen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tel Instant Messe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2P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Jini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ootstr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gister) users onto the P2P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8.5   Case Study: Deitel Instant Messeng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Fig%20Peer%20List%20Window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1857600" cy="1790640"/>
          </a:xfrm>
          <a:prstGeom prst="rect">
            <a:avLst/>
          </a:prstGeom>
          <a:ln w="0">
            <a:noFill/>
          </a:ln>
        </p:spPr>
      </p:pic>
      <p:pic>
        <p:nvPicPr>
          <p:cNvPr id="104" name="Fig%20sample%20conversation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1905120" cy="2266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66400" y="4648320"/>
            <a:ext cx="48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8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windows of Deitel Instant Messen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8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how service proxy interacts with the servi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ervice interface defines th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ugh which th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unicates with the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IM.IMPe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RMI reference to a remote IMPe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eer connect( IMPeer send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360" y="2819520"/>
            <a:ext cx="4343760" cy="580680"/>
            <a:chOff x="4419360" y="2819520"/>
            <a:chExt cx="4343760" cy="580680"/>
          </a:xfrm>
        </p:grpSpPr>
        <p:sp>
          <p:nvSpPr>
            <p:cNvPr id="109" name=""/>
            <p:cNvSpPr/>
            <p:nvPr/>
          </p:nvSpPr>
          <p:spPr>
            <a:xfrm>
              <a:off x="6019920" y="2819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users to send a remote reference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3124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9:26Z</dcterms:modified>
  <cp:revision>136</cp:revision>
  <dc:subject/>
  <dc:title>Chapter 28: Peer-to-Peer Applications and JXTA</dc:title>
</cp:coreProperties>
</file>