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9.wmf" ContentType="image/x-wmf"/>
  <Override PartName="/ppt/media/image14.png" ContentType="image/png"/>
  <Override PartName="/ppt/media/image27.png" ContentType="image/png"/>
  <Override PartName="/ppt/media/image12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6.png" ContentType="image/png"/>
  <Override PartName="/ppt/media/image33.png" ContentType="image/png"/>
  <Override PartName="/ppt/media/image34.png" ContentType="image/png"/>
  <Override PartName="/ppt/media/image7.png" ContentType="image/png"/>
  <Override PartName="/ppt/media/image15.wmf" ContentType="image/x-wmf"/>
  <Override PartName="/ppt/media/image35.wmf" ContentType="image/x-wmf"/>
  <Override PartName="/ppt/media/image36.wmf" ContentType="image/x-wmf"/>
  <Override PartName="/ppt/media/image16.png" ContentType="image/png"/>
  <Override PartName="/ppt/media/image11.png" ContentType="image/png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60D4-31F1-487E-A13C-D1ADC9875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DAC7-ABAA-47E8-B2E9-9CEFB67A0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754A-C8FB-4E28-A08A-3586637CF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9042-E2A7-4D3C-8E87-3AA77D8EC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248D-3429-4478-97D0-F93594939B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DE41-45C9-43FA-8BC3-65AEE77BD7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3306-9F45-4891-821B-B4DB318D30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93D7-22D5-4FC7-8F54-9EE1290F88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8ED5-8F21-4087-8D45-AEBBBAA782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B428-DCFD-4557-8319-E9C7190BDF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BB6C-FE07-4FA2-93AD-D18F5E7F2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CF03-F951-4F2C-9162-2572179A3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515A-3773-40C2-AEF1-361AFF383D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9350-04F0-405F-80C0-B470E7F45A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06F4-2536-4F63-872A-AC594BE6FB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C662-8FC4-4C56-9881-F6537D20FE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3FFA-5D6B-4CA6-81C6-3579D42C6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950B-51DD-49BD-9B82-E4331E884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E80F-D3C9-406F-9D11-7CC4D0FC3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2676-2F22-486B-AA58-0D05C45F0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D736-9B49-4907-8885-C6210567D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FA11-883C-437D-AA16-35C84A1BF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3E0C-0C91-484F-A0DE-72C90FB5E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2E8E-6ADA-49D1-A734-EED570A9D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739-1E85-4829-84B0-06DFE064B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1A01-DA4F-4B7F-854F-341190032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9: Servlet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rvlet Overview and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face Servlet and the Servlet Life Cyc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ttpServlet 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ttpServletRequest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2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ttpServletResponse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andling HTTP get Reques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tting Up the Apache Tomcat Serv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ploying a Web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andling HTTP get Requests Containing Dat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andling HTTP post Reques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directing Requests to Other Resour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ssion Track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ok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ssion Tracking with HttpSess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-Tier Applications: Using JDBC from a Servl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ttpUtils 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Reque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Respons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ServletRespon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s it to the 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Respons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 Handling HTTP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que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 the content of a UR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rvlet handles HTT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5 WelcomeServlet that responds to a simple HTTP get reque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-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5: Welcome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imple servlet to process get reques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"get" requests from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p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A Simple Servlet Example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838080"/>
            <a:ext cx="3276360" cy="580680"/>
            <a:chOff x="2895480" y="838080"/>
            <a:chExt cx="3276360" cy="580680"/>
          </a:xfrm>
        </p:grpSpPr>
        <p:sp>
          <p:nvSpPr>
            <p:cNvPr id="120" name=""/>
            <p:cNvSpPr/>
            <p:nvPr/>
          </p:nvSpPr>
          <p:spPr>
            <a:xfrm>
              <a:off x="3597120" y="838080"/>
              <a:ext cx="2574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or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vax.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vax.servlet.htt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ck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895480" y="114300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181480" y="1523880"/>
            <a:ext cx="2971800" cy="824040"/>
            <a:chOff x="5181480" y="1523880"/>
            <a:chExt cx="2971800" cy="824040"/>
          </a:xfrm>
        </p:grpSpPr>
        <p:sp>
          <p:nvSpPr>
            <p:cNvPr id="123" name=""/>
            <p:cNvSpPr/>
            <p:nvPr/>
          </p:nvSpPr>
          <p:spPr>
            <a:xfrm>
              <a:off x="5817960" y="1523880"/>
              <a:ext cx="233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handle HTTP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 and HTTP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ques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181480" y="18288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3920" y="2209680"/>
            <a:ext cx="3886560" cy="580680"/>
            <a:chOff x="4723920" y="2209680"/>
            <a:chExt cx="3886560" cy="580680"/>
          </a:xfrm>
        </p:grpSpPr>
        <p:sp>
          <p:nvSpPr>
            <p:cNvPr id="126" name=""/>
            <p:cNvSpPr/>
            <p:nvPr/>
          </p:nvSpPr>
          <p:spPr>
            <a:xfrm>
              <a:off x="5556600" y="2209680"/>
              <a:ext cx="305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custom get request process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723920" y="25146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876920" y="2819520"/>
            <a:ext cx="3961800" cy="1067400"/>
            <a:chOff x="4876920" y="2819520"/>
            <a:chExt cx="3961800" cy="1067400"/>
          </a:xfrm>
        </p:grpSpPr>
        <p:sp>
          <p:nvSpPr>
            <p:cNvPr id="129" name=""/>
            <p:cNvSpPr/>
            <p:nvPr/>
          </p:nvSpPr>
          <p:spPr>
            <a:xfrm>
              <a:off x="5726520" y="2819520"/>
              <a:ext cx="3112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Content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specify the content type of the data to be sent as the response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876920" y="312408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00600" y="2971800"/>
            <a:ext cx="4266720" cy="1067400"/>
            <a:chOff x="4800600" y="2971800"/>
            <a:chExt cx="4266720" cy="1067400"/>
          </a:xfrm>
        </p:grpSpPr>
        <p:sp>
          <p:nvSpPr>
            <p:cNvPr id="132" name=""/>
            <p:cNvSpPr/>
            <p:nvPr/>
          </p:nvSpPr>
          <p:spPr>
            <a:xfrm>
              <a:off x="5714280" y="297180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obtain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enables the servlet to send content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800600" y="32767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181480" y="3886200"/>
            <a:ext cx="3428640" cy="824040"/>
            <a:chOff x="5181480" y="3886200"/>
            <a:chExt cx="3428640" cy="824040"/>
          </a:xfrm>
        </p:grpSpPr>
        <p:sp>
          <p:nvSpPr>
            <p:cNvPr id="135" name=""/>
            <p:cNvSpPr/>
            <p:nvPr/>
          </p:nvSpPr>
          <p:spPr>
            <a:xfrm>
              <a:off x="5916600" y="3886200"/>
              <a:ext cx="2693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XHTML document by writing strings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l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81480" y="41911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5 WelcomeServlet that responds to a simple HTTP get reques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Welcome to Servlets!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 to complete th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866920" y="1295280"/>
            <a:ext cx="3124440" cy="1067400"/>
            <a:chOff x="5866920" y="1295280"/>
            <a:chExt cx="3124440" cy="1067400"/>
          </a:xfrm>
        </p:grpSpPr>
        <p:sp>
          <p:nvSpPr>
            <p:cNvPr id="140" name=""/>
            <p:cNvSpPr/>
            <p:nvPr/>
          </p:nvSpPr>
          <p:spPr>
            <a:xfrm>
              <a:off x="6535080" y="1295280"/>
              <a:ext cx="2456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s the output stream, flushes the output buffer and sends the information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6920" y="16002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6 HTML document in which the form’s action invokes WelcomeServlet through the alias welcome1 specified in web.xml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6: WelcomeServlet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ing an HTTP Get Reques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welcome1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labe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the button to invoke the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 HTML Docu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label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6 HTML document in which the form’s action invokes WelcomeServlet through the alias welcome1 specified in web.xm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welcome1a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4391280" cy="2266920"/>
          </a:xfrm>
          <a:prstGeom prst="rect">
            <a:avLst/>
          </a:prstGeom>
          <a:ln w="0">
            <a:noFill/>
          </a:ln>
        </p:spPr>
      </p:pic>
      <p:pic>
        <p:nvPicPr>
          <p:cNvPr id="146" name="welcome1b" descr=""/>
          <p:cNvPicPr/>
          <p:nvPr/>
        </p:nvPicPr>
        <p:blipFill>
          <a:blip r:embed="rId2"/>
          <a:stretch/>
        </p:blipFill>
        <p:spPr>
          <a:xfrm>
            <a:off x="1752480" y="3657600"/>
            <a:ext cx="4391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1 Setting Up the Apache Tomcat 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Tomcat (version 3.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karta.apache.org/builds/jakarta-tomcat/release/v3.2.3/bin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environment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_H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MCAT_H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he Tomca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mcat 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 the Tomca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ttp://localhost:8080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1 Setting Up the Apache Tomcat Server (Cont.).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0" name="tomcathome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572080" cy="494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5040" y="6172200"/>
            <a:ext cx="794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9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cat documentation home page. (Courtesy of The Apache Software Foundation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networking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cket-based and packet-based 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Method Invocation (RM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r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s and Java Server Pages (JS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-respons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.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.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x.servlet.tag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the Web tier of J2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2 Deploying a Web Applic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SPs, servlets and their supporting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ing a Web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ory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xt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application archive file (WAR fi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loyment descri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.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2 Deploying a Web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9 Deployment descriptor (web.xml) for the advjhtp1 Web appl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-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0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web-app PUBL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-//Sun Microsystems, Inc.//DTD Web Application 2.2//E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java.sun.com/j2ee/dtds/web-app_2_2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web-ap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General description of your Web application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isplay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vanced Java How to Program JS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d Servlet Chapter Examp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isplay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is is the Web application in which w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monstrate our JSP and Servlet examp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ervlet definition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 simple servlet that handles an HTTP get reque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descri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m.deitel.advjhtp1.servlets.Welcome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servlet-clas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erv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00200" y="762120"/>
            <a:ext cx="4800240" cy="824040"/>
            <a:chOff x="1600200" y="762120"/>
            <a:chExt cx="4800240" cy="824040"/>
          </a:xfrm>
        </p:grpSpPr>
        <p:sp>
          <p:nvSpPr>
            <p:cNvPr id="160" name=""/>
            <p:cNvSpPr/>
            <p:nvPr/>
          </p:nvSpPr>
          <p:spPr>
            <a:xfrm>
              <a:off x="2628360" y="762120"/>
              <a:ext cx="3772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-a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es the configuration of each servlet in the Web application and the servlet mapping for each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600200" y="1066680"/>
              <a:ext cx="10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90760" y="1523880"/>
            <a:ext cx="4114800" cy="1067400"/>
            <a:chOff x="4190760" y="1523880"/>
            <a:chExt cx="4114800" cy="1067400"/>
          </a:xfrm>
        </p:grpSpPr>
        <p:sp>
          <p:nvSpPr>
            <p:cNvPr id="163" name=""/>
            <p:cNvSpPr/>
            <p:nvPr/>
          </p:nvSpPr>
          <p:spPr>
            <a:xfrm>
              <a:off x="5072400" y="1523880"/>
              <a:ext cx="3233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a name that can be displayed to the administrator of the server on which the Web application is inst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190760" y="182880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952880" y="2438280"/>
            <a:ext cx="4038840" cy="1067400"/>
            <a:chOff x="4952880" y="2438280"/>
            <a:chExt cx="4038840" cy="1067400"/>
          </a:xfrm>
        </p:grpSpPr>
        <p:sp>
          <p:nvSpPr>
            <p:cNvPr id="166" name=""/>
            <p:cNvSpPr/>
            <p:nvPr/>
          </p:nvSpPr>
          <p:spPr>
            <a:xfrm>
              <a:off x="5817960" y="2438280"/>
              <a:ext cx="3173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a description of the Web application that might be displayed to the administrator of the ser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952880" y="274320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828440" y="3429000"/>
            <a:ext cx="3794400" cy="337320"/>
            <a:chOff x="1828440" y="3429000"/>
            <a:chExt cx="3794400" cy="337320"/>
          </a:xfrm>
        </p:grpSpPr>
        <p:sp>
          <p:nvSpPr>
            <p:cNvPr id="169" name=""/>
            <p:cNvSpPr/>
            <p:nvPr/>
          </p:nvSpPr>
          <p:spPr>
            <a:xfrm>
              <a:off x="2514600" y="3429000"/>
              <a:ext cx="3108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cribes a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828440" y="35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7960" y="3505320"/>
            <a:ext cx="2895480" cy="580680"/>
            <a:chOff x="4647960" y="3505320"/>
            <a:chExt cx="2895480" cy="580680"/>
          </a:xfrm>
        </p:grpSpPr>
        <p:sp>
          <p:nvSpPr>
            <p:cNvPr id="172" name=""/>
            <p:cNvSpPr/>
            <p:nvPr/>
          </p:nvSpPr>
          <p:spPr>
            <a:xfrm>
              <a:off x="5268240" y="3505320"/>
              <a:ext cx="227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name for the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647960" y="381024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095880" y="4038480"/>
            <a:ext cx="2971800" cy="824040"/>
            <a:chOff x="6095880" y="4038480"/>
            <a:chExt cx="2971800" cy="824040"/>
          </a:xfrm>
        </p:grpSpPr>
        <p:sp>
          <p:nvSpPr>
            <p:cNvPr id="175" name=""/>
            <p:cNvSpPr/>
            <p:nvPr/>
          </p:nvSpPr>
          <p:spPr>
            <a:xfrm>
              <a:off x="6732360" y="4038480"/>
              <a:ext cx="233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a description for this particular servl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95880" y="43434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86400" y="4724280"/>
            <a:ext cx="3429000" cy="824040"/>
            <a:chOff x="5486400" y="4724280"/>
            <a:chExt cx="3429000" cy="824040"/>
          </a:xfrm>
        </p:grpSpPr>
        <p:sp>
          <p:nvSpPr>
            <p:cNvPr id="178" name=""/>
            <p:cNvSpPr/>
            <p:nvPr/>
          </p:nvSpPr>
          <p:spPr>
            <a:xfrm>
              <a:off x="6400800" y="47242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-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compiled servlet’s fully qualified class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486400" y="51055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9 Deployment descriptor (web.xml) for the advjhtp1 Web applic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&lt;!-- Servlet mappings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ervlet-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ervlet-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rl-pattern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welcome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rl-patter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ervlet-mapp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web-ap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48320" y="457200"/>
            <a:ext cx="3276000" cy="824040"/>
            <a:chOff x="4648320" y="457200"/>
            <a:chExt cx="3276000" cy="824040"/>
          </a:xfrm>
        </p:grpSpPr>
        <p:sp>
          <p:nvSpPr>
            <p:cNvPr id="183" name=""/>
            <p:cNvSpPr/>
            <p:nvPr/>
          </p:nvSpPr>
          <p:spPr>
            <a:xfrm>
              <a:off x="5349960" y="457200"/>
              <a:ext cx="2574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-mapp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-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l-patte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48320" y="7621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2 Deploying a Web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lcomeServ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advjhtp1/welcome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advjhtp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the context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welcom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the URL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L pattern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ct mat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advjhtp1/welco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h mapp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advjhtp1/example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mapp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.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advjhtp1/exampl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.2 Deploying a Web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Handling HTTP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quests Containing Dat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lcomeServlet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ds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 that contain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1 WelcomeServlet2 responds to a get request that contains data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11: WelcomeServlet2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ing HTTP get requests contain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ervlet2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"get" request from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rst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document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tml xmlns = \"http://www.w3.org/1999/x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248520" y="2743200"/>
            <a:ext cx="2743200" cy="1554120"/>
            <a:chOff x="6248520" y="2743200"/>
            <a:chExt cx="2743200" cy="1554120"/>
          </a:xfrm>
        </p:grpSpPr>
        <p:sp>
          <p:nvSpPr>
            <p:cNvPr id="195" name=""/>
            <p:cNvSpPr/>
            <p:nvPr/>
          </p:nvSpPr>
          <p:spPr>
            <a:xfrm>
              <a:off x="6836040" y="2743200"/>
              <a:ext cx="21556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Parame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receives the parameter name and returns the correspon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248520" y="304812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1 WelcomeServlet2 responds to a get request that contains data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Processing get requests with data&lt;/title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Hell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rstName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,&lt;br /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elcome to Servlets!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 to complete th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19920" y="1523880"/>
            <a:ext cx="2666520" cy="824040"/>
            <a:chOff x="6019920" y="1523880"/>
            <a:chExt cx="2666520" cy="824040"/>
          </a:xfrm>
        </p:grpSpPr>
        <p:sp>
          <p:nvSpPr>
            <p:cNvPr id="200" name=""/>
            <p:cNvSpPr/>
            <p:nvPr/>
          </p:nvSpPr>
          <p:spPr>
            <a:xfrm>
              <a:off x="6590880" y="152388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the result of line 16 as part of the response to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019920" y="18288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2 HTML document in which the form’s action invokes WelcomeServlet2 through the alias welcome2 specified in web.xm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12: WelcomeServlet2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get requests with dat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form 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welcome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labe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ype your first name and press the Submi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r /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p&gt;&lt;/labe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019560" y="2971800"/>
            <a:ext cx="2133720" cy="580680"/>
            <a:chOff x="6019560" y="2971800"/>
            <a:chExt cx="2133720" cy="580680"/>
          </a:xfrm>
        </p:grpSpPr>
        <p:sp>
          <p:nvSpPr>
            <p:cNvPr id="205" name=""/>
            <p:cNvSpPr/>
            <p:nvPr/>
          </p:nvSpPr>
          <p:spPr>
            <a:xfrm>
              <a:off x="6476760" y="29718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first name from the u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019560" y="3276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est/response mecha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ssion-tracking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ir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karta pro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ficial reference implementation of the JSP and servlet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2 HTML document in which the form’s action invokes WelcomeServlet2 through the alias welcome2 specified in web.xml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welcome2a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4438800" cy="2105280"/>
          </a:xfrm>
          <a:prstGeom prst="rect">
            <a:avLst/>
          </a:prstGeom>
          <a:ln w="0">
            <a:noFill/>
          </a:ln>
        </p:spPr>
      </p:pic>
      <p:pic>
        <p:nvPicPr>
          <p:cNvPr id="209" name="welcome2b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4438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Handling HTTP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quests Containing Data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5 Handling HTTP post Reque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pos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 data from an HTML form to a server-side form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wsers cache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WelcomeServle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ds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 that contain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4 WelcomeServlet3 responds to a post request that contains data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14: WelcomeServlet3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ing post requests contain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lcomeServlet3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"post" request from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rstNam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p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&lt;html xmlns = \"http://www.w3.org/1999/x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952520" y="2286000"/>
            <a:ext cx="3124800" cy="580680"/>
            <a:chOff x="4952520" y="2286000"/>
            <a:chExt cx="3124800" cy="580680"/>
          </a:xfrm>
        </p:grpSpPr>
        <p:sp>
          <p:nvSpPr>
            <p:cNvPr id="218" name=""/>
            <p:cNvSpPr/>
            <p:nvPr/>
          </p:nvSpPr>
          <p:spPr>
            <a:xfrm>
              <a:off x="5622120" y="2286000"/>
              <a:ext cx="245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responds to post reques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52520" y="25909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Servlet3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title&gt;Processing post requests with data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Hello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first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&lt;br 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Servlets!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 to complete th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5 HTML document in which the form’s action invokes WelcomeServlet3 through the alias welcome3 specified in web.xm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15: WelcomeServlet3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ing an HTTP Post Request with Dat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welcome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p&gt;&lt;labe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ype your first name and press the Submi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&lt;/label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14640" y="2209680"/>
            <a:ext cx="3352680" cy="1310760"/>
            <a:chOff x="5714640" y="2209680"/>
            <a:chExt cx="3352680" cy="1310760"/>
          </a:xfrm>
        </p:grpSpPr>
        <p:sp>
          <p:nvSpPr>
            <p:cNvPr id="225" name=""/>
            <p:cNvSpPr/>
            <p:nvPr/>
          </p:nvSpPr>
          <p:spPr>
            <a:xfrm>
              <a:off x="6432840" y="2209680"/>
              <a:ext cx="26344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which the user can input a name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put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n click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m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tton to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lcomeServle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714640" y="25146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5 HTML document in which the form’s action invokes WelcomeServlet3 through the alias welcome3 specified in web.xm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welcome3a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4438440" cy="2105280"/>
          </a:xfrm>
          <a:prstGeom prst="rect">
            <a:avLst/>
          </a:prstGeom>
          <a:ln w="0">
            <a:noFill/>
          </a:ln>
        </p:spPr>
      </p:pic>
      <p:pic>
        <p:nvPicPr>
          <p:cNvPr id="229" name="welcome3b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4438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5 Handling HTTP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o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Reques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4360" y="1370160"/>
          <a:ext cx="776916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6 Redirecting Requests to Other Resour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direct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irects the request to a different re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7 Redirecting requests to other resour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17: Redirect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directing a user to a different Web p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irect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"get" request from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ocation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deitel.co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1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ponse.sendRedi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de that executes only if this serv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es not redirect the user to another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714640" y="2743200"/>
            <a:ext cx="3124080" cy="580680"/>
            <a:chOff x="5714640" y="2743200"/>
            <a:chExt cx="3124080" cy="580680"/>
          </a:xfrm>
        </p:grpSpPr>
        <p:sp>
          <p:nvSpPr>
            <p:cNvPr id="238" name=""/>
            <p:cNvSpPr/>
            <p:nvPr/>
          </p:nvSpPr>
          <p:spPr>
            <a:xfrm>
              <a:off x="6383880" y="2743200"/>
              <a:ext cx="2454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er from the reque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714640" y="30481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57440" y="3505320"/>
            <a:ext cx="3581280" cy="580680"/>
            <a:chOff x="5257440" y="3505320"/>
            <a:chExt cx="3581280" cy="580680"/>
          </a:xfrm>
        </p:grpSpPr>
        <p:sp>
          <p:nvSpPr>
            <p:cNvPr id="241" name=""/>
            <p:cNvSpPr/>
            <p:nvPr/>
          </p:nvSpPr>
          <p:spPr>
            <a:xfrm>
              <a:off x="6024600" y="3505320"/>
              <a:ext cx="2814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if the value is either “deitel” or “welcome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257440" y="381024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19920" y="3733920"/>
            <a:ext cx="2743200" cy="580680"/>
            <a:chOff x="6019920" y="3733920"/>
            <a:chExt cx="2743200" cy="580680"/>
          </a:xfrm>
        </p:grpSpPr>
        <p:sp>
          <p:nvSpPr>
            <p:cNvPr id="244" name=""/>
            <p:cNvSpPr/>
            <p:nvPr/>
          </p:nvSpPr>
          <p:spPr>
            <a:xfrm>
              <a:off x="6607440" y="3733920"/>
              <a:ext cx="2155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 the request to www.deitel.co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019920" y="4038840"/>
              <a:ext cx="58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333760" y="4267080"/>
            <a:ext cx="3124080" cy="580680"/>
            <a:chOff x="5333760" y="4267080"/>
            <a:chExt cx="3124080" cy="580680"/>
          </a:xfrm>
        </p:grpSpPr>
        <p:sp>
          <p:nvSpPr>
            <p:cNvPr id="247" name=""/>
            <p:cNvSpPr/>
            <p:nvPr/>
          </p:nvSpPr>
          <p:spPr>
            <a:xfrm>
              <a:off x="6003000" y="4267080"/>
              <a:ext cx="2454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 the request to the servle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lcome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333760" y="45720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76920" y="5181480"/>
            <a:ext cx="3961800" cy="824040"/>
            <a:chOff x="4876920" y="5181480"/>
            <a:chExt cx="3961800" cy="824040"/>
          </a:xfrm>
        </p:grpSpPr>
        <p:sp>
          <p:nvSpPr>
            <p:cNvPr id="250" name=""/>
            <p:cNvSpPr/>
            <p:nvPr/>
          </p:nvSpPr>
          <p:spPr>
            <a:xfrm>
              <a:off x="5725440" y="5181480"/>
              <a:ext cx="3113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a Web page indicating that an invalid request was made if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Redir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76920" y="548640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Servlet Overview and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container (servlet eng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that executes a 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s and application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scape iPlanet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’s Internet Information Server (I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ache HTTP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’s WebLogic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’s WebSphere Application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ld Wide Web Consortium’s Jigsaw 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7 Redirecting requests to other resourc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Invalid page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Invalid page requested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&lt;a href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servlets/RedirectServlet.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choose again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 to complete the pag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8 RedirectServlet.html document to demonstrate redirecting requests to other resour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18: RedirectServlet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recting a Request to Another Sit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a link to be redirected to the appropriate pag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a href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/advjhtp1/redirect?page=deite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ww.deitel.com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a href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redirect?page=welcome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lcome servle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952520" y="2666880"/>
            <a:ext cx="3794760" cy="824040"/>
            <a:chOff x="4952520" y="2666880"/>
            <a:chExt cx="3794760" cy="824040"/>
          </a:xfrm>
        </p:grpSpPr>
        <p:sp>
          <p:nvSpPr>
            <p:cNvPr id="257" name=""/>
            <p:cNvSpPr/>
            <p:nvPr/>
          </p:nvSpPr>
          <p:spPr>
            <a:xfrm>
              <a:off x="6172200" y="2666880"/>
              <a:ext cx="2575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hyperlinks that allow the user to invoke the servle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irect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4952520" y="28954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105160" y="30481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18 RedirectServlet.html document to demonstrate redirecting requests to other resourc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redirecta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4867200" cy="2400480"/>
          </a:xfrm>
          <a:prstGeom prst="rect">
            <a:avLst/>
          </a:prstGeom>
          <a:ln w="0">
            <a:noFill/>
          </a:ln>
        </p:spPr>
      </p:pic>
      <p:pic>
        <p:nvPicPr>
          <p:cNvPr id="262" name="redirectb" descr=""/>
          <p:cNvPicPr/>
          <p:nvPr/>
        </p:nvPicPr>
        <p:blipFill>
          <a:blip r:embed="rId2"/>
          <a:stretch/>
        </p:blipFill>
        <p:spPr>
          <a:xfrm>
            <a:off x="1600200" y="3657600"/>
            <a:ext cx="48672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6 Redirecting Requests to other Resourc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 Session Track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inv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– stateless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 not support persisten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 clients individ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ssion tra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idd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RL rewri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1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on the user’s computer for retrieval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-based data sent by 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age of a cook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d automatically when they ex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okie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s bo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0 Storing user data on the client computer with cooki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-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9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20: Cookie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cookies to store data on the client compu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okie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book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Map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,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8957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895717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125075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B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45695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language selection and send cookie contain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ommended book to th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hrows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anguage =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isbn = books.get( language 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okie cooki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okie( language,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addCookie( cooki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st precede getWri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428640" y="2438280"/>
            <a:ext cx="3810240" cy="580680"/>
            <a:chOff x="3428640" y="2438280"/>
            <a:chExt cx="3810240" cy="580680"/>
          </a:xfrm>
        </p:grpSpPr>
        <p:sp>
          <p:nvSpPr>
            <p:cNvPr id="273" name=""/>
            <p:cNvSpPr/>
            <p:nvPr/>
          </p:nvSpPr>
          <p:spPr>
            <a:xfrm>
              <a:off x="4241160" y="2438280"/>
              <a:ext cx="299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pulates books with four key/value pair of boo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428640" y="274320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095880" y="4952880"/>
            <a:ext cx="2285640" cy="1067400"/>
            <a:chOff x="6095880" y="4952880"/>
            <a:chExt cx="2285640" cy="1067400"/>
          </a:xfrm>
        </p:grpSpPr>
        <p:sp>
          <p:nvSpPr>
            <p:cNvPr id="276" name=""/>
            <p:cNvSpPr/>
            <p:nvPr/>
          </p:nvSpPr>
          <p:spPr>
            <a:xfrm>
              <a:off x="6582960" y="4952880"/>
              <a:ext cx="1798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Parame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user’s language sele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095880" y="52578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562720" y="5181480"/>
            <a:ext cx="3428640" cy="580680"/>
            <a:chOff x="5562720" y="5181480"/>
            <a:chExt cx="3428640" cy="580680"/>
          </a:xfrm>
        </p:grpSpPr>
        <p:sp>
          <p:nvSpPr>
            <p:cNvPr id="279" name=""/>
            <p:cNvSpPr/>
            <p:nvPr/>
          </p:nvSpPr>
          <p:spPr>
            <a:xfrm>
              <a:off x="6294600" y="5181480"/>
              <a:ext cx="269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 the ISBN number for the selected language from boo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562720" y="54864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334120" y="5334120"/>
            <a:ext cx="3428640" cy="1067400"/>
            <a:chOff x="5334120" y="5334120"/>
            <a:chExt cx="3428640" cy="1067400"/>
          </a:xfrm>
        </p:grpSpPr>
        <p:sp>
          <p:nvSpPr>
            <p:cNvPr id="282" name=""/>
            <p:cNvSpPr/>
            <p:nvPr/>
          </p:nvSpPr>
          <p:spPr>
            <a:xfrm>
              <a:off x="6066000" y="5334120"/>
              <a:ext cx="269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,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u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b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s as the cookie name and cookie value, respectiv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334120" y="56386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038120" y="5715000"/>
            <a:ext cx="3657600" cy="824040"/>
            <a:chOff x="4038120" y="5715000"/>
            <a:chExt cx="3657600" cy="824040"/>
          </a:xfrm>
        </p:grpSpPr>
        <p:sp>
          <p:nvSpPr>
            <p:cNvPr id="285" name=""/>
            <p:cNvSpPr/>
            <p:nvPr/>
          </p:nvSpPr>
          <p:spPr>
            <a:xfrm>
              <a:off x="4819320" y="5715000"/>
              <a:ext cx="2876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cooki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spo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038120" y="601992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0 Storing user data on the client computer with cook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p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Welcome to Cookies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Welcome to Cookies! You select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nguag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&lt;a href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/advjhtp1/servlets/CookieSelectLanguage.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choose another language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&lt;a href = \"/advjhtp1/cookies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get book recommendations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0 Storing user data on the client computer with cooki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cookies from client and create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ing recommended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okie cookies[] = request.getCooki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ook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Recommendations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there are any cookies, recommend a book for each ISB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okies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cookie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Recommendations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876560" y="1143000"/>
            <a:ext cx="3886200" cy="1067400"/>
            <a:chOff x="4876560" y="1143000"/>
            <a:chExt cx="3886200" cy="1067400"/>
          </a:xfrm>
        </p:grpSpPr>
        <p:sp>
          <p:nvSpPr>
            <p:cNvPr id="292" name=""/>
            <p:cNvSpPr/>
            <p:nvPr/>
          </p:nvSpPr>
          <p:spPr>
            <a:xfrm>
              <a:off x="5705280" y="1143000"/>
              <a:ext cx="3057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s the cookies from the client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Cooki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returns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876560" y="14479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0 Storing user data on the client computer with cook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he name of each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ookies.length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ln( cookies[ i ].getName()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ow to Program. ISBN#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okies[ i ].getValu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 /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re were no cook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1&gt;No Recommendations&lt;/h1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p&gt;You did not select a language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1 Interfac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the Servlet Life Cyc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ervlets must implement this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thods of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invoked automat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lif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 container invokes the 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handles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stro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 releases servlet resources when the servlet container terminates the 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neric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1 CookieSelectLanguage.html document for selecting a programming language and posting the data to the CookieServle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21: CookieSelectLanguage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Cookie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ac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advjhtp1/cooki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a programming languag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++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this radio button checked by defaul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ava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ecke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B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B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1 CookieSelectLanguage.html document for selecting a programming language and posting the data to the CookieServlet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cookiesa" descr=""/>
          <p:cNvPicPr/>
          <p:nvPr/>
        </p:nvPicPr>
        <p:blipFill>
          <a:blip r:embed="rId1"/>
          <a:stretch/>
        </p:blipFill>
        <p:spPr>
          <a:xfrm>
            <a:off x="0" y="0"/>
            <a:ext cx="3828960" cy="2641680"/>
          </a:xfrm>
          <a:prstGeom prst="rect">
            <a:avLst/>
          </a:prstGeom>
          <a:ln w="0">
            <a:noFill/>
          </a:ln>
        </p:spPr>
      </p:pic>
      <p:pic>
        <p:nvPicPr>
          <p:cNvPr id="300" name="cookiesb" descr=""/>
          <p:cNvPicPr/>
          <p:nvPr/>
        </p:nvPicPr>
        <p:blipFill>
          <a:blip r:embed="rId2"/>
          <a:stretch/>
        </p:blipFill>
        <p:spPr>
          <a:xfrm>
            <a:off x="3124080" y="2209680"/>
            <a:ext cx="3581640" cy="1981440"/>
          </a:xfrm>
          <a:prstGeom prst="rect">
            <a:avLst/>
          </a:prstGeom>
          <a:ln w="0">
            <a:noFill/>
          </a:ln>
        </p:spPr>
      </p:pic>
      <p:pic>
        <p:nvPicPr>
          <p:cNvPr id="301" name="cookiesc" descr=""/>
          <p:cNvPicPr/>
          <p:nvPr/>
        </p:nvPicPr>
        <p:blipFill>
          <a:blip r:embed="rId3"/>
          <a:stretch/>
        </p:blipFill>
        <p:spPr>
          <a:xfrm>
            <a:off x="228600" y="4184640"/>
            <a:ext cx="38862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1 CookieSelectLanguage.html document for selecting a programming language and posting the data to the CookieServle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cookiesd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4667400" cy="2581200"/>
          </a:xfrm>
          <a:prstGeom prst="rect">
            <a:avLst/>
          </a:prstGeom>
          <a:ln w="0">
            <a:noFill/>
          </a:ln>
        </p:spPr>
      </p:pic>
      <p:pic>
        <p:nvPicPr>
          <p:cNvPr id="304" name="cookiese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46674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1 Cook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370160"/>
          <a:ext cx="776916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1 Cook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2216880" y="5943600"/>
            <a:ext cx="49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9.23 (Part 1 of 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methods of class Cook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1 Cook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2 Session Tracking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s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session tra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ssion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Ses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s bo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24: Session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HttpSession to maintain client state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ssion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fi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p book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Map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89572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895717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012507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.pu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B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1345695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language selection and create HttpSession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ing recommended book for the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language = request.getParameter( "language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user's session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session (true) if one does not ex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 value for user's choice to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ssion.setAttribute( language, books.get( languag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172200" y="4952880"/>
            <a:ext cx="2438280" cy="580680"/>
            <a:chOff x="6172200" y="4952880"/>
            <a:chExt cx="2438280" cy="580680"/>
          </a:xfrm>
        </p:grpSpPr>
        <p:sp>
          <p:nvSpPr>
            <p:cNvPr id="320" name=""/>
            <p:cNvSpPr/>
            <p:nvPr/>
          </p:nvSpPr>
          <p:spPr>
            <a:xfrm>
              <a:off x="6693480" y="4952880"/>
              <a:ext cx="1917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 the user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u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le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172200" y="525780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715000" y="5486400"/>
            <a:ext cx="3276720" cy="1067400"/>
            <a:chOff x="5715000" y="5486400"/>
            <a:chExt cx="3276720" cy="1067400"/>
          </a:xfrm>
        </p:grpSpPr>
        <p:sp>
          <p:nvSpPr>
            <p:cNvPr id="323" name=""/>
            <p:cNvSpPr/>
            <p:nvPr/>
          </p:nvSpPr>
          <p:spPr>
            <a:xfrm>
              <a:off x="6248520" y="54864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rvletRequ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715000" y="6019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181480" y="5181480"/>
            <a:ext cx="3810240" cy="1295640"/>
            <a:chOff x="5181480" y="5181480"/>
            <a:chExt cx="3810240" cy="1295640"/>
          </a:xfrm>
        </p:grpSpPr>
        <p:sp>
          <p:nvSpPr>
            <p:cNvPr id="326" name=""/>
            <p:cNvSpPr/>
            <p:nvPr/>
          </p:nvSpPr>
          <p:spPr>
            <a:xfrm>
              <a:off x="5791320" y="518148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Attrib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u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corresponding recommended book’s ISBN number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181480" y="579132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XHTML pag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/TR/xhtml1/DTD/xhtml1-strict.dtd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Welcome to Sessions&lt;/title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Welcome to Sessions! You select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nguag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&lt;/p&gt;" 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information about the se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unique session ID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Id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 /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( session.isNew(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 new session&lt;br 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647960" y="5105520"/>
            <a:ext cx="4343400" cy="580680"/>
            <a:chOff x="4647960" y="5105520"/>
            <a:chExt cx="4343400" cy="580680"/>
          </a:xfrm>
        </p:grpSpPr>
        <p:sp>
          <p:nvSpPr>
            <p:cNvPr id="331" name=""/>
            <p:cNvSpPr/>
            <p:nvPr/>
          </p:nvSpPr>
          <p:spPr>
            <a:xfrm>
              <a:off x="5575680" y="5105520"/>
              <a:ext cx="3415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session’s unique ID nu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647960" y="5410440"/>
              <a:ext cx="93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560" y="5715000"/>
            <a:ext cx="2972160" cy="824040"/>
            <a:chOff x="6019560" y="5715000"/>
            <a:chExt cx="2972160" cy="824040"/>
          </a:xfrm>
        </p:grpSpPr>
        <p:sp>
          <p:nvSpPr>
            <p:cNvPr id="334" name=""/>
            <p:cNvSpPr/>
            <p:nvPr/>
          </p:nvSpPr>
          <p:spPr>
            <a:xfrm>
              <a:off x="6629760" y="571500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s whether the session is new or already exists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19560" y="60199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session was created at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 session.getCreationTime()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 /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last accessed the session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( session.getLastAccessedTime()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 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inactive interv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ssion.getMaxInactiveInterval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conds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&lt;a href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servlets/SessionSelectLanguage.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lick here to choose another language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p&gt;&lt;a href = \"sessions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ck here to get book recommendations&lt;/a&gt;&lt;/p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session attributes and create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ing recommended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e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user's session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create a session (false) if one does not ex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ssion session = request.getSess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ames of session object's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umeration valueNam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171840" y="228600"/>
            <a:ext cx="2591280" cy="1067400"/>
            <a:chOff x="6171840" y="228600"/>
            <a:chExt cx="2591280" cy="1067400"/>
          </a:xfrm>
        </p:grpSpPr>
        <p:sp>
          <p:nvSpPr>
            <p:cNvPr id="339" name=""/>
            <p:cNvSpPr/>
            <p:nvPr/>
          </p:nvSpPr>
          <p:spPr>
            <a:xfrm>
              <a:off x="6726240" y="228600"/>
              <a:ext cx="203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time at which the session was created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Creation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171840" y="53352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172200" y="76320"/>
            <a:ext cx="2895480" cy="990360"/>
            <a:chOff x="6172200" y="76320"/>
            <a:chExt cx="2895480" cy="990360"/>
          </a:xfrm>
        </p:grpSpPr>
        <p:sp>
          <p:nvSpPr>
            <p:cNvPr id="342" name=""/>
            <p:cNvSpPr/>
            <p:nvPr/>
          </p:nvSpPr>
          <p:spPr>
            <a:xfrm>
              <a:off x="6172200" y="763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time at which the session was last accessed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LastAccessed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552720" y="914400"/>
              <a:ext cx="838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495680" y="1752480"/>
            <a:ext cx="4496040" cy="1067400"/>
            <a:chOff x="4495680" y="1752480"/>
            <a:chExt cx="4496040" cy="1067400"/>
          </a:xfrm>
        </p:grpSpPr>
        <p:sp>
          <p:nvSpPr>
            <p:cNvPr id="345" name=""/>
            <p:cNvSpPr/>
            <p:nvPr/>
          </p:nvSpPr>
          <p:spPr>
            <a:xfrm>
              <a:off x="5410080" y="1752480"/>
              <a:ext cx="3581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MaxInactiveInter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maximum amount of time that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can be inactive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er discard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4495680" y="17524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791320" y="5562720"/>
            <a:ext cx="2971440" cy="824040"/>
            <a:chOff x="5791320" y="5562720"/>
            <a:chExt cx="2971440" cy="824040"/>
          </a:xfrm>
        </p:grpSpPr>
        <p:sp>
          <p:nvSpPr>
            <p:cNvPr id="348" name=""/>
            <p:cNvSpPr/>
            <p:nvPr/>
          </p:nvSpPr>
          <p:spPr>
            <a:xfrm>
              <a:off x="6425640" y="55627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client with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791320" y="58672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1 Interface Servlet and the Servlet Life Cyc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ssi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alueNames = session.getAttributeNam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alueNam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title&gt;Recommendations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dy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Names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valueNames.hasMoreElement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Recommendations&lt;/h1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name, val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257800" y="228600"/>
            <a:ext cx="3200400" cy="1067400"/>
            <a:chOff x="5257800" y="228600"/>
            <a:chExt cx="3200400" cy="1067400"/>
          </a:xfrm>
        </p:grpSpPr>
        <p:sp>
          <p:nvSpPr>
            <p:cNvPr id="353" name=""/>
            <p:cNvSpPr/>
            <p:nvPr/>
          </p:nvSpPr>
          <p:spPr>
            <a:xfrm>
              <a:off x="5940000" y="228600"/>
              <a:ext cx="2518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AttributeN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umer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attribute na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2578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4 Maintaining state information with HttpSession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value for each name in value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Names.hasMoreElement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ame = valueNames.nextElement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alue = session.getAttribute( name 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ln( nam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ow to Program.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#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value +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r 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No Recommendations&lt;/h1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 did not select a language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close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171840" y="609480"/>
            <a:ext cx="2895480" cy="1310760"/>
            <a:chOff x="6171840" y="609480"/>
            <a:chExt cx="2895480" cy="1310760"/>
          </a:xfrm>
        </p:grpSpPr>
        <p:sp>
          <p:nvSpPr>
            <p:cNvPr id="358" name=""/>
            <p:cNvSpPr/>
            <p:nvPr/>
          </p:nvSpPr>
          <p:spPr>
            <a:xfrm>
              <a:off x="6791040" y="609480"/>
              <a:ext cx="22762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Attrib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ISBN of a book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Ses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171840" y="9144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25: SessionSelectLanguage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Session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form action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/advjhtp1/sessions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a programming languag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++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++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&lt;!-- this radio button checked by default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ecked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hecked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anguage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B6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B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sessionsa" descr=""/>
          <p:cNvPicPr/>
          <p:nvPr/>
        </p:nvPicPr>
        <p:blipFill>
          <a:blip r:embed="rId1"/>
          <a:stretch/>
        </p:blipFill>
        <p:spPr>
          <a:xfrm>
            <a:off x="1219320" y="0"/>
            <a:ext cx="4495680" cy="3090960"/>
          </a:xfrm>
          <a:prstGeom prst="rect">
            <a:avLst/>
          </a:prstGeom>
          <a:ln w="0">
            <a:noFill/>
          </a:ln>
        </p:spPr>
      </p:pic>
      <p:pic>
        <p:nvPicPr>
          <p:cNvPr id="364" name="sessionsb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4495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sessionsc" descr=""/>
          <p:cNvPicPr/>
          <p:nvPr/>
        </p:nvPicPr>
        <p:blipFill>
          <a:blip r:embed="rId1"/>
          <a:stretch/>
        </p:blipFill>
        <p:spPr>
          <a:xfrm>
            <a:off x="1676520" y="0"/>
            <a:ext cx="4667040" cy="3209760"/>
          </a:xfrm>
          <a:prstGeom prst="rect">
            <a:avLst/>
          </a:prstGeom>
          <a:ln w="0">
            <a:noFill/>
          </a:ln>
        </p:spPr>
      </p:pic>
      <p:pic>
        <p:nvPicPr>
          <p:cNvPr id="367" name="sessionsb" descr=""/>
          <p:cNvPicPr/>
          <p:nvPr/>
        </p:nvPicPr>
        <p:blipFill>
          <a:blip r:embed="rId2"/>
          <a:stretch/>
        </p:blipFill>
        <p:spPr>
          <a:xfrm>
            <a:off x="1828800" y="3314880"/>
            <a:ext cx="44956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sessionsc" descr=""/>
          <p:cNvPicPr/>
          <p:nvPr/>
        </p:nvPicPr>
        <p:blipFill>
          <a:blip r:embed="rId1"/>
          <a:stretch/>
        </p:blipFill>
        <p:spPr>
          <a:xfrm>
            <a:off x="1523880" y="0"/>
            <a:ext cx="4648320" cy="3197160"/>
          </a:xfrm>
          <a:prstGeom prst="rect">
            <a:avLst/>
          </a:prstGeom>
          <a:ln w="0">
            <a:noFill/>
          </a:ln>
        </p:spPr>
      </p:pic>
      <p:pic>
        <p:nvPicPr>
          <p:cNvPr id="370" name="sessionsd" descr=""/>
          <p:cNvPicPr/>
          <p:nvPr/>
        </p:nvPicPr>
        <p:blipFill>
          <a:blip r:embed="rId2"/>
          <a:stretch/>
        </p:blipFill>
        <p:spPr>
          <a:xfrm>
            <a:off x="1523880" y="3206880"/>
            <a:ext cx="46483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5 SessionSelectLanguage.html document for selecting a programming language and posting the data to the SessionServlet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sessionse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46674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.2 Session Tracking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ssi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8 Multi-Tier Applications: Using JDBC from a Servl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tier distribut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siness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s often represent the middle 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tier distributed applica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rveyServ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rvey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udscap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-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9.27: SurveyServ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eb-based survey that uses JDBC from a servle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rvle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rvlet.http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rveyServ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ttpServ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updateVotes, totalVotes, resul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database connection and prepare SQL 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 ServletConfig confi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database connection and create PreparedStat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.for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= DriverManager.getConnec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dbc:rmi:jdbc:cloudscape:animalsurve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dStatement to add one to vote total for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ic anima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Votes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 surveyresults SET votes = votes + 1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HERE id = ?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572000" y="2819520"/>
            <a:ext cx="2971440" cy="580680"/>
            <a:chOff x="4572000" y="2819520"/>
            <a:chExt cx="2971440" cy="580680"/>
          </a:xfrm>
        </p:grpSpPr>
        <p:sp>
          <p:nvSpPr>
            <p:cNvPr id="381" name=""/>
            <p:cNvSpPr/>
            <p:nvPr/>
          </p:nvSpPr>
          <p:spPr>
            <a:xfrm>
              <a:off x="5206320" y="2819520"/>
              <a:ext cx="2337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lets are initialized by overrid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572000" y="312444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324120" y="3733920"/>
            <a:ext cx="1905480" cy="580680"/>
            <a:chOff x="6324120" y="3733920"/>
            <a:chExt cx="1905480" cy="580680"/>
          </a:xfrm>
        </p:grpSpPr>
        <p:sp>
          <p:nvSpPr>
            <p:cNvPr id="384" name=""/>
            <p:cNvSpPr/>
            <p:nvPr/>
          </p:nvSpPr>
          <p:spPr>
            <a:xfrm>
              <a:off x="6731280" y="3733920"/>
              <a:ext cx="1498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s the database dr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324120" y="4038840"/>
              <a:ext cx="40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334120" y="3886200"/>
            <a:ext cx="3428640" cy="580680"/>
            <a:chOff x="5334120" y="3886200"/>
            <a:chExt cx="3428640" cy="580680"/>
          </a:xfrm>
        </p:grpSpPr>
        <p:sp>
          <p:nvSpPr>
            <p:cNvPr id="387" name=""/>
            <p:cNvSpPr/>
            <p:nvPr/>
          </p:nvSpPr>
          <p:spPr>
            <a:xfrm>
              <a:off x="6066000" y="3886200"/>
              <a:ext cx="269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open a connection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imalsurv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334120" y="419112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962520" y="4800600"/>
            <a:ext cx="3200040" cy="580680"/>
            <a:chOff x="3962520" y="4800600"/>
            <a:chExt cx="3200040" cy="580680"/>
          </a:xfrm>
        </p:grpSpPr>
        <p:sp>
          <p:nvSpPr>
            <p:cNvPr id="390" name=""/>
            <p:cNvSpPr/>
            <p:nvPr/>
          </p:nvSpPr>
          <p:spPr>
            <a:xfrm>
              <a:off x="4645800" y="4800600"/>
              <a:ext cx="251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Vot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962520" y="5105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2 HttpServlet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rides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st common HTTP request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P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ServletRequ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Servlet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44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dStatement to sum the vo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Votes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ELECT sum( votes ) FROM surveyresul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eparedStatement to obtain surveyoption table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surveyoption, votes, i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OM surveyresults ORDER BY i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 any exception throw an UnavailableException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dicate that the servlet is not currently avail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availableException(exception.getMessage()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init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survey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Post( HttpServletRequest reque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ttpServletResponse respons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vlet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response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ponse.setContent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/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Writer out = response.getWri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cimalFormat twoDigits = new DecimalForma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0.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647960" y="762120"/>
            <a:ext cx="4357800" cy="1066680"/>
            <a:chOff x="4647960" y="762120"/>
            <a:chExt cx="4357800" cy="1066680"/>
          </a:xfrm>
        </p:grpSpPr>
        <p:sp>
          <p:nvSpPr>
            <p:cNvPr id="395" name=""/>
            <p:cNvSpPr/>
            <p:nvPr/>
          </p:nvSpPr>
          <p:spPr>
            <a:xfrm>
              <a:off x="6248520" y="838080"/>
              <a:ext cx="275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talVot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4724280" y="762120"/>
              <a:ext cx="1524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647960" y="114300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8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8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1-9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6-1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!DOCTYPE html PUBLIC \"-//W3C//DT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HTML 1.0 Strict//EN\" \"http://www.w3.or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TR/xhtml1/DTD/xhtml1-strict.dtd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html xmlns = \"http://www.w3.org/1999/xhtml\"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ead section of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" 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current survey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ger.parseInt( request.getParamet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process a vote and display curren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total for current surevy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Votes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Votes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otal of all surve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totalRS = totalVotes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RS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totalRS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RS = results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Thank you!&lt;/title&gt;" 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791320" y="2590920"/>
            <a:ext cx="2209320" cy="580680"/>
            <a:chOff x="5791320" y="2590920"/>
            <a:chExt cx="2209320" cy="580680"/>
          </a:xfrm>
        </p:grpSpPr>
        <p:sp>
          <p:nvSpPr>
            <p:cNvPr id="401" name=""/>
            <p:cNvSpPr/>
            <p:nvPr/>
          </p:nvSpPr>
          <p:spPr>
            <a:xfrm>
              <a:off x="6262920" y="2590920"/>
              <a:ext cx="173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survey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791320" y="2895840"/>
              <a:ext cx="4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95320" y="3962520"/>
            <a:ext cx="4572000" cy="824040"/>
            <a:chOff x="4495320" y="3962520"/>
            <a:chExt cx="4572000" cy="824040"/>
          </a:xfrm>
        </p:grpSpPr>
        <p:sp>
          <p:nvSpPr>
            <p:cNvPr id="404" name=""/>
            <p:cNvSpPr/>
            <p:nvPr/>
          </p:nvSpPr>
          <p:spPr>
            <a:xfrm>
              <a:off x="5471640" y="3962520"/>
              <a:ext cx="359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first parameter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dateVot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survey response and update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495320" y="426708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105520" y="4876920"/>
            <a:ext cx="3428640" cy="824040"/>
            <a:chOff x="5105520" y="4876920"/>
            <a:chExt cx="3428640" cy="824040"/>
          </a:xfrm>
        </p:grpSpPr>
        <p:sp>
          <p:nvSpPr>
            <p:cNvPr id="407" name=""/>
            <p:cNvSpPr/>
            <p:nvPr/>
          </p:nvSpPr>
          <p:spPr>
            <a:xfrm>
              <a:off x="5837400" y="4876920"/>
              <a:ext cx="269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talVot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total number of votes recei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105520" y="51814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638680" y="5562720"/>
            <a:ext cx="3428640" cy="1067400"/>
            <a:chOff x="5638680" y="5562720"/>
            <a:chExt cx="3428640" cy="1067400"/>
          </a:xfrm>
        </p:grpSpPr>
        <p:sp>
          <p:nvSpPr>
            <p:cNvPr id="410" name=""/>
            <p:cNvSpPr/>
            <p:nvPr/>
          </p:nvSpPr>
          <p:spPr>
            <a:xfrm>
              <a:off x="6370560" y="5562720"/>
              <a:ext cx="269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sults and proc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the survey summary for the cl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638680" y="5867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ank you for participating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r /&gt;Results:&lt;/p&gt;&lt;pre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ot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hile ( resultsRS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( resultsR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otes = resultsRS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( twoDigits.form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double ) votes / total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  respons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.println( vot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R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 respons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( tot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d XHT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re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atabase exception occurs, return error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itle&gt;Error&lt;/title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head&gt;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ody&gt;&lt;p&gt;Database error occurred.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println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ry again later.&lt;/p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7 Multi-tier Web-based survey using XHTML, servlets and JDBC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0-1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f doPost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SQL statements and database when servlet term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tro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close statements and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pdateVote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talVote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database exceptions by returning error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of destroy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895480" y="990720"/>
            <a:ext cx="2971440" cy="824040"/>
            <a:chOff x="2895480" y="990720"/>
            <a:chExt cx="2971440" cy="824040"/>
          </a:xfrm>
        </p:grpSpPr>
        <p:sp>
          <p:nvSpPr>
            <p:cNvPr id="417" name=""/>
            <p:cNvSpPr/>
            <p:nvPr/>
          </p:nvSpPr>
          <p:spPr>
            <a:xfrm>
              <a:off x="3529800" y="990720"/>
              <a:ext cx="2337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destroy closes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atabase conne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895480" y="12952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8 Survey.html document that allows users to submit survey responses to SurveyServle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Strict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"http://www.w3.org/TR/xhtml1/DTD/xhtml1-strict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9.28: Survey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ve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/advjhtp1/animalsurve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at is your favorite pet?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r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valu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nak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adi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heck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ecked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p&gt;&lt;input typ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9.28 Survey.html document that allows users to submit survey responses to SurveyServle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surveya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4038840" cy="3419280"/>
          </a:xfrm>
          <a:prstGeom prst="rect">
            <a:avLst/>
          </a:prstGeom>
          <a:ln w="0">
            <a:noFill/>
          </a:ln>
        </p:spPr>
      </p:pic>
      <p:pic>
        <p:nvPicPr>
          <p:cNvPr id="423" name="surveyb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39718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8 Multi-Tier Applications: Using JDBC from a Servlet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Util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HttpServletReque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ServletReque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s it to the servlet’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ServletRequ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s the request from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29T18:53:26Z</dcterms:modified>
  <cp:revision>82</cp:revision>
  <dc:subject/>
  <dc:title>PowerPoint Presentation</dc:title>
</cp:coreProperties>
</file>