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A842-8B2C-4F0D-AEEC-E14B098B4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0D5B-8505-4F5A-AED7-D7895DDA3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594B-9F60-4F0E-827B-C7766F9EB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BCDE-3FC4-45DC-8FFD-6927F7B3D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427F-6405-4E1A-ABA6-A0C1F1BA17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7157-63EC-4281-8748-E683EC597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AD21-788D-4C6F-9170-7D43FA46E7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0562-353D-43BD-A48E-836620E432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7C56-8748-4381-8CD3-AF9D25BF56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DC62-7A67-411A-AB0C-DCF1C944FD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A5BF-CE62-47BC-9AA2-5E9A081580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931C-513D-4100-97EA-E31AC4660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9A43-D5D2-4C58-B33E-57D1A47977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83F2-91D9-4416-8696-0D0A217168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E76F-AF84-42E2-BD7A-2468ACE8F6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5722-B2ED-42F8-AD1C-651C758258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BBC6-AB81-4BB3-9AC6-599EEA1C3E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5E78-DAE9-43D9-9173-932F1FBE9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5587-6BC0-46EB-9C85-90AD27DEE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5DEA-BCFA-46D3-BD3C-916157592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8C28-15B6-4C73-9E96-2B88DD536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48D3-15E2-47D0-A047-36E69950B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7B09-85C6-49C6-9854-852D66222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B5E8-FD9A-4DC9-88F2-A05C02E49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9751-A72C-4090-B274-3354334EA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70E-B212-49A8-9DC9-6D4246826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8 Enterprise Java Case Study: Presentation and Controller Logic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696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XMLServ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Base 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hopping Cart Servl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ToCar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iewCar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moveFromCar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UpdateCar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eckou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duct Catalog Servl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GetAllProducts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GetProduct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ductSearch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er Management Servl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gister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ogin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iewOrderHistory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iewOrder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GetPasswordHint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5-2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2-2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6-2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7-3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7-2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error element containing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buildErrorMessage( Document docume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messag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rro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error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essa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error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essage text and append to messa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rrorMessag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messag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message element to error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rror.appendChild( error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rr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list of ClientModel Objects for delive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ropriate content to each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buildClient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validating DocumentBuilder for client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Builder builder = getDocumentBuil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ient Array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client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ame of XML document containing cli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formation from Servlet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lientXML = getServletContext().getIni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_LI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00600" y="380880"/>
            <a:ext cx="4190760" cy="580680"/>
            <a:chOff x="4800600" y="380880"/>
            <a:chExt cx="4190760" cy="580680"/>
          </a:xfrm>
        </p:grpSpPr>
        <p:sp>
          <p:nvSpPr>
            <p:cNvPr id="181" name=""/>
            <p:cNvSpPr/>
            <p:nvPr/>
          </p:nvSpPr>
          <p:spPr>
            <a:xfrm>
              <a:off x="5499000" y="380880"/>
              <a:ext cx="3492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onstructing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an error mess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00600" y="6854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0960" y="990720"/>
            <a:ext cx="3200400" cy="580680"/>
            <a:chOff x="5790960" y="990720"/>
            <a:chExt cx="3200400" cy="580680"/>
          </a:xfrm>
        </p:grpSpPr>
        <p:sp>
          <p:nvSpPr>
            <p:cNvPr id="184" name=""/>
            <p:cNvSpPr/>
            <p:nvPr/>
          </p:nvSpPr>
          <p:spPr>
            <a:xfrm>
              <a:off x="632448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n erro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provided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790960" y="1295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14800" y="1523880"/>
            <a:ext cx="3962160" cy="580680"/>
            <a:chOff x="4114800" y="1523880"/>
            <a:chExt cx="3962160" cy="580680"/>
          </a:xfrm>
        </p:grpSpPr>
        <p:sp>
          <p:nvSpPr>
            <p:cNvPr id="187" name=""/>
            <p:cNvSpPr/>
            <p:nvPr/>
          </p:nvSpPr>
          <p:spPr>
            <a:xfrm>
              <a:off x="4775040" y="1523880"/>
              <a:ext cx="3301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will contain the actual error mess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14800" y="18284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91120" y="2286000"/>
            <a:ext cx="4343040" cy="824040"/>
            <a:chOff x="4191120" y="2286000"/>
            <a:chExt cx="4343040" cy="824040"/>
          </a:xfrm>
        </p:grpSpPr>
        <p:sp>
          <p:nvSpPr>
            <p:cNvPr id="190" name=""/>
            <p:cNvSpPr/>
            <p:nvPr/>
          </p:nvSpPr>
          <p:spPr>
            <a:xfrm>
              <a:off x="4914720" y="2286000"/>
              <a:ext cx="3619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de that contains the text of the error message and append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d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191120" y="2590560"/>
              <a:ext cx="72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343400" y="2971800"/>
            <a:ext cx="3352320" cy="580680"/>
            <a:chOff x="4343400" y="2971800"/>
            <a:chExt cx="3352320" cy="580680"/>
          </a:xfrm>
        </p:grpSpPr>
        <p:sp>
          <p:nvSpPr>
            <p:cNvPr id="193" name=""/>
            <p:cNvSpPr/>
            <p:nvPr/>
          </p:nvSpPr>
          <p:spPr>
            <a:xfrm>
              <a:off x="4902120" y="2971800"/>
              <a:ext cx="2793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343400" y="327636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57240" y="4267080"/>
            <a:ext cx="3657600" cy="824040"/>
            <a:chOff x="3657240" y="4267080"/>
            <a:chExt cx="3657600" cy="824040"/>
          </a:xfrm>
        </p:grpSpPr>
        <p:sp>
          <p:nvSpPr>
            <p:cNvPr id="196" name=""/>
            <p:cNvSpPr/>
            <p:nvPr/>
          </p:nvSpPr>
          <p:spPr>
            <a:xfrm>
              <a:off x="4267080" y="426708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by reading client information from an XML configuration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657240" y="45716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562720" y="5257800"/>
            <a:ext cx="3352680" cy="1143000"/>
            <a:chOff x="5562720" y="5257800"/>
            <a:chExt cx="3352680" cy="1143000"/>
          </a:xfrm>
        </p:grpSpPr>
        <p:sp>
          <p:nvSpPr>
            <p:cNvPr id="199" name=""/>
            <p:cNvSpPr/>
            <p:nvPr/>
          </p:nvSpPr>
          <p:spPr>
            <a:xfrm>
              <a:off x="5562720" y="525780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name of the configuration file from an initialization parameter in the servle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400440" y="6095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PasswordHin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PasswordHin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remember their passw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PasswordHin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PasswordHintServlet allows a customer to retrieve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st passwor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asswordHin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ID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ssword hint from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( Custom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ustomer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Customer with given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findByUserID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asswordHint element in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hintEl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H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text of passwordHint to XM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intElement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.getPasswordHin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passwordHint element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hint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562360" y="990720"/>
            <a:ext cx="3124440" cy="1067400"/>
            <a:chOff x="5562360" y="990720"/>
            <a:chExt cx="3124440" cy="1067400"/>
          </a:xfrm>
        </p:grpSpPr>
        <p:sp>
          <p:nvSpPr>
            <p:cNvPr id="686" name=""/>
            <p:cNvSpPr/>
            <p:nvPr/>
          </p:nvSpPr>
          <p:spPr>
            <a:xfrm>
              <a:off x="6229800" y="990720"/>
              <a:ext cx="245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 up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and 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remote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562360" y="129528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33760" y="3505320"/>
            <a:ext cx="3352680" cy="1067400"/>
            <a:chOff x="5333760" y="3505320"/>
            <a:chExt cx="3352680" cy="1067400"/>
          </a:xfrm>
        </p:grpSpPr>
        <p:sp>
          <p:nvSpPr>
            <p:cNvPr id="689" name=""/>
            <p:cNvSpPr/>
            <p:nvPr/>
          </p:nvSpPr>
          <p:spPr>
            <a:xfrm>
              <a:off x="6049800" y="3505320"/>
              <a:ext cx="2636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 EJB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PasswordH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hint the user entered when registering on the sit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333760" y="38098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876560" y="4038480"/>
            <a:ext cx="2361960" cy="580680"/>
            <a:chOff x="4876560" y="4038480"/>
            <a:chExt cx="2361960" cy="580680"/>
          </a:xfrm>
        </p:grpSpPr>
        <p:sp>
          <p:nvSpPr>
            <p:cNvPr id="692" name=""/>
            <p:cNvSpPr/>
            <p:nvPr/>
          </p:nvSpPr>
          <p:spPr>
            <a:xfrm>
              <a:off x="5379480" y="4038480"/>
              <a:ext cx="1859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hint to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4876560" y="434340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ustomer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customer was found with user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ID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XHTML_GetPasswordHint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5720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1 GetPasswordHintServlet for viewing a Customer’s password hin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cHTML_GetPasswordHint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2895480" cy="4991040"/>
          </a:xfrm>
          <a:prstGeom prst="rect">
            <a:avLst/>
          </a:prstGeom>
          <a:ln w="0">
            <a:noFill/>
          </a:ln>
        </p:spPr>
      </p:pic>
      <p:pic>
        <p:nvPicPr>
          <p:cNvPr id="700" name="WML_GetPasswordHint" descr=""/>
          <p:cNvPicPr/>
          <p:nvPr/>
        </p:nvPicPr>
        <p:blipFill>
          <a:blip r:embed="rId2"/>
          <a:stretch/>
        </p:blipFill>
        <p:spPr>
          <a:xfrm>
            <a:off x="4495680" y="533520"/>
            <a:ext cx="21909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4-2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9-2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3-2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0-3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clients from XML document and build ClientMod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InputStream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eam clientXML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sourceAsStrea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XM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ars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clients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ilder.parse( clientXML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odeList of client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deList clientElemen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sDocument.getElementsByTag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length of client Node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Length = clientElements.getLength(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NodeList of client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ist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next clie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cli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Element ) clientElements.item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agent Element from clie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agentElement = ( Ele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.getElementsByTag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item( 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agent Element's child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 agent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Text ) agentElement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952880" y="990720"/>
            <a:ext cx="2666880" cy="580680"/>
            <a:chOff x="4952880" y="990720"/>
            <a:chExt cx="2666880" cy="580680"/>
          </a:xfrm>
        </p:grpSpPr>
        <p:sp>
          <p:nvSpPr>
            <p:cNvPr id="204" name=""/>
            <p:cNvSpPr/>
            <p:nvPr/>
          </p:nvSpPr>
          <p:spPr>
            <a:xfrm>
              <a:off x="5397120" y="990720"/>
              <a:ext cx="2222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configuration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952880" y="129528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267080" y="1905120"/>
            <a:ext cx="3962160" cy="580680"/>
            <a:chOff x="4267080" y="1905120"/>
            <a:chExt cx="3962160" cy="580680"/>
          </a:xfrm>
        </p:grpSpPr>
        <p:sp>
          <p:nvSpPr>
            <p:cNvPr id="207" name=""/>
            <p:cNvSpPr/>
            <p:nvPr/>
          </p:nvSpPr>
          <p:spPr>
            <a:xfrm>
              <a:off x="4927320" y="1905120"/>
              <a:ext cx="3301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e the XML configuration file and buil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in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67080" y="220968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790960" y="2666880"/>
            <a:ext cx="3200400" cy="580680"/>
            <a:chOff x="5790960" y="2666880"/>
            <a:chExt cx="3200400" cy="580680"/>
          </a:xfrm>
        </p:grpSpPr>
        <p:sp>
          <p:nvSpPr>
            <p:cNvPr id="210" name=""/>
            <p:cNvSpPr/>
            <p:nvPr/>
          </p:nvSpPr>
          <p:spPr>
            <a:xfrm>
              <a:off x="632448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i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rom the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790960" y="29714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81120" y="3886200"/>
            <a:ext cx="3429000" cy="1067400"/>
            <a:chOff x="5181120" y="3886200"/>
            <a:chExt cx="3429000" cy="1067400"/>
          </a:xfrm>
        </p:grpSpPr>
        <p:sp>
          <p:nvSpPr>
            <p:cNvPr id="213" name=""/>
            <p:cNvSpPr/>
            <p:nvPr/>
          </p:nvSpPr>
          <p:spPr>
            <a:xfrm>
              <a:off x="5752800" y="3886200"/>
              <a:ext cx="2857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XML configuration file and add th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181120" y="41907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value of agent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agent = agentText.getNode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contentTyp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typeElement = ( Ele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.getElementsByTag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item( 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contentType Element's child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 type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Text ) typeElement.getFirstChild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value of contentType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type = typeText.getNodeValue(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XSLPath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pathElement = ( Ele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.getElementsByTag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SLPa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item( 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Text node child of XSL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 path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Text ) pathElement.getFirstChild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value of XSLPath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path = pathText.getNodeValu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new ClientModel with userAgent, content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nd XSLPath for this clie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List.add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( agent, type, path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6-3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SAXException when pars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AXException sax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x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IO exception when read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newly creating list of ClientMod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buildClie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lientModel for given User-Agent HTTP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 getClientModel( String head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clie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client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ClientModel whose userAgent property i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bstring of given User-Agent HTTP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Model client = ( ClientModel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this ClientModel's userAgent property is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string of the User-Agent HTTP header, return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 reference to the Clien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eader.indexOf( client.getUserAgent() 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638320" y="3124080"/>
            <a:ext cx="2590920" cy="824040"/>
            <a:chOff x="5638320" y="3124080"/>
            <a:chExt cx="2590920" cy="824040"/>
          </a:xfrm>
        </p:grpSpPr>
        <p:sp>
          <p:nvSpPr>
            <p:cNvPr id="220" name=""/>
            <p:cNvSpPr/>
            <p:nvPr/>
          </p:nvSpPr>
          <p:spPr>
            <a:xfrm>
              <a:off x="6070320" y="3124080"/>
              <a:ext cx="2158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matches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638320" y="3428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4-3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default ClientModel if no others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FAULT 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HTML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Clien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86040" y="457200"/>
            <a:ext cx="3048480" cy="1067400"/>
            <a:chOff x="5486040" y="457200"/>
            <a:chExt cx="3048480" cy="1067400"/>
          </a:xfrm>
        </p:grpSpPr>
        <p:sp>
          <p:nvSpPr>
            <p:cNvPr id="225" name=""/>
            <p:cNvSpPr/>
            <p:nvPr/>
          </p:nvSpPr>
          <p:spPr>
            <a:xfrm>
              <a:off x="5994360" y="457200"/>
              <a:ext cx="2540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a generic XHTM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default if no other matc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86040" y="76176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 Configuration file for enabling support for various client types (clients.xml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clients SYSTE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advjhtp1/clients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lient configuration file for the Deitel Bookstor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client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Microsoft Internet Explorer version 5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crosoft Internet Explorer 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zilla/4.0 (compatible; MSIE 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X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Microsoft Internet Explorer version 6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crosoft Internet Explorer 6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zilla/4.0 (compatible; MSIE 6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X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Netscape version 4.7x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tscape 4.7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zilla/4.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X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Mozilla/Netscape version 6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zilla/Netscape 6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ecko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X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 Configuration file for enabling support for various client types (clients.xml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Phone.com WML browser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nwave SDK Brows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.Browser/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vnd.wap.w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W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Nokia WML browser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kia WAP Toolkit Brows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kia-WA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vnd.wap.w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W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Pixo iMode browser cli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lien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ixo Brows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userAg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xo-Brows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rAg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content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ht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ntent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XSLPa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XSLT/cHTML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Pa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l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lient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3 DTD for clients.xm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lients.dtd       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DTD for specifying Bookstore client typ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+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Ag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SLPath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ATTLIS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DATA #REQUIRE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Ag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#PCDATA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#PCDATA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E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SLPath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( #PCDATA )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4 ClientModel for representing supported cli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Model is a utility class for determining the prop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ent-Type and path for XSL files for each type of cli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pported by the Bookstore appl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Model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Ag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ontentTy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XSLPa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Model constructor for initializing data me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Model( String agent, String type, String pa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UserAgent( ag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ContentType( ty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XSLPath( pa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serAgent substr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rAgent( String ag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Agent = ag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rAgent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UserAg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Ag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48320" y="4952880"/>
            <a:ext cx="3098520" cy="1067040"/>
            <a:chOff x="4648320" y="4952880"/>
            <a:chExt cx="3098520" cy="1067040"/>
          </a:xfrm>
        </p:grpSpPr>
        <p:sp>
          <p:nvSpPr>
            <p:cNvPr id="236" name=""/>
            <p:cNvSpPr/>
            <p:nvPr/>
          </p:nvSpPr>
          <p:spPr>
            <a:xfrm>
              <a:off x="5867280" y="5181480"/>
              <a:ext cx="1879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723920" y="49528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8320" y="54864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4 ClientModel for representing supported cli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ontent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ntentType( String typ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Type = ty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ntent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ntentTyp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Ty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XSL 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SLPath( String pa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SLPath = pa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SL 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XSLPath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SLPa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724280" y="761760"/>
            <a:ext cx="3276360" cy="1066680"/>
            <a:chOff x="4724280" y="761760"/>
            <a:chExt cx="3276360" cy="1066680"/>
          </a:xfrm>
        </p:grpSpPr>
        <p:sp>
          <p:nvSpPr>
            <p:cNvPr id="242" name=""/>
            <p:cNvSpPr/>
            <p:nvPr/>
          </p:nvSpPr>
          <p:spPr>
            <a:xfrm>
              <a:off x="6013080" y="990360"/>
              <a:ext cx="1987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4804200" y="761760"/>
              <a:ext cx="1208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724280" y="1295280"/>
              <a:ext cx="128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419720" y="2895480"/>
            <a:ext cx="3098520" cy="1067040"/>
            <a:chOff x="4419720" y="2895480"/>
            <a:chExt cx="3098520" cy="1067040"/>
          </a:xfrm>
        </p:grpSpPr>
        <p:sp>
          <p:nvSpPr>
            <p:cNvPr id="246" name=""/>
            <p:cNvSpPr/>
            <p:nvPr/>
          </p:nvSpPr>
          <p:spPr>
            <a:xfrm>
              <a:off x="5638680" y="3124080"/>
              <a:ext cx="1879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SL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4495320" y="2895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419720" y="34290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user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servlets in the Deitel Bookstor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the output from the request to the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SL transform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 Shopping Cart 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-car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 th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 items for purc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items in a virtual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o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 Shopping Cart Servle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170080" y="1990800"/>
            <a:ext cx="4803840" cy="2876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48640" y="5257800"/>
            <a:ext cx="803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8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of client requests and data returned in the Deitel Bookstore for XHTML cli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To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ML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s a product to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6 AddToCartServlet for adding products to a shopping car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To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ToCartServlet adds a Product to the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HttpSession Object for this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6 AddToCartServlet for adding products to a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stomer's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ppingCart shoppingCar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hoppingCart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SBN parameter from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sb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hoppingCart and add Product to be purcha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hoppingCart if Customer does not have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ppingCar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ject object = 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Shopping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ast Object reference to ShoppingCartHo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Home shoppingCartHome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ShoppingCar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object, ShoppingCar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ShoppingCart using ShoppingCartHo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 = shoppingCartHome.cre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tore ShoppingCart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hoppingC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Product to Customer's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ppingCart.addProduct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direct Customer to ViewCartServlet to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257440" y="228600"/>
            <a:ext cx="3657600" cy="824040"/>
            <a:chOff x="5257440" y="228600"/>
            <a:chExt cx="3657600" cy="824040"/>
          </a:xfrm>
        </p:grpSpPr>
        <p:sp>
          <p:nvSpPr>
            <p:cNvPr id="261" name=""/>
            <p:cNvSpPr/>
            <p:nvPr/>
          </p:nvSpPr>
          <p:spPr>
            <a:xfrm>
              <a:off x="6037200" y="228600"/>
              <a:ext cx="2877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 reference to th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servle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257440" y="53352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562360" y="4267080"/>
            <a:ext cx="3352680" cy="824040"/>
            <a:chOff x="5562360" y="4267080"/>
            <a:chExt cx="3352680" cy="824040"/>
          </a:xfrm>
        </p:grpSpPr>
        <p:sp>
          <p:nvSpPr>
            <p:cNvPr id="264" name=""/>
            <p:cNvSpPr/>
            <p:nvPr/>
          </p:nvSpPr>
          <p:spPr>
            <a:xfrm>
              <a:off x="6278400" y="4267080"/>
              <a:ext cx="2636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ome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562360" y="45720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867280" y="4800600"/>
            <a:ext cx="2971440" cy="824040"/>
            <a:chOff x="5867280" y="4800600"/>
            <a:chExt cx="2971440" cy="824040"/>
          </a:xfrm>
        </p:grpSpPr>
        <p:sp>
          <p:nvSpPr>
            <p:cNvPr id="267" name=""/>
            <p:cNvSpPr/>
            <p:nvPr/>
          </p:nvSpPr>
          <p:spPr>
            <a:xfrm>
              <a:off x="6501600" y="480060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servle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later u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867280" y="51055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419720" y="5486400"/>
            <a:ext cx="4267080" cy="824040"/>
            <a:chOff x="4419720" y="5486400"/>
            <a:chExt cx="4267080" cy="824040"/>
          </a:xfrm>
        </p:grpSpPr>
        <p:sp>
          <p:nvSpPr>
            <p:cNvPr id="270" name=""/>
            <p:cNvSpPr/>
            <p:nvPr/>
          </p:nvSpPr>
          <p:spPr>
            <a:xfrm>
              <a:off x="5330880" y="5486400"/>
              <a:ext cx="335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with the product’s ISBN as an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419720" y="57913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00600" y="6248520"/>
            <a:ext cx="4267080" cy="580680"/>
            <a:chOff x="4800600" y="6248520"/>
            <a:chExt cx="4267080" cy="580680"/>
          </a:xfrm>
        </p:grpSpPr>
        <p:sp>
          <p:nvSpPr>
            <p:cNvPr id="273" name=""/>
            <p:cNvSpPr/>
            <p:nvPr/>
          </p:nvSpPr>
          <p:spPr>
            <a:xfrm>
              <a:off x="5638680" y="6248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Redir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direct the clie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800600" y="6553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6 AddToCartServlet for adding products to a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8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9-9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2-1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ShoppingCar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hoppingCart EJB was no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in 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ShoppingCar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Cart could not be cre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Product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NotFoundException produ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181480" y="762120"/>
            <a:ext cx="3733560" cy="824040"/>
            <a:chOff x="5181480" y="762120"/>
            <a:chExt cx="3733560" cy="824040"/>
          </a:xfrm>
        </p:grpSpPr>
        <p:sp>
          <p:nvSpPr>
            <p:cNvPr id="278" name=""/>
            <p:cNvSpPr/>
            <p:nvPr/>
          </p:nvSpPr>
          <p:spPr>
            <a:xfrm>
              <a:off x="5978520" y="762120"/>
              <a:ext cx="293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s not found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181480" y="106668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181480" y="3352680"/>
            <a:ext cx="3200040" cy="824040"/>
            <a:chOff x="5181480" y="3352680"/>
            <a:chExt cx="3200040" cy="824040"/>
          </a:xfrm>
        </p:grpSpPr>
        <p:sp>
          <p:nvSpPr>
            <p:cNvPr id="281" name=""/>
            <p:cNvSpPr/>
            <p:nvPr/>
          </p:nvSpPr>
          <p:spPr>
            <a:xfrm>
              <a:off x="5864760" y="3352680"/>
              <a:ext cx="251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re is an error creating the customer’s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181480" y="36576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562720" y="4876920"/>
            <a:ext cx="3429000" cy="1143000"/>
            <a:chOff x="5562720" y="4876920"/>
            <a:chExt cx="3429000" cy="1143000"/>
          </a:xfrm>
        </p:grpSpPr>
        <p:sp>
          <p:nvSpPr>
            <p:cNvPr id="284" name=""/>
            <p:cNvSpPr/>
            <p:nvPr/>
          </p:nvSpPr>
          <p:spPr>
            <a:xfrm>
              <a:off x="5562720" y="48769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NotFound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given ISBN could not be found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095520" y="57150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6 AddToCartServlet for adding products to a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5, 98, 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product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57800" y="762120"/>
            <a:ext cx="2971440" cy="824040"/>
            <a:chOff x="5257800" y="762120"/>
            <a:chExt cx="2971440" cy="824040"/>
          </a:xfrm>
        </p:grpSpPr>
        <p:sp>
          <p:nvSpPr>
            <p:cNvPr id="289" name=""/>
            <p:cNvSpPr/>
            <p:nvPr/>
          </p:nvSpPr>
          <p:spPr>
            <a:xfrm>
              <a:off x="5892120" y="7621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ML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nds the cont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257800" y="10666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ewCar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the shopping cart’s cont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7 ViewCartServlet for viewing contents of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CartServlet presents the contents of the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ew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stomer's ShoppingCart from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ppingCart shoppingCar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hoppingCart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040" y="6095880"/>
            <a:ext cx="2362680" cy="580680"/>
            <a:chOff x="5486040" y="6095880"/>
            <a:chExt cx="2362680" cy="580680"/>
          </a:xfrm>
        </p:grpSpPr>
        <p:sp>
          <p:nvSpPr>
            <p:cNvPr id="296" name=""/>
            <p:cNvSpPr/>
            <p:nvPr/>
          </p:nvSpPr>
          <p:spPr>
            <a:xfrm>
              <a:off x="5991480" y="6095880"/>
              <a:ext cx="185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486040" y="640080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7 ViewCartServlet for viewing contents of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6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ild XML document with contents of ShoppingCar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ppingCar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art element in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 = ( Element ) docu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otal cost of Products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uble total = shoppingCart.getTot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umberFormat for local curr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Format price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umberFormat.getCurrency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ormat total price for ShoppingCart and add 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s an attribute of element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ceFormatter.format( tota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orderProduc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.getContent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an element for each 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Products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ProductModel order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OrderProductModel ) orderProducts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oo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Product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867280" y="990720"/>
            <a:ext cx="3200400" cy="1067400"/>
            <a:chOff x="5867280" y="990720"/>
            <a:chExt cx="3200400" cy="1067400"/>
          </a:xfrm>
        </p:grpSpPr>
        <p:sp>
          <p:nvSpPr>
            <p:cNvPr id="301" name=""/>
            <p:cNvSpPr/>
            <p:nvPr/>
          </p:nvSpPr>
          <p:spPr>
            <a:xfrm>
              <a:off x="6549480" y="990720"/>
              <a:ext cx="2518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 building the XML document that describes the customer’s shopping cart by creating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867280" y="12952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160" y="1676520"/>
            <a:ext cx="3352680" cy="580680"/>
            <a:chOff x="5105160" y="1676520"/>
            <a:chExt cx="3352680" cy="580680"/>
          </a:xfrm>
        </p:grpSpPr>
        <p:sp>
          <p:nvSpPr>
            <p:cNvPr id="304" name=""/>
            <p:cNvSpPr/>
            <p:nvPr/>
          </p:nvSpPr>
          <p:spPr>
            <a:xfrm>
              <a:off x="5821200" y="1676520"/>
              <a:ext cx="2636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total price for the items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105160" y="19814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419360" y="2209680"/>
            <a:ext cx="4572000" cy="824040"/>
            <a:chOff x="4419360" y="2209680"/>
            <a:chExt cx="4572000" cy="824040"/>
          </a:xfrm>
        </p:grpSpPr>
        <p:sp>
          <p:nvSpPr>
            <p:cNvPr id="307" name=""/>
            <p:cNvSpPr/>
            <p:nvPr/>
          </p:nvSpPr>
          <p:spPr>
            <a:xfrm>
              <a:off x="5394240" y="2209680"/>
              <a:ext cx="359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at the total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ppend the formatted total to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419360" y="251460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876920" y="4800600"/>
            <a:ext cx="3733200" cy="824040"/>
            <a:chOff x="4876920" y="4800600"/>
            <a:chExt cx="3733200" cy="824040"/>
          </a:xfrm>
        </p:grpSpPr>
        <p:sp>
          <p:nvSpPr>
            <p:cNvPr id="310" name=""/>
            <p:cNvSpPr/>
            <p:nvPr/>
          </p:nvSpPr>
          <p:spPr>
            <a:xfrm>
              <a:off x="5673960" y="4800600"/>
              <a:ext cx="293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876920" y="51055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562720" y="5638680"/>
            <a:ext cx="3504600" cy="1067400"/>
            <a:chOff x="5562720" y="5638680"/>
            <a:chExt cx="3504600" cy="1067400"/>
          </a:xfrm>
        </p:grpSpPr>
        <p:sp>
          <p:nvSpPr>
            <p:cNvPr id="313" name=""/>
            <p:cNvSpPr/>
            <p:nvPr/>
          </p:nvSpPr>
          <p:spPr>
            <a:xfrm>
              <a:off x="6309720" y="5638680"/>
              <a:ext cx="2757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n XML element that describ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562720" y="594360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XML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Base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Servlet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initialization and utility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XML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SLT trans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7 ViewCartServlet for viewing contents of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r ShoppingCart is empt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cont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181120" y="228600"/>
            <a:ext cx="3353040" cy="580680"/>
            <a:chOff x="5181120" y="228600"/>
            <a:chExt cx="3353040" cy="580680"/>
          </a:xfrm>
        </p:grpSpPr>
        <p:sp>
          <p:nvSpPr>
            <p:cNvPr id="318" name=""/>
            <p:cNvSpPr/>
            <p:nvPr/>
          </p:nvSpPr>
          <p:spPr>
            <a:xfrm>
              <a:off x="5897160" y="228600"/>
              <a:ext cx="263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an error message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181120" y="5335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952880" y="1905120"/>
            <a:ext cx="3428640" cy="1067400"/>
            <a:chOff x="4952880" y="1905120"/>
            <a:chExt cx="3428640" cy="1067400"/>
          </a:xfrm>
        </p:grpSpPr>
        <p:sp>
          <p:nvSpPr>
            <p:cNvPr id="321" name=""/>
            <p:cNvSpPr/>
            <p:nvPr/>
          </p:nvSpPr>
          <p:spPr>
            <a:xfrm>
              <a:off x="5684760" y="1905120"/>
              <a:ext cx="269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ransforms the XML content using XSLT and present that cont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952880" y="22096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8 ViewCartServlet XSL transformation for XHTML browsers (XHT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-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mit-xml-declara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de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system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publi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include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/XSLT/XHT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template matc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xml:la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ang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Online 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/default.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for-each selec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cument( '/XSLT/XHTML/navigation.xml' )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copy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for-eac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Shopping Cart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19920" y="990720"/>
            <a:ext cx="2971440" cy="580680"/>
            <a:chOff x="6019920" y="990720"/>
            <a:chExt cx="2971440" cy="580680"/>
          </a:xfrm>
        </p:grpSpPr>
        <p:sp>
          <p:nvSpPr>
            <p:cNvPr id="326" name=""/>
            <p:cNvSpPr/>
            <p:nvPr/>
          </p:nvSpPr>
          <p:spPr>
            <a:xfrm>
              <a:off x="6654240" y="990720"/>
              <a:ext cx="233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output parameters for the trans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019920" y="129564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028840" y="1676520"/>
            <a:ext cx="3886560" cy="580680"/>
            <a:chOff x="5028840" y="1676520"/>
            <a:chExt cx="3886560" cy="580680"/>
          </a:xfrm>
        </p:grpSpPr>
        <p:sp>
          <p:nvSpPr>
            <p:cNvPr id="329" name=""/>
            <p:cNvSpPr/>
            <p:nvPr/>
          </p:nvSpPr>
          <p:spPr>
            <a:xfrm>
              <a:off x="5859000" y="1676520"/>
              <a:ext cx="305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ludes templat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.xs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ransforming error mess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028840" y="198144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410080" y="4038480"/>
            <a:ext cx="3505320" cy="580680"/>
            <a:chOff x="5410080" y="4038480"/>
            <a:chExt cx="3505320" cy="580680"/>
          </a:xfrm>
        </p:grpSpPr>
        <p:sp>
          <p:nvSpPr>
            <p:cNvPr id="332" name=""/>
            <p:cNvSpPr/>
            <p:nvPr/>
          </p:nvSpPr>
          <p:spPr>
            <a:xfrm>
              <a:off x="6158520" y="4038480"/>
              <a:ext cx="275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a navigation header from an external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10080" y="434340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8 ViewCartServlet XSL transformation for XHTML browsers (XHTML/viewCart.xsl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1-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1-9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ble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(s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apply-templ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Your total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@tot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template matc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Product?ISBN=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86200" y="76320"/>
            <a:ext cx="2971440" cy="824040"/>
            <a:chOff x="3886200" y="76320"/>
            <a:chExt cx="2971440" cy="824040"/>
          </a:xfrm>
        </p:grpSpPr>
        <p:sp>
          <p:nvSpPr>
            <p:cNvPr id="337" name=""/>
            <p:cNvSpPr/>
            <p:nvPr/>
          </p:nvSpPr>
          <p:spPr>
            <a:xfrm>
              <a:off x="4520520" y="763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a template that populates a table with product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886200" y="3808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943600" y="3733920"/>
            <a:ext cx="2971440" cy="1067400"/>
            <a:chOff x="5943600" y="3733920"/>
            <a:chExt cx="2971440" cy="1067400"/>
          </a:xfrm>
        </p:grpSpPr>
        <p:sp>
          <p:nvSpPr>
            <p:cNvPr id="340" name=""/>
            <p:cNvSpPr/>
            <p:nvPr/>
          </p:nvSpPr>
          <p:spPr>
            <a:xfrm>
              <a:off x="6577920" y="3733920"/>
              <a:ext cx="2337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rm enables the customer to check out from the online store to place the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943600" y="40384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419360" y="5486400"/>
            <a:ext cx="4647960" cy="824040"/>
            <a:chOff x="4419360" y="5486400"/>
            <a:chExt cx="4647960" cy="824040"/>
          </a:xfrm>
        </p:grpSpPr>
        <p:sp>
          <p:nvSpPr>
            <p:cNvPr id="343" name=""/>
            <p:cNvSpPr/>
            <p:nvPr/>
          </p:nvSpPr>
          <p:spPr>
            <a:xfrm>
              <a:off x="5410440" y="5486400"/>
              <a:ext cx="365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template extracts each product’s information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Serve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XML document and creates a table r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19360" y="579132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8 ViewCartServlet XSL transformation for XHTML browsers (XHTML/viewCart.xsl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80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4-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quantity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alig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From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791320" y="1676520"/>
            <a:ext cx="3276000" cy="824040"/>
            <a:chOff x="5791320" y="1676520"/>
            <a:chExt cx="3276000" cy="824040"/>
          </a:xfrm>
        </p:grpSpPr>
        <p:sp>
          <p:nvSpPr>
            <p:cNvPr id="348" name=""/>
            <p:cNvSpPr/>
            <p:nvPr/>
          </p:nvSpPr>
          <p:spPr>
            <a:xfrm>
              <a:off x="6490800" y="1676520"/>
              <a:ext cx="25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user to change the quantity of the product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791320" y="198108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72200" y="3352680"/>
            <a:ext cx="2514240" cy="1067400"/>
            <a:chOff x="6172200" y="3352680"/>
            <a:chExt cx="2514240" cy="1067400"/>
          </a:xfrm>
        </p:grpSpPr>
        <p:sp>
          <p:nvSpPr>
            <p:cNvPr id="351" name=""/>
            <p:cNvSpPr/>
            <p:nvPr/>
          </p:nvSpPr>
          <p:spPr>
            <a:xfrm>
              <a:off x="6709680" y="3352680"/>
              <a:ext cx="197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user to remove the product from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6172200" y="365760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8 ViewCartServlet XSL transformation for XHTML browsers (XHTML/viewCart.xsl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viewcart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4501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9 ViewCartServlet XSL transformation for I-mode browsers (cHT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nde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http://www.w3.org/MarkUp/html-spec/html-spec_toc.ht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HTML 2.0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cHT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Online 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Shopping Car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total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@tot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(s)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648320" y="4952880"/>
            <a:ext cx="2971440" cy="580680"/>
            <a:chOff x="4648320" y="4952880"/>
            <a:chExt cx="2971440" cy="580680"/>
          </a:xfrm>
        </p:grpSpPr>
        <p:sp>
          <p:nvSpPr>
            <p:cNvPr id="358" name=""/>
            <p:cNvSpPr/>
            <p:nvPr/>
          </p:nvSpPr>
          <p:spPr>
            <a:xfrm>
              <a:off x="5282640" y="4952880"/>
              <a:ext cx="233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he total cost of products in the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648320" y="52578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9 ViewCartServlet XSL transformation for I-mode browsers (cHT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u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apply-templat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u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li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Product?ISBN=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r/&gt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quantity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343400" y="380880"/>
            <a:ext cx="4267080" cy="824040"/>
            <a:chOff x="4343400" y="380880"/>
            <a:chExt cx="4267080" cy="824040"/>
          </a:xfrm>
        </p:grpSpPr>
        <p:sp>
          <p:nvSpPr>
            <p:cNvPr id="363" name=""/>
            <p:cNvSpPr/>
            <p:nvPr/>
          </p:nvSpPr>
          <p:spPr>
            <a:xfrm>
              <a:off x="5254560" y="380880"/>
              <a:ext cx="335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sl:temp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s to produce an unordered list of product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343400" y="68580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943240" y="1523880"/>
            <a:ext cx="2819880" cy="1067400"/>
            <a:chOff x="5943240" y="1523880"/>
            <a:chExt cx="2819880" cy="1067400"/>
          </a:xfrm>
        </p:grpSpPr>
        <p:sp>
          <p:nvSpPr>
            <p:cNvPr id="366" name=""/>
            <p:cNvSpPr/>
            <p:nvPr/>
          </p:nvSpPr>
          <p:spPr>
            <a:xfrm>
              <a:off x="6705720" y="1523880"/>
              <a:ext cx="2057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customer to check out of the online store to place the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943240" y="1828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791320" y="5181480"/>
            <a:ext cx="3276000" cy="1067400"/>
            <a:chOff x="5791320" y="5181480"/>
            <a:chExt cx="3276000" cy="1067400"/>
          </a:xfrm>
        </p:grpSpPr>
        <p:sp>
          <p:nvSpPr>
            <p:cNvPr id="369" name=""/>
            <p:cNvSpPr/>
            <p:nvPr/>
          </p:nvSpPr>
          <p:spPr>
            <a:xfrm>
              <a:off x="6490800" y="5181480"/>
              <a:ext cx="257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customer to update the quantity of a particular product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791320" y="548640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9 ViewCartServlet XSL transformation for I-mode browsers (cHT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From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r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li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3" name="cHTML_ViewCart" descr=""/>
          <p:cNvPicPr/>
          <p:nvPr/>
        </p:nvPicPr>
        <p:blipFill>
          <a:blip r:embed="rId1"/>
          <a:stretch/>
        </p:blipFill>
        <p:spPr>
          <a:xfrm>
            <a:off x="2349360" y="2438280"/>
            <a:ext cx="2376720" cy="409572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6171840" y="228600"/>
            <a:ext cx="2819520" cy="1067400"/>
            <a:chOff x="6171840" y="228600"/>
            <a:chExt cx="2819520" cy="1067400"/>
          </a:xfrm>
        </p:grpSpPr>
        <p:sp>
          <p:nvSpPr>
            <p:cNvPr id="375" name=""/>
            <p:cNvSpPr/>
            <p:nvPr/>
          </p:nvSpPr>
          <p:spPr>
            <a:xfrm>
              <a:off x="6774840" y="228600"/>
              <a:ext cx="221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form enables the customer to remove a product from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171840" y="5335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0 ViewCartServlet XSL transformation for WML browsers (W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4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WML/error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rev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ou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&lt;em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m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total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@tot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able colum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r&gt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for-each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486400" y="3505320"/>
            <a:ext cx="2743200" cy="824040"/>
            <a:chOff x="5486400" y="3505320"/>
            <a:chExt cx="2743200" cy="824040"/>
          </a:xfrm>
        </p:grpSpPr>
        <p:sp>
          <p:nvSpPr>
            <p:cNvPr id="380" name=""/>
            <p:cNvSpPr/>
            <p:nvPr/>
          </p:nvSpPr>
          <p:spPr>
            <a:xfrm>
              <a:off x="6070320" y="3505320"/>
              <a:ext cx="2159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the user to check out of the online store to place the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86400" y="380988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715000" y="4648320"/>
            <a:ext cx="3200040" cy="580680"/>
            <a:chOff x="5715000" y="4648320"/>
            <a:chExt cx="3200040" cy="580680"/>
          </a:xfrm>
        </p:grpSpPr>
        <p:sp>
          <p:nvSpPr>
            <p:cNvPr id="383" name=""/>
            <p:cNvSpPr/>
            <p:nvPr/>
          </p:nvSpPr>
          <p:spPr>
            <a:xfrm>
              <a:off x="6398280" y="4648320"/>
              <a:ext cx="251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k up the list of products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715000" y="495324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0 ViewCartServlet XSL transformation for WML browsers (W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4-6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5-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ISBN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xsl:for-eac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xsl:for-each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do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prev/&gt;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do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nge Qua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tion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quant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it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/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ew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inpu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antit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mptyo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forma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409720" y="3276720"/>
            <a:ext cx="2667600" cy="580680"/>
            <a:chOff x="5409720" y="3276720"/>
            <a:chExt cx="2667600" cy="580680"/>
          </a:xfrm>
        </p:grpSpPr>
        <p:sp>
          <p:nvSpPr>
            <p:cNvPr id="388" name=""/>
            <p:cNvSpPr/>
            <p:nvPr/>
          </p:nvSpPr>
          <p:spPr>
            <a:xfrm>
              <a:off x="5979600" y="3276720"/>
              <a:ext cx="209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information about a single produ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409720" y="358164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876560" y="5486400"/>
            <a:ext cx="3886560" cy="824040"/>
            <a:chOff x="4876560" y="5486400"/>
            <a:chExt cx="3886560" cy="824040"/>
          </a:xfrm>
        </p:grpSpPr>
        <p:sp>
          <p:nvSpPr>
            <p:cNvPr id="391" name=""/>
            <p:cNvSpPr/>
            <p:nvPr/>
          </p:nvSpPr>
          <p:spPr>
            <a:xfrm>
              <a:off x="5706720" y="5486400"/>
              <a:ext cx="305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n interface for changing the quantity of a particular product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876560" y="57913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Servlet is a base class for servlets that gener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ML documents and perform XSL transforma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parser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strea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xml.sax.SAX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y for creating DocumentBuil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BuilderFactory builder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y for creating Transform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erFactory transformer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XSL file that presents servlet's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XSL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0 ViewCartServlet XSL transformation for WML browsers (WML/viewCart.xsl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Quantit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ostfield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product/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quantit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ce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prev/&gt;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xsl:for-eac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wml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0 ViewCartServlet XSL transformation for WML browsers (WML/viewCart.xs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WML_ViewCart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21909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moveFromCar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From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products from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18.11 RemoveFromCartServlet for removing products from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From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FromCartServlet removes a Product from the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Product from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ISBN of Product to be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sb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181480" y="5105520"/>
            <a:ext cx="3632400" cy="1222200"/>
            <a:chOff x="5181480" y="5105520"/>
            <a:chExt cx="3632400" cy="1222200"/>
          </a:xfrm>
        </p:grpSpPr>
        <p:sp>
          <p:nvSpPr>
            <p:cNvPr id="402" name=""/>
            <p:cNvSpPr/>
            <p:nvPr/>
          </p:nvSpPr>
          <p:spPr>
            <a:xfrm>
              <a:off x="5181480" y="5105520"/>
              <a:ext cx="3632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ISBN of the product that the customer would like to remove from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638320" y="5943600"/>
              <a:ext cx="12956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18.11 RemoveFromCartServlet for removing products from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3-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ShoppingCart from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ppingCart shoppingCar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hoppingCart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ShoppingCart is not null, remove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ppingCar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.removeProduct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direct Customer to ViewCartServlet to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NotFoundException produ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product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638680" y="609480"/>
            <a:ext cx="2971440" cy="824040"/>
            <a:chOff x="5638680" y="609480"/>
            <a:chExt cx="2971440" cy="824040"/>
          </a:xfrm>
        </p:grpSpPr>
        <p:sp>
          <p:nvSpPr>
            <p:cNvPr id="407" name=""/>
            <p:cNvSpPr/>
            <p:nvPr/>
          </p:nvSpPr>
          <p:spPr>
            <a:xfrm>
              <a:off x="6273000" y="60948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638680" y="9144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952880" y="1523880"/>
            <a:ext cx="4038480" cy="824040"/>
            <a:chOff x="4952880" y="1523880"/>
            <a:chExt cx="4038480" cy="824040"/>
          </a:xfrm>
        </p:grpSpPr>
        <p:sp>
          <p:nvSpPr>
            <p:cNvPr id="410" name=""/>
            <p:cNvSpPr/>
            <p:nvPr/>
          </p:nvSpPr>
          <p:spPr>
            <a:xfrm>
              <a:off x="5815080" y="1523880"/>
              <a:ext cx="3176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is no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952880" y="182880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876560" y="2209680"/>
            <a:ext cx="3657600" cy="1067400"/>
            <a:chOff x="4876560" y="2209680"/>
            <a:chExt cx="3657600" cy="1067400"/>
          </a:xfrm>
        </p:grpSpPr>
        <p:sp>
          <p:nvSpPr>
            <p:cNvPr id="413" name=""/>
            <p:cNvSpPr/>
            <p:nvPr/>
          </p:nvSpPr>
          <p:spPr>
            <a:xfrm>
              <a:off x="5657760" y="2209680"/>
              <a:ext cx="2876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 the clie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e results of removing the product from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876560" y="25146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095880" y="3124080"/>
            <a:ext cx="2971440" cy="1067400"/>
            <a:chOff x="6095880" y="3124080"/>
            <a:chExt cx="2971440" cy="1067400"/>
          </a:xfrm>
        </p:grpSpPr>
        <p:sp>
          <p:nvSpPr>
            <p:cNvPr id="416" name=""/>
            <p:cNvSpPr/>
            <p:nvPr/>
          </p:nvSpPr>
          <p:spPr>
            <a:xfrm>
              <a:off x="6730200" y="3124080"/>
              <a:ext cx="2337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exception and generate an error message to inform the user of the probl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095880" y="34290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UpdateCar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the quantities of products in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2 UpdateCartServlet for updating quantities of products in shopping cart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CartServlet updates the quantity of a Product in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er's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quantity of given Product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ShoppingCart from sess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2 UpdateCartServlet for updating quantities of products in shopping c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ppingCart shoppingCart = ( ShoppingCar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numeration of parameter 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umeration parameters = request.getParameterNam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quantity for each ISBN par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ameters.hasMoreElement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ISBN of Product to be upd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ISBN = ( String ) parameters.next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new quantity for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Quantity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quest.getParameter( ISB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quantity in ShoppingCart for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oppingCart.setProductQuantity( ISB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newQuant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direct Customer to ViewCartServlet to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tents of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NotFoundException produ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product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562360" y="228600"/>
            <a:ext cx="2819520" cy="824040"/>
            <a:chOff x="5562360" y="228600"/>
            <a:chExt cx="2819520" cy="824040"/>
          </a:xfrm>
        </p:grpSpPr>
        <p:sp>
          <p:nvSpPr>
            <p:cNvPr id="425" name=""/>
            <p:cNvSpPr/>
            <p:nvPr/>
          </p:nvSpPr>
          <p:spPr>
            <a:xfrm>
              <a:off x="6164640" y="228600"/>
              <a:ext cx="221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562360" y="5335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00800" y="990720"/>
            <a:ext cx="2666880" cy="1310760"/>
            <a:chOff x="6400800" y="990720"/>
            <a:chExt cx="2666880" cy="1310760"/>
          </a:xfrm>
        </p:grpSpPr>
        <p:sp>
          <p:nvSpPr>
            <p:cNvPr id="428" name=""/>
            <p:cNvSpPr/>
            <p:nvPr/>
          </p:nvSpPr>
          <p:spPr>
            <a:xfrm>
              <a:off x="6969240" y="990720"/>
              <a:ext cx="2098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umer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parameter nam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400800" y="129528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029200" y="2590920"/>
            <a:ext cx="4038120" cy="580680"/>
            <a:chOff x="5029200" y="2590920"/>
            <a:chExt cx="4038120" cy="580680"/>
          </a:xfrm>
        </p:grpSpPr>
        <p:sp>
          <p:nvSpPr>
            <p:cNvPr id="431" name=""/>
            <p:cNvSpPr/>
            <p:nvPr/>
          </p:nvSpPr>
          <p:spPr>
            <a:xfrm>
              <a:off x="5891400" y="2590920"/>
              <a:ext cx="3175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Quanti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produc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029200" y="289584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257800" y="3505320"/>
            <a:ext cx="3276360" cy="580680"/>
            <a:chOff x="5257800" y="3505320"/>
            <a:chExt cx="3276360" cy="580680"/>
          </a:xfrm>
        </p:grpSpPr>
        <p:sp>
          <p:nvSpPr>
            <p:cNvPr id="434" name=""/>
            <p:cNvSpPr/>
            <p:nvPr/>
          </p:nvSpPr>
          <p:spPr>
            <a:xfrm>
              <a:off x="5957280" y="3505320"/>
              <a:ext cx="257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quantity for each product in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257800" y="381024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800600" y="4572000"/>
            <a:ext cx="3428640" cy="824040"/>
            <a:chOff x="4800600" y="4572000"/>
            <a:chExt cx="3428640" cy="824040"/>
          </a:xfrm>
        </p:grpSpPr>
        <p:sp>
          <p:nvSpPr>
            <p:cNvPr id="437" name=""/>
            <p:cNvSpPr/>
            <p:nvPr/>
          </p:nvSpPr>
          <p:spPr>
            <a:xfrm>
              <a:off x="5532480" y="4572000"/>
              <a:ext cx="269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 the clie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how the updates to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4800600" y="48769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2 UpdateCartServlet for updating quantities of products in shopping car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heckou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eckou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te the customer’s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8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8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Model List for determining client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client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 ServletConfig confi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superclass's init method for init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per.init( confi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InitParameter to set XSL file for transform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d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XSLFileName( config.getIni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SL_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ocumentBuild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ilderFactory = DocumentBuilderFactory.newInstan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Transform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erFactory = Transform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RIResolver for resolving relative paths in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erFactory.setURIResolv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IResolv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solve href as relative to Servlet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urce resolve( String href, String ba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rvletContext context = getServlet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 url = context.getResource( hre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reate StreamSource to read document from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Source( url.openStream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48320" y="914400"/>
            <a:ext cx="2514240" cy="580680"/>
            <a:chOff x="4648320" y="914400"/>
            <a:chExt cx="2514240" cy="580680"/>
          </a:xfrm>
        </p:grpSpPr>
        <p:sp>
          <p:nvSpPr>
            <p:cNvPr id="98" name=""/>
            <p:cNvSpPr/>
            <p:nvPr/>
          </p:nvSpPr>
          <p:spPr>
            <a:xfrm>
              <a:off x="5185080" y="914400"/>
              <a:ext cx="1977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itializes the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48320" y="121932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00440" y="2438280"/>
            <a:ext cx="2362680" cy="1554120"/>
            <a:chOff x="6400440" y="2438280"/>
            <a:chExt cx="2362680" cy="1554120"/>
          </a:xfrm>
        </p:grpSpPr>
        <p:sp>
          <p:nvSpPr>
            <p:cNvPr id="101" name=""/>
            <p:cNvSpPr/>
            <p:nvPr/>
          </p:nvSpPr>
          <p:spPr>
            <a:xfrm>
              <a:off x="6903720" y="2438280"/>
              <a:ext cx="1859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the name of the XSL transformation that will transform the servlet’s content for each client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00440" y="274320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172200" y="2971800"/>
            <a:ext cx="2895480" cy="1554120"/>
            <a:chOff x="6172200" y="2971800"/>
            <a:chExt cx="2895480" cy="1554120"/>
          </a:xfrm>
        </p:grpSpPr>
        <p:sp>
          <p:nvSpPr>
            <p:cNvPr id="104" name=""/>
            <p:cNvSpPr/>
            <p:nvPr/>
          </p:nvSpPr>
          <p:spPr>
            <a:xfrm>
              <a:off x="6629400" y="2971800"/>
              <a:ext cx="24382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, which will be used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building XML doc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72200" y="3276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171840" y="3505320"/>
            <a:ext cx="2895480" cy="1310760"/>
            <a:chOff x="6171840" y="3505320"/>
            <a:chExt cx="2895480" cy="1310760"/>
          </a:xfrm>
        </p:grpSpPr>
        <p:sp>
          <p:nvSpPr>
            <p:cNvPr id="107" name=""/>
            <p:cNvSpPr/>
            <p:nvPr/>
          </p:nvSpPr>
          <p:spPr>
            <a:xfrm>
              <a:off x="6791040" y="3505320"/>
              <a:ext cx="22762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which instanc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ML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erform XSL transform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171840" y="38098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43400" y="4038480"/>
            <a:ext cx="4724280" cy="824040"/>
            <a:chOff x="4343400" y="4038480"/>
            <a:chExt cx="4724280" cy="824040"/>
          </a:xfrm>
        </p:grpSpPr>
        <p:sp>
          <p:nvSpPr>
            <p:cNvPr id="110" name=""/>
            <p:cNvSpPr/>
            <p:nvPr/>
          </p:nvSpPr>
          <p:spPr>
            <a:xfrm>
              <a:off x="4800600" y="4038480"/>
              <a:ext cx="4267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IResol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solve relative URIs in XSL doc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343400" y="434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91320" y="5715000"/>
            <a:ext cx="3276000" cy="824040"/>
            <a:chOff x="5791320" y="5715000"/>
            <a:chExt cx="3276000" cy="824040"/>
          </a:xfrm>
        </p:grpSpPr>
        <p:sp>
          <p:nvSpPr>
            <p:cNvPr id="113" name=""/>
            <p:cNvSpPr/>
            <p:nvPr/>
          </p:nvSpPr>
          <p:spPr>
            <a:xfrm>
              <a:off x="6490800" y="5715000"/>
              <a:ext cx="25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lves the relative URI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Re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791320" y="60199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Ou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OutServlet allows a Customer to checkout of the on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to purchase the Products in the Shopping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ou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stomer's userID from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ID = ( Strin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038480" y="5715000"/>
            <a:ext cx="3428640" cy="580680"/>
            <a:chOff x="4038480" y="5715000"/>
            <a:chExt cx="3428640" cy="580680"/>
          </a:xfrm>
        </p:grpSpPr>
        <p:sp>
          <p:nvSpPr>
            <p:cNvPr id="446" name=""/>
            <p:cNvSpPr/>
            <p:nvPr/>
          </p:nvSpPr>
          <p:spPr>
            <a:xfrm>
              <a:off x="4770360" y="5715000"/>
              <a:ext cx="269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038480" y="60199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7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hoppingCart and check 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ShoppingCart from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oppingCart shoppingCart = ( ShoppingCar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Customer has a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ppingCar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NotFound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r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ppingCart is empt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userID is neither null nor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( userID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userID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 checkout method to place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 order = shoppingCart.checkout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orderID for Customer's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teger orderID = ( Integer ) order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o to ViewOrder to show completed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Order?orderI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serID was null, indicating Customer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ot logged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are not logged i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appendChild( buildErrorMessage( docume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rror )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86400" y="762120"/>
            <a:ext cx="3504960" cy="824040"/>
            <a:chOff x="5486400" y="762120"/>
            <a:chExt cx="3504960" cy="824040"/>
          </a:xfrm>
        </p:grpSpPr>
        <p:sp>
          <p:nvSpPr>
            <p:cNvPr id="451" name=""/>
            <p:cNvSpPr/>
            <p:nvPr/>
          </p:nvSpPr>
          <p:spPr>
            <a:xfrm>
              <a:off x="6233400" y="762120"/>
              <a:ext cx="275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remote reference to the custom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sess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486400" y="106668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019920" y="2971800"/>
            <a:ext cx="2971440" cy="824040"/>
            <a:chOff x="6019920" y="2971800"/>
            <a:chExt cx="2971440" cy="824040"/>
          </a:xfrm>
        </p:grpSpPr>
        <p:sp>
          <p:nvSpPr>
            <p:cNvPr id="454" name=""/>
            <p:cNvSpPr/>
            <p:nvPr/>
          </p:nvSpPr>
          <p:spPr>
            <a:xfrm>
              <a:off x="6654240" y="297180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ppingCar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checkout to place the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019920" y="32767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553080" y="3505320"/>
            <a:ext cx="2438280" cy="580680"/>
            <a:chOff x="6553080" y="3505320"/>
            <a:chExt cx="2438280" cy="580680"/>
          </a:xfrm>
        </p:grpSpPr>
        <p:sp>
          <p:nvSpPr>
            <p:cNvPr id="457" name=""/>
            <p:cNvSpPr/>
            <p:nvPr/>
          </p:nvSpPr>
          <p:spPr>
            <a:xfrm>
              <a:off x="7073640" y="3505320"/>
              <a:ext cx="191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553080" y="381024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943600" y="4038480"/>
            <a:ext cx="2438280" cy="580680"/>
            <a:chOff x="5943600" y="4038480"/>
            <a:chExt cx="2438280" cy="580680"/>
          </a:xfrm>
        </p:grpSpPr>
        <p:sp>
          <p:nvSpPr>
            <p:cNvPr id="460" name=""/>
            <p:cNvSpPr/>
            <p:nvPr/>
          </p:nvSpPr>
          <p:spPr>
            <a:xfrm>
              <a:off x="6464160" y="4038480"/>
              <a:ext cx="191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 the clie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Order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943600" y="434340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181480" y="4648320"/>
            <a:ext cx="3428640" cy="824040"/>
            <a:chOff x="5181480" y="4648320"/>
            <a:chExt cx="3428640" cy="824040"/>
          </a:xfrm>
        </p:grpSpPr>
        <p:sp>
          <p:nvSpPr>
            <p:cNvPr id="463" name=""/>
            <p:cNvSpPr/>
            <p:nvPr/>
          </p:nvSpPr>
          <p:spPr>
            <a:xfrm>
              <a:off x="5913360" y="4648320"/>
              <a:ext cx="269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s an error message indicating that the customer is not logg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181480" y="49528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8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Product not found in Shopping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NotFoundException produ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product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095880" y="990720"/>
            <a:ext cx="2743200" cy="580680"/>
            <a:chOff x="6095880" y="990720"/>
            <a:chExt cx="2743200" cy="580680"/>
          </a:xfrm>
        </p:grpSpPr>
        <p:sp>
          <p:nvSpPr>
            <p:cNvPr id="468" name=""/>
            <p:cNvSpPr/>
            <p:nvPr/>
          </p:nvSpPr>
          <p:spPr>
            <a:xfrm>
              <a:off x="6681600" y="990720"/>
              <a:ext cx="2157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exception if the shopping cart is emp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095880" y="129564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XHTML_Checkout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6869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3 CheckoutServlet for placing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cHTML_Checkout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895480" cy="4991400"/>
          </a:xfrm>
          <a:prstGeom prst="rect">
            <a:avLst/>
          </a:prstGeom>
          <a:ln w="0">
            <a:noFill/>
          </a:ln>
        </p:spPr>
      </p:pic>
      <p:pic>
        <p:nvPicPr>
          <p:cNvPr id="474" name="WML_Checkout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 Product Catalog 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catalog 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n online cat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AllProducts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ductSearch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AllProducts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AllProducts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a list of products available o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AllProducts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AllProductsServlet retrieves a list of all Produc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vailable in the store and presents the list to the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llProducts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Product cat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7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6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8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Home interface to find all Produ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Iterator for Product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product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Home.findAllProduct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oot of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El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catalog Element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root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each Product to th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s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 product = ( Produc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products.next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roduc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ProductModel for current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an XML element to document for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ootEle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Model.getXML( document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333760" y="380880"/>
            <a:ext cx="3657600" cy="824040"/>
            <a:chOff x="5333760" y="380880"/>
            <a:chExt cx="3657600" cy="824040"/>
          </a:xfrm>
        </p:grpSpPr>
        <p:sp>
          <p:nvSpPr>
            <p:cNvPr id="484" name=""/>
            <p:cNvSpPr/>
            <p:nvPr/>
          </p:nvSpPr>
          <p:spPr>
            <a:xfrm>
              <a:off x="6114960" y="380880"/>
              <a:ext cx="287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, which represents a product in the st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33760" y="6858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952520" y="2057400"/>
            <a:ext cx="4114800" cy="1067400"/>
            <a:chOff x="4952520" y="2057400"/>
            <a:chExt cx="4114800" cy="1067400"/>
          </a:xfrm>
        </p:grpSpPr>
        <p:sp>
          <p:nvSpPr>
            <p:cNvPr id="487" name=""/>
            <p:cNvSpPr/>
            <p:nvPr/>
          </p:nvSpPr>
          <p:spPr>
            <a:xfrm>
              <a:off x="5829840" y="2057400"/>
              <a:ext cx="3237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AllProduc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s, each of which represents a single produ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952520" y="236232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419360" y="4038480"/>
            <a:ext cx="4572000" cy="824040"/>
            <a:chOff x="4419360" y="4038480"/>
            <a:chExt cx="4572000" cy="824040"/>
          </a:xfrm>
        </p:grpSpPr>
        <p:sp>
          <p:nvSpPr>
            <p:cNvPr id="490" name=""/>
            <p:cNvSpPr/>
            <p:nvPr/>
          </p:nvSpPr>
          <p:spPr>
            <a:xfrm>
              <a:off x="5395680" y="4038480"/>
              <a:ext cx="359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products to build an XML document that contains information about each produ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419360" y="434340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419360" y="5181480"/>
            <a:ext cx="2819520" cy="580680"/>
            <a:chOff x="4419360" y="5181480"/>
            <a:chExt cx="2819520" cy="580680"/>
          </a:xfrm>
        </p:grpSpPr>
        <p:sp>
          <p:nvSpPr>
            <p:cNvPr id="493" name=""/>
            <p:cNvSpPr/>
            <p:nvPr/>
          </p:nvSpPr>
          <p:spPr>
            <a:xfrm>
              <a:off x="5021640" y="5181480"/>
              <a:ext cx="221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ach produ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419360" y="54864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572000" y="5867280"/>
            <a:ext cx="2743200" cy="580680"/>
            <a:chOff x="4572000" y="5867280"/>
            <a:chExt cx="2743200" cy="580680"/>
          </a:xfrm>
        </p:grpSpPr>
        <p:sp>
          <p:nvSpPr>
            <p:cNvPr id="496" name=""/>
            <p:cNvSpPr/>
            <p:nvPr/>
          </p:nvSpPr>
          <p:spPr>
            <a:xfrm>
              <a:off x="5157720" y="5867280"/>
              <a:ext cx="2157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each product’s XML descri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4572000" y="617220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8-100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a Product cannot be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Products found in the stor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rror messag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724280" y="5029200"/>
            <a:ext cx="2971440" cy="824040"/>
            <a:chOff x="4724280" y="5029200"/>
            <a:chExt cx="2971440" cy="824040"/>
          </a:xfrm>
        </p:grpSpPr>
        <p:sp>
          <p:nvSpPr>
            <p:cNvPr id="501" name=""/>
            <p:cNvSpPr/>
            <p:nvPr/>
          </p:nvSpPr>
          <p:spPr>
            <a:xfrm>
              <a:off x="5357520" y="5029200"/>
              <a:ext cx="2338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all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lock presents the content to the client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724280" y="5334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8-107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s obtaining referenced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setURIResolv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ientModel Array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List = buildClient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ocumentBuilder instance for building XML doc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Builder getDocumentBuil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idatin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ocumentBuil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validation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ilderFactory.setValidating( validat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new DocumentBuilder to the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ilderFactory.newDocumentBuilder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DocumentBuil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67080" y="3581280"/>
            <a:ext cx="4267080" cy="824040"/>
            <a:chOff x="4267080" y="3581280"/>
            <a:chExt cx="4267080" cy="824040"/>
          </a:xfrm>
        </p:grpSpPr>
        <p:sp>
          <p:nvSpPr>
            <p:cNvPr id="118" name=""/>
            <p:cNvSpPr/>
            <p:nvPr/>
          </p:nvSpPr>
          <p:spPr>
            <a:xfrm>
              <a:off x="5178240" y="3581280"/>
              <a:ext cx="335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parsing and creating XML doc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267080" y="388620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38680" y="228600"/>
            <a:ext cx="2971800" cy="824040"/>
            <a:chOff x="5638680" y="228600"/>
            <a:chExt cx="2971800" cy="824040"/>
          </a:xfrm>
        </p:grpSpPr>
        <p:sp>
          <p:nvSpPr>
            <p:cNvPr id="121" name=""/>
            <p:cNvSpPr/>
            <p:nvPr/>
          </p:nvSpPr>
          <p:spPr>
            <a:xfrm>
              <a:off x="6274080" y="228600"/>
              <a:ext cx="233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Des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638680" y="5335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XHTML_GetAllProducts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558144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4 GetAllProductsServlet for viewing the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cHTML_GetAllProducts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2895840" cy="4991040"/>
          </a:xfrm>
          <a:prstGeom prst="rect">
            <a:avLst/>
          </a:prstGeom>
          <a:ln w="0">
            <a:noFill/>
          </a:ln>
        </p:spPr>
      </p:pic>
      <p:pic>
        <p:nvPicPr>
          <p:cNvPr id="507" name="WML_GetAllProducts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Product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Produc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information about a 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Produc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ProductServlet retrieves the details of a Product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sents them to the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oduc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SBN from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sb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XML document with Product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Home interface to find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Product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Product with given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 produ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Home.findByPrimaryKey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XML document roo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de rootNod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sto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root Element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rootNod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oduct details as a Produc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Model produc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uild an XML document with Product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Nod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952520" y="1676520"/>
            <a:ext cx="3353040" cy="580680"/>
            <a:chOff x="4952520" y="1676520"/>
            <a:chExt cx="3353040" cy="580680"/>
          </a:xfrm>
        </p:grpSpPr>
        <p:sp>
          <p:nvSpPr>
            <p:cNvPr id="515" name=""/>
            <p:cNvSpPr/>
            <p:nvPr/>
          </p:nvSpPr>
          <p:spPr>
            <a:xfrm>
              <a:off x="5668560" y="1676520"/>
              <a:ext cx="263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952520" y="19814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495680" y="2590920"/>
            <a:ext cx="4267080" cy="824040"/>
            <a:chOff x="4495680" y="2590920"/>
            <a:chExt cx="4267080" cy="824040"/>
          </a:xfrm>
        </p:grpSpPr>
        <p:sp>
          <p:nvSpPr>
            <p:cNvPr id="518" name=""/>
            <p:cNvSpPr/>
            <p:nvPr/>
          </p:nvSpPr>
          <p:spPr>
            <a:xfrm>
              <a:off x="5405040" y="2590920"/>
              <a:ext cx="3357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the given ISB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4495680" y="289548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190760" y="4648320"/>
            <a:ext cx="4876560" cy="824040"/>
            <a:chOff x="4190760" y="4648320"/>
            <a:chExt cx="4876560" cy="824040"/>
          </a:xfrm>
        </p:grpSpPr>
        <p:sp>
          <p:nvSpPr>
            <p:cNvPr id="521" name=""/>
            <p:cNvSpPr/>
            <p:nvPr/>
          </p:nvSpPr>
          <p:spPr>
            <a:xfrm>
              <a:off x="5232240" y="4648320"/>
              <a:ext cx="3835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details of the product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us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nerate the XML content for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190760" y="4952880"/>
              <a:ext cx="10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Product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with ISB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 in our stor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XHTML_GetProduct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5814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5 GetProductServlet for viewing product detail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cHTML_GetProduct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895480" cy="5010120"/>
          </a:xfrm>
          <a:prstGeom prst="rect">
            <a:avLst/>
          </a:prstGeom>
          <a:ln w="0">
            <a:noFill/>
          </a:ln>
        </p:spPr>
      </p:pic>
      <p:pic>
        <p:nvPicPr>
          <p:cNvPr id="529" name="WML_GetProduct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ductSearch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ductSearchServ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the database for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Search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tSearchServlet allows a Customer to search throug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tore for a particular Prod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PortableRemote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Search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searchString from the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earch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257440" y="6022800"/>
            <a:ext cx="2819520" cy="580680"/>
            <a:chOff x="5257440" y="6022800"/>
            <a:chExt cx="2819520" cy="580680"/>
          </a:xfrm>
        </p:grpSpPr>
        <p:sp>
          <p:nvSpPr>
            <p:cNvPr id="535" name=""/>
            <p:cNvSpPr/>
            <p:nvPr/>
          </p:nvSpPr>
          <p:spPr>
            <a:xfrm>
              <a:off x="5859720" y="6022800"/>
              <a:ext cx="221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257440" y="63277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0-1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6-12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0-16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8-13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DocumentBuil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on-validating par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Builder getDocumentBuild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ocumentBuil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XSL file name for transforming servlet's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SLFileName( String fil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SLFileName = 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SL file name for transforming servlet's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XSLFile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SL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rite XML document to client using provided respons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after transforming XML document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-specific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XML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, Document docu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session, create if not exta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lientModel from session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Model client = ( Client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Mod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560" y="762120"/>
            <a:ext cx="4115160" cy="824040"/>
            <a:chOff x="4876560" y="762120"/>
            <a:chExt cx="4115160" cy="824040"/>
          </a:xfrm>
        </p:grpSpPr>
        <p:sp>
          <p:nvSpPr>
            <p:cNvPr id="126" name=""/>
            <p:cNvSpPr/>
            <p:nvPr/>
          </p:nvSpPr>
          <p:spPr>
            <a:xfrm>
              <a:off x="5562720" y="7621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o create a non-validating XML par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876560" y="1066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9520" y="2209680"/>
            <a:ext cx="5185080" cy="1067040"/>
            <a:chOff x="3809520" y="2209680"/>
            <a:chExt cx="5185080" cy="1067040"/>
          </a:xfrm>
        </p:grpSpPr>
        <p:sp>
          <p:nvSpPr>
            <p:cNvPr id="129" name=""/>
            <p:cNvSpPr/>
            <p:nvPr/>
          </p:nvSpPr>
          <p:spPr>
            <a:xfrm>
              <a:off x="6477120" y="2362320"/>
              <a:ext cx="2517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SLFi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ML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5181120" y="220968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809520" y="2819520"/>
              <a:ext cx="2667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409720" y="4419720"/>
            <a:ext cx="3429000" cy="1067400"/>
            <a:chOff x="5409720" y="4419720"/>
            <a:chExt cx="3429000" cy="1067400"/>
          </a:xfrm>
        </p:grpSpPr>
        <p:sp>
          <p:nvSpPr>
            <p:cNvPr id="133" name=""/>
            <p:cNvSpPr/>
            <p:nvPr/>
          </p:nvSpPr>
          <p:spPr>
            <a:xfrm>
              <a:off x="5981400" y="4419720"/>
              <a:ext cx="2857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s which type of client is accessing the servlet and invokes method transform to perform an XSL trans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409720" y="472428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48320" y="5867280"/>
            <a:ext cx="2514600" cy="580680"/>
            <a:chOff x="4648320" y="5867280"/>
            <a:chExt cx="2514600" cy="580680"/>
          </a:xfrm>
        </p:grpSpPr>
        <p:sp>
          <p:nvSpPr>
            <p:cNvPr id="136" name=""/>
            <p:cNvSpPr/>
            <p:nvPr/>
          </p:nvSpPr>
          <p:spPr>
            <a:xfrm>
              <a:off x="5067360" y="5867280"/>
              <a:ext cx="209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648320" y="617184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Product using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ductHome productHome = ( Product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Product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Products that match search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products = productHome.findByTit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archString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atalog docume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de rootNode = docu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nerate list of matching produ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ducts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 product = ( Produc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products.next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roduct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ductModel productModel = product.getProduc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end XML element to the document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urrent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ootNod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duct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562720" y="2590920"/>
            <a:ext cx="3200040" cy="824040"/>
            <a:chOff x="5562720" y="2590920"/>
            <a:chExt cx="3200040" cy="824040"/>
          </a:xfrm>
        </p:grpSpPr>
        <p:sp>
          <p:nvSpPr>
            <p:cNvPr id="540" name=""/>
            <p:cNvSpPr/>
            <p:nvPr/>
          </p:nvSpPr>
          <p:spPr>
            <a:xfrm>
              <a:off x="6246000" y="2590920"/>
              <a:ext cx="251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terate through the list of products returned by the searc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562720" y="28954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343040" y="4038480"/>
            <a:ext cx="4419720" cy="580680"/>
            <a:chOff x="4343040" y="4038480"/>
            <a:chExt cx="4419720" cy="580680"/>
          </a:xfrm>
        </p:grpSpPr>
        <p:sp>
          <p:nvSpPr>
            <p:cNvPr id="543" name=""/>
            <p:cNvSpPr/>
            <p:nvPr/>
          </p:nvSpPr>
          <p:spPr>
            <a:xfrm>
              <a:off x="5286960" y="4038480"/>
              <a:ext cx="3475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an XML representation to the XML document for each product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343040" y="4343400"/>
              <a:ext cx="94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Product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oduct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Product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Products match your search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XHTML_ProductSearch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5581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6 ProductSearchServlet for searching product catalo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WML_ProductSearch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2190600" cy="5629320"/>
          </a:xfrm>
          <a:prstGeom prst="rect">
            <a:avLst/>
          </a:prstGeom>
          <a:ln w="0">
            <a:noFill/>
          </a:ln>
        </p:spPr>
      </p:pic>
      <p:pic>
        <p:nvPicPr>
          <p:cNvPr id="551" name="cHTML_ProductSearch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28958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 Customer Management Servle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gister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er regis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in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 in p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OrderHistory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history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LostPassword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ind passw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gister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registration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ister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isterServlet processes the Customer registration for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register a new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ustomerModel to store registration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 customer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erModel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867280" y="6022800"/>
            <a:ext cx="2971440" cy="580680"/>
            <a:chOff x="5867280" y="6022800"/>
            <a:chExt cx="2971440" cy="580680"/>
          </a:xfrm>
        </p:grpSpPr>
        <p:sp>
          <p:nvSpPr>
            <p:cNvPr id="559" name=""/>
            <p:cNvSpPr/>
            <p:nvPr/>
          </p:nvSpPr>
          <p:spPr>
            <a:xfrm>
              <a:off x="6501600" y="6022800"/>
              <a:ext cx="233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867280" y="63277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roperties of CustomerModel using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ssed through request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UserID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Password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PasswordHint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H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Fir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La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redit card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CreditCard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CreditCardNumber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CreditCardExpirationDa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Expiration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ddressModel for bill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Model billingAddr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Fir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La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486400" y="457200"/>
            <a:ext cx="3504960" cy="1067400"/>
            <a:chOff x="5486400" y="457200"/>
            <a:chExt cx="3504960" cy="1067400"/>
          </a:xfrm>
        </p:grpSpPr>
        <p:sp>
          <p:nvSpPr>
            <p:cNvPr id="564" name=""/>
            <p:cNvSpPr/>
            <p:nvPr/>
          </p:nvSpPr>
          <p:spPr>
            <a:xfrm>
              <a:off x="6233400" y="457200"/>
              <a:ext cx="2757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parameter values received from the client to populate the model with details about the custom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486400" y="76212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StreetAddressLine1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Street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StreetAddressLine2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Street2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City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illingAddressCit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Stat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Stat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ZipCod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illingAddress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Country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llingAddress.setPhoneNumber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llingAddressPhone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BillingAddress( billingAddre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ddressModel for shipping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Model shippingAddr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Fir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Fir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LastNam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StreetAddressLine1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Street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StreetAddressLine2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Street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City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hippingAddress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Stat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Stat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ZipCode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Country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ppingAddress.setPhoneNumber( request.ge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ppingAddressPhone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stomerModel.setShippingAddress( shippingAddress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Customer EJB and create new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( Customer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ustome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6171840" y="4952880"/>
            <a:ext cx="2895480" cy="824040"/>
            <a:chOff x="6171840" y="4952880"/>
            <a:chExt cx="2895480" cy="824040"/>
          </a:xfrm>
        </p:grpSpPr>
        <p:sp>
          <p:nvSpPr>
            <p:cNvPr id="571" name=""/>
            <p:cNvSpPr/>
            <p:nvPr/>
          </p:nvSpPr>
          <p:spPr>
            <a:xfrm>
              <a:off x="6791040" y="4952880"/>
              <a:ext cx="2276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s up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, which represents a customer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171840" y="52578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9-16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lient is null, get new ClientModel for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-Agent and store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Agent = request.g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getClientModel( userAg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Mod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lient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client.getContentTyp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rintWriter for writing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p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ild file name for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xslFile = client.getXSLPath() + getXSLFile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InputStream for XSL docu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Stream xsl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ServletContext().getResourceAsStream( xsl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form XML document using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( document, xslStream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lush and close Print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rite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476760" y="609480"/>
            <a:ext cx="2210040" cy="580680"/>
            <a:chOff x="6476760" y="609480"/>
            <a:chExt cx="2210040" cy="580680"/>
          </a:xfrm>
        </p:grpSpPr>
        <p:sp>
          <p:nvSpPr>
            <p:cNvPr id="141" name=""/>
            <p:cNvSpPr/>
            <p:nvPr/>
          </p:nvSpPr>
          <p:spPr>
            <a:xfrm>
              <a:off x="6845400" y="609480"/>
              <a:ext cx="1841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clien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476760" y="9140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52520" y="762120"/>
            <a:ext cx="3657600" cy="824040"/>
            <a:chOff x="4952520" y="762120"/>
            <a:chExt cx="3657600" cy="824040"/>
          </a:xfrm>
        </p:grpSpPr>
        <p:sp>
          <p:nvSpPr>
            <p:cNvPr id="144" name=""/>
            <p:cNvSpPr/>
            <p:nvPr/>
          </p:nvSpPr>
          <p:spPr>
            <a:xfrm>
              <a:off x="5562360" y="76212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iven client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520" y="1066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4640" y="990720"/>
            <a:ext cx="3200400" cy="580680"/>
            <a:chOff x="5714640" y="990720"/>
            <a:chExt cx="3200400" cy="580680"/>
          </a:xfrm>
        </p:grpSpPr>
        <p:sp>
          <p:nvSpPr>
            <p:cNvPr id="147" name=""/>
            <p:cNvSpPr/>
            <p:nvPr/>
          </p:nvSpPr>
          <p:spPr>
            <a:xfrm>
              <a:off x="624816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later u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714640" y="1295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43600" y="1676520"/>
            <a:ext cx="2895480" cy="1554120"/>
            <a:chOff x="5943600" y="1676520"/>
            <a:chExt cx="2895480" cy="1554120"/>
          </a:xfrm>
        </p:grpSpPr>
        <p:sp>
          <p:nvSpPr>
            <p:cNvPr id="150" name=""/>
            <p:cNvSpPr/>
            <p:nvPr/>
          </p:nvSpPr>
          <p:spPr>
            <a:xfrm>
              <a:off x="6781680" y="1676520"/>
              <a:ext cx="2057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content type for the clien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configu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43600" y="1981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24480" y="2819520"/>
            <a:ext cx="2743200" cy="824040"/>
            <a:chOff x="6324480" y="2819520"/>
            <a:chExt cx="2743200" cy="824040"/>
          </a:xfrm>
        </p:grpSpPr>
        <p:sp>
          <p:nvSpPr>
            <p:cNvPr id="153" name=""/>
            <p:cNvSpPr/>
            <p:nvPr/>
          </p:nvSpPr>
          <p:spPr>
            <a:xfrm>
              <a:off x="6781680" y="28195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s the complete relative path for the XSL trans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244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714640" y="3352680"/>
            <a:ext cx="2819520" cy="580680"/>
            <a:chOff x="5714640" y="3352680"/>
            <a:chExt cx="2819520" cy="580680"/>
          </a:xfrm>
        </p:grpSpPr>
        <p:sp>
          <p:nvSpPr>
            <p:cNvPr id="156" name=""/>
            <p:cNvSpPr/>
            <p:nvPr/>
          </p:nvSpPr>
          <p:spPr>
            <a:xfrm>
              <a:off x="6184800" y="3352680"/>
              <a:ext cx="2349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XSL trans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14640" y="36572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029200" y="4038480"/>
            <a:ext cx="3352320" cy="824040"/>
            <a:chOff x="5029200" y="4038480"/>
            <a:chExt cx="3352320" cy="824040"/>
          </a:xfrm>
        </p:grpSpPr>
        <p:sp>
          <p:nvSpPr>
            <p:cNvPr id="159" name=""/>
            <p:cNvSpPr/>
            <p:nvPr/>
          </p:nvSpPr>
          <p:spPr>
            <a:xfrm>
              <a:off x="5587920" y="4038480"/>
              <a:ext cx="2793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transformation and send the resul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029200" y="434304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1-1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7-15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2-1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Customer using the CustomerModel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ustomer's registration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create( customer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Model = customer.getCustomerModel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questDispatcher for Login serv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Dispatcher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questDispatch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Log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serID and password for Login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User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Passwor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orward user to Login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EJB was no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in 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800600" y="380880"/>
            <a:ext cx="3962160" cy="1310760"/>
            <a:chOff x="4800600" y="380880"/>
            <a:chExt cx="3962160" cy="1310760"/>
          </a:xfrm>
        </p:grpSpPr>
        <p:sp>
          <p:nvSpPr>
            <p:cNvPr id="576" name=""/>
            <p:cNvSpPr/>
            <p:nvPr/>
          </p:nvSpPr>
          <p:spPr>
            <a:xfrm>
              <a:off x="5646600" y="380880"/>
              <a:ext cx="31161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customer registration in the database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new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s an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800600" y="68580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81120" y="3352680"/>
            <a:ext cx="3886560" cy="580680"/>
            <a:chOff x="5181120" y="3352680"/>
            <a:chExt cx="3886560" cy="580680"/>
          </a:xfrm>
        </p:grpSpPr>
        <p:sp>
          <p:nvSpPr>
            <p:cNvPr id="579" name=""/>
            <p:cNvSpPr/>
            <p:nvPr/>
          </p:nvSpPr>
          <p:spPr>
            <a:xfrm>
              <a:off x="6011280" y="3352680"/>
              <a:ext cx="305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the custom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in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g into the st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181120" y="36576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105520" y="4267080"/>
            <a:ext cx="3200040" cy="1310760"/>
            <a:chOff x="5105520" y="4267080"/>
            <a:chExt cx="3200040" cy="1310760"/>
          </a:xfrm>
        </p:grpSpPr>
        <p:sp>
          <p:nvSpPr>
            <p:cNvPr id="582" name=""/>
            <p:cNvSpPr/>
            <p:nvPr/>
          </p:nvSpPr>
          <p:spPr>
            <a:xfrm>
              <a:off x="5788800" y="4267080"/>
              <a:ext cx="25167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ndicates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could not be found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105520" y="45720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7 RegisterServlet for registering new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5-1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could not be cre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181480" y="228600"/>
            <a:ext cx="2971440" cy="824040"/>
            <a:chOff x="5181480" y="228600"/>
            <a:chExt cx="2971440" cy="824040"/>
          </a:xfrm>
        </p:grpSpPr>
        <p:sp>
          <p:nvSpPr>
            <p:cNvPr id="587" name=""/>
            <p:cNvSpPr/>
            <p:nvPr/>
          </p:nvSpPr>
          <p:spPr>
            <a:xfrm>
              <a:off x="5815800" y="22860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a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could not be cre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181480" y="5335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Login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er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ss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Servlet that logs an existing Customer into the si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ID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assword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Customer EJB to authenticate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( Custom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objec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ustomer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Customer with given userID and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findByLogin( userID,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Model for Custo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Model customer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.getCustom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serID in Customer's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Session()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User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gin XM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login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log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Customer's first name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first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Name.appendChild( document.createTextN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Model.getFirs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523880"/>
            <a:ext cx="2971440" cy="824040"/>
            <a:chOff x="5562720" y="1523880"/>
            <a:chExt cx="2971440" cy="824040"/>
          </a:xfrm>
        </p:grpSpPr>
        <p:sp>
          <p:nvSpPr>
            <p:cNvPr id="596" name=""/>
            <p:cNvSpPr/>
            <p:nvPr/>
          </p:nvSpPr>
          <p:spPr>
            <a:xfrm>
              <a:off x="6197040" y="152388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5562720" y="18288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4120" y="2438280"/>
            <a:ext cx="3733200" cy="1310760"/>
            <a:chOff x="5334120" y="2438280"/>
            <a:chExt cx="3733200" cy="1310760"/>
          </a:xfrm>
        </p:grpSpPr>
        <p:sp>
          <p:nvSpPr>
            <p:cNvPr id="599" name=""/>
            <p:cNvSpPr/>
            <p:nvPr/>
          </p:nvSpPr>
          <p:spPr>
            <a:xfrm>
              <a:off x="6131160" y="2438280"/>
              <a:ext cx="29361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Log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returns a remote reference to the Customer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wo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user provid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334120" y="274320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095520" y="4648320"/>
            <a:ext cx="2667600" cy="1310760"/>
            <a:chOff x="6095520" y="4648320"/>
            <a:chExt cx="2667600" cy="1310760"/>
          </a:xfrm>
        </p:grpSpPr>
        <p:sp>
          <p:nvSpPr>
            <p:cNvPr id="602" name=""/>
            <p:cNvSpPr/>
            <p:nvPr/>
          </p:nvSpPr>
          <p:spPr>
            <a:xfrm>
              <a:off x="6665400" y="4648320"/>
              <a:ext cx="20977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a simple XML document that indicates the customer has successfully logged into the st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095520" y="495288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5-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.appendChild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ustomer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userID and password enter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re not foun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181480" y="914400"/>
            <a:ext cx="3733560" cy="824040"/>
            <a:chOff x="5181480" y="914400"/>
            <a:chExt cx="3733560" cy="824040"/>
          </a:xfrm>
        </p:grpSpPr>
        <p:sp>
          <p:nvSpPr>
            <p:cNvPr id="607" name=""/>
            <p:cNvSpPr/>
            <p:nvPr/>
          </p:nvSpPr>
          <p:spPr>
            <a:xfrm>
              <a:off x="5978520" y="914400"/>
              <a:ext cx="293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cannot be found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181480" y="12193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57800" y="2971800"/>
            <a:ext cx="3200400" cy="1067400"/>
            <a:chOff x="5257800" y="2971800"/>
            <a:chExt cx="3200400" cy="1067400"/>
          </a:xfrm>
        </p:grpSpPr>
        <p:sp>
          <p:nvSpPr>
            <p:cNvPr id="610" name=""/>
            <p:cNvSpPr/>
            <p:nvPr/>
          </p:nvSpPr>
          <p:spPr>
            <a:xfrm>
              <a:off x="5940000" y="2971800"/>
              <a:ext cx="2518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er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found that match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wo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user ente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57800" y="32767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XHTML_Login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55720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8 LoginServlet for authenticating registered Custom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cHTML_Login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895840" cy="5010120"/>
          </a:xfrm>
          <a:prstGeom prst="rect">
            <a:avLst/>
          </a:prstGeom>
          <a:ln w="0">
            <a:noFill/>
          </a:ln>
        </p:spPr>
      </p:pic>
      <p:pic>
        <p:nvPicPr>
          <p:cNvPr id="616" name="WML_Login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ewOrderHistory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OrderHistory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 orders information in det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OrderHistory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OrderHistoryServlet presents a list of previous Or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Custom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xcep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ewOrderHistory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 XMLServlet base class for servlets in the Deitel Booksto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2-20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2-1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9-19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 XML document using provided XSLT InputStrea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write resulting document to provided Print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( Document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Stream xslStream, PrintWriter 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former and apply XSL trans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MSource for sourc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mlSour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Source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Source for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slSour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Source( xsl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Result for transformat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resul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Result(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er for XSL trans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 transfor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Transformer( xslSour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ransform and deliver cont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transform( xmlSource, resul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transform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ormerException transform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trans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23920" y="457200"/>
            <a:ext cx="4267440" cy="1067400"/>
            <a:chOff x="4723920" y="457200"/>
            <a:chExt cx="4267440" cy="1067400"/>
          </a:xfrm>
        </p:grpSpPr>
        <p:sp>
          <p:nvSpPr>
            <p:cNvPr id="164" name=""/>
            <p:cNvSpPr/>
            <p:nvPr/>
          </p:nvSpPr>
          <p:spPr>
            <a:xfrm>
              <a:off x="5435280" y="457200"/>
              <a:ext cx="3556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s the given XSL transformation on the given XML document, and writes the result of the transformation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723920" y="76176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1676520"/>
            <a:ext cx="2590920" cy="580680"/>
            <a:chOff x="5638320" y="1676520"/>
            <a:chExt cx="2590920" cy="580680"/>
          </a:xfrm>
        </p:grpSpPr>
        <p:sp>
          <p:nvSpPr>
            <p:cNvPr id="167" name=""/>
            <p:cNvSpPr/>
            <p:nvPr/>
          </p:nvSpPr>
          <p:spPr>
            <a:xfrm>
              <a:off x="6070320" y="1676520"/>
              <a:ext cx="2158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38320" y="1981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85840" y="2209680"/>
            <a:ext cx="2590920" cy="580680"/>
            <a:chOff x="3885840" y="2209680"/>
            <a:chExt cx="2590920" cy="580680"/>
          </a:xfrm>
        </p:grpSpPr>
        <p:sp>
          <p:nvSpPr>
            <p:cNvPr id="170" name=""/>
            <p:cNvSpPr/>
            <p:nvPr/>
          </p:nvSpPr>
          <p:spPr>
            <a:xfrm>
              <a:off x="4317840" y="2209680"/>
              <a:ext cx="2158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XS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885840" y="25142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410080" y="3581280"/>
            <a:ext cx="3352680" cy="824040"/>
            <a:chOff x="5410080" y="3581280"/>
            <a:chExt cx="3352680" cy="824040"/>
          </a:xfrm>
        </p:grpSpPr>
        <p:sp>
          <p:nvSpPr>
            <p:cNvPr id="173" name=""/>
            <p:cNvSpPr/>
            <p:nvPr/>
          </p:nvSpPr>
          <p:spPr>
            <a:xfrm>
              <a:off x="5968800" y="3581280"/>
              <a:ext cx="2793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410080" y="388584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410080" y="4267080"/>
            <a:ext cx="3504960" cy="1310760"/>
            <a:chOff x="5410080" y="4267080"/>
            <a:chExt cx="3504960" cy="1310760"/>
          </a:xfrm>
        </p:grpSpPr>
        <p:sp>
          <p:nvSpPr>
            <p:cNvPr id="176" name=""/>
            <p:cNvSpPr/>
            <p:nvPr/>
          </p:nvSpPr>
          <p:spPr>
            <a:xfrm>
              <a:off x="5994000" y="4267080"/>
              <a:ext cx="2921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XSL transformation on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writes the result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10080" y="457164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1-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6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ID = ( Strin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ild order history using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ustom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Home customerHome = ( Custom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Customer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Customer with given us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stomer custo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Home.findByUserID( us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orderHistor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Node = ( Element ) docu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His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stomer's Order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orderHis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stomer.getOrderHistory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p through Order history and add XM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o XML document for each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History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Model order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OrderModel ) orderHistory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ootNod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rder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648320" y="2971800"/>
            <a:ext cx="2666520" cy="580680"/>
            <a:chOff x="4648320" y="2971800"/>
            <a:chExt cx="2666520" cy="580680"/>
          </a:xfrm>
        </p:grpSpPr>
        <p:sp>
          <p:nvSpPr>
            <p:cNvPr id="624" name=""/>
            <p:cNvSpPr/>
            <p:nvPr/>
          </p:nvSpPr>
          <p:spPr>
            <a:xfrm>
              <a:off x="5217480" y="2971800"/>
              <a:ext cx="2097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648320" y="32767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724280" y="4419720"/>
            <a:ext cx="3200040" cy="580680"/>
            <a:chOff x="4724280" y="4419720"/>
            <a:chExt cx="3200040" cy="580680"/>
          </a:xfrm>
        </p:grpSpPr>
        <p:sp>
          <p:nvSpPr>
            <p:cNvPr id="627" name=""/>
            <p:cNvSpPr/>
            <p:nvPr/>
          </p:nvSpPr>
          <p:spPr>
            <a:xfrm>
              <a:off x="5407560" y="4419720"/>
              <a:ext cx="251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customer’s order his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724280" y="472464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724280" y="5334120"/>
            <a:ext cx="3504960" cy="824040"/>
            <a:chOff x="4724280" y="5334120"/>
            <a:chExt cx="3504960" cy="824040"/>
          </a:xfrm>
        </p:grpSpPr>
        <p:sp>
          <p:nvSpPr>
            <p:cNvPr id="630" name=""/>
            <p:cNvSpPr/>
            <p:nvPr/>
          </p:nvSpPr>
          <p:spPr>
            <a:xfrm>
              <a:off x="5471280" y="5334120"/>
              <a:ext cx="275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p through the order history and build the XML document to pres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4724280" y="563868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2-9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3-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ustomer has no Order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OrderHistoryException history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istory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storyException.getMessag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Custom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ustomer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Customer with user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ID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486040" y="1143000"/>
            <a:ext cx="3556440" cy="3352680"/>
            <a:chOff x="5486040" y="1143000"/>
            <a:chExt cx="3556440" cy="3352680"/>
          </a:xfrm>
        </p:grpSpPr>
        <p:sp>
          <p:nvSpPr>
            <p:cNvPr id="635" name=""/>
            <p:cNvSpPr/>
            <p:nvPr/>
          </p:nvSpPr>
          <p:spPr>
            <a:xfrm>
              <a:off x="6705720" y="2057400"/>
              <a:ext cx="233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exceptions and build an error message to display to the custom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095880" y="1143000"/>
              <a:ext cx="6098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562360" y="2514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486040" y="2514600"/>
              <a:ext cx="1219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41" name="XHTML_ViewOrderHistory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68598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19 ViewOrderHistoryServlet for viewing customer’s previously placed Order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cHTML_ViewOrderHistory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2895480" cy="4991400"/>
          </a:xfrm>
          <a:prstGeom prst="rect">
            <a:avLst/>
          </a:prstGeom>
          <a:ln w="0">
            <a:noFill/>
          </a:ln>
        </p:spPr>
      </p:pic>
      <p:pic>
        <p:nvPicPr>
          <p:cNvPr id="644" name="WML_ViewOrderHistory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2190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ewOrder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Order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s the details of an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Order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OrderServlet presents the contents of a Customer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ookstore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ewOrder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HTTP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document = getDocumentBuilder()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ord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4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3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Order EJB and get details of Order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iven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Ord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Home orderHome = ( Orde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, Order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ID from reque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Order with given order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 order = orderHome.findByPrimaryKey( order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Order details as an OrderModel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rderModel orderModel = order.getOrder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rder details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rderModel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Ord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der EJB was not found i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JNDI director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4800600" y="1676520"/>
            <a:ext cx="2971440" cy="824040"/>
            <a:chOff x="4800600" y="1676520"/>
            <a:chExt cx="2971440" cy="824040"/>
          </a:xfrm>
        </p:grpSpPr>
        <p:sp>
          <p:nvSpPr>
            <p:cNvPr id="652" name=""/>
            <p:cNvSpPr/>
            <p:nvPr/>
          </p:nvSpPr>
          <p:spPr>
            <a:xfrm>
              <a:off x="5434920" y="16765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800600" y="19810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495320" y="2666880"/>
            <a:ext cx="3581640" cy="580680"/>
            <a:chOff x="4495320" y="2666880"/>
            <a:chExt cx="3581640" cy="580680"/>
          </a:xfrm>
        </p:grpSpPr>
        <p:sp>
          <p:nvSpPr>
            <p:cNvPr id="655" name=""/>
            <p:cNvSpPr/>
            <p:nvPr/>
          </p:nvSpPr>
          <p:spPr>
            <a:xfrm>
              <a:off x="5260320" y="2666880"/>
              <a:ext cx="2816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4495320" y="29718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248160" y="3352680"/>
            <a:ext cx="2819520" cy="1554120"/>
            <a:chOff x="6248160" y="3352680"/>
            <a:chExt cx="2819520" cy="1554120"/>
          </a:xfrm>
        </p:grpSpPr>
        <p:sp>
          <p:nvSpPr>
            <p:cNvPr id="658" name=""/>
            <p:cNvSpPr/>
            <p:nvPr/>
          </p:nvSpPr>
          <p:spPr>
            <a:xfrm>
              <a:off x="6850440" y="3352680"/>
              <a:ext cx="221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248160" y="36576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791320" y="3886200"/>
            <a:ext cx="2971440" cy="1067400"/>
            <a:chOff x="5791320" y="3886200"/>
            <a:chExt cx="2971440" cy="1067400"/>
          </a:xfrm>
        </p:grpSpPr>
        <p:sp>
          <p:nvSpPr>
            <p:cNvPr id="661" name=""/>
            <p:cNvSpPr/>
            <p:nvPr/>
          </p:nvSpPr>
          <p:spPr>
            <a:xfrm>
              <a:off x="6425640" y="3886200"/>
              <a:ext cx="2337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ppend its XML representation to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91320" y="4191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181120" y="5486400"/>
            <a:ext cx="3581640" cy="1067400"/>
            <a:chOff x="5181120" y="5486400"/>
            <a:chExt cx="3581640" cy="1067400"/>
          </a:xfrm>
        </p:grpSpPr>
        <p:sp>
          <p:nvSpPr>
            <p:cNvPr id="664" name=""/>
            <p:cNvSpPr/>
            <p:nvPr/>
          </p:nvSpPr>
          <p:spPr>
            <a:xfrm>
              <a:off x="5944680" y="5486400"/>
              <a:ext cx="2818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thrown from method lookup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cannot be found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181120" y="57913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Order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err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 Order with order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orderID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 not foun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buildErrorMessa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, error 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content is writt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riteXML( request, response, docume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723920" y="1143000"/>
            <a:ext cx="3124800" cy="1310760"/>
            <a:chOff x="4723920" y="1143000"/>
            <a:chExt cx="3124800" cy="1310760"/>
          </a:xfrm>
        </p:grpSpPr>
        <p:sp>
          <p:nvSpPr>
            <p:cNvPr id="669" name=""/>
            <p:cNvSpPr/>
            <p:nvPr/>
          </p:nvSpPr>
          <p:spPr>
            <a:xfrm>
              <a:off x="5390280" y="1143000"/>
              <a:ext cx="2458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c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er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thrown by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an Order wit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723920" y="14479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1120" y="3352680"/>
            <a:ext cx="2667600" cy="580680"/>
            <a:chOff x="5181120" y="3352680"/>
            <a:chExt cx="2667600" cy="580680"/>
          </a:xfrm>
        </p:grpSpPr>
        <p:sp>
          <p:nvSpPr>
            <p:cNvPr id="672" name=""/>
            <p:cNvSpPr/>
            <p:nvPr/>
          </p:nvSpPr>
          <p:spPr>
            <a:xfrm>
              <a:off x="5751000" y="3352680"/>
              <a:ext cx="209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s the XML docum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181120" y="36576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XHTML_ViewOrder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6869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8.20 viewOrderServlet for viewing details of an ord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cHTML_ViewOrder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895480" cy="4991040"/>
          </a:xfrm>
          <a:prstGeom prst="rect">
            <a:avLst/>
          </a:prstGeom>
          <a:ln w="0">
            <a:noFill/>
          </a:ln>
        </p:spPr>
      </p:pic>
      <p:pic>
        <p:nvPicPr>
          <p:cNvPr id="678" name="WML_ViewOrder" descr=""/>
          <p:cNvPicPr/>
          <p:nvPr/>
        </p:nvPicPr>
        <p:blipFill>
          <a:blip r:embed="rId2"/>
          <a:stretch/>
        </p:blipFill>
        <p:spPr>
          <a:xfrm>
            <a:off x="4114800" y="60948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2-01T21:07:39Z</dcterms:modified>
  <cp:revision>116</cp:revision>
  <dc:subject/>
  <dc:title>PowerPoint Presentation</dc:title>
</cp:coreProperties>
</file>