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7.wmf" ContentType="image/x-wmf"/>
  <Override PartName="/ppt/media/image10.png" ContentType="image/png"/>
  <Override PartName="/ppt/media/image5.png" ContentType="image/png"/>
  <Override PartName="/ppt/media/image28.png" ContentType="image/png"/>
  <Override PartName="/ppt/media/image3.wmf" ContentType="image/x-wmf"/>
  <Override PartName="/ppt/media/image2.wmf" ContentType="image/x-wmf"/>
  <Override PartName="/ppt/media/image1.wmf" ContentType="image/x-wmf"/>
  <Override PartName="/ppt/media/image14.png" ContentType="image/png"/>
  <Override PartName="/ppt/media/image29.png" ContentType="image/png"/>
  <Override PartName="/ppt/media/image1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816E-467D-4566-8A30-C9EA780AC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857FB-B2C3-49BC-BEAA-3FDC0049D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24602-F07C-4FAD-9818-769DFE91A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EC22-6A17-4590-AD60-71E2810CAE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A7A50-7BF9-4461-9AA3-9CF63FCEA0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4A7F9-AF22-42CC-B8D2-8DD745E4BB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A374A-E6A8-4B3B-851E-9961DCB07E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0787A-7358-4957-9A96-1CA6EF2A38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F40B5-7E4E-4E92-9F2E-1D7E8DAF27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4DBE3-102E-425A-9F13-7BA20ED20E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55390-8D88-493F-94D1-CEA6E6CC5D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CCE5-0D38-4FFE-814B-03B043023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02AFC-D724-46AB-BABE-8FA0739F5A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0B7CA-D6D9-464E-BA03-F477D8D6C8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4BB3B-C82E-4E0E-9782-8054CDD6C7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F36E7-3726-4A68-B142-2627818643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2E1C5-7AC2-4454-BC47-D4AAAD2071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AAA9-B629-48DA-B84D-A5A868939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EE7D9-C88B-402E-B76B-F4001F03C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8F74B-F106-4A5F-8E2D-6829F489C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4C122-B3D4-41FE-9466-9888BE5C9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4BDC-A5A8-4DC9-84FB-8D78CAACB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498A4-4C22-445B-B0A0-BA679A15F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DCEAD-66CC-4476-AAAD-547FCC758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D60C-2207-4B6C-AD27-FAEE14DFE9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FDED-03E3-4582-B286-E3116D76AF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java.sun.com/j2ee/j2sdkee-beta/index.html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6: Messaging with JM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stallation and Configuration of J2EE 1.3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oint-To-Point Messag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3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oter Application: Overview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3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oter Application: Sender Sid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3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oter Application: Receiver Side|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3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oter Application: Configuring and Runn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ublish/Subscribe Messag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4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eather Application: Overview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4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eather Application: Publisher Sid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4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eather Application: Subscriber Sid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4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eather Application: Configuring and Runn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essage-Driven Enterprise JavaBea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5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oter Application: Overview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5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oter Application: Receiver Side\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6.5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oter Application: Configuring and 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3.1   Voter Application: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3124080" cy="1928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900880" y="4724280"/>
            <a:ext cx="33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ter application overvie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3.2   Voter Application: Sender Sid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s of single class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user to select programming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nds vote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t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ass submits votes as messages to queu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ot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oter is the GUI that allows the client to vo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 a programming language. Voter sends the vo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the "Votes" queue as a TextMessag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s.vo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jm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t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electedLangu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JMS variab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ueConnection queueConn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ueSession queueSes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ueSender queueSen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ot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t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ay out user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ot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rder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514600" y="2438280"/>
            <a:ext cx="4572000" cy="337320"/>
            <a:chOff x="2514600" y="2438280"/>
            <a:chExt cx="4572000" cy="337320"/>
          </a:xfrm>
        </p:grpSpPr>
        <p:sp>
          <p:nvSpPr>
            <p:cNvPr id="115" name=""/>
            <p:cNvSpPr/>
            <p:nvPr/>
          </p:nvSpPr>
          <p:spPr>
            <a:xfrm flipH="1">
              <a:off x="2514600" y="2590920"/>
              <a:ext cx="1062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81280" y="2438280"/>
              <a:ext cx="3505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ains JMS API classes and interfa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ass submits votes as messages to queue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TextArea voteArea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vote for you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vorite programming langu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oteArea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voteArea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languages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nguages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each language as its own JCheckBo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uttonGroup ensures exactly one language selec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Group languagesGroup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ttonGrou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eckBoxHandler checkBoxHandl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eckBoxHandl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languages[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++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is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yth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lectedLanguag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CheckBox for each langu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add to ButtonGroup and J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languages.length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CheckBox checkBox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heckBox( languages[ i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eckBox.addItemListener( checkBoxHandl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anguagesPanel.add( checkBo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anguagesGroup.add( checkBo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languages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button to submit vo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submit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 vote!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submitButton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OU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ass submits votes as messages to queu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9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96-10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 method submitVote when submitButton click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bmitButton.addActionListener 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 ( ActionEvent even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ubmitVo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 method quit when window clo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Window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Closing( WindowEvent even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qu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nect to message 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reate JNDI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text jndi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rieve queue connection factory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queue from JNDI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eueConnectionFactory queueConnectionFactor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QueueConnectionFactor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ndi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OTE_FACTO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eue queue = ( Queue ) jndi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ot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562720" y="4952880"/>
            <a:ext cx="3124080" cy="337320"/>
            <a:chOff x="5562720" y="4952880"/>
            <a:chExt cx="3124080" cy="337320"/>
          </a:xfrm>
        </p:grpSpPr>
        <p:sp>
          <p:nvSpPr>
            <p:cNvPr id="122" name=""/>
            <p:cNvSpPr/>
            <p:nvPr/>
          </p:nvSpPr>
          <p:spPr>
            <a:xfrm flipH="1">
              <a:off x="5562720" y="5105520"/>
              <a:ext cx="1062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495288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JNDI 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91320" y="5257800"/>
            <a:ext cx="3124080" cy="1310760"/>
            <a:chOff x="5791320" y="5257800"/>
            <a:chExt cx="3124080" cy="1310760"/>
          </a:xfrm>
        </p:grpSpPr>
        <p:sp>
          <p:nvSpPr>
            <p:cNvPr id="125" name=""/>
            <p:cNvSpPr/>
            <p:nvPr/>
          </p:nvSpPr>
          <p:spPr>
            <a:xfrm flipH="1">
              <a:off x="5791320" y="6095880"/>
              <a:ext cx="1062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0" y="5257800"/>
              <a:ext cx="20574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 administrator responsible for creating queue connection factory and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ass submits votes as messages to queu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02-10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04-10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0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31-13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reate connection, session and sen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eueConnec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queueConnectionFactory.createQueueConne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eueSession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queueConnection.createQueueSessi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ess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UTO_ACKNOWLED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eueSender = queueSession.createSender( que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ocess Naming exception from JNDI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JMS exception from queue connection or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MSException jm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m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Vot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bmit selected vote to "Votes" queue as Text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bmitVot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lectedLanguage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ext message containing selected langu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extMessage voteMessag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queueSession.createTextMessag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voteMessage.setText( selectedLangu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19560" y="914040"/>
            <a:ext cx="2819520" cy="1190520"/>
            <a:chOff x="6019560" y="914040"/>
            <a:chExt cx="2819520" cy="1190520"/>
          </a:xfrm>
        </p:grpSpPr>
        <p:sp>
          <p:nvSpPr>
            <p:cNvPr id="130" name=""/>
            <p:cNvSpPr/>
            <p:nvPr/>
          </p:nvSpPr>
          <p:spPr>
            <a:xfrm flipH="1" flipV="1">
              <a:off x="6019560" y="914040"/>
              <a:ext cx="757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81680" y="152388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Queue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638680" y="1218960"/>
            <a:ext cx="3200400" cy="1114200"/>
            <a:chOff x="5638680" y="1218960"/>
            <a:chExt cx="3200400" cy="1114200"/>
          </a:xfrm>
        </p:grpSpPr>
        <p:sp>
          <p:nvSpPr>
            <p:cNvPr id="133" name=""/>
            <p:cNvSpPr/>
            <p:nvPr/>
          </p:nvSpPr>
          <p:spPr>
            <a:xfrm flipH="1" flipV="1">
              <a:off x="5638680" y="1218960"/>
              <a:ext cx="1138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81680" y="175248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QueueS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562720" y="1599840"/>
            <a:ext cx="3429000" cy="1419120"/>
            <a:chOff x="5562720" y="1599840"/>
            <a:chExt cx="3429000" cy="1419120"/>
          </a:xfrm>
        </p:grpSpPr>
        <p:sp>
          <p:nvSpPr>
            <p:cNvPr id="136" name=""/>
            <p:cNvSpPr/>
            <p:nvPr/>
          </p:nvSpPr>
          <p:spPr>
            <a:xfrm flipH="1" flipV="1">
              <a:off x="5562720" y="1599840"/>
              <a:ext cx="9144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77120" y="243828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t messages throug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QueueSen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334120" y="5715000"/>
            <a:ext cx="3124080" cy="337320"/>
            <a:chOff x="5334120" y="5715000"/>
            <a:chExt cx="3124080" cy="337320"/>
          </a:xfrm>
        </p:grpSpPr>
        <p:sp>
          <p:nvSpPr>
            <p:cNvPr id="139" name=""/>
            <p:cNvSpPr/>
            <p:nvPr/>
          </p:nvSpPr>
          <p:spPr>
            <a:xfrm flipH="1">
              <a:off x="5334120" y="5867280"/>
              <a:ext cx="1062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00800" y="57150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 in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486400" y="6095880"/>
            <a:ext cx="3124080" cy="337320"/>
            <a:chOff x="5486400" y="6095880"/>
            <a:chExt cx="3124080" cy="337320"/>
          </a:xfrm>
        </p:grpSpPr>
        <p:sp>
          <p:nvSpPr>
            <p:cNvPr id="142" name=""/>
            <p:cNvSpPr/>
            <p:nvPr/>
          </p:nvSpPr>
          <p:spPr>
            <a:xfrm flipH="1">
              <a:off x="5486400" y="6248520"/>
              <a:ext cx="1062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53080" y="609588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body of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ass submits votes as messages to queu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3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5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nd the message to the 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queueSender.send( vote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ocess JMS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MSException jm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m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ubmitVo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lose client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i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queueConnection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lose queue connection if it exi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queueConnectio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JMS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MSException jm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m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qu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723920" y="685800"/>
            <a:ext cx="3810600" cy="1023120"/>
            <a:chOff x="4723920" y="685800"/>
            <a:chExt cx="3810600" cy="1023120"/>
          </a:xfrm>
        </p:grpSpPr>
        <p:sp>
          <p:nvSpPr>
            <p:cNvPr id="147" name=""/>
            <p:cNvSpPr/>
            <p:nvPr/>
          </p:nvSpPr>
          <p:spPr>
            <a:xfrm flipH="1" flipV="1">
              <a:off x="4723920" y="685800"/>
              <a:ext cx="1747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77120" y="13716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638320" y="3809880"/>
            <a:ext cx="3124800" cy="337320"/>
            <a:chOff x="5638320" y="3809880"/>
            <a:chExt cx="3124800" cy="337320"/>
          </a:xfrm>
        </p:grpSpPr>
        <p:sp>
          <p:nvSpPr>
            <p:cNvPr id="150" name=""/>
            <p:cNvSpPr/>
            <p:nvPr/>
          </p:nvSpPr>
          <p:spPr>
            <a:xfrm flipH="1">
              <a:off x="5638320" y="3962520"/>
              <a:ext cx="68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24480" y="3809880"/>
              <a:ext cx="24386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se connection to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ass submits votes as messages to queue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809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launch Voter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oter vo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oter.p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oter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eckBoxHandler handles event when checkbox check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eckBoxHandl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em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heckbox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emStateChanged( Item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date selectedLangu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CheckBox source = ( JCheckBox ) event.getSour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lectedLanguage = source.get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3.2   Voter Application: Sender Sid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55" name="voter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1714320" cy="20289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11360" y="4648320"/>
            <a:ext cx="589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ter application votes for favorite programming langu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3.3   Voter Application: Receiver Sid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teColl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nded rece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llies and displays vo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eue can be populated befor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teColl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n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-oriented middle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components to post messages for other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int-to-point messaging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send messages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ssage 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s sent to one consu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ublish/subscribe messaging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ublis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ssage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op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subscribers receive message for given top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Collecto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retrieves and tallies votes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oteCollecto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oteCollector tallies and displays the vo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sted as TextMessages to the "Votes" queu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s.vo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jm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teCollecto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displayPan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p talli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Ma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MS variab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ueConnection queueConn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VoteCollecto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teCollecto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ote Talli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Panel will display tall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lay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lay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new JScrollPane( displayPanel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Collecto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retrieves and tallies vot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5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55-5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61-6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66-6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 method quit when window clo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Window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Closing( WindowEvent even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qu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"Votes" 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reate JNDI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text jndi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rieve queue connection fa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nd queue from JNDI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eueConnectionFactory queueConnectionFactory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QueueConnectionFactor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ndi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OTE_FACTO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eue queue = ( Queue ) jndi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ot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connection, session and recei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eueConnec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queueConnectionFactory.createQueueConne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eueSession queueSession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queueConnection.createQueueSessi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ess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UTO_ACKNOWLED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eueReceiver queueReceiv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queueSession.createReceiver( que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86400" y="2971800"/>
            <a:ext cx="3124080" cy="337320"/>
            <a:chOff x="5486400" y="2971800"/>
            <a:chExt cx="3124080" cy="337320"/>
          </a:xfrm>
        </p:grpSpPr>
        <p:sp>
          <p:nvSpPr>
            <p:cNvPr id="164" name=""/>
            <p:cNvSpPr/>
            <p:nvPr/>
          </p:nvSpPr>
          <p:spPr>
            <a:xfrm flipH="1">
              <a:off x="5486400" y="3124080"/>
              <a:ext cx="1062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53080" y="29718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JNDI 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680" y="3886200"/>
            <a:ext cx="3124440" cy="580680"/>
            <a:chOff x="5638680" y="3886200"/>
            <a:chExt cx="3124440" cy="580680"/>
          </a:xfrm>
        </p:grpSpPr>
        <p:sp>
          <p:nvSpPr>
            <p:cNvPr id="167" name=""/>
            <p:cNvSpPr/>
            <p:nvPr/>
          </p:nvSpPr>
          <p:spPr>
            <a:xfrm flipH="1">
              <a:off x="5638680" y="4038480"/>
              <a:ext cx="1062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05720" y="388620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queue connection fact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248160" y="4876920"/>
            <a:ext cx="2743560" cy="337320"/>
            <a:chOff x="6248160" y="4876920"/>
            <a:chExt cx="2743560" cy="337320"/>
          </a:xfrm>
        </p:grpSpPr>
        <p:sp>
          <p:nvSpPr>
            <p:cNvPr id="170" name=""/>
            <p:cNvSpPr/>
            <p:nvPr/>
          </p:nvSpPr>
          <p:spPr>
            <a:xfrm flipH="1">
              <a:off x="6248160" y="50292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81680" y="4876920"/>
              <a:ext cx="22100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QueueS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257800" y="5791320"/>
            <a:ext cx="3124080" cy="337320"/>
            <a:chOff x="5257800" y="5791320"/>
            <a:chExt cx="3124080" cy="337320"/>
          </a:xfrm>
        </p:grpSpPr>
        <p:sp>
          <p:nvSpPr>
            <p:cNvPr id="173" name=""/>
            <p:cNvSpPr/>
            <p:nvPr/>
          </p:nvSpPr>
          <p:spPr>
            <a:xfrm flipH="1">
              <a:off x="5257800" y="5943600"/>
              <a:ext cx="1062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4480" y="579132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votes recei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Collecto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retrieves and tallies vot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70-7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7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92-10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initialize and set message 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eueReceiver.setMessage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teListen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tart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eueConnection.star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// process Naming exception from JNDI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JMS exception from queue connection or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MSException jm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m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VoteCollecto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add vote to corresponding ta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Vote( String vot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allies.containsKey( vote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if vote already has corresponding ta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allyPanel tallyPanel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TallyPanel ) tallies.get( vo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allyPanel.updateTall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343400" y="762120"/>
            <a:ext cx="4114800" cy="1023120"/>
            <a:chOff x="4343400" y="762120"/>
            <a:chExt cx="4114800" cy="1023120"/>
          </a:xfrm>
        </p:grpSpPr>
        <p:sp>
          <p:nvSpPr>
            <p:cNvPr id="178" name=""/>
            <p:cNvSpPr/>
            <p:nvPr/>
          </p:nvSpPr>
          <p:spPr>
            <a:xfrm flipH="1" flipV="1">
              <a:off x="4343400" y="762120"/>
              <a:ext cx="20527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00800" y="144792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liste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809880" y="1143000"/>
            <a:ext cx="3124440" cy="337320"/>
            <a:chOff x="3809880" y="1143000"/>
            <a:chExt cx="3124440" cy="337320"/>
          </a:xfrm>
        </p:grpSpPr>
        <p:sp>
          <p:nvSpPr>
            <p:cNvPr id="181" name=""/>
            <p:cNvSpPr/>
            <p:nvPr/>
          </p:nvSpPr>
          <p:spPr>
            <a:xfrm flipH="1">
              <a:off x="3809880" y="1295280"/>
              <a:ext cx="1062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920" y="11430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vate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343400" y="4419720"/>
            <a:ext cx="3657600" cy="824040"/>
            <a:chOff x="4343400" y="4419720"/>
            <a:chExt cx="3657600" cy="824040"/>
          </a:xfrm>
        </p:grpSpPr>
        <p:sp>
          <p:nvSpPr>
            <p:cNvPr id="184" name=""/>
            <p:cNvSpPr/>
            <p:nvPr/>
          </p:nvSpPr>
          <p:spPr>
            <a:xfrm flipH="1">
              <a:off x="4343400" y="4572000"/>
              <a:ext cx="1062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10080" y="441972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dates tallies and display. Callback method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ot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Collecto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retrieves and tallies vot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1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// add to GUI and tall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allyPanel tally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llyPanel( vot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playPanel.add( tally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allies.put( vote, tally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vali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quit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i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queueConnection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e the queue connection if it exi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queueConnectio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JMS 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MSException jm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m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qu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257800" y="3200400"/>
            <a:ext cx="3429000" cy="337320"/>
            <a:chOff x="5257800" y="3200400"/>
            <a:chExt cx="3429000" cy="337320"/>
          </a:xfrm>
        </p:grpSpPr>
        <p:sp>
          <p:nvSpPr>
            <p:cNvPr id="189" name=""/>
            <p:cNvSpPr/>
            <p:nvPr/>
          </p:nvSpPr>
          <p:spPr>
            <a:xfrm flipH="1">
              <a:off x="5257800" y="3352680"/>
              <a:ext cx="1062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24480" y="320040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se queue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Collecto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retrieves and tallies votes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aunch VoteColle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oteCollector voteCollec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teCollec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oteCollector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oteCollector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3.3   Voter Application: Receiver Sid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94" name="voteCollector" descr=""/>
          <p:cNvPicPr/>
          <p:nvPr/>
        </p:nvPicPr>
        <p:blipFill>
          <a:blip r:embed="rId1"/>
          <a:stretch/>
        </p:blipFill>
        <p:spPr>
          <a:xfrm>
            <a:off x="3581280" y="21337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217240" y="4660920"/>
            <a:ext cx="48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teCollec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llies and displays vo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Listen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receives messages from the queu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oteListen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oteListener is the message listener for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eiver of the "Votes" queue. It implement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specified onMessage method to update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UI with the received vo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s.vo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jm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teListen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teCollector voteCollec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VoteListen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teListener( VoteCollector collect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oteCollector = collec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eive new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nMessage( Message messag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Message vote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retrieve and process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essag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stanc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Messag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voteMessage = ( TextMessage ) 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 vote = voteMessage.get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voteCollector.addVote( vo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ceived vot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vo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800600" y="2286000"/>
            <a:ext cx="2666880" cy="1128960"/>
            <a:chOff x="4800600" y="2286000"/>
            <a:chExt cx="2666880" cy="1128960"/>
          </a:xfrm>
        </p:grpSpPr>
        <p:sp>
          <p:nvSpPr>
            <p:cNvPr id="199" name=""/>
            <p:cNvSpPr/>
            <p:nvPr/>
          </p:nvSpPr>
          <p:spPr>
            <a:xfrm flipH="1" flipV="1">
              <a:off x="4800600" y="2286000"/>
              <a:ext cx="604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10080" y="2590920"/>
              <a:ext cx="2057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ssag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257800" y="5334120"/>
            <a:ext cx="3124080" cy="580680"/>
            <a:chOff x="5257800" y="5334120"/>
            <a:chExt cx="3124080" cy="580680"/>
          </a:xfrm>
        </p:grpSpPr>
        <p:sp>
          <p:nvSpPr>
            <p:cNvPr id="202" name=""/>
            <p:cNvSpPr/>
            <p:nvPr/>
          </p:nvSpPr>
          <p:spPr>
            <a:xfrm flipH="1">
              <a:off x="5257800" y="5486400"/>
              <a:ext cx="1062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24480" y="533412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sure message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ext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724280" y="5867280"/>
            <a:ext cx="2362320" cy="337320"/>
            <a:chOff x="4724280" y="5867280"/>
            <a:chExt cx="2362320" cy="337320"/>
          </a:xfrm>
        </p:grpSpPr>
        <p:sp>
          <p:nvSpPr>
            <p:cNvPr id="205" name=""/>
            <p:cNvSpPr/>
            <p:nvPr/>
          </p:nvSpPr>
          <p:spPr>
            <a:xfrm flipH="1">
              <a:off x="4724280" y="6019920"/>
              <a:ext cx="1062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91320" y="5867280"/>
              <a:ext cx="1295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 b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Listen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receives messages from the queue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pecting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Message object, receive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essage.getClass().ge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JMS exception from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MSException jm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m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on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TallyPane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isplays candidate name and tall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allyPan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allPanel is the GUI component which display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name and tally for a vote candida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s.vo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llyPan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 nameLab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tally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ll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TallyPane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llyPanel( String voteNam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teTall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 = vot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lly = voteTall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llyField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Integer.toString( tally 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llyField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llyField.setBackground( Color.whi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name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tally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allyPane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TallyPane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isplays candidate name and tall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447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update tally by one vo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Tall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lly++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llyField.setText( Integer.toString( tally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743200" y="1523880"/>
            <a:ext cx="3048120" cy="718560"/>
            <a:chOff x="2743200" y="1523880"/>
            <a:chExt cx="3048120" cy="718560"/>
          </a:xfrm>
        </p:grpSpPr>
        <p:sp>
          <p:nvSpPr>
            <p:cNvPr id="214" name=""/>
            <p:cNvSpPr/>
            <p:nvPr/>
          </p:nvSpPr>
          <p:spPr>
            <a:xfrm flipH="1" flipV="1">
              <a:off x="2743200" y="1523880"/>
              <a:ext cx="681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29000" y="190512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crements tally by 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   Introduc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osed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 dest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ing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ies (optio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s type of message being s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ps determine what messages to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of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3.4   Voter Application: Configuring and Runn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J2E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2ee –verb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otes queue (in new wind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2eeadmin –addJmsDestination Votes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y queue was 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2eeadmin –listJms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connection fa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2eeadmin –addJmsFactory VOTE_FACTORY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Vote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ava –classpath %J2EE_HOME%\lib\j2ee.jar;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Djms.properties=%J2EE_HOME%\config\jms_client.properti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.deitel.advjhtp1.jms.voter.VoteColl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Voter (in new wind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ava –classpath %J2EE_HOME%\lib\j2ee.jar;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Djms.properties=%J2EE_HOME%\config\jms_client.properti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.deitel.advjhtp1.jms.voter.V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3.4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pplication fin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 connection fac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2eeadmin –removeJmsFactory VOTE_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te top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2eeadmin –removeJmsDestination V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p J2EE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2ee -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4   Publish/Subscribe Messag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multiple client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nect to topic on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nd mess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eive mess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lient publishes message, message sent to all clients subscribed to top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ubscription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ndu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s received while subscriptions 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u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 maintains messages while subscription in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 sends messages when client reactiv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4   Publish/Subscribe Messag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362320" y="2590920"/>
            <a:ext cx="4343400" cy="10238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520720" y="4419720"/>
            <a:ext cx="404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1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sh/subscribe messaging mod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4.1   Weather Application: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atherPublis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rieves weather updates from UR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blishes information as messages to top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atherSubscr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GU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s user to select desired 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scribe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eath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p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s corresponding mess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message sel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4.1   Weather Application: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630520" y="2273400"/>
            <a:ext cx="3881520" cy="2311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825640" y="4876920"/>
            <a:ext cx="359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ther application overvie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4.2   Weather Application: Publisher Sid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atherPublis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rieves weather updates from National Weather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blishes weather update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eath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p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ssages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jectMess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pert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pecifies corresponding 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Publish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ass publishes messages to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topic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Publish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Publisher retrieves weather conditions from the Nation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 Service and publishes them to the Weather topi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 ObjectMessages containing WeatherBeans. The city name i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d in a String property "City" in the message head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s.weat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jm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rmi.weather.WeatherBea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Publish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rTask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Reader 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picConnection topicConn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atherPublish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Publish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weather conditions every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mer tim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mer.scheduleAtFixedR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llow user to qu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StreamReader inputStreamRead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StreamReader( System.i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r answ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Publish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ass publishes messages to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topic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p until user enters q or Q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( ( answe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q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|| ( answe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Q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ad in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nswer = ( char ) inputStreamReader.rea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ocess IO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exit( 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ose conne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ose topicConnection if it exi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opicConnection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opicConnectio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.clos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e connection to NWS Web serv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imer.cancel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op tim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JMS exception from closing topic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MSException jm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m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Publish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ass publishes messages to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topic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9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95-9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03-10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0" y="228600"/>
            <a:ext cx="693432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IO exception from closing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o NWS Web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eatherPublish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weather information from NW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topic "Weather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 weather information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NDI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text jndi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topic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ath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rieve topic connection factory and top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rom JNDI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picConnectionFactory topicConnectionFactory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TopicConnectionFactor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ndi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ATHER_FACTO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pic topic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Topic ) jndiContext.lookup( topic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connection, session, publisher and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picConnec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opicConnectionFactory.createTopicConne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486400" y="3657600"/>
            <a:ext cx="3124080" cy="337320"/>
            <a:chOff x="5486400" y="3657600"/>
            <a:chExt cx="3124080" cy="337320"/>
          </a:xfrm>
        </p:grpSpPr>
        <p:sp>
          <p:nvSpPr>
            <p:cNvPr id="239" name=""/>
            <p:cNvSpPr/>
            <p:nvPr/>
          </p:nvSpPr>
          <p:spPr>
            <a:xfrm flipH="1">
              <a:off x="5486400" y="3809880"/>
              <a:ext cx="1062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53080" y="36576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JNDI 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638680" y="5029200"/>
            <a:ext cx="3353040" cy="976320"/>
            <a:chOff x="5638680" y="5029200"/>
            <a:chExt cx="3353040" cy="976320"/>
          </a:xfrm>
        </p:grpSpPr>
        <p:sp>
          <p:nvSpPr>
            <p:cNvPr id="242" name=""/>
            <p:cNvSpPr/>
            <p:nvPr/>
          </p:nvSpPr>
          <p:spPr>
            <a:xfrm flipH="1" flipV="1">
              <a:off x="5638680" y="5029200"/>
              <a:ext cx="4572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95880" y="5181480"/>
              <a:ext cx="28958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 up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picConnectionFacto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p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638680" y="563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019920" y="6172200"/>
            <a:ext cx="2971800" cy="337320"/>
            <a:chOff x="6019920" y="6172200"/>
            <a:chExt cx="2971800" cy="337320"/>
          </a:xfrm>
        </p:grpSpPr>
        <p:sp>
          <p:nvSpPr>
            <p:cNvPr id="246" name=""/>
            <p:cNvSpPr/>
            <p:nvPr/>
          </p:nvSpPr>
          <p:spPr>
            <a:xfrm flipH="1">
              <a:off x="6019920" y="63244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24480" y="617220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pic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   Introduc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osed of 5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tesMess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pMess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Mess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eamMess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tMess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-driven b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terprise JavaBeans that support messa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JB container uses any message-driven bean for given top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-driven beans cannot maintain clients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 components to receive messages asynchronous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Publish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ass publishes messages to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topic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06-10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10-11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13-11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picSession topicSession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opicConnection.createTopicSessi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ess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UTO_ACKNOWLED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picPublisher topicPublish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opicSession.createPublisher( topic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Message message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opicSession.createObjectMessag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nnect to National Weather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nd publish conditions to top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National Weather Service Travelers Forecast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RL ur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RL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iwin.nws.noaa.gov/iwin/us/traveler.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up text input stream to read Web page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Read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new InputStreamReader( url.openStream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elps determine starting point of data on Web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separat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AV1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cate separator string in Web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.readLine().startsWith( separator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o noth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trings representing headers on Travelers Foreca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eb page for daytime and nighttime weat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dayHead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TY            WEA     HI/LO   WEA     HI/L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nightHead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TY            WEA     LO/HI   WEA     LO/HI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876920" y="685800"/>
            <a:ext cx="4038480" cy="1099440"/>
            <a:chOff x="4876920" y="685800"/>
            <a:chExt cx="4038480" cy="1099440"/>
          </a:xfrm>
        </p:grpSpPr>
        <p:sp>
          <p:nvSpPr>
            <p:cNvPr id="251" name=""/>
            <p:cNvSpPr/>
            <p:nvPr/>
          </p:nvSpPr>
          <p:spPr>
            <a:xfrm flipH="1" flipV="1">
              <a:off x="4876920" y="685800"/>
              <a:ext cx="18237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05720" y="1447920"/>
              <a:ext cx="2209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picS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257800" y="1371240"/>
            <a:ext cx="3200400" cy="489960"/>
            <a:chOff x="5257800" y="1371240"/>
            <a:chExt cx="3200400" cy="489960"/>
          </a:xfrm>
        </p:grpSpPr>
        <p:sp>
          <p:nvSpPr>
            <p:cNvPr id="254" name=""/>
            <p:cNvSpPr/>
            <p:nvPr/>
          </p:nvSpPr>
          <p:spPr>
            <a:xfrm flipH="1" flipV="1">
              <a:off x="5257800" y="1371240"/>
              <a:ext cx="681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43600" y="152388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picPublis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952880" y="1904760"/>
            <a:ext cx="3886200" cy="1114200"/>
            <a:chOff x="4952880" y="1904760"/>
            <a:chExt cx="3886200" cy="1114200"/>
          </a:xfrm>
        </p:grpSpPr>
        <p:sp>
          <p:nvSpPr>
            <p:cNvPr id="257" name=""/>
            <p:cNvSpPr/>
            <p:nvPr/>
          </p:nvSpPr>
          <p:spPr>
            <a:xfrm flipH="1" flipV="1">
              <a:off x="4952880" y="1904760"/>
              <a:ext cx="1519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77120" y="2438280"/>
              <a:ext cx="2361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ll con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ather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Publish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ass publishes messages to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topic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65-16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7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74-17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inputLin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cate header that begins weather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putLine = in.read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putLine.equals( dayHeader ) &amp;&am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!inputLine.equals( nightHeade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WeatherBean objects for each city's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ublish to Weather topic using city as message's 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Line = in.readLin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first city's inf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he portion of inputLine containing relevant data 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28 characters long. If the line length is not 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east 28 characters long, done processing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putLine.length()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reate WeatherBean object for c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first 16 characters are city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next six characters are weather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next six characters are HI/LO temperat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eatherBean weath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Bea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putLine.sub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trim(),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putLine.sub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trim(),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putLine.sub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trim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publish WeatherBean object with city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s a message property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used for selection by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.setObject( weath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.setStringProper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weather.getCity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562720" y="4572000"/>
            <a:ext cx="2666880" cy="824040"/>
            <a:chOff x="5562720" y="4572000"/>
            <a:chExt cx="2666880" cy="824040"/>
          </a:xfrm>
        </p:grpSpPr>
        <p:sp>
          <p:nvSpPr>
            <p:cNvPr id="262" name=""/>
            <p:cNvSpPr/>
            <p:nvPr/>
          </p:nvSpPr>
          <p:spPr>
            <a:xfrm flipH="1">
              <a:off x="5562720" y="5029200"/>
              <a:ext cx="1062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629400" y="4572000"/>
              <a:ext cx="1600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ather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572000" y="6019920"/>
            <a:ext cx="3124080" cy="580680"/>
            <a:chOff x="4572000" y="6019920"/>
            <a:chExt cx="3124080" cy="580680"/>
          </a:xfrm>
        </p:grpSpPr>
        <p:sp>
          <p:nvSpPr>
            <p:cNvPr id="265" name=""/>
            <p:cNvSpPr/>
            <p:nvPr/>
          </p:nvSpPr>
          <p:spPr>
            <a:xfrm flipH="1">
              <a:off x="4572000" y="6172200"/>
              <a:ext cx="1062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638680" y="601992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ather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ssage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952520" y="6172200"/>
            <a:ext cx="2972160" cy="337320"/>
            <a:chOff x="4952520" y="6172200"/>
            <a:chExt cx="2972160" cy="337320"/>
          </a:xfrm>
        </p:grpSpPr>
        <p:sp>
          <p:nvSpPr>
            <p:cNvPr id="268" name=""/>
            <p:cNvSpPr/>
            <p:nvPr/>
          </p:nvSpPr>
          <p:spPr>
            <a:xfrm flipH="1">
              <a:off x="4952520" y="6324480"/>
              <a:ext cx="9097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67280" y="61722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t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Publish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ass publishes messages to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topic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7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opicPublisher.publish(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ublished message for city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+ weather.getCity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putLine = in.readLin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next city's inf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ather information updat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Naming exception from JNDI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JMS exception from connecti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ssion, publisher or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MSException jm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m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failure to connect to National Weather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ava.net.ConnectException connect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other 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876920" y="457200"/>
            <a:ext cx="4114800" cy="1404000"/>
            <a:chOff x="4876920" y="457200"/>
            <a:chExt cx="4114800" cy="1404000"/>
          </a:xfrm>
        </p:grpSpPr>
        <p:sp>
          <p:nvSpPr>
            <p:cNvPr id="273" name=""/>
            <p:cNvSpPr/>
            <p:nvPr/>
          </p:nvSpPr>
          <p:spPr>
            <a:xfrm flipH="1" flipV="1">
              <a:off x="4876920" y="457200"/>
              <a:ext cx="1828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05720" y="152388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blish message to top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Publish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ass publishes messages to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topic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ru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WeatherPublis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itializing server..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'q' or 'Q' to qu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Publisher publish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Publish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4.2   Weather Application: Publisher Sid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78" name="weatherServer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364440" cy="31528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760760" y="5118120"/>
            <a:ext cx="610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1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ather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blishing weather update messa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4.3   Weather Application: Subscriber Sid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cribes to Weather top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eives weather updates for selected c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s GUI for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Subscrib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allows user to receive weather updates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495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Subscrib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Subscriber presents a GUI for the client to req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 conditions for various cities. The WeatherSubscri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rieves the weather conditions from the Weather topic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ach message body contains a WeatherBean object. The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eader contains a String property "City," which allow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client to select the desired citi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s.weat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jm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ubscrib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UI variab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Display weatherDispl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ist cities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Subscrib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allows user to receive weather updat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5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ities contains cities for which weat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s are available on "Weather" top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ities[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BANY N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CHOR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TLANT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TLANTIC CI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ST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BUFFAL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URLINGTON V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ARLESTON W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ARLOT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ICAG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EVELA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LLAS FT WOR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N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TRO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REAT FALL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RTFORD SPGFL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HONOLULU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OUSTON INTCNT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KANSAS CI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 VEGA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S ANGEL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MIAMI BEAC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PLS ST PAU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EW ORLEAN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EW YORK CI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RFOLK V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KLAHOMA CI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LAND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HILADELPHI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HOENIX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ITTSBURG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RTLAND 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RTLAND 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NO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MS variab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picConnection topicConn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picSession topicSes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pic topic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picSubscriber topicSubscri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Listener topic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atherSubscrib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ubscrib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MS WeatherSubscriber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Display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Displa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JNDI context and JMS conne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NDI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text jndi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562720" y="5715000"/>
            <a:ext cx="3047760" cy="337320"/>
            <a:chOff x="5562720" y="5715000"/>
            <a:chExt cx="3047760" cy="337320"/>
          </a:xfrm>
        </p:grpSpPr>
        <p:sp>
          <p:nvSpPr>
            <p:cNvPr id="287" name=""/>
            <p:cNvSpPr/>
            <p:nvPr/>
          </p:nvSpPr>
          <p:spPr>
            <a:xfrm flipH="1">
              <a:off x="5562720" y="58672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24480" y="571500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JNDI 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Subscrib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allows user to receive weather updat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59-6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6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68-6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72-7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7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rieve topic connection factor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rom JNDI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picConnectionFactory topicConnectionFactory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TopicConnectionFactory ) jndi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ATHER_FACTORY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rieve topic from JNDI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topic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ath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pic = ( Topic ) jndiContext.lookup( topic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opic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picConnec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opicConnectionFactory.createTopicConne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opic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picSession = topicConnection.createTopicSessi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ss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UTO_ACKNOWLED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itialize listen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picListen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Listener( weatherDispla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Naming exception from JNDI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JMS exceptions from topic connection or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MSException jm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m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user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rder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505320" y="1066680"/>
            <a:ext cx="3657600" cy="794520"/>
            <a:chOff x="3505320" y="1066680"/>
            <a:chExt cx="3657600" cy="794520"/>
          </a:xfrm>
        </p:grpSpPr>
        <p:sp>
          <p:nvSpPr>
            <p:cNvPr id="292" name=""/>
            <p:cNvSpPr/>
            <p:nvPr/>
          </p:nvSpPr>
          <p:spPr>
            <a:xfrm flipV="1">
              <a:off x="5334120" y="1066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1523880"/>
              <a:ext cx="3657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picConnectionFact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257440" y="1980720"/>
            <a:ext cx="2895840" cy="490320"/>
            <a:chOff x="5257440" y="1980720"/>
            <a:chExt cx="2895840" cy="490320"/>
          </a:xfrm>
        </p:grpSpPr>
        <p:sp>
          <p:nvSpPr>
            <p:cNvPr id="295" name=""/>
            <p:cNvSpPr/>
            <p:nvPr/>
          </p:nvSpPr>
          <p:spPr>
            <a:xfrm flipH="1" flipV="1">
              <a:off x="5257440" y="198072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24480" y="213372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p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019920" y="2438280"/>
            <a:ext cx="2971800" cy="337320"/>
            <a:chOff x="6019920" y="2438280"/>
            <a:chExt cx="2971800" cy="337320"/>
          </a:xfrm>
        </p:grpSpPr>
        <p:sp>
          <p:nvSpPr>
            <p:cNvPr id="298" name=""/>
            <p:cNvSpPr/>
            <p:nvPr/>
          </p:nvSpPr>
          <p:spPr>
            <a:xfrm flipH="1">
              <a:off x="6019920" y="2590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24480" y="243828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pic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5943240" y="3124080"/>
            <a:ext cx="3048480" cy="337320"/>
            <a:chOff x="5943240" y="3124080"/>
            <a:chExt cx="3048480" cy="337320"/>
          </a:xfrm>
        </p:grpSpPr>
        <p:sp>
          <p:nvSpPr>
            <p:cNvPr id="301" name=""/>
            <p:cNvSpPr/>
            <p:nvPr/>
          </p:nvSpPr>
          <p:spPr>
            <a:xfrm flipH="1">
              <a:off x="5943240" y="32767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312408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picS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267080" y="3962520"/>
            <a:ext cx="4724640" cy="489600"/>
            <a:chOff x="4267080" y="3962520"/>
            <a:chExt cx="4724640" cy="489600"/>
          </a:xfrm>
        </p:grpSpPr>
        <p:sp>
          <p:nvSpPr>
            <p:cNvPr id="304" name=""/>
            <p:cNvSpPr/>
            <p:nvPr/>
          </p:nvSpPr>
          <p:spPr>
            <a:xfrm flipH="1" flipV="1">
              <a:off x="4267080" y="3962520"/>
              <a:ext cx="1905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72200" y="4114800"/>
              <a:ext cx="2819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atherListe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Subscrib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allows user to receive weather updates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selection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lection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rder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selection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Citi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lectionPanel.add( selectionLab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list of cities for which us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n request weather upd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tiesLis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ist( citi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lection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citiesLis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getWeather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 Weather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lectionPanel.add( getWeatherButton, BorderLayout.SOU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 method getWeather when getWeatherButton click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WeatherButton.addActionListener 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 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getWeath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addAc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selection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weatherDisplay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 method quit when window clo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Window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2   Installation and Configuration of J2EE 1.3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s for installing J2EE 1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wnload and unpack appropriate software bund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java.sun.com/j2ee/j2sdkee-beta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environment variables according to Fig. 16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Subscrib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allows user to receive weather updat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5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Closing( Window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qu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addWindow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WeatherSubscrib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weather information for selected ci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Weath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rieve selected ind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lectedIndices[] = citiesList.getSelectedIndic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lectedIndices.length &gt; 0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topic subscriber exists, method ha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been called befo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opicSubscriber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lose previous topic subscri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opicSubscriber.clos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process JMS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MSException jm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jm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4495680" y="4952880"/>
            <a:ext cx="4191120" cy="580680"/>
            <a:chOff x="4495680" y="4952880"/>
            <a:chExt cx="4191120" cy="580680"/>
          </a:xfrm>
        </p:grpSpPr>
        <p:sp>
          <p:nvSpPr>
            <p:cNvPr id="311" name=""/>
            <p:cNvSpPr/>
            <p:nvPr/>
          </p:nvSpPr>
          <p:spPr>
            <a:xfrm flipH="1">
              <a:off x="449568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029200" y="4952880"/>
              <a:ext cx="3657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 previous subscriber so that new subscriber can filter newly selected c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Subscrib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allows user to receive weather updat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66-17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77-17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80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lear previous cities from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eatherDisplay.clearCiti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message selector to retrieve specified ci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Buffer messageSelec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Buff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ssageSelector.appen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ty = '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cities[ selectedIndic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] +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'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electedIndices.length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Selecto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R City = '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ities[ selectedIndices[ i ] ] +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'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opic subscriber and sub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opicSubscriber = topicSession.createSubscrib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opic, messageSelector.toString()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opicSubscriber.setMessageListener( topic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opicConnection.star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 weather update should be arriving soon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ocess JMS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MSException jm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m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Weat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171840" y="1294920"/>
            <a:ext cx="2819880" cy="991080"/>
            <a:chOff x="6171840" y="1294920"/>
            <a:chExt cx="2819880" cy="991080"/>
          </a:xfrm>
        </p:grpSpPr>
        <p:sp>
          <p:nvSpPr>
            <p:cNvPr id="316" name=""/>
            <p:cNvSpPr/>
            <p:nvPr/>
          </p:nvSpPr>
          <p:spPr>
            <a:xfrm flipH="1" flipV="1">
              <a:off x="6171840" y="1294920"/>
              <a:ext cx="1523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24480" y="16765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ssageSele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6171840" y="2057400"/>
              <a:ext cx="1523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095520" y="3276720"/>
            <a:ext cx="3048480" cy="337320"/>
            <a:chOff x="6095520" y="3276720"/>
            <a:chExt cx="3048480" cy="337320"/>
          </a:xfrm>
        </p:grpSpPr>
        <p:sp>
          <p:nvSpPr>
            <p:cNvPr id="320" name=""/>
            <p:cNvSpPr/>
            <p:nvPr/>
          </p:nvSpPr>
          <p:spPr>
            <a:xfrm flipH="1">
              <a:off x="6095520" y="34290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77120" y="32767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picSubscri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038480" y="3809880"/>
            <a:ext cx="4572000" cy="337320"/>
            <a:chOff x="4038480" y="3809880"/>
            <a:chExt cx="4572000" cy="337320"/>
          </a:xfrm>
        </p:grpSpPr>
        <p:sp>
          <p:nvSpPr>
            <p:cNvPr id="323" name=""/>
            <p:cNvSpPr/>
            <p:nvPr/>
          </p:nvSpPr>
          <p:spPr>
            <a:xfrm flipH="1" flipV="1">
              <a:off x="4038480" y="3809880"/>
              <a:ext cx="22860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24480" y="380988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gin receiving mess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Subscrib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allows user to receive weather updat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0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0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quit WeatherSubscriber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i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ose connection and subscription to top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ose topic subscri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opicSubscriber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opicSubscriber.clos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ose topic connec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picConnectio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JMS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MSException jm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m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xit( 0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qu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WeatherSubscriber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 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Subscriber subscrib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ubscrib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bscriber.p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bscriber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038120" y="1676520"/>
            <a:ext cx="3048480" cy="337320"/>
            <a:chOff x="4038120" y="1676520"/>
            <a:chExt cx="3048480" cy="337320"/>
          </a:xfrm>
        </p:grpSpPr>
        <p:sp>
          <p:nvSpPr>
            <p:cNvPr id="328" name=""/>
            <p:cNvSpPr/>
            <p:nvPr/>
          </p:nvSpPr>
          <p:spPr>
            <a:xfrm flipH="1">
              <a:off x="4038120" y="18288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00600" y="167652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se subscri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885840" y="2438280"/>
            <a:ext cx="3048480" cy="337320"/>
            <a:chOff x="3885840" y="2438280"/>
            <a:chExt cx="3048480" cy="337320"/>
          </a:xfrm>
        </p:grpSpPr>
        <p:sp>
          <p:nvSpPr>
            <p:cNvPr id="331" name=""/>
            <p:cNvSpPr/>
            <p:nvPr/>
          </p:nvSpPr>
          <p:spPr>
            <a:xfrm flipH="1">
              <a:off x="3885840" y="25909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48320" y="243828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se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4.3   Weather Application: Subscriber Sid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133720" y="1981080"/>
            <a:ext cx="4714920" cy="2152800"/>
            <a:chOff x="2133720" y="1981080"/>
            <a:chExt cx="4714920" cy="2152800"/>
          </a:xfrm>
        </p:grpSpPr>
        <p:pic>
          <p:nvPicPr>
            <p:cNvPr id="335" name="weatherSelect" descr=""/>
            <p:cNvPicPr/>
            <p:nvPr/>
          </p:nvPicPr>
          <p:blipFill>
            <a:blip r:embed="rId1"/>
            <a:stretch/>
          </p:blipFill>
          <p:spPr>
            <a:xfrm>
              <a:off x="2133720" y="1981080"/>
              <a:ext cx="4410000" cy="21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weatherSelect2" descr=""/>
            <p:cNvPicPr/>
            <p:nvPr/>
          </p:nvPicPr>
          <p:blipFill>
            <a:blip r:embed="rId2"/>
            <a:stretch/>
          </p:blipFill>
          <p:spPr>
            <a:xfrm>
              <a:off x="3809880" y="2743200"/>
              <a:ext cx="3038760" cy="11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" name=""/>
          <p:cNvSpPr/>
          <p:nvPr/>
        </p:nvSpPr>
        <p:spPr>
          <a:xfrm>
            <a:off x="1535760" y="4584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1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atherSubscrib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lecting cities for weather upd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4.3   Weather Application: Subscriber Sid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39" name="weatherUpdate" descr=""/>
          <p:cNvPicPr/>
          <p:nvPr/>
        </p:nvPicPr>
        <p:blipFill>
          <a:blip r:embed="rId1"/>
          <a:stretch/>
        </p:blipFill>
        <p:spPr>
          <a:xfrm>
            <a:off x="2367000" y="2352600"/>
            <a:ext cx="4410000" cy="2152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304280" y="5041800"/>
            <a:ext cx="68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1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atherSubscrib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ving received updated weather condi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Listen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subscribes to Weather topic to receive weather forecast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Listen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Listener is the MessageListener for a sub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the Weather topic. It implements the specified on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thod to update the GUI with the corresponding city'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s.weat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jm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rmi.weather.WeatherBea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Listen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Display weatherDispl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atherListen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Listener( WeatherDisplay displa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Display = displ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ew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nMessage( Message messag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rieve and process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nsure Message is an Object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essag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stanc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Messag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409720" y="3048120"/>
            <a:ext cx="3124800" cy="809280"/>
            <a:chOff x="5409720" y="3048120"/>
            <a:chExt cx="3124800" cy="809280"/>
          </a:xfrm>
        </p:grpSpPr>
        <p:sp>
          <p:nvSpPr>
            <p:cNvPr id="344" name=""/>
            <p:cNvSpPr/>
            <p:nvPr/>
          </p:nvSpPr>
          <p:spPr>
            <a:xfrm flipH="1" flipV="1">
              <a:off x="5409720" y="3048120"/>
              <a:ext cx="8384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48520" y="327672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ssageListe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334120" y="5867280"/>
            <a:ext cx="3047760" cy="580680"/>
            <a:chOff x="5334120" y="5867280"/>
            <a:chExt cx="3047760" cy="580680"/>
          </a:xfrm>
        </p:grpSpPr>
        <p:sp>
          <p:nvSpPr>
            <p:cNvPr id="347" name=""/>
            <p:cNvSpPr/>
            <p:nvPr/>
          </p:nvSpPr>
          <p:spPr>
            <a:xfrm flipH="1">
              <a:off x="5334120" y="60199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5880" y="586728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sur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ject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Listen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subscribes to Weather topic to receive weather forecast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35-3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1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WeatherBean from Object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bjectMessage objectMessag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ObjectMessage ) 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eatherBean weatherBean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WeatherBean ) objectMessage.getObjec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dd WeatherBean to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eatherDisplay.addItem( weatherBea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pected ObjectMessage,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but receive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message.getClass().ge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JMS exception from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MSException jm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m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on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257440" y="1218960"/>
            <a:ext cx="3429360" cy="794880"/>
            <a:chOff x="5257440" y="1218960"/>
            <a:chExt cx="3429360" cy="794880"/>
          </a:xfrm>
        </p:grpSpPr>
        <p:sp>
          <p:nvSpPr>
            <p:cNvPr id="352" name=""/>
            <p:cNvSpPr/>
            <p:nvPr/>
          </p:nvSpPr>
          <p:spPr>
            <a:xfrm flipH="1" flipV="1">
              <a:off x="5257440" y="1218960"/>
              <a:ext cx="11430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00800" y="167652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atherB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580920" y="1828800"/>
            <a:ext cx="3124800" cy="565920"/>
            <a:chOff x="3580920" y="1828800"/>
            <a:chExt cx="3124800" cy="565920"/>
          </a:xfrm>
        </p:grpSpPr>
        <p:sp>
          <p:nvSpPr>
            <p:cNvPr id="355" name=""/>
            <p:cNvSpPr/>
            <p:nvPr/>
          </p:nvSpPr>
          <p:spPr>
            <a:xfrm flipH="1" flipV="1">
              <a:off x="3580920" y="1828800"/>
              <a:ext cx="8384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419720" y="205740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cont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Displa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isplay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atherBean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n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us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atherCellRender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Display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Display extends JPanel to displa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f client's request for weather cond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s.weat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rmi.weath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Display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atherListModel and Map for storing WeatherBea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ListModel weatherList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p weatherItem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atherDispla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Displa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rder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Icon headerIma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eatherDisplay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header.jp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headerImage )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Displa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isplay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atherBean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n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us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atherCellRender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56-5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62-6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JList to display updated weather cond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or requested ci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ListMod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Lis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ist weatherJLis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ist( weatherList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JList.setCellRender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CellRender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weatherJList )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intain WeatherBean items in HashMa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Item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Ma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eatherDispla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WeatherBean item to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Item( WeatherBean weath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city = weather.getCityN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heck whether city is already in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weatherItems.containsKey( city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city is in Map, and therefore in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move previous WeatherBean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eatherBean previousWeath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WeatherBean ) weatherItems.remove( cit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eatherListModel.remove( previousWeather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WeatherBean to Map and WeatherLis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ListModel.add( weath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Items.put( city, weath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ddIt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866920" y="4572000"/>
            <a:ext cx="3048480" cy="580680"/>
            <a:chOff x="5866920" y="4572000"/>
            <a:chExt cx="3048480" cy="580680"/>
          </a:xfrm>
        </p:grpSpPr>
        <p:sp>
          <p:nvSpPr>
            <p:cNvPr id="362" name=""/>
            <p:cNvSpPr/>
            <p:nvPr/>
          </p:nvSpPr>
          <p:spPr>
            <a:xfrm flipH="1">
              <a:off x="5866920" y="47242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29400" y="457200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 if bean previously exi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5181120" y="5638680"/>
            <a:ext cx="3048480" cy="337320"/>
            <a:chOff x="5181120" y="5638680"/>
            <a:chExt cx="3048480" cy="337320"/>
          </a:xfrm>
        </p:grpSpPr>
        <p:sp>
          <p:nvSpPr>
            <p:cNvPr id="365" name=""/>
            <p:cNvSpPr/>
            <p:nvPr/>
          </p:nvSpPr>
          <p:spPr>
            <a:xfrm flipH="1">
              <a:off x="5181120" y="57913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943600" y="563868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new bean to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1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eatherDispla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isplay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atherBean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n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us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atherCellRender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523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ear all cities from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earCitie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Items.cle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ListModel.cle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2   Installation and Configuration of J2EE 1.3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4.4   Weather Application: Configuring and Runn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J2E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j2ee –verbo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ath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pic (new wind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j2eeadmin –addJmsDestination Weather topi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y topic sel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j2eeadmin –listJmsDestin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nnection fa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j2eeadmin –addJmsFactory WEATHER_FACTORY topi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atherPublis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java –classpath %J2EE_HOME%\lib\j2ee.jar;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-Djms.properties=%J2EE_HOME%\config\jms_client.properties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m.deitel.advjhtp1.jms.weather.WeatherPublis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atherSubscri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java –classpath %J2EE_HOME%\lib\j2ee.jar;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-Djms.properties=%J2EE_HOME%\config\jms_client.properties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m.deitel.advjhtp1.jmx.weather.WeatherSubscrib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4.4   Weath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lose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 fac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2eeadmin –removeJmsFactory WEATHER_FA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 top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2eeadmin –removeJmsDestination Wea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p J2EE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2ee -s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   Message-Driven Enterprise JavaBea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type of EJB available in EJB version 2.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t of Java 2 Enterprise Edition version 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message is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er uses any available message-driven be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-driven beans handle messages from multiple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not maintain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rs provide only bean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1   Voter Application: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ts vote messages to 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concerned with receiver’s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 of loosely coupled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teCollector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ssage-bean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legates message to entity-be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ndid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ndi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llies vo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s results in databa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ally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sents GUI with tallies from data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1   Voter Application: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3124080" cy="17924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2824920" y="4432320"/>
            <a:ext cx="351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1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t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lication overvie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2   Voter Application: Receiver Sid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ndid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tity EJB repres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ote candidate for which users vo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votes for candid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container managed persis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2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ndidateHo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interface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ndi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5-1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9-2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3-2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ndidateHo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ndidateHome is the home interface for the Candidate EJB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s.md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didateHo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Ho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find Candidate with give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didate findByPrimaryKey( String candidate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Finder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find all Candid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 findAllCandidate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Finder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create new Candidate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didate create( String candidate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Crea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714640" y="2895480"/>
            <a:ext cx="2362680" cy="580680"/>
            <a:chOff x="5714640" y="2895480"/>
            <a:chExt cx="2362680" cy="580680"/>
          </a:xfrm>
        </p:grpSpPr>
        <p:sp>
          <p:nvSpPr>
            <p:cNvPr id="385" name=""/>
            <p:cNvSpPr/>
            <p:nvPr/>
          </p:nvSpPr>
          <p:spPr>
            <a:xfrm flipH="1">
              <a:off x="5714640" y="30481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477120" y="289548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cate particula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ndi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334120" y="3581280"/>
            <a:ext cx="3047760" cy="580680"/>
            <a:chOff x="5334120" y="3581280"/>
            <a:chExt cx="3047760" cy="580680"/>
          </a:xfrm>
        </p:grpSpPr>
        <p:sp>
          <p:nvSpPr>
            <p:cNvPr id="388" name=""/>
            <p:cNvSpPr/>
            <p:nvPr/>
          </p:nvSpPr>
          <p:spPr>
            <a:xfrm flipH="1">
              <a:off x="5334120" y="37339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95880" y="358128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c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ndi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5409720" y="4419720"/>
            <a:ext cx="3429360" cy="580680"/>
            <a:chOff x="5409720" y="4419720"/>
            <a:chExt cx="3429360" cy="580680"/>
          </a:xfrm>
        </p:grpSpPr>
        <p:sp>
          <p:nvSpPr>
            <p:cNvPr id="391" name=""/>
            <p:cNvSpPr/>
            <p:nvPr/>
          </p:nvSpPr>
          <p:spPr>
            <a:xfrm flipH="1">
              <a:off x="5409720" y="45720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172200" y="4419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ndi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given name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o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2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ndi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remote interface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ndi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114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ndidat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ndidate is the remote interface for the Candi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JB, which maintains a tally of vot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s.md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EJB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didat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Objec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lace vote for this Candi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rementVoteCou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get total vote count for this Candi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VoteCou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Candidate's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andidate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6095520" y="2743200"/>
            <a:ext cx="2667600" cy="337320"/>
            <a:chOff x="6095520" y="2743200"/>
            <a:chExt cx="2667600" cy="337320"/>
          </a:xfrm>
        </p:grpSpPr>
        <p:sp>
          <p:nvSpPr>
            <p:cNvPr id="396" name=""/>
            <p:cNvSpPr/>
            <p:nvPr/>
          </p:nvSpPr>
          <p:spPr>
            <a:xfrm flipH="1">
              <a:off x="6095520" y="28954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77120" y="274320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vot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ndi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791320" y="3352680"/>
            <a:ext cx="2133360" cy="337320"/>
            <a:chOff x="5791320" y="3352680"/>
            <a:chExt cx="2133360" cy="337320"/>
          </a:xfrm>
        </p:grpSpPr>
        <p:sp>
          <p:nvSpPr>
            <p:cNvPr id="399" name=""/>
            <p:cNvSpPr/>
            <p:nvPr/>
          </p:nvSpPr>
          <p:spPr>
            <a:xfrm flipH="1">
              <a:off x="5791320" y="3505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48520" y="3352680"/>
              <a:ext cx="16761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ent vote tal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6095520" y="3886200"/>
            <a:ext cx="2286360" cy="337320"/>
            <a:chOff x="6095520" y="3886200"/>
            <a:chExt cx="2286360" cy="337320"/>
          </a:xfrm>
        </p:grpSpPr>
        <p:sp>
          <p:nvSpPr>
            <p:cNvPr id="402" name=""/>
            <p:cNvSpPr/>
            <p:nvPr/>
          </p:nvSpPr>
          <p:spPr>
            <a:xfrm flipH="1">
              <a:off x="6095520" y="40384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77120" y="3886200"/>
              <a:ext cx="19047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ndidate’s 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2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ndidate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to maintain candidate talli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7-1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1-25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ndidateEJB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ndidateEJB is an entity EJB that uses container-manag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rsistence to persist its Candidate and its vote tall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s.md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didateEJB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Context entity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ainer-managed f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vote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name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lace vote for this Candi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rementVoteCou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VoteCount = voteCount.intValue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oteCou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newVoteC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otal vote count for this Candi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VoteCou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te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580920" y="3276720"/>
            <a:ext cx="3048480" cy="580680"/>
            <a:chOff x="3580920" y="3276720"/>
            <a:chExt cx="3048480" cy="580680"/>
          </a:xfrm>
        </p:grpSpPr>
        <p:sp>
          <p:nvSpPr>
            <p:cNvPr id="407" name=""/>
            <p:cNvSpPr/>
            <p:nvPr/>
          </p:nvSpPr>
          <p:spPr>
            <a:xfrm flipH="1">
              <a:off x="3580920" y="34290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43400" y="327672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ainer-managed fiel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ote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5334120" y="4191120"/>
            <a:ext cx="3047760" cy="337320"/>
            <a:chOff x="5334120" y="4191120"/>
            <a:chExt cx="3047760" cy="337320"/>
          </a:xfrm>
        </p:grpSpPr>
        <p:sp>
          <p:nvSpPr>
            <p:cNvPr id="410" name=""/>
            <p:cNvSpPr/>
            <p:nvPr/>
          </p:nvSpPr>
          <p:spPr>
            <a:xfrm flipH="1">
              <a:off x="5334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095880" y="419112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crement vote tal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2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ndidate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to maintain candidate tallies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34-3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40-4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get Candidate's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andidate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new Candi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ejbCreate( String candidate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 = candidat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oteCou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o post-creation tasks when creating new Candi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ostCreate( String candidateName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ntityContext( EntityContext contex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setEntityContex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activate Candidate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Act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 = ( String ) entityContext.getPrimaryKe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352320" y="685800"/>
            <a:ext cx="3048480" cy="337320"/>
            <a:chOff x="3352320" y="685800"/>
            <a:chExt cx="3048480" cy="337320"/>
          </a:xfrm>
        </p:grpSpPr>
        <p:sp>
          <p:nvSpPr>
            <p:cNvPr id="415" name=""/>
            <p:cNvSpPr/>
            <p:nvPr/>
          </p:nvSpPr>
          <p:spPr>
            <a:xfrm flipH="1">
              <a:off x="3352320" y="8380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14800" y="68580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candidate 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038120" y="2209680"/>
            <a:ext cx="3048480" cy="824040"/>
            <a:chOff x="4038120" y="2209680"/>
            <a:chExt cx="3048480" cy="824040"/>
          </a:xfrm>
        </p:grpSpPr>
        <p:sp>
          <p:nvSpPr>
            <p:cNvPr id="418" name=""/>
            <p:cNvSpPr/>
            <p:nvPr/>
          </p:nvSpPr>
          <p:spPr>
            <a:xfrm flipH="1">
              <a:off x="4038120" y="23623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00600" y="220968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izes new candidate with specified name and initializes vote coun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3   Point-To-Point Messag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lients send messages to message que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eiver connects to queue to consume non-consumed mess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s intended for one recei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s stored in queue until client consumes mess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2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ndidate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to maintain candidate talli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00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ivate Candidate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ass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load Candidate from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Load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re Candidate in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Stor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Candidate from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Remove() {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Collector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tallies votes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te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queu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1-4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oteCollectorEJB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oteCollectorEJB is a MessageDriven EJB that tallies vot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s.md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jm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teCollector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DrivenBean, Message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DrivenContext messageDriven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ceive new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nMessage( Message messag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Message vote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// retrieve and process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essag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stanc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Messag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voteMessage = ( TextMessage ) 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 vote = voteMessage.get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ntVote( vo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ceived vot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vote )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4648320" y="3886200"/>
            <a:ext cx="3047760" cy="824040"/>
            <a:chOff x="4648320" y="3886200"/>
            <a:chExt cx="3047760" cy="824040"/>
          </a:xfrm>
        </p:grpSpPr>
        <p:sp>
          <p:nvSpPr>
            <p:cNvPr id="425" name=""/>
            <p:cNvSpPr/>
            <p:nvPr/>
          </p:nvSpPr>
          <p:spPr>
            <a:xfrm flipH="1">
              <a:off x="4648320" y="40384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388620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ed by container whenever vote message is placed in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Collector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tallies votes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te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queue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60-6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pecting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Message object, receive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essage.getClass().ge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ocess JMS exception from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JMSException jm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m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add vote to corresponding ta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Vote( String vot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andidateHome reference for finding/creating Candid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andidateHome candidateHo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find Candidate and increment vote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k up Candidate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text initial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initial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ejb/Candid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ndidateHo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CandidateHome ) PortableRemoteObject.narrow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object, CandidateHome.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866920" y="4876920"/>
            <a:ext cx="2743560" cy="580680"/>
            <a:chOff x="5866920" y="4876920"/>
            <a:chExt cx="2743560" cy="580680"/>
          </a:xfrm>
        </p:grpSpPr>
        <p:sp>
          <p:nvSpPr>
            <p:cNvPr id="430" name=""/>
            <p:cNvSpPr/>
            <p:nvPr/>
          </p:nvSpPr>
          <p:spPr>
            <a:xfrm flipH="1">
              <a:off x="5866920" y="50292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629400" y="487692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ndi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Collector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tallies votes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te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queue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70-7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7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83-8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find Candidate for whom the user vo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ndidate candidat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andidateHome.findByPrimaryKey( vote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rement Candidate's vote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ndidate.incrementVoteCou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f Candidate not found, create new Candi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nderException finder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new Candidate and increment its vote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andidate newCandidate = candidateHome.create( vo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newCandidate.incrementVoteCou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handle exceptions creating new Candi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inderException ca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OrderProducts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namingException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invoking OrderProducts 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remoteException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5105520" y="914040"/>
            <a:ext cx="3276360" cy="794880"/>
            <a:chOff x="5105520" y="914040"/>
            <a:chExt cx="3276360" cy="794880"/>
          </a:xfrm>
        </p:grpSpPr>
        <p:sp>
          <p:nvSpPr>
            <p:cNvPr id="435" name=""/>
            <p:cNvSpPr/>
            <p:nvPr/>
          </p:nvSpPr>
          <p:spPr>
            <a:xfrm flipH="1" flipV="1">
              <a:off x="5105520" y="914040"/>
              <a:ext cx="7617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7280" y="137160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d particula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ndi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343040" y="1295280"/>
            <a:ext cx="3810240" cy="642240"/>
            <a:chOff x="4343040" y="1295280"/>
            <a:chExt cx="3810240" cy="642240"/>
          </a:xfrm>
        </p:grpSpPr>
        <p:sp>
          <p:nvSpPr>
            <p:cNvPr id="438" name=""/>
            <p:cNvSpPr/>
            <p:nvPr/>
          </p:nvSpPr>
          <p:spPr>
            <a:xfrm flipH="1" flipV="1">
              <a:off x="4343040" y="1295280"/>
              <a:ext cx="1523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67280" y="160020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crement vote cou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5562360" y="3200400"/>
            <a:ext cx="3353040" cy="1128960"/>
            <a:chOff x="5562360" y="3200400"/>
            <a:chExt cx="3353040" cy="1128960"/>
          </a:xfrm>
        </p:grpSpPr>
        <p:sp>
          <p:nvSpPr>
            <p:cNvPr id="441" name=""/>
            <p:cNvSpPr/>
            <p:nvPr/>
          </p:nvSpPr>
          <p:spPr>
            <a:xfrm flipH="1" flipV="1">
              <a:off x="5562360" y="320040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29400" y="35053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ndi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specified candidate name not fou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teCollectorEJB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tallies votes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te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queue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ountVo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essage driven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MessageDrivenContex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DrivenContext contex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DrivenContext = 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bean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Creat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bean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Remov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2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TallyDispla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isplays candidate tallies from database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allyDisplay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allyDisplay displays the votes from databas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s.md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llyDisplay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TallyDispla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llyDispla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ote Talli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isplayPanel displays tall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display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lay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displayPanel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2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TallyDispla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isplays candidate tallies from database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36-4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50-5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Candidates and display tall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 up Candidate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text initial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object = initial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ndid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ndidateHome candidateHo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CandidateHome ) PortableRemoteObject.narrow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object, CandidateHome.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find all Candid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llection candidate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andidateHome.findAllCandidat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TallyPanel with candidate name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vote count for each candi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iterator = candidates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andidate candidate = ( Candidate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reate TallyPanel for Candi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allyPanel tallyPanel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llyPanel( candidate.getCandidateName(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andidate.getVoteCount().intValu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isplayPanel.add( tally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handle exception finding Candid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nderException finder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nder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257800" y="1295280"/>
            <a:ext cx="3733920" cy="1708920"/>
            <a:chOff x="5257800" y="1295280"/>
            <a:chExt cx="3733920" cy="1708920"/>
          </a:xfrm>
        </p:grpSpPr>
        <p:sp>
          <p:nvSpPr>
            <p:cNvPr id="450" name=""/>
            <p:cNvSpPr/>
            <p:nvPr/>
          </p:nvSpPr>
          <p:spPr>
            <a:xfrm flipH="1">
              <a:off x="5943240" y="2819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05720" y="266688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 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ndi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5257800" y="1295280"/>
              <a:ext cx="144792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flipV="1">
              <a:off x="5562360" y="228600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324120" y="4572000"/>
            <a:ext cx="2667600" cy="580680"/>
            <a:chOff x="6324120" y="4572000"/>
            <a:chExt cx="2667600" cy="580680"/>
          </a:xfrm>
        </p:grpSpPr>
        <p:sp>
          <p:nvSpPr>
            <p:cNvPr id="455" name=""/>
            <p:cNvSpPr/>
            <p:nvPr/>
          </p:nvSpPr>
          <p:spPr>
            <a:xfrm flipH="1">
              <a:off x="6324120" y="47242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05720" y="457200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snapshot of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2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TallyDispla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isplays candidate tallies from database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191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looking up Candidate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handle exception communicating with Candi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allyDispla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launch TallyDisplay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llyDisplay tallyDisplay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llyDispla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llyDisplay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llyDisplay.p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llyDisplay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2   Voter Application: Receiver Sid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60" name="voteCollector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1840680" y="4508640"/>
            <a:ext cx="588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2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llyDispl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plays candidate tallies from datab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2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TallyPane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isplays the name and tally for a candidate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allyPan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allPanel is the GUI component which display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name and tally for a vote candida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ms.md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llyPan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 nameLab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tally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ll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allyPane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llyPanel( String voteNam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teTall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 = vot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lly = voteTall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llyField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Integer.toString( tally 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llyField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llyField.setBackground( Color.whi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name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tally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3   Point-To-Point Messag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362320" y="2590920"/>
            <a:ext cx="4343400" cy="1244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673000" y="4495680"/>
            <a:ext cx="37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-to-point messaging mod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16.2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TallyPane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isplays the name and tally for a candidate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838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allyPane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to fi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source.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dbcDataSource.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name=jdbc/Vo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dbcDataSource.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url=jdbc:cloudscape:rmi:VotingDB;create=tr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number is next number 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dbcDataSour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nt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J2E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2ee –verb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2eeadmin –addJmsDestination Votes 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nnection fa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2eeadmin –addJmsFactory VOTE_FACTORY 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deploy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ployt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deploy tool, create new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vantGarde"/>
              </a:rPr>
              <a:t>File -&gt; New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vantGarde"/>
              </a:rPr>
              <a:t>Brow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vigate to parent directory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ckage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vantGarde"/>
              </a:rPr>
              <a:t>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teCollectorApp.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ile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vantGarde"/>
              </a:rPr>
              <a:t>New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vantGarde"/>
              </a:rPr>
              <a:t>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ndid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vantGarde"/>
              </a:rPr>
              <a:t>File -&gt; New Enterprise Be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71" name="candidateEJBJAR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619960" cy="465444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930320" y="5951520"/>
            <a:ext cx="576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2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EJB J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tting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teCollectorAp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74" name="candidateEdit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3183120" cy="435924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2533320" y="5570640"/>
            <a:ext cx="42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2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Ad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file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ndi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77" name="candidateGeneral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4902120" cy="39751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598480" y="5346720"/>
            <a:ext cx="42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2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setting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ndi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80" name="candidateEntity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935600" cy="408780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2816280" y="5342040"/>
            <a:ext cx="44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Entity setting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ndi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83" name="candidateEntityTab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4678200" cy="40910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2783160" y="5570640"/>
            <a:ext cx="386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3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b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ndi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86" name="candidateDatabaseSettings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3619440" cy="171468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2522160" y="4432320"/>
            <a:ext cx="438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3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setting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ndi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474920" y="1523880"/>
            <a:ext cx="6192720" cy="3810240"/>
            <a:chOff x="1474920" y="1523880"/>
            <a:chExt cx="6192720" cy="3810240"/>
          </a:xfrm>
        </p:grpSpPr>
        <p:pic>
          <p:nvPicPr>
            <p:cNvPr id="490" name="candidateDeploymentSettings2" descr=""/>
            <p:cNvPicPr/>
            <p:nvPr/>
          </p:nvPicPr>
          <p:blipFill>
            <a:blip r:embed="rId1"/>
            <a:stretch/>
          </p:blipFill>
          <p:spPr>
            <a:xfrm>
              <a:off x="1474920" y="1523880"/>
              <a:ext cx="6192720" cy="38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SQLComplete" descr=""/>
            <p:cNvPicPr/>
            <p:nvPr/>
          </p:nvPicPr>
          <p:blipFill>
            <a:blip r:embed="rId2"/>
            <a:stretch/>
          </p:blipFill>
          <p:spPr>
            <a:xfrm>
              <a:off x="3286080" y="2871720"/>
              <a:ext cx="2571840" cy="11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"/>
          <p:cNvSpPr/>
          <p:nvPr/>
        </p:nvSpPr>
        <p:spPr>
          <a:xfrm>
            <a:off x="2597400" y="5575320"/>
            <a:ext cx="42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3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generation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ndi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3.1   Voter Application: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lies votes to favorite computer langu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nds votes as message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t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s are simp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tMess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 contains candidate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te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umes messages and tallies vo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dates displ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94" name="SQLWarning" descr=""/>
          <p:cNvPicPr/>
          <p:nvPr/>
        </p:nvPicPr>
        <p:blipFill>
          <a:blip r:embed="rId1"/>
          <a:stretch/>
        </p:blipFill>
        <p:spPr>
          <a:xfrm>
            <a:off x="1990800" y="2871720"/>
            <a:ext cx="5162400" cy="11145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672640" y="4432320"/>
            <a:ext cx="40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3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warning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ndi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te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vantGarde"/>
              </a:rPr>
              <a:t>File -&gt; New Enterprise Be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9" name=""/>
          <p:cNvSpPr/>
          <p:nvPr/>
        </p:nvSpPr>
        <p:spPr>
          <a:xfrm>
            <a:off x="2309400" y="6027840"/>
            <a:ext cx="483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3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EJB J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tting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teCollec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1600200" y="1066680"/>
          <a:ext cx="5830920" cy="48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066680"/>
                    <a:ext cx="583092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03" name="collectorEdit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3407040" cy="46638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2217960" y="5956200"/>
            <a:ext cx="457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3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class file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teCollec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06" name="collectorGeneral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469120" cy="45306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370600" y="5880240"/>
            <a:ext cx="47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3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setting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teCollec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09" name="collectorTransaction" descr=""/>
          <p:cNvPicPr/>
          <p:nvPr/>
        </p:nvPicPr>
        <p:blipFill>
          <a:blip r:embed="rId1"/>
          <a:stretch/>
        </p:blipFill>
        <p:spPr>
          <a:xfrm>
            <a:off x="1886040" y="1847880"/>
            <a:ext cx="5371920" cy="316224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1535760" y="5270400"/>
            <a:ext cx="642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3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action management settings for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teCollec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12" name="collectorMessageBeanSettings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373720" cy="444672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1914840" y="5727600"/>
            <a:ext cx="593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3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-Driven Bean setting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teCollec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15" name="collectorEJBRef" descr=""/>
          <p:cNvPicPr/>
          <p:nvPr/>
        </p:nvPicPr>
        <p:blipFill>
          <a:blip r:embed="rId1"/>
          <a:stretch/>
        </p:blipFill>
        <p:spPr>
          <a:xfrm>
            <a:off x="1781280" y="1442880"/>
            <a:ext cx="5581440" cy="39722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1991520" y="5575320"/>
            <a:ext cx="570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4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prise Bean Reference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teCollec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18" name="JNDINames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943600" cy="47610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2447280" y="5956200"/>
            <a:ext cx="50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4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JNDI name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teCollectorAp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.3   Voter Application: Configuring and Run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21" name="deploy" descr="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2292120" y="5956200"/>
            <a:ext cx="48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4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loy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teCollec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nick</dc:creator>
  <dc:description/>
  <dc:language>en-US</dc:language>
  <cp:lastModifiedBy>Kyle Lomeli</cp:lastModifiedBy>
  <dcterms:modified xsi:type="dcterms:W3CDTF">2002-02-01T20:43:43Z</dcterms:modified>
  <cp:revision>137</cp:revision>
  <dc:subject/>
  <dc:title>PowerPoint Presentation</dc:title>
</cp:coreProperties>
</file>