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png" ContentType="image/png"/>
  <Override PartName="/ppt/media/image1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14E7-5D24-4C13-9CEB-4BBDCF2DC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5332-0B8F-4259-A4E9-C09071AAC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830E-D40B-4C10-BF5E-78D24314D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7F6E-9A75-43E5-853C-22A5E8F9E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AE8F-276F-47E8-A419-636D7CEC7A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E854-8DB9-4357-9940-10D901B7B2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1357-8474-417D-86AB-D9D5840553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F8BD-F099-4852-94BE-976AD3A3A3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360D-91E6-4A1F-8397-9818EF3B14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2F0B-AD02-415A-A78D-B09329F0F0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AFF5-5BAA-431A-A471-42B1D79CE1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BD26-B888-46E8-9023-1805D5D0F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46EC-9565-4C3B-A2BA-9F9FF22690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1103-A2C0-4078-877C-39AF474359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6ED5-3B8C-4664-A969-22C89E2470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8188-239D-4D0E-B5DB-E7B800220C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A590-63D5-403C-AB5F-A24EDA5E5E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C708-2C91-4DB1-97BA-3DA07F459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C218-8D17-4B94-8E6F-3A46DFD3E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977B-A1F3-4CE5-9096-45CA4A79C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D5DE-9574-4AC6-82EC-F93D5898E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CEAE-C3C5-4120-85FC-566C81A0F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B45F-F333-419F-8BC1-718E66906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32EC-C724-4AD2-AB94-01FF2D4BA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57F9-26F5-47A9-BA9C-D14DE4FDE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E647-FF46-4A4E-A841-2ACA19F66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jiro.com/overview/" TargetMode="External"/><Relationship Id="rId2" Type="http://schemas.openxmlformats.org/officeDocument/2006/relationships/hyperlink" Target="http://www.jiro.com/education/recipes/" TargetMode="External"/><Relationship Id="rId3" Type="http://schemas.openxmlformats.org/officeDocument/2006/relationships/hyperlink" Target="http://www.jiro.com/education/recipes/service/" TargetMode="External"/><Relationship Id="rId4" Type="http://schemas.openxmlformats.org/officeDocument/2006/relationships/hyperlink" Target="http://www.sce.carleton.ca/netmanage/NMfor90s/SimpleNM.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5 - Jiro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838080"/>
            <a:ext cx="8077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stal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rting Jiro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 vs. Static 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 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-Service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tic 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cating the Static Services with Class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erviceFind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vent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g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6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heduling Servi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 Service Deploy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-Service Usag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8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nagement Polic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8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licy–Management Deploy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9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utting It All Togeth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5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Manag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Management ope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28240" y="304560"/>
            <a:ext cx="662940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: PrinterManagem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interface for the dynamic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ap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aperInTra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inateScheduledTask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Ton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PendingPrintJob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943240" y="2895480"/>
            <a:ext cx="2514960" cy="990720"/>
            <a:chOff x="5943240" y="2895480"/>
            <a:chExt cx="2514960" cy="990720"/>
          </a:xfrm>
        </p:grpSpPr>
        <p:sp>
          <p:nvSpPr>
            <p:cNvPr id="109" name=""/>
            <p:cNvSpPr/>
            <p:nvPr/>
          </p:nvSpPr>
          <p:spPr>
            <a:xfrm>
              <a:off x="7162920" y="2895480"/>
              <a:ext cx="129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ment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943240" y="3124080"/>
              <a:ext cx="1219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ManagementImpl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3160" y="228600"/>
            <a:ext cx="617220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rManagement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schedules turn-on and turn-off prin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iodically and issues a log message to Log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hen error events happe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ServiceFin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event.Event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log.Log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log.Log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scheduling.Scheduling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scheduling.Scheduling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rint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start prin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get static servic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create a listen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609588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 pri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Service logServi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 observer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 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cket turnOffPri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cket turnOnPri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Imp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ynamic service started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a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(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printerThrea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 printer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Thread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bscribe to printer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event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rvice event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Finder.getEven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lo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Service = ServiceFinder.getLog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ventListener listen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( thi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790960" y="3124080"/>
            <a:ext cx="1981440" cy="337320"/>
            <a:chOff x="5790960" y="3124080"/>
            <a:chExt cx="1981440" cy="337320"/>
          </a:xfrm>
        </p:grpSpPr>
        <p:sp>
          <p:nvSpPr>
            <p:cNvPr id="116" name=""/>
            <p:cNvSpPr/>
            <p:nvPr/>
          </p:nvSpPr>
          <p:spPr>
            <a:xfrm>
              <a:off x="6477120" y="312408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 pri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790960" y="327672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410080" y="4648320"/>
            <a:ext cx="2743200" cy="457200"/>
            <a:chOff x="5410080" y="4648320"/>
            <a:chExt cx="2743200" cy="457200"/>
          </a:xfrm>
        </p:grpSpPr>
        <p:sp>
          <p:nvSpPr>
            <p:cNvPr id="119" name=""/>
            <p:cNvSpPr/>
            <p:nvPr/>
          </p:nvSpPr>
          <p:spPr>
            <a:xfrm>
              <a:off x="6400800" y="464832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static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410080" y="480060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181480" y="5791320"/>
            <a:ext cx="2667240" cy="380880"/>
            <a:chOff x="5181480" y="5791320"/>
            <a:chExt cx="2667240" cy="380880"/>
          </a:xfrm>
        </p:grpSpPr>
        <p:sp>
          <p:nvSpPr>
            <p:cNvPr id="122" name=""/>
            <p:cNvSpPr/>
            <p:nvPr/>
          </p:nvSpPr>
          <p:spPr>
            <a:xfrm>
              <a:off x="6248520" y="57913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181480" y="6019920"/>
              <a:ext cx="10670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subscribe to printer ev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5 schedule turn-off activ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655308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ubscribe as an observing listener to event wi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opic ".Printer.Erro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serverLease = eventService.subscribeObserv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.Printer.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en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new observer listener's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.renewUnti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bserver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schedulin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chedulingService scheduling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Finder.getScheduling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fine the schedule for turn-off printer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er is turned off at 8:00PM every frid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egorianCalendar calend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gorianCalend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endar.s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 startDate = calendar.getTi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endar.s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 endDate = calendar.getTi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monthsOff = {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ANU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EBRU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R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PRI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U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U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GU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EPT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CTO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V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C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ysOfWeekOff = {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RI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hoursOff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minutesOff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562720" y="1371240"/>
            <a:ext cx="1523880" cy="1510200"/>
            <a:chOff x="5562720" y="1371240"/>
            <a:chExt cx="1523880" cy="1510200"/>
          </a:xfrm>
        </p:grpSpPr>
        <p:sp>
          <p:nvSpPr>
            <p:cNvPr id="127" name=""/>
            <p:cNvSpPr/>
            <p:nvPr/>
          </p:nvSpPr>
          <p:spPr>
            <a:xfrm>
              <a:off x="5562720" y="2057400"/>
              <a:ext cx="1523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scribe to event with topic “.Printer.Error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6019920" y="1371240"/>
              <a:ext cx="304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295280"/>
            <a:ext cx="1143000" cy="1447920"/>
            <a:chOff x="533520" y="1295280"/>
            <a:chExt cx="1143000" cy="1447920"/>
          </a:xfrm>
        </p:grpSpPr>
        <p:sp>
          <p:nvSpPr>
            <p:cNvPr id="130" name=""/>
            <p:cNvSpPr/>
            <p:nvPr/>
          </p:nvSpPr>
          <p:spPr>
            <a:xfrm>
              <a:off x="533520" y="1295280"/>
              <a:ext cx="1143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scheduling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9520" y="2133720"/>
              <a:ext cx="490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38320" y="3733920"/>
            <a:ext cx="3048480" cy="1310760"/>
            <a:chOff x="5638320" y="3733920"/>
            <a:chExt cx="3048480" cy="1310760"/>
          </a:xfrm>
        </p:grpSpPr>
        <p:sp>
          <p:nvSpPr>
            <p:cNvPr id="133" name=""/>
            <p:cNvSpPr/>
            <p:nvPr/>
          </p:nvSpPr>
          <p:spPr>
            <a:xfrm>
              <a:off x="6934320" y="3733920"/>
              <a:ext cx="17524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urn off printer at 8:00pm every Friday between Aug 27, 2001 and Aug 27, 20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638320" y="44197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6 schedule turn-on activ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560" y="533160"/>
            <a:ext cx="6629400" cy="5562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he schedule for turn-off printer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chedule turnOffSchedul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chedulingService.newRepeatedDateSchedu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artDate, endDate, monthsOff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aysOfWeekOff, hoursOff, minutesOff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alendar.getTimeZon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he message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calizableMessage turnOffMessag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izableMessage( PrinterManagementImpl.clas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rnOffPrin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fine the handback object of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urn-off printer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rshalledObject handbackOff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rshalledObjec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rn-off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chedule task and get the Ticket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e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urnOffPrinter = schedulingService.scheduleTask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ener, turnOffMessage, turnOffSchedul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chedulingServi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handbackOff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fine the schedule for turn-on printer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er is turned on at 7:00AM every Mon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end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gorianCalend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endar.s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Date = calendar.getTi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endar.s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dDate = calendar.getTi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15000" y="1371600"/>
            <a:ext cx="2590920" cy="732960"/>
            <a:chOff x="5715000" y="1371600"/>
            <a:chExt cx="2590920" cy="732960"/>
          </a:xfrm>
        </p:grpSpPr>
        <p:sp>
          <p:nvSpPr>
            <p:cNvPr id="138" name=""/>
            <p:cNvSpPr/>
            <p:nvPr/>
          </p:nvSpPr>
          <p:spPr>
            <a:xfrm>
              <a:off x="6553080" y="152388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he turn-off Sche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715000" y="137160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714640" y="2666880"/>
            <a:ext cx="2591280" cy="457200"/>
            <a:chOff x="5714640" y="2666880"/>
            <a:chExt cx="2591280" cy="457200"/>
          </a:xfrm>
        </p:grpSpPr>
        <p:sp>
          <p:nvSpPr>
            <p:cNvPr id="141" name=""/>
            <p:cNvSpPr/>
            <p:nvPr/>
          </p:nvSpPr>
          <p:spPr>
            <a:xfrm>
              <a:off x="6781680" y="2666880"/>
              <a:ext cx="1524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back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714640" y="28195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52880" y="4724280"/>
            <a:ext cx="3124440" cy="1310760"/>
            <a:chOff x="4952880" y="4724280"/>
            <a:chExt cx="3124440" cy="1310760"/>
          </a:xfrm>
        </p:grpSpPr>
        <p:sp>
          <p:nvSpPr>
            <p:cNvPr id="144" name=""/>
            <p:cNvSpPr/>
            <p:nvPr/>
          </p:nvSpPr>
          <p:spPr>
            <a:xfrm>
              <a:off x="6324480" y="4724280"/>
              <a:ext cx="1752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urn on printer at 7:00pm every Monday between Aug 27, 2001 and Aug 27, 20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952880" y="5410080"/>
              <a:ext cx="1371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943600" y="3505320"/>
            <a:ext cx="2666880" cy="838080"/>
            <a:chOff x="5943600" y="3505320"/>
            <a:chExt cx="2666880" cy="838080"/>
          </a:xfrm>
        </p:grpSpPr>
        <p:sp>
          <p:nvSpPr>
            <p:cNvPr id="147" name=""/>
            <p:cNvSpPr/>
            <p:nvPr/>
          </p:nvSpPr>
          <p:spPr>
            <a:xfrm>
              <a:off x="6934320" y="3505320"/>
              <a:ext cx="167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icket for turn-off sche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943600" y="380988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65530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monthsOn = {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ANU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EBRU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R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PRI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U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U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GU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EPT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CTO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V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C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ysOfWeekOn = { Calenda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ON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hoursOn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minutesOn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he schedule for turn-on printer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chedule turnOnSchedul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chedulingService.newRepeatedDateSchedu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artDate, endDate, months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aysOfWeekOn, hoursOn, minutes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alendar.getTimeZon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he message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calizableMessage turnOnMessag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izableMessage( PrinterManagementImpl.clas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rnOnPrin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fine the handback object of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urn-on printer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rshalledObject handback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rshalledObjec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rn-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chedule task and get the Ticket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e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urnOnPrinter = schedulingService.scheduleTask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ener, turnOnMessage, turnOnSchedul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chedulingServi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handback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86040" y="2666880"/>
            <a:ext cx="2819880" cy="580680"/>
            <a:chOff x="5486040" y="2666880"/>
            <a:chExt cx="2819880" cy="580680"/>
          </a:xfrm>
        </p:grpSpPr>
        <p:sp>
          <p:nvSpPr>
            <p:cNvPr id="152" name=""/>
            <p:cNvSpPr/>
            <p:nvPr/>
          </p:nvSpPr>
          <p:spPr>
            <a:xfrm>
              <a:off x="6553080" y="266688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he turn-on Sche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5486040" y="2895480"/>
              <a:ext cx="1066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562720" y="4114800"/>
            <a:ext cx="2361960" cy="533520"/>
            <a:chOff x="5562720" y="4114800"/>
            <a:chExt cx="2361960" cy="533520"/>
          </a:xfrm>
        </p:grpSpPr>
        <p:sp>
          <p:nvSpPr>
            <p:cNvPr id="155" name=""/>
            <p:cNvSpPr/>
            <p:nvPr/>
          </p:nvSpPr>
          <p:spPr>
            <a:xfrm>
              <a:off x="6400800" y="4114800"/>
              <a:ext cx="1523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back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562720" y="426708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38680" y="5257800"/>
            <a:ext cx="2667240" cy="685800"/>
            <a:chOff x="5638680" y="5257800"/>
            <a:chExt cx="2667240" cy="685800"/>
          </a:xfrm>
        </p:grpSpPr>
        <p:sp>
          <p:nvSpPr>
            <p:cNvPr id="158" name=""/>
            <p:cNvSpPr/>
            <p:nvPr/>
          </p:nvSpPr>
          <p:spPr>
            <a:xfrm>
              <a:off x="6629400" y="52578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icket for turn-on sche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638680" y="5562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Cancel scheduled tas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560" y="609480"/>
            <a:ext cx="662940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schedulling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Management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scheduling tasks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chedulling tas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ManagementImp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scheduled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inateScheduledTask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ncel turn-on and turn-off printer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urnOffPrinter.canc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urnOnPrinter.canc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anceling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Management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canceling task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ancel scheduled tas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ncel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962520" y="3429000"/>
            <a:ext cx="2590560" cy="337320"/>
            <a:chOff x="3962520" y="3429000"/>
            <a:chExt cx="2590560" cy="337320"/>
          </a:xfrm>
        </p:grpSpPr>
        <p:sp>
          <p:nvSpPr>
            <p:cNvPr id="163" name=""/>
            <p:cNvSpPr/>
            <p:nvPr/>
          </p:nvSpPr>
          <p:spPr>
            <a:xfrm>
              <a:off x="5181480" y="342900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 ti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3962520" y="3581280"/>
              <a:ext cx="12189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nagement ope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62120" y="380880"/>
            <a:ext cx="5790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aper to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aper( int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ManagementImpl: Adding paper 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.replenishPaperTray(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print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.isPrint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jammed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.is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inter's pages cou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aperInTr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.getPaperInTr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nding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PendingPrintJob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.getPendingPrintJobs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nagement ope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Receive event and scheduling notif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62481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online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.isOn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ending printing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ManagementImpl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celing pending print jobs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.cancelPendingPrintJob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remot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knownEventException,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ubStr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iro.DynamicService.prin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ource = ( String ) remote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ource = sourc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ubString.leng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inter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ource.equals( subString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Handler( remote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formTask( remote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495320" y="4952880"/>
            <a:ext cx="3048480" cy="990720"/>
            <a:chOff x="4495320" y="4952880"/>
            <a:chExt cx="3048480" cy="990720"/>
          </a:xfrm>
        </p:grpSpPr>
        <p:sp>
          <p:nvSpPr>
            <p:cNvPr id="170" name=""/>
            <p:cNvSpPr/>
            <p:nvPr/>
          </p:nvSpPr>
          <p:spPr>
            <a:xfrm>
              <a:off x="5638680" y="495288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fy event source and take corresponding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4724280" y="52574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495320" y="54864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Perform scheduled tas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28240" y="0"/>
            <a:ext cx="670572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toner to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To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ManagementImpl: Adding toner ..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.add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task when scheduled time arr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formTask( RemoteEvent remot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erform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ask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typ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tring ) remoteEvent.getRegistrationObject().ge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urn-off printer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rn-of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.setOff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urn-on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.equals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urn-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.setOn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performing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Management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performing tasks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erform scheduled tas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erform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723920" y="3276720"/>
            <a:ext cx="2972160" cy="1067400"/>
            <a:chOff x="4723920" y="3276720"/>
            <a:chExt cx="2972160" cy="1067400"/>
          </a:xfrm>
        </p:grpSpPr>
        <p:sp>
          <p:nvSpPr>
            <p:cNvPr id="176" name=""/>
            <p:cNvSpPr/>
            <p:nvPr/>
          </p:nvSpPr>
          <p:spPr>
            <a:xfrm>
              <a:off x="5943600" y="3276720"/>
              <a:ext cx="1752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fy turn-on or turn-off activity based on handback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4723920" y="358092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952880" y="380988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 distributed resources, networks,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iz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iz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 and interoper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tform indepen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 to develop and easy to deplo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ly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. Handle printer ev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64008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Handler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teEvent remot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ource = ( String ) remote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 the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ializable params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am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sour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am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localizable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lizableMessage localizable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izableMessage( PrinterManagementImpl.class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v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rams, Locale.U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Message logMess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calizableMessage, LogMess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print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sourc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t the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Service.log( log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posting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ManagementImpl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 when posting log messag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lease read debug file ..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vent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495320" y="4038480"/>
            <a:ext cx="1981800" cy="580680"/>
            <a:chOff x="4495320" y="4038480"/>
            <a:chExt cx="1981800" cy="580680"/>
          </a:xfrm>
        </p:grpSpPr>
        <p:sp>
          <p:nvSpPr>
            <p:cNvPr id="182" name=""/>
            <p:cNvSpPr/>
            <p:nvPr/>
          </p:nvSpPr>
          <p:spPr>
            <a:xfrm>
              <a:off x="5334120" y="4038480"/>
              <a:ext cx="1143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printer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95320" y="434340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562360" y="1980720"/>
            <a:ext cx="3200760" cy="1524600"/>
            <a:chOff x="5562360" y="1980720"/>
            <a:chExt cx="3200760" cy="1524600"/>
          </a:xfrm>
        </p:grpSpPr>
        <p:sp>
          <p:nvSpPr>
            <p:cNvPr id="185" name=""/>
            <p:cNvSpPr/>
            <p:nvPr/>
          </p:nvSpPr>
          <p:spPr>
            <a:xfrm>
              <a:off x="7543800" y="251460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log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5866920" y="198072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629400" y="266688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562360" y="2666880"/>
              <a:ext cx="1981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9. Declare dynamic ser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5333760" cy="2438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try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getLookupEntri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nfo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Management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eitel Association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del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.0.0.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952520" y="1371600"/>
            <a:ext cx="2743560" cy="1067400"/>
            <a:chOff x="4952520" y="1371600"/>
            <a:chExt cx="2743560" cy="1067400"/>
          </a:xfrm>
        </p:grpSpPr>
        <p:sp>
          <p:nvSpPr>
            <p:cNvPr id="192" name=""/>
            <p:cNvSpPr/>
            <p:nvPr/>
          </p:nvSpPr>
          <p:spPr>
            <a:xfrm>
              <a:off x="5715000" y="1371600"/>
              <a:ext cx="1981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getLookupEntries to declare this class as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952520" y="19051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409720" y="3200040"/>
            <a:ext cx="2667600" cy="1768320"/>
            <a:chOff x="5409720" y="3200040"/>
            <a:chExt cx="2667600" cy="1768320"/>
          </a:xfrm>
        </p:grpSpPr>
        <p:sp>
          <p:nvSpPr>
            <p:cNvPr id="195" name=""/>
            <p:cNvSpPr/>
            <p:nvPr/>
          </p:nvSpPr>
          <p:spPr>
            <a:xfrm>
              <a:off x="6248520" y="3657600"/>
              <a:ext cx="18288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y object for the dynamic service, client use this Entry to locate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5409720" y="3200040"/>
              <a:ext cx="83844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EventListen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Forward notif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38080" y="228600"/>
            <a:ext cx="548640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rEventListener.java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listener that listens for events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d by a printer.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UnicastRemoteObject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 PrinterEventListener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 {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eventListener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erEventListener constructor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( RemoteEventListener listener )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Listener = listener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port the stub object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RemoteObject.exportObject(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exporting stub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EventListener constructo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the notification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remoteEvent )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UnknownEventException, RemoteException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orward notification 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Listener.notify( remoteEvent );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00600" y="3352680"/>
            <a:ext cx="2286000" cy="533520"/>
            <a:chOff x="4800600" y="3352680"/>
            <a:chExt cx="2286000" cy="533520"/>
          </a:xfrm>
        </p:grpSpPr>
        <p:sp>
          <p:nvSpPr>
            <p:cNvPr id="200" name=""/>
            <p:cNvSpPr/>
            <p:nvPr/>
          </p:nvSpPr>
          <p:spPr>
            <a:xfrm>
              <a:off x="5791320" y="335268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ort st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600" y="35053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571640" y="5715000"/>
            <a:ext cx="2286360" cy="580680"/>
            <a:chOff x="4571640" y="5715000"/>
            <a:chExt cx="2286360" cy="580680"/>
          </a:xfrm>
        </p:grpSpPr>
        <p:sp>
          <p:nvSpPr>
            <p:cNvPr id="203" name=""/>
            <p:cNvSpPr/>
            <p:nvPr/>
          </p:nvSpPr>
          <p:spPr>
            <a:xfrm>
              <a:off x="5715000" y="5715000"/>
              <a:ext cx="1143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571640" y="601992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6 Static Servi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hedulin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ler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6.1 Locating the Static Services with Class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rviceFind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rviceF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a convenient way to locate static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n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for each stat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6.2 Event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 publis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 subscri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 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ible 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in-of-Responsibility design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top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ErrorEv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lone ev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609624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rErrorEv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events issued by a print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ri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event.Ev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rror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ne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erErrorEv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rrorEvent( Object source, String topic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 ( source, top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ne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clon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rrorEvent( source, getTopic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114440" y="1981080"/>
            <a:ext cx="3962880" cy="824040"/>
            <a:chOff x="4114440" y="1981080"/>
            <a:chExt cx="3962880" cy="824040"/>
          </a:xfrm>
        </p:grpSpPr>
        <p:sp>
          <p:nvSpPr>
            <p:cNvPr id="214" name=""/>
            <p:cNvSpPr/>
            <p:nvPr/>
          </p:nvSpPr>
          <p:spPr>
            <a:xfrm>
              <a:off x="5181480" y="1981080"/>
              <a:ext cx="2895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Cloneable so that the event service can make multiple copies of the event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114440" y="243828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428640" y="3886200"/>
            <a:ext cx="2819880" cy="457200"/>
            <a:chOff x="3428640" y="3886200"/>
            <a:chExt cx="2819880" cy="457200"/>
          </a:xfrm>
        </p:grpSpPr>
        <p:sp>
          <p:nvSpPr>
            <p:cNvPr id="217" name=""/>
            <p:cNvSpPr/>
            <p:nvPr/>
          </p:nvSpPr>
          <p:spPr>
            <a:xfrm>
              <a:off x="4495680" y="388620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ne event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428640" y="403848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594360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simulates a printer device on a networ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ri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ServiceFin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event.Event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printerStac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50 sheets of paper in tray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InTr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100% full of in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nerCartrid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urrentPrin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Aliv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Service event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tor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601992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EventService at given management do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rvice = ServiceFinder.getEven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Event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ting Event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ps execution of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Aliv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life-cycle of the printer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s one job from print job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1) if offline, it pauses and wai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2) if online, handles one print j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in loop within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Aliv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324120" y="1295280"/>
            <a:ext cx="2439000" cy="824040"/>
            <a:chOff x="6324120" y="1295280"/>
            <a:chExt cx="2439000" cy="824040"/>
          </a:xfrm>
        </p:grpSpPr>
        <p:sp>
          <p:nvSpPr>
            <p:cNvPr id="224" name=""/>
            <p:cNvSpPr/>
            <p:nvPr/>
          </p:nvSpPr>
          <p:spPr>
            <a:xfrm>
              <a:off x="7086600" y="12952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event service using class ServiceFi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24120" y="1752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40080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er will be off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Onlin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waits for printer become on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wai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wa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ynchron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s one job from print job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PrintingProc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printing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PrintingProces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rm up the printer, print top print job from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ck and adjust paper values and tone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arm up printer for incoming batch of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ro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of F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 a three-tier architecture of management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 existing industry stand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 to Jini and RM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60958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Online &amp;&amp; ( paperInTray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onerCartridg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 ( !isPaperJam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tart the printing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PrintJob = getNextPrintJob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sPrint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12 seconds to print a norma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ach print job uses 10 p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PaperInTray( paperInTray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sPrin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make sure no referrences are left dangl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PrintJob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starting printing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ing printing proc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artPrinting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current printed j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urrentPrintJob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Prin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486040" y="1066680"/>
            <a:ext cx="2134080" cy="337320"/>
            <a:chOff x="5486040" y="1066680"/>
            <a:chExt cx="2134080" cy="337320"/>
          </a:xfrm>
        </p:grpSpPr>
        <p:sp>
          <p:nvSpPr>
            <p:cNvPr id="231" name=""/>
            <p:cNvSpPr/>
            <p:nvPr/>
          </p:nvSpPr>
          <p:spPr>
            <a:xfrm>
              <a:off x="6095880" y="1066680"/>
              <a:ext cx="1524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ing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5486040" y="114264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419720" y="2286000"/>
            <a:ext cx="3047760" cy="580680"/>
            <a:chOff x="4419720" y="2286000"/>
            <a:chExt cx="3047760" cy="580680"/>
          </a:xfrm>
        </p:grpSpPr>
        <p:sp>
          <p:nvSpPr>
            <p:cNvPr id="234" name=""/>
            <p:cNvSpPr/>
            <p:nvPr/>
          </p:nvSpPr>
          <p:spPr>
            <a:xfrm>
              <a:off x="6095880" y="2286000"/>
              <a:ext cx="137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printer 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419720" y="2590920"/>
              <a:ext cx="16761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647676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amount of paper in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PaperInT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perInTray = newValu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re event if paper tray 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perInTray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: out of paper.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eEv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of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aper jammed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print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online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umber of pages in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aperInTra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InT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724280" y="1294920"/>
            <a:ext cx="3276720" cy="1296360"/>
            <a:chOff x="4724280" y="1294920"/>
            <a:chExt cx="3276720" cy="1296360"/>
          </a:xfrm>
        </p:grpSpPr>
        <p:sp>
          <p:nvSpPr>
            <p:cNvPr id="239" name=""/>
            <p:cNvSpPr/>
            <p:nvPr/>
          </p:nvSpPr>
          <p:spPr>
            <a:xfrm>
              <a:off x="6248520" y="1523880"/>
              <a:ext cx="1752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paper count and if paper tray is low fire out-of-paper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724280" y="1294920"/>
              <a:ext cx="1524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01992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amount of toner available in toner cartri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on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fter every print job, toner levels drop 1%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nerCartridge = tonerCartridg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re event if toner is 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onerCartridge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: low toner.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eEv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paper j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th.random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9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sPaperJ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: paper jam.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eEv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perJ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amount of toner in toner cartri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Ton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nerCartrid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181120" y="1904760"/>
            <a:ext cx="3505680" cy="976680"/>
            <a:chOff x="5181120" y="1904760"/>
            <a:chExt cx="3505680" cy="976680"/>
          </a:xfrm>
        </p:grpSpPr>
        <p:sp>
          <p:nvSpPr>
            <p:cNvPr id="244" name=""/>
            <p:cNvSpPr/>
            <p:nvPr/>
          </p:nvSpPr>
          <p:spPr>
            <a:xfrm>
              <a:off x="6858000" y="205740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toner level and if toner is low fire low-toner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5181120" y="1904760"/>
              <a:ext cx="1676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23920" y="3276720"/>
            <a:ext cx="3505680" cy="824040"/>
            <a:chOff x="4723920" y="3276720"/>
            <a:chExt cx="3505680" cy="824040"/>
          </a:xfrm>
        </p:grpSpPr>
        <p:sp>
          <p:nvSpPr>
            <p:cNvPr id="247" name=""/>
            <p:cNvSpPr/>
            <p:nvPr/>
          </p:nvSpPr>
          <p:spPr>
            <a:xfrm>
              <a:off x="6324480" y="327672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mulate paper jam and if paper jam fire paper-jam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723920" y="3657600"/>
              <a:ext cx="1600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80880" y="0"/>
            <a:ext cx="640080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lenishe amount of paper in paper tray to specifi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plenishPaperTray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Stack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: adding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paperSt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pages to printer ... 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PaperInTray ( paperInTray + paperStack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nerates a random number of print jobs with varying I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ulatePrintStack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OfJob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 ( 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numOfJobs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ck.add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_JOB_ID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to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To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: adding toner . . . 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nerCartrid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(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ck.cle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943240" y="1066320"/>
            <a:ext cx="1981440" cy="657360"/>
            <a:chOff x="5943240" y="1066320"/>
            <a:chExt cx="1981440" cy="657360"/>
          </a:xfrm>
        </p:grpSpPr>
        <p:sp>
          <p:nvSpPr>
            <p:cNvPr id="252" name=""/>
            <p:cNvSpPr/>
            <p:nvPr/>
          </p:nvSpPr>
          <p:spPr>
            <a:xfrm>
              <a:off x="6629400" y="1143000"/>
              <a:ext cx="129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paper to paper t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5943240" y="1066320"/>
              <a:ext cx="6858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419360" y="3886200"/>
            <a:ext cx="2286360" cy="914400"/>
            <a:chOff x="4419360" y="3886200"/>
            <a:chExt cx="2286360" cy="914400"/>
          </a:xfrm>
        </p:grpSpPr>
        <p:sp>
          <p:nvSpPr>
            <p:cNvPr id="255" name=""/>
            <p:cNvSpPr/>
            <p:nvPr/>
          </p:nvSpPr>
          <p:spPr>
            <a:xfrm>
              <a:off x="5562720" y="3886200"/>
              <a:ext cx="1143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ill to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419360" y="411480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17220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ext print job in stack, populating the st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f i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extPrintJob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.is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populatePrintStack (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imulates absence of print job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hread.sleep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thread sl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ting next print jo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topmost queued resour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nex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extJob = ( String ) printerStack.po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NextPrintJ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imulate prin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64008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all jobs yet to be prin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PendingPrintJob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pendingJob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of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[] temp = printerStack.toArray(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ndingJob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temp.length ]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pendingJobs.length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endingJobs [ i ] = ( String ) temp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ndingJob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nter status to on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nli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: setting online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all waiting st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ifyAll(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nter status to off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ffli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: setting offline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191120" y="2514600"/>
            <a:ext cx="2590560" cy="1037880"/>
            <a:chOff x="4191120" y="2514600"/>
            <a:chExt cx="2590560" cy="1037880"/>
          </a:xfrm>
        </p:grpSpPr>
        <p:sp>
          <p:nvSpPr>
            <p:cNvPr id="262" name=""/>
            <p:cNvSpPr/>
            <p:nvPr/>
          </p:nvSpPr>
          <p:spPr>
            <a:xfrm>
              <a:off x="5562720" y="2971800"/>
              <a:ext cx="1218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pending print jo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4191120" y="2514600"/>
              <a:ext cx="1371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Fire printer event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647712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re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Event( String err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t event to Event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fine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rrorEvent ev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rrorEv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iro.DynamicService.printer.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Message=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erro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Printer.Erro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err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ost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rvice.post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posting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ing ev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fire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876560" y="2437920"/>
            <a:ext cx="3886560" cy="824400"/>
            <a:chOff x="4876560" y="2437920"/>
            <a:chExt cx="3886560" cy="824400"/>
          </a:xfrm>
        </p:grpSpPr>
        <p:sp>
          <p:nvSpPr>
            <p:cNvPr id="267" name=""/>
            <p:cNvSpPr/>
            <p:nvPr/>
          </p:nvSpPr>
          <p:spPr>
            <a:xfrm>
              <a:off x="6019920" y="24382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event source and topic-“.Printer.Error.”+error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4876560" y="243792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343040" y="3200040"/>
            <a:ext cx="3810240" cy="489960"/>
            <a:chOff x="4343040" y="3200040"/>
            <a:chExt cx="3810240" cy="489960"/>
          </a:xfrm>
        </p:grpSpPr>
        <p:sp>
          <p:nvSpPr>
            <p:cNvPr id="270" name=""/>
            <p:cNvSpPr/>
            <p:nvPr/>
          </p:nvSpPr>
          <p:spPr>
            <a:xfrm>
              <a:off x="5486400" y="33526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 an event to Event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4343040" y="320004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6.3 Log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ational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a log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izable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 catego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ieve lo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6.3 Log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 = value pair(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log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ewlog –doma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irodom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ouce file for PrinterManagementImp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209680"/>
            <a:ext cx="4572000" cy="91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Event = {0} event occurred on {1}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TurnOffPrinter = Turn off the printer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TurnOnPrinter = Turn on the pri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ig. 25.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erManagementImpl.propertie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876920" y="1600200"/>
            <a:ext cx="2209680" cy="609480"/>
            <a:chOff x="4876920" y="1600200"/>
            <a:chExt cx="2209680" cy="609480"/>
          </a:xfrm>
        </p:grpSpPr>
        <p:sp>
          <p:nvSpPr>
            <p:cNvPr id="280" name=""/>
            <p:cNvSpPr/>
            <p:nvPr/>
          </p:nvSpPr>
          <p:spPr>
            <a:xfrm>
              <a:off x="5715000" y="160020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ource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876920" y="175248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2 Instal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ro Runtime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ro Technology Software Development Kit (SD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of Java v 1.3.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ment domai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quely identified on the loc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6.4 Scheduling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futur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RepeatedDate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hedule repeated ta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performanc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e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7 Dynamic Service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 dynamic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 service prox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i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iroc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deployment JA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 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load 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ck JA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rpac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 dynam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rdepl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88" name="DeployIgniter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4419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7.1 Dynamic Service Us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a dynamic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ntiate the dynamic service (first time u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erManagementStar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lookup service to find the dynam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ynamicServiceFi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er management conso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erClient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81680" y="838080"/>
            <a:ext cx="23623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ManagementStar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set security manag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2 obtain station addre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2280" y="685800"/>
            <a:ext cx="655344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: PrinterManagementStar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demonstrates how to obtain the proxies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dynamic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Star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erManagementStar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Starter( String domai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Management managementProx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station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ionAddress station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onAddress( domai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181480" y="4343400"/>
            <a:ext cx="2362320" cy="533520"/>
            <a:chOff x="5181480" y="4343400"/>
            <a:chExt cx="2362320" cy="533520"/>
          </a:xfrm>
        </p:grpSpPr>
        <p:sp>
          <p:nvSpPr>
            <p:cNvPr id="294" name=""/>
            <p:cNvSpPr/>
            <p:nvPr/>
          </p:nvSpPr>
          <p:spPr>
            <a:xfrm>
              <a:off x="5638680" y="434340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181480" y="45720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190760" y="5257800"/>
            <a:ext cx="3200760" cy="533520"/>
            <a:chOff x="4190760" y="5257800"/>
            <a:chExt cx="3200760" cy="533520"/>
          </a:xfrm>
        </p:grpSpPr>
        <p:sp>
          <p:nvSpPr>
            <p:cNvPr id="297" name=""/>
            <p:cNvSpPr/>
            <p:nvPr/>
          </p:nvSpPr>
          <p:spPr>
            <a:xfrm>
              <a:off x="5257800" y="525780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statio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190760" y="54100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3 instantiate dynamic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662940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proxies of dynamic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start the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nagementProx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ImplProxy( station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proxies and starting polic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ManagementStar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domai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Usage: PrinterManagementStarter Doma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main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ManagementStarter printerManagementStart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Starter( doma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962520" y="304920"/>
            <a:ext cx="2895480" cy="838080"/>
            <a:chOff x="3962520" y="304920"/>
            <a:chExt cx="2895480" cy="838080"/>
          </a:xfrm>
        </p:grpSpPr>
        <p:sp>
          <p:nvSpPr>
            <p:cNvPr id="302" name=""/>
            <p:cNvSpPr/>
            <p:nvPr/>
          </p:nvSpPr>
          <p:spPr>
            <a:xfrm>
              <a:off x="5334120" y="30492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962520" y="60948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ynamicServiceFind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set security manager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624852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ynamicServiceFind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iscovers lookup services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s dynamic service prox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omm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ServiceInf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ynamicServiceFind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y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sFoun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Registrar[] registra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entri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ynamicServiceFind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ynamicServiceFinder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, Entry[] serviceEntrie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ies = serviceEntri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okupDiscovery lookupDiscove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181480" y="5105520"/>
            <a:ext cx="2895840" cy="838080"/>
            <a:chOff x="5181480" y="5105520"/>
            <a:chExt cx="2895840" cy="838080"/>
          </a:xfrm>
        </p:grpSpPr>
        <p:sp>
          <p:nvSpPr>
            <p:cNvPr id="307" name=""/>
            <p:cNvSpPr/>
            <p:nvPr/>
          </p:nvSpPr>
          <p:spPr>
            <a:xfrm>
              <a:off x="6172200" y="51055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181480" y="5334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discover lookup servic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wait until find lookup service(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563904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cover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Discove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domain }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the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ver lookup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ll a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okupDiscovery.addDiscoveryListene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it until woken up by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aiting for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ait for lookup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ynamicServiceFind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029200" y="1295280"/>
            <a:ext cx="1981080" cy="809280"/>
            <a:chOff x="5029200" y="1295280"/>
            <a:chExt cx="1981080" cy="809280"/>
          </a:xfrm>
        </p:grpSpPr>
        <p:sp>
          <p:nvSpPr>
            <p:cNvPr id="312" name=""/>
            <p:cNvSpPr/>
            <p:nvPr/>
          </p:nvSpPr>
          <p:spPr>
            <a:xfrm>
              <a:off x="5486400" y="152388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ver lookup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5029200" y="12952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43400" y="3886200"/>
            <a:ext cx="2971800" cy="580680"/>
            <a:chOff x="4343400" y="3886200"/>
            <a:chExt cx="2971800" cy="580680"/>
          </a:xfrm>
        </p:grpSpPr>
        <p:sp>
          <p:nvSpPr>
            <p:cNvPr id="315" name=""/>
            <p:cNvSpPr/>
            <p:nvPr/>
          </p:nvSpPr>
          <p:spPr>
            <a:xfrm>
              <a:off x="5715000" y="388620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it until find lookup service(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4343400" y="419076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Get lookup service registra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Ignore invalid lookup servic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Get dynamic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specify service requir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lookup dynamic ser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64008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ver new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ed ( 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proxy registrars for those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gistrars = event.getRegistra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ke up all waiting thr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ifyAl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ver invalid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arded( DiscoveryEvent event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ynamic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Servi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arch lookup service to get dynamic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Template templ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Templa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ntri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service = registrar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.lookup( templ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dynamic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ting prox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019920" y="3505320"/>
            <a:ext cx="2361960" cy="580680"/>
            <a:chOff x="6019920" y="3505320"/>
            <a:chExt cx="2361960" cy="580680"/>
          </a:xfrm>
        </p:grpSpPr>
        <p:sp>
          <p:nvSpPr>
            <p:cNvPr id="320" name=""/>
            <p:cNvSpPr/>
            <p:nvPr/>
          </p:nvSpPr>
          <p:spPr>
            <a:xfrm>
              <a:off x="6934320" y="3505320"/>
              <a:ext cx="1447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 requi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019920" y="3809880"/>
              <a:ext cx="914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800240" y="4343400"/>
            <a:ext cx="3200760" cy="732960"/>
            <a:chOff x="4800240" y="4343400"/>
            <a:chExt cx="3200760" cy="732960"/>
          </a:xfrm>
        </p:grpSpPr>
        <p:sp>
          <p:nvSpPr>
            <p:cNvPr id="323" name=""/>
            <p:cNvSpPr/>
            <p:nvPr/>
          </p:nvSpPr>
          <p:spPr>
            <a:xfrm>
              <a:off x="6400800" y="449568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4800240" y="4343400"/>
              <a:ext cx="1600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71440" y="1676520"/>
            <a:ext cx="4038840" cy="656640"/>
            <a:chOff x="2971440" y="1676520"/>
            <a:chExt cx="4038840" cy="656640"/>
          </a:xfrm>
        </p:grpSpPr>
        <p:sp>
          <p:nvSpPr>
            <p:cNvPr id="326" name=""/>
            <p:cNvSpPr/>
            <p:nvPr/>
          </p:nvSpPr>
          <p:spPr>
            <a:xfrm>
              <a:off x="4191120" y="175248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ke up all waiting threads when discover a 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2971440" y="16765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ClientGUI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647676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: PrinterClientGUI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demonstrates how to obtain the proxy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dynamic service and management policies, and call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the dynamic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event.Event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iro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3 Starting Jir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set security manag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obtain service proxy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subscribe to event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GUI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65530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ClientGUI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printerManagementProx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printerStatusTextArea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printerEventTextArea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 observer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 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ClientGUI( String domai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RO Printer Management Examp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reference to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ManagementProx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PrinterManagementProxy( doma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bscribe to event service as an observer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bscriberObserver( doma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rinterStatus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crollPane statusScroll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ScrollPane.setAutoscroll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334120" y="2895480"/>
            <a:ext cx="2666880" cy="609840"/>
            <a:chOff x="5334120" y="2895480"/>
            <a:chExt cx="2666880" cy="609840"/>
          </a:xfrm>
        </p:grpSpPr>
        <p:sp>
          <p:nvSpPr>
            <p:cNvPr id="333" name=""/>
            <p:cNvSpPr/>
            <p:nvPr/>
          </p:nvSpPr>
          <p:spPr>
            <a:xfrm>
              <a:off x="6095880" y="289548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334120" y="30481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105520" y="5181480"/>
            <a:ext cx="3200400" cy="838440"/>
            <a:chOff x="5105520" y="5181480"/>
            <a:chExt cx="3200400" cy="838440"/>
          </a:xfrm>
        </p:grpSpPr>
        <p:sp>
          <p:nvSpPr>
            <p:cNvPr id="336" name=""/>
            <p:cNvSpPr/>
            <p:nvPr/>
          </p:nvSpPr>
          <p:spPr>
            <a:xfrm>
              <a:off x="5943600" y="518148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us panel displays printer status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105520" y="54864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GU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28240" y="75960"/>
            <a:ext cx="66294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ScrollPane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ScrollPane.getViewport().ad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Panel.add( statusScrollPa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uttons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action for Check Status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heckStatus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 Statu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eckStatus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heckStatusButtonAction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action for Remove Jammed Paper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ancelJobs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cel Pending Print Job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ncelJobs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ancelJobsButtonAction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648320" y="2438280"/>
            <a:ext cx="3657600" cy="337320"/>
            <a:chOff x="4648320" y="2438280"/>
            <a:chExt cx="3657600" cy="337320"/>
          </a:xfrm>
        </p:grpSpPr>
        <p:sp>
          <p:nvSpPr>
            <p:cNvPr id="341" name=""/>
            <p:cNvSpPr/>
            <p:nvPr/>
          </p:nvSpPr>
          <p:spPr>
            <a:xfrm>
              <a:off x="6019920" y="24382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Check Status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48320" y="2590920"/>
              <a:ext cx="1371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4952880"/>
            <a:ext cx="4267080" cy="337320"/>
            <a:chOff x="4572000" y="4952880"/>
            <a:chExt cx="4267080" cy="337320"/>
          </a:xfrm>
        </p:grpSpPr>
        <p:sp>
          <p:nvSpPr>
            <p:cNvPr id="344" name=""/>
            <p:cNvSpPr/>
            <p:nvPr/>
          </p:nvSpPr>
          <p:spPr>
            <a:xfrm>
              <a:off x="5486400" y="4952880"/>
              <a:ext cx="3352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Cancel Pending Print Jobs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4572000" y="4952880"/>
              <a:ext cx="914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GU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647676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hree buttons to the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checkStatusButt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cancelJobsButt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vents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rinterEven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crollPane eventsScroll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sScrollPane.setAutoscroll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sScrollPane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sScrollPane.getViewport().ad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ventTextAre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Panel.add( eventsScrollPa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the tex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Text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Status: ---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Text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vents: ---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all the panels toge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printerStatus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printerEven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952880" y="1981080"/>
            <a:ext cx="3505320" cy="685800"/>
            <a:chOff x="4952880" y="1981080"/>
            <a:chExt cx="3505320" cy="685800"/>
          </a:xfrm>
        </p:grpSpPr>
        <p:sp>
          <p:nvSpPr>
            <p:cNvPr id="349" name=""/>
            <p:cNvSpPr/>
            <p:nvPr/>
          </p:nvSpPr>
          <p:spPr>
            <a:xfrm>
              <a:off x="6019920" y="19810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nt panel display printer event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952880" y="2362320"/>
              <a:ext cx="10670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GUI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 check printer stat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80880" y="0"/>
            <a:ext cx="640080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lease observer listener and cancel scheduled tas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window clo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release listener and cancel scheduled tas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easeRenewalManager.remove( observerLe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releasing observer 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terminate th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windowClo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indowAdap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Window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ManagementGUI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 print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StatusButtonAction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Remain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pendingJob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629400" y="1219320"/>
            <a:ext cx="1828800" cy="824040"/>
            <a:chOff x="6629400" y="1219320"/>
            <a:chExt cx="1828800" cy="824040"/>
          </a:xfrm>
        </p:grpSpPr>
        <p:sp>
          <p:nvSpPr>
            <p:cNvPr id="354" name=""/>
            <p:cNvSpPr/>
            <p:nvPr/>
          </p:nvSpPr>
          <p:spPr>
            <a:xfrm>
              <a:off x="7543800" y="1219320"/>
              <a:ext cx="914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ease observer 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629400" y="1523880"/>
              <a:ext cx="914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190760" y="5715000"/>
            <a:ext cx="2819520" cy="718200"/>
            <a:chOff x="4190760" y="5715000"/>
            <a:chExt cx="2819520" cy="718200"/>
          </a:xfrm>
        </p:grpSpPr>
        <p:sp>
          <p:nvSpPr>
            <p:cNvPr id="357" name=""/>
            <p:cNvSpPr/>
            <p:nvPr/>
          </p:nvSpPr>
          <p:spPr>
            <a:xfrm>
              <a:off x="5181480" y="60958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 printer 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4190760" y="5715000"/>
              <a:ext cx="9903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162560" y="838080"/>
            <a:ext cx="1981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Check printer statu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get status from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append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304920"/>
            <a:ext cx="701028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nage printer remo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heck if the printer is on 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sOnline = printerManagementProxy.isOn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heck if the printer is paper jam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sPaperJam = printerManagementProxy.is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heck if the printing is pring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sPrinting = printerManagementProxy.isPrint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perRemaining = printerManagementProxy.getPaperInTr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ending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ndingJob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ManagementProxy.getPendingPrintJob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alling dynamic service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the online cond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Onlin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.appen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er is ONLINE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.appen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er is OFFLINE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6248520" y="2666880"/>
            <a:ext cx="2666880" cy="580680"/>
            <a:chOff x="6248520" y="2666880"/>
            <a:chExt cx="2666880" cy="580680"/>
          </a:xfrm>
        </p:grpSpPr>
        <p:sp>
          <p:nvSpPr>
            <p:cNvPr id="362" name=""/>
            <p:cNvSpPr/>
            <p:nvPr/>
          </p:nvSpPr>
          <p:spPr>
            <a:xfrm>
              <a:off x="7467480" y="266688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status from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6248520" y="2743200"/>
              <a:ext cx="1218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267080" y="5410080"/>
            <a:ext cx="2362320" cy="533520"/>
            <a:chOff x="4267080" y="5410080"/>
            <a:chExt cx="2362320" cy="533520"/>
          </a:xfrm>
        </p:grpSpPr>
        <p:sp>
          <p:nvSpPr>
            <p:cNvPr id="365" name=""/>
            <p:cNvSpPr/>
            <p:nvPr/>
          </p:nvSpPr>
          <p:spPr>
            <a:xfrm>
              <a:off x="5181480" y="541008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267080" y="5562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append outpu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Cancel print job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80880" y="457200"/>
            <a:ext cx="640080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the paper jam cond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PaperJam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per jammed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Paper Jam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the printing cond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Printin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.appen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is currently printing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.appen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is not printing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paper tray condition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Tex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paper tray ha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paperRemaining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ages remaining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umber of pending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Tex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pending job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pendingJobs.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heckStatusButton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JobsButtonAction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ncel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ManagementProxy.cancelPendingPrintJob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486400" y="1980720"/>
            <a:ext cx="2362320" cy="337680"/>
            <a:chOff x="5486400" y="1980720"/>
            <a:chExt cx="2362320" cy="337680"/>
          </a:xfrm>
        </p:grpSpPr>
        <p:sp>
          <p:nvSpPr>
            <p:cNvPr id="370" name=""/>
            <p:cNvSpPr/>
            <p:nvPr/>
          </p:nvSpPr>
          <p:spPr>
            <a:xfrm>
              <a:off x="6400800" y="198108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5486400" y="19807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952520" y="5334120"/>
            <a:ext cx="3200760" cy="489600"/>
            <a:chOff x="4952520" y="5334120"/>
            <a:chExt cx="3200760" cy="489600"/>
          </a:xfrm>
        </p:grpSpPr>
        <p:sp>
          <p:nvSpPr>
            <p:cNvPr id="373" name=""/>
            <p:cNvSpPr/>
            <p:nvPr/>
          </p:nvSpPr>
          <p:spPr>
            <a:xfrm>
              <a:off x="6553080" y="548640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 print jo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4952520" y="5334120"/>
              <a:ext cx="1600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Get dynamic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1 specify service requir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2 let DynamicServiceFinder get service proxy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. Subscribe to event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.1 get event ser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64767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anceling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ancelJobsButton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ynamic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getPrinterManagementProx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[] entr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nfo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Management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del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.0.0.1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ynamicServiceFinder fin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ynamicServiceFi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main, entri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dynamic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Management ) finder.ge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PrinterManagement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er for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berObserver( String domai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bscribe to printer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rvice event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Finder.getEventService( doma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876560" y="2895480"/>
            <a:ext cx="2438640" cy="580680"/>
            <a:chOff x="4876560" y="2895480"/>
            <a:chExt cx="2438640" cy="580680"/>
          </a:xfrm>
        </p:grpSpPr>
        <p:sp>
          <p:nvSpPr>
            <p:cNvPr id="378" name=""/>
            <p:cNvSpPr/>
            <p:nvPr/>
          </p:nvSpPr>
          <p:spPr>
            <a:xfrm>
              <a:off x="5867280" y="289548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 requi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4876560" y="2971440"/>
              <a:ext cx="990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419360" y="3886200"/>
            <a:ext cx="4496040" cy="732960"/>
            <a:chOff x="4419360" y="3886200"/>
            <a:chExt cx="4496040" cy="732960"/>
          </a:xfrm>
        </p:grpSpPr>
        <p:sp>
          <p:nvSpPr>
            <p:cNvPr id="381" name=""/>
            <p:cNvSpPr/>
            <p:nvPr/>
          </p:nvSpPr>
          <p:spPr>
            <a:xfrm>
              <a:off x="6477120" y="40384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t DynamicServiceFinder get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4419360" y="388620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724280" y="5791320"/>
            <a:ext cx="3048120" cy="457200"/>
            <a:chOff x="4724280" y="5791320"/>
            <a:chExt cx="3048120" cy="457200"/>
          </a:xfrm>
        </p:grpSpPr>
        <p:sp>
          <p:nvSpPr>
            <p:cNvPr id="384" name=""/>
            <p:cNvSpPr/>
            <p:nvPr/>
          </p:nvSpPr>
          <p:spPr>
            <a:xfrm>
              <a:off x="6172200" y="57913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even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4724280" y="601992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.2 subscribe to printer event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9. Receive event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0.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228240" y="0"/>
            <a:ext cx="662940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ubscribe as an observing listener to certain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ventListener listen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Imp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serverLease = eventService.subscribeObserv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.Printer.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en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bserver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subscribing to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output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EVENT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( String ) event.getSourc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printerEventTextArea, outpu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doma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PrinterClientGUI Doma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main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410080" y="1218960"/>
            <a:ext cx="2438640" cy="1114200"/>
            <a:chOff x="5410080" y="1218960"/>
            <a:chExt cx="2438640" cy="1114200"/>
          </a:xfrm>
        </p:grpSpPr>
        <p:sp>
          <p:nvSpPr>
            <p:cNvPr id="389" name=""/>
            <p:cNvSpPr/>
            <p:nvPr/>
          </p:nvSpPr>
          <p:spPr>
            <a:xfrm>
              <a:off x="5410080" y="175248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scribe to printer events and renew listener’s 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5715000" y="121896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171840" y="3429000"/>
            <a:ext cx="2438640" cy="580680"/>
            <a:chOff x="6171840" y="3429000"/>
            <a:chExt cx="2438640" cy="580680"/>
          </a:xfrm>
        </p:grpSpPr>
        <p:sp>
          <p:nvSpPr>
            <p:cNvPr id="392" name=""/>
            <p:cNvSpPr/>
            <p:nvPr/>
          </p:nvSpPr>
          <p:spPr>
            <a:xfrm>
              <a:off x="7238880" y="3429000"/>
              <a:ext cx="137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event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171840" y="365760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1. Inner 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xtAppend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04560" y="0"/>
            <a:ext cx="647676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ClientGUI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ClientGUI( doma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xtAppender appends text to a JTextArea. This Runn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should be executed only using SwingUtili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s invokeLater or invokeAndWait as it modif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 live Swing compon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text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xtAppend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JTextArea area, String new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 = new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Area = 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new text in JTex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Area.append( tex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ove caret to end of messageArea to ensure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essage is visible o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Area.setCaretPosi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Area.getText().leng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extAppende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724280" y="2209680"/>
            <a:ext cx="4114800" cy="580680"/>
            <a:chOff x="4724280" y="2209680"/>
            <a:chExt cx="4114800" cy="580680"/>
          </a:xfrm>
        </p:grpSpPr>
        <p:sp>
          <p:nvSpPr>
            <p:cNvPr id="397" name=""/>
            <p:cNvSpPr/>
            <p:nvPr/>
          </p:nvSpPr>
          <p:spPr>
            <a:xfrm>
              <a:off x="6095880" y="22096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extAppe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pends text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4724280" y="228564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1" name="checkStatus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3 Starting Jir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8" name="IgniterInitial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210200" cy="1648080"/>
          </a:xfrm>
          <a:prstGeom prst="rect">
            <a:avLst/>
          </a:prstGeom>
          <a:ln w="0">
            <a:noFill/>
          </a:ln>
        </p:spPr>
      </p:pic>
      <p:pic>
        <p:nvPicPr>
          <p:cNvPr id="99" name="IgniterStart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4210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4" name="outofPaperIgniter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210200" cy="3638520"/>
          </a:xfrm>
          <a:prstGeom prst="rect">
            <a:avLst/>
          </a:prstGeom>
          <a:ln w="0">
            <a:noFill/>
          </a:ln>
        </p:spPr>
      </p:pic>
      <p:pic>
        <p:nvPicPr>
          <p:cNvPr id="405" name="outofPaperGUI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45720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8 Management Polic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matic handle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ion of a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e-grained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ofPaperPolic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647712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ofPaperPolic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interface for the dynamic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olic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ofPaperPolic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Policy(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ofPaperPolicyImpl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601992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ofPaperPolicyImpl.jav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s events generated by printer by register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a responsible 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olic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ServiceFin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lo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obtain reference to dynamic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obtain reference to static servic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subscribe to printer out-of-paper policy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940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ofPaperPolicy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ofPaperPolic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 listener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 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Service log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printerManagementProx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ofPaperPolicyImp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ofPaperPolicyImp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bscribe as an responsible listener to certain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the OutofPaper management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reference to dynamic service entry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ManagementProxy = getPrinterManagementProx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reference to lo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Service = ServiceFinder.getLog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reference to lo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rvice event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Finder.getEven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ubscribe as responsible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Leas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Service.subscribeResponsibleBefor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.Printer.Error.Outof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en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ofPaperEventListe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476760" y="3505320"/>
            <a:ext cx="2362320" cy="580680"/>
            <a:chOff x="6476760" y="3505320"/>
            <a:chExt cx="2362320" cy="580680"/>
          </a:xfrm>
        </p:grpSpPr>
        <p:sp>
          <p:nvSpPr>
            <p:cNvPr id="415" name=""/>
            <p:cNvSpPr/>
            <p:nvPr/>
          </p:nvSpPr>
          <p:spPr>
            <a:xfrm>
              <a:off x="7086600" y="35053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476760" y="38098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876920" y="4572000"/>
            <a:ext cx="3276360" cy="685800"/>
            <a:chOff x="4876920" y="4572000"/>
            <a:chExt cx="3276360" cy="685800"/>
          </a:xfrm>
        </p:grpSpPr>
        <p:sp>
          <p:nvSpPr>
            <p:cNvPr id="418" name=""/>
            <p:cNvSpPr/>
            <p:nvPr/>
          </p:nvSpPr>
          <p:spPr>
            <a:xfrm>
              <a:off x="6553080" y="46483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static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5638680" y="457200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876920" y="4952880"/>
              <a:ext cx="1676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866920" y="5410080"/>
            <a:ext cx="2896200" cy="824040"/>
            <a:chOff x="5866920" y="5410080"/>
            <a:chExt cx="2896200" cy="824040"/>
          </a:xfrm>
        </p:grpSpPr>
        <p:sp>
          <p:nvSpPr>
            <p:cNvPr id="422" name=""/>
            <p:cNvSpPr/>
            <p:nvPr/>
          </p:nvSpPr>
          <p:spPr>
            <a:xfrm>
              <a:off x="6705720" y="541008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scribe to printer out-of-paper policy as responsible 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866920" y="586728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top the polic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662940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new lease indefini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ener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starting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ofPaperPolicy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starting polic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lease read debug file ... 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tarting LowTonerPolic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utofPaperPolicyImpl: star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ofPaperPolicyImp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p OutofPaperPolicy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Polic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pping OutofPaper management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pire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.cancel( listenerLe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ofPaperPolicyImpl: stopping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952520" y="4572000"/>
            <a:ext cx="3277080" cy="838080"/>
            <a:chOff x="4952520" y="4572000"/>
            <a:chExt cx="3277080" cy="838080"/>
          </a:xfrm>
        </p:grpSpPr>
        <p:sp>
          <p:nvSpPr>
            <p:cNvPr id="427" name=""/>
            <p:cNvSpPr/>
            <p:nvPr/>
          </p:nvSpPr>
          <p:spPr>
            <a:xfrm>
              <a:off x="6095880" y="45720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ire listener’s lease to stop the poli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952520" y="4876920"/>
              <a:ext cx="11430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Receive event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identify event sour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65530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anceling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utofPaperPolicyImpl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 when canceling le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lease read debug file ... 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opping OutofPaper polic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remote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knownEventException, RemoteExcep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NotHandled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sourceObjec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vent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event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Object = remote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event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ofPaperPolicy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 when getting event sourc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 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ting event sour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333760" y="2514600"/>
            <a:ext cx="3429360" cy="489600"/>
            <a:chOff x="5333760" y="2514600"/>
            <a:chExt cx="3429360" cy="489600"/>
          </a:xfrm>
        </p:grpSpPr>
        <p:sp>
          <p:nvSpPr>
            <p:cNvPr id="432" name=""/>
            <p:cNvSpPr/>
            <p:nvPr/>
          </p:nvSpPr>
          <p:spPr>
            <a:xfrm>
              <a:off x="6400800" y="26668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event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5333760" y="251460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334120" y="4038480"/>
            <a:ext cx="2743200" cy="337320"/>
            <a:chOff x="5334120" y="4038480"/>
            <a:chExt cx="2743200" cy="337320"/>
          </a:xfrm>
        </p:grpSpPr>
        <p:sp>
          <p:nvSpPr>
            <p:cNvPr id="435" name=""/>
            <p:cNvSpPr/>
            <p:nvPr/>
          </p:nvSpPr>
          <p:spPr>
            <a:xfrm>
              <a:off x="6095880" y="40384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fy ev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334120" y="419112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2 automatic handle out-of-paper ev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3 log handling messa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662940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itely not from our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( sourceObject instanceof String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NotHandled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String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ource = ( String ) sourc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verify origin of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ource.equals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m.deitel.advjhtp1.jiro.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ynamicService.printer.ErrorMessage=Outof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utfPaperPolicy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ndling OutofPaperEvent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ake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plenish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ManagementProxy.addPa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nerate the log message parame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ializable params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sour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nerate localizable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lizableMessage localizable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izable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utofPaperPolicyImpl.class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rams,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257800" y="3505320"/>
            <a:ext cx="2743200" cy="580680"/>
            <a:chOff x="5257800" y="3505320"/>
            <a:chExt cx="2743200" cy="580680"/>
          </a:xfrm>
        </p:grpSpPr>
        <p:sp>
          <p:nvSpPr>
            <p:cNvPr id="440" name=""/>
            <p:cNvSpPr/>
            <p:nvPr/>
          </p:nvSpPr>
          <p:spPr>
            <a:xfrm>
              <a:off x="6248520" y="35053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omatic handle out-of-paper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257800" y="380988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486400" y="5410080"/>
            <a:ext cx="2971800" cy="457200"/>
            <a:chOff x="5486400" y="5410080"/>
            <a:chExt cx="2971800" cy="457200"/>
          </a:xfrm>
        </p:grpSpPr>
        <p:sp>
          <p:nvSpPr>
            <p:cNvPr id="443" name=""/>
            <p:cNvSpPr/>
            <p:nvPr/>
          </p:nvSpPr>
          <p:spPr>
            <a:xfrm>
              <a:off x="6400800" y="54100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handling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486400" y="563868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019920" y="2133720"/>
            <a:ext cx="2971800" cy="337320"/>
            <a:chOff x="6019920" y="2133720"/>
            <a:chExt cx="2971800" cy="337320"/>
          </a:xfrm>
        </p:grpSpPr>
        <p:sp>
          <p:nvSpPr>
            <p:cNvPr id="446" name=""/>
            <p:cNvSpPr/>
            <p:nvPr/>
          </p:nvSpPr>
          <p:spPr>
            <a:xfrm>
              <a:off x="6934320" y="21337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ty origin of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019920" y="228600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3 log handling messa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670572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nerate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gMessage logMess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ocalizableMessage, LogMess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OutofPaperEven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ourc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log action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gService.log( log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posting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utofPaperPolicy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 when posting log messag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ebug.debug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 event from our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fPaperPolic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NOT handling OutofPaperEvent..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sponsible listener require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hen not handling ev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NotHandled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notif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47960" y="1599840"/>
            <a:ext cx="3581640" cy="337680"/>
            <a:chOff x="4647960" y="1599840"/>
            <a:chExt cx="3581640" cy="337680"/>
          </a:xfrm>
        </p:grpSpPr>
        <p:sp>
          <p:nvSpPr>
            <p:cNvPr id="451" name=""/>
            <p:cNvSpPr/>
            <p:nvPr/>
          </p:nvSpPr>
          <p:spPr>
            <a:xfrm>
              <a:off x="5715000" y="16002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event handled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4647960" y="159984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410080" y="4876560"/>
            <a:ext cx="3353040" cy="413640"/>
            <a:chOff x="5410080" y="4876560"/>
            <a:chExt cx="3353040" cy="413640"/>
          </a:xfrm>
        </p:grpSpPr>
        <p:sp>
          <p:nvSpPr>
            <p:cNvPr id="454" name=""/>
            <p:cNvSpPr/>
            <p:nvPr/>
          </p:nvSpPr>
          <p:spPr>
            <a:xfrm>
              <a:off x="6400800" y="49528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 event from out pri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5410080" y="487656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Get dynamic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specify service requir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let DynamicServiceFinder get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Implement getLookupEntries to declare the class as dynamic service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ource fi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47712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ynamic services prox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getPrinterManagementProx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[] entr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nfo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Management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eitel Association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del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.0.0.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 = System.getProper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x.fma.domai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ynamicServiceFinder fin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ynamicServiceFinder( domain, entri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rinterManagement ) finder.ge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PrinterManagement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ines class as dynamic service during deploy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vate Entry[] getLookupEntri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nfo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utofPaperPolicy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del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0.0.0.1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6019920"/>
            <a:ext cx="4800600" cy="55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 = Added paper to {0} on {1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ig. 25.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operty file for OutofPaperPolicyIm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4800600" y="1294920"/>
            <a:ext cx="1905120" cy="581040"/>
            <a:chOff x="4800600" y="1294920"/>
            <a:chExt cx="1905120" cy="581040"/>
          </a:xfrm>
        </p:grpSpPr>
        <p:sp>
          <p:nvSpPr>
            <p:cNvPr id="460" name=""/>
            <p:cNvSpPr/>
            <p:nvPr/>
          </p:nvSpPr>
          <p:spPr>
            <a:xfrm>
              <a:off x="5257800" y="129528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 requi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4800600" y="129492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095880" y="3123720"/>
            <a:ext cx="3048120" cy="581040"/>
            <a:chOff x="6095880" y="3123720"/>
            <a:chExt cx="3048120" cy="581040"/>
          </a:xfrm>
        </p:grpSpPr>
        <p:sp>
          <p:nvSpPr>
            <p:cNvPr id="463" name=""/>
            <p:cNvSpPr/>
            <p:nvPr/>
          </p:nvSpPr>
          <p:spPr>
            <a:xfrm>
              <a:off x="6705720" y="31240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t DynamicServiceFinder get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6095880" y="31237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952520" y="4647960"/>
            <a:ext cx="3886560" cy="657000"/>
            <a:chOff x="4952520" y="4647960"/>
            <a:chExt cx="3886560" cy="657000"/>
          </a:xfrm>
        </p:grpSpPr>
        <p:sp>
          <p:nvSpPr>
            <p:cNvPr id="466" name=""/>
            <p:cNvSpPr/>
            <p:nvPr/>
          </p:nvSpPr>
          <p:spPr>
            <a:xfrm>
              <a:off x="5715000" y="47242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getLookupEntries to declare the class as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4952520" y="46479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4 Dynamic vs. Static Servi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stomized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hedulin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between dynamic and static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owTonerPolic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647676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: LowTonerPolic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interface for the dynamic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olic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TonerPolic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Polic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owTonerPolicyImpl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609588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wTonerPolicyImpl.jav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s events generated by printer by registe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a responsible 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olic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ices.lo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obtain reference to dynamic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obtain reference to static servic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subscribe to printer low-toner policy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40080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TonerPolicy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TonerPolic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 listener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 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Service logServ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printerManagementProx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wTonerPolicyImp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TonerPolicyImp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bscribe as an responsible listener to certain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the LowToner management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referrence to dynamic service entry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ManagementProxy = getPrinterManagementProx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referrence to lo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Service = ServiceFinder.getLog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referrence to log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rvice event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Finder.getEven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ubscribe as responsible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Leas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Service.subscribeResponsibleBefor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.Printer.Error.LowTo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en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EventListe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629040" y="3505320"/>
            <a:ext cx="2209680" cy="580680"/>
            <a:chOff x="6629040" y="3505320"/>
            <a:chExt cx="2209680" cy="580680"/>
          </a:xfrm>
        </p:grpSpPr>
        <p:sp>
          <p:nvSpPr>
            <p:cNvPr id="475" name=""/>
            <p:cNvSpPr/>
            <p:nvPr/>
          </p:nvSpPr>
          <p:spPr>
            <a:xfrm>
              <a:off x="7086240" y="35053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629040" y="3809880"/>
              <a:ext cx="456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105160" y="4572000"/>
            <a:ext cx="3048120" cy="685800"/>
            <a:chOff x="5105160" y="4572000"/>
            <a:chExt cx="3048120" cy="685800"/>
          </a:xfrm>
        </p:grpSpPr>
        <p:sp>
          <p:nvSpPr>
            <p:cNvPr id="478" name=""/>
            <p:cNvSpPr/>
            <p:nvPr/>
          </p:nvSpPr>
          <p:spPr>
            <a:xfrm>
              <a:off x="6553080" y="46483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static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5715000" y="457200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105160" y="4952880"/>
              <a:ext cx="1447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866920" y="5410080"/>
            <a:ext cx="2896200" cy="824040"/>
            <a:chOff x="5866920" y="5410080"/>
            <a:chExt cx="2896200" cy="824040"/>
          </a:xfrm>
        </p:grpSpPr>
        <p:sp>
          <p:nvSpPr>
            <p:cNvPr id="482" name=""/>
            <p:cNvSpPr/>
            <p:nvPr/>
          </p:nvSpPr>
          <p:spPr>
            <a:xfrm>
              <a:off x="6705720" y="541008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scribe to printer out-of-paper policy as responsible 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5866920" y="5791320"/>
              <a:ext cx="838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top the polic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304560" y="685440"/>
            <a:ext cx="64767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new lease indefini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ener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starting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 when starting policy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ing LowTonerPolicy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 started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owTonerPolicyImp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p OutofPaper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Polic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p the LowToner management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pire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easeRenewalManager.cancel( listenerLe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 stopping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409720" y="4495680"/>
            <a:ext cx="2743560" cy="762120"/>
            <a:chOff x="5409720" y="4495680"/>
            <a:chExt cx="2743560" cy="762120"/>
          </a:xfrm>
        </p:grpSpPr>
        <p:sp>
          <p:nvSpPr>
            <p:cNvPr id="487" name=""/>
            <p:cNvSpPr/>
            <p:nvPr/>
          </p:nvSpPr>
          <p:spPr>
            <a:xfrm>
              <a:off x="6095880" y="449568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ire listener’s lease to stop the poli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409720" y="48006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Receive event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identify event sour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65530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anceling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canceling lease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opping LowTonerPolicy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remote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knownEventException, RemoteExcep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NotHandled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vent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sourceObjec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event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Object = remote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event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getting event source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read debug file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bug.debug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ting event sour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409720" y="2209680"/>
            <a:ext cx="3582000" cy="381240"/>
            <a:chOff x="5409720" y="2209680"/>
            <a:chExt cx="3582000" cy="381240"/>
          </a:xfrm>
        </p:grpSpPr>
        <p:sp>
          <p:nvSpPr>
            <p:cNvPr id="492" name=""/>
            <p:cNvSpPr/>
            <p:nvPr/>
          </p:nvSpPr>
          <p:spPr>
            <a:xfrm>
              <a:off x="6629400" y="22096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event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409720" y="236232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334120" y="4038480"/>
            <a:ext cx="2743200" cy="337320"/>
            <a:chOff x="5334120" y="4038480"/>
            <a:chExt cx="2743200" cy="337320"/>
          </a:xfrm>
        </p:grpSpPr>
        <p:sp>
          <p:nvSpPr>
            <p:cNvPr id="495" name=""/>
            <p:cNvSpPr/>
            <p:nvPr/>
          </p:nvSpPr>
          <p:spPr>
            <a:xfrm>
              <a:off x="6095880" y="40384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fy ev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334120" y="41911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2 automatic handle low-toner ev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3 log handling messa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65530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itely not from our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( sourceObject instanceof String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NotHandled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String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ource = ( String ) sourc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verify origin of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ourc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iro.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ynamicService.printer.ErrorMessage=LowTon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 handling LowTonerEvent..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ake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plenish toner cartri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ManagementProxy.add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nerate the log message parame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ializable params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sour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nerate localizable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lizableMessage localizable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izable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owTonerPolicyImpl.clas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arams,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105160" y="3505320"/>
            <a:ext cx="2895840" cy="685800"/>
            <a:chOff x="5105160" y="3505320"/>
            <a:chExt cx="2895840" cy="685800"/>
          </a:xfrm>
        </p:grpSpPr>
        <p:sp>
          <p:nvSpPr>
            <p:cNvPr id="500" name=""/>
            <p:cNvSpPr/>
            <p:nvPr/>
          </p:nvSpPr>
          <p:spPr>
            <a:xfrm>
              <a:off x="6248520" y="35053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omatic handle low-toner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105160" y="388620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181480" y="5105520"/>
            <a:ext cx="3048120" cy="337320"/>
            <a:chOff x="5181480" y="5105520"/>
            <a:chExt cx="3048120" cy="337320"/>
          </a:xfrm>
        </p:grpSpPr>
        <p:sp>
          <p:nvSpPr>
            <p:cNvPr id="503" name=""/>
            <p:cNvSpPr/>
            <p:nvPr/>
          </p:nvSpPr>
          <p:spPr>
            <a:xfrm>
              <a:off x="6172200" y="51055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handling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181480" y="5257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943240" y="1905120"/>
            <a:ext cx="3048480" cy="457200"/>
            <a:chOff x="5943240" y="1905120"/>
            <a:chExt cx="3048480" cy="457200"/>
          </a:xfrm>
        </p:grpSpPr>
        <p:sp>
          <p:nvSpPr>
            <p:cNvPr id="506" name=""/>
            <p:cNvSpPr/>
            <p:nvPr/>
          </p:nvSpPr>
          <p:spPr>
            <a:xfrm>
              <a:off x="7010280" y="190512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fy origin of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5943240" y="205740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3 log handling messa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65530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nerate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gMessage logMess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ocalizableMessage, LogMess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LowTonerEven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ourc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log action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gService.log( log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posting lo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xception occurred when taking action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lease read debug file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ebug.debug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ake 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 event from our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LowTonerPolicyImpl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T handling OutofPaperEvent..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sponsible listener require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hen not handling ev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NotHandled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notif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724280" y="1371600"/>
            <a:ext cx="3048120" cy="565920"/>
            <a:chOff x="4724280" y="1371600"/>
            <a:chExt cx="3048120" cy="565920"/>
          </a:xfrm>
        </p:grpSpPr>
        <p:sp>
          <p:nvSpPr>
            <p:cNvPr id="511" name=""/>
            <p:cNvSpPr/>
            <p:nvPr/>
          </p:nvSpPr>
          <p:spPr>
            <a:xfrm>
              <a:off x="5715000" y="16002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handling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4724280" y="137160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962160" y="4038480"/>
            <a:ext cx="3810240" cy="457200"/>
            <a:chOff x="3962160" y="4038480"/>
            <a:chExt cx="3810240" cy="457200"/>
          </a:xfrm>
        </p:grpSpPr>
        <p:sp>
          <p:nvSpPr>
            <p:cNvPr id="514" name=""/>
            <p:cNvSpPr/>
            <p:nvPr/>
          </p:nvSpPr>
          <p:spPr>
            <a:xfrm>
              <a:off x="5410080" y="40384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 event from our pri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962160" y="4191120"/>
              <a:ext cx="1447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Get dynamic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specify service requir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let DynamicServiceFinder get service prox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Implement getLookupEntries to declare the class as dynamic service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ource fi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647712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ynamic services prox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 getPrinterManagementProx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[] entr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nfo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Management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eitel Association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del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0.0.0.1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 = System.getProper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x.fma.domai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ynamicServiceFinder fin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ynamicServiceFinder( domain, entri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Management ) finder.get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PrinterManagement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ines class as dynamic service during deploy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getLookupEntri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nfo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wTonerPolicy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Association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eitel Association, In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Model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.0.0.1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"/>
          <p:cNvSpPr/>
          <p:nvPr/>
        </p:nvSpPr>
        <p:spPr>
          <a:xfrm>
            <a:off x="1371600" y="5943600"/>
            <a:ext cx="4648320" cy="55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Action = Added toner to {0} on {1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ig. 25.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operty file for LowTonerPolicyIm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571640" y="1294920"/>
            <a:ext cx="2134080" cy="581040"/>
            <a:chOff x="4571640" y="1294920"/>
            <a:chExt cx="2134080" cy="581040"/>
          </a:xfrm>
        </p:grpSpPr>
        <p:sp>
          <p:nvSpPr>
            <p:cNvPr id="520" name=""/>
            <p:cNvSpPr/>
            <p:nvPr/>
          </p:nvSpPr>
          <p:spPr>
            <a:xfrm>
              <a:off x="5257800" y="129528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 requi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4571640" y="129492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019560" y="3124080"/>
            <a:ext cx="3124440" cy="1266480"/>
            <a:chOff x="6019560" y="3124080"/>
            <a:chExt cx="3124440" cy="1266480"/>
          </a:xfrm>
        </p:grpSpPr>
        <p:sp>
          <p:nvSpPr>
            <p:cNvPr id="523" name=""/>
            <p:cNvSpPr/>
            <p:nvPr/>
          </p:nvSpPr>
          <p:spPr>
            <a:xfrm>
              <a:off x="6705720" y="38098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t DynamicServiceFinder get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6019560" y="3124080"/>
              <a:ext cx="685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876920" y="4724280"/>
            <a:ext cx="3962160" cy="580680"/>
            <a:chOff x="4876920" y="4724280"/>
            <a:chExt cx="3962160" cy="580680"/>
          </a:xfrm>
        </p:grpSpPr>
        <p:sp>
          <p:nvSpPr>
            <p:cNvPr id="526" name=""/>
            <p:cNvSpPr/>
            <p:nvPr/>
          </p:nvSpPr>
          <p:spPr>
            <a:xfrm>
              <a:off x="5715000" y="47242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getLookupEntries to declare the class as dynamic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4876920" y="472428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8.1 Policy-Management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 management policies with dynamic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art Ji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 management policies with dynam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JAR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rpack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rdeplo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management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8.1 Policy-Management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5 Dynamic Servi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ro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st dynamic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clients access dynam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Faç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çade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dynamic servic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the dynam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 the dynamic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8.1 Policy-Management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75248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685800" y="3505320"/>
          <a:ext cx="7769160" cy="457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0532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8.1 Policy-management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8.1 Policy-Management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685800" y="99072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685800" y="3657600"/>
          <a:ext cx="7769160" cy="457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657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liciesStar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set security manag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2 obtain station addre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647712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: PoliciesStar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demonstrates how to obtain the proxies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nagement polici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ro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fma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ro.DynamicService.polic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liciesStar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liciesStar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liciesStarter( String domai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ofPaperPolicy paperPolicyProx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wTonerPolicy tonerPolicyProx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station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ionAddress station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onAddress( domai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410080" y="4648320"/>
            <a:ext cx="2971800" cy="380880"/>
            <a:chOff x="5410080" y="4648320"/>
            <a:chExt cx="2971800" cy="380880"/>
          </a:xfrm>
        </p:grpSpPr>
        <p:sp>
          <p:nvSpPr>
            <p:cNvPr id="549" name=""/>
            <p:cNvSpPr/>
            <p:nvPr/>
          </p:nvSpPr>
          <p:spPr>
            <a:xfrm>
              <a:off x="6477120" y="4648320"/>
              <a:ext cx="1904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410080" y="480060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4419360" y="5486400"/>
            <a:ext cx="3581640" cy="380880"/>
            <a:chOff x="4419360" y="5486400"/>
            <a:chExt cx="3581640" cy="380880"/>
          </a:xfrm>
        </p:grpSpPr>
        <p:sp>
          <p:nvSpPr>
            <p:cNvPr id="552" name=""/>
            <p:cNvSpPr/>
            <p:nvPr/>
          </p:nvSpPr>
          <p:spPr>
            <a:xfrm>
              <a:off x="5867280" y="548640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statio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4419360" y="5715000"/>
              <a:ext cx="1447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3 instantiate management polici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655308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proxies of management polic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perPolicyProx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ofPaperPolicyImplProxy( station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nerPolicyProx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TonerPolicyImplProxy( station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proxies and starting polic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liciesStar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omai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domai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Usage: PoliciesStarter Doma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main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liciesStarter policiesStart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liciesStarter( doma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324120" y="1218960"/>
            <a:ext cx="2134080" cy="1510200"/>
            <a:chOff x="6324120" y="1218960"/>
            <a:chExt cx="2134080" cy="1510200"/>
          </a:xfrm>
        </p:grpSpPr>
        <p:sp>
          <p:nvSpPr>
            <p:cNvPr id="557" name=""/>
            <p:cNvSpPr/>
            <p:nvPr/>
          </p:nvSpPr>
          <p:spPr>
            <a:xfrm>
              <a:off x="7162920" y="1905120"/>
              <a:ext cx="1295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management poli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6324120" y="1218960"/>
              <a:ext cx="8384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1523880"/>
            <a:ext cx="6629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outofPaperIgniter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209840" cy="3638520"/>
          </a:xfrm>
          <a:prstGeom prst="rect">
            <a:avLst/>
          </a:prstGeom>
          <a:ln w="0">
            <a:noFill/>
          </a:ln>
        </p:spPr>
      </p:pic>
      <p:pic>
        <p:nvPicPr>
          <p:cNvPr id="563" name="addPaperIgniter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48769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ewlog tool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6" name="viewLog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6859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ewlog tool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9" name="viewLogOne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9 Closing Notes on the Printer Management Solu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y point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conso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10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ro.com/documentcenter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jiro.com/overview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jweb-001.jiro.com/faq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www.jiro.com/education/recipes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www.jiro.com/education/recipes/servic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www.sce.carleton.ca/netmanage/NMfor90s/SimpleNM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jweb-001.jiro.com/cgi-bin/Ultimate.cgi?action=in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5.5.1 Dynamic-Service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public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erManag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erManagementImp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object implementing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Lookup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erEvent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3:45:20Z</dcterms:created>
  <dc:creator>zhang</dc:creator>
  <dc:description/>
  <dc:language>en-US</dc:language>
  <cp:lastModifiedBy>zhang</cp:lastModifiedBy>
  <dcterms:modified xsi:type="dcterms:W3CDTF">2000-08-31T21:16:57Z</dcterms:modified>
  <cp:revision>198</cp:revision>
  <dc:subject/>
  <dc:title>Chapter 25 - Jiro</dc:title>
</cp:coreProperties>
</file>