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7.wmf" ContentType="image/x-wmf"/>
  <Override PartName="/ppt/media/image16.png" ContentType="image/png"/>
  <Override PartName="/ppt/media/image25.png" ContentType="image/png"/>
  <Override PartName="/ppt/media/image1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8769-BA20-4299-956B-8DF55714C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FB95-D9A7-4D85-BAB2-367FA8350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5689-C77A-4DF2-B0DD-0D2D91B75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4715-4F11-4D09-87EC-D1E542695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47E8-F63A-4B6B-9B68-C1245DA364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2A15-C36B-4863-983D-7FE06390F6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1FC7-2B14-4EA4-A7E4-14D6D3DCAC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1990-2866-4152-859A-236854B0E9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FC3B-E72F-49B6-A006-C8F9CEF046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7054-9138-4AA7-B758-C65F79202F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E8E6-E06A-4435-8148-50C804A133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A655-7D15-4464-BF03-EA4C0C276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398A7-567D-4856-B2D2-273F43EBC8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F355-D52B-4779-A79A-F414ED3B07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7BBC-6470-4374-BD95-11F42F4DD5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7EB0-A7EF-48A4-9605-77BF9F7C56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C71AD-5FD1-4258-8A3F-F601B66D4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C8A2-0C9D-4C96-BFF3-9C8F2E768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FF6F-7C0D-4320-8EC1-BB01F204E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B3E2-C3BC-4F40-B9A5-FB50ACA36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F5FB-F76A-4C2A-A761-997DA5DB6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9F83-56B7-44E7-BA2E-3B57033E2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708B-0DC8-4F6F-A717-D6B6BE4D9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C255-92BA-4BDD-A654-C540403C7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DB15-F15A-462F-B790-B271F7324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510B-F81F-4214-8AD1-64D11CE45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2: Java-Based Wireless Applications Development and J2M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WelcomeServl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ipTestServl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Explorer Reques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AP Reques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ixo i-mode Reques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3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2ME Client Reques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2 Micro Edi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nected Limited Device Configuration (CLDC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obile Information Device Profile (MIDP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ipTestMIDl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stallation Instru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UserAgent-Head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ins unique User-Agent header substrings for all clien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-1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UserAgentHeader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all User-Agent header for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wirl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UserAgentHeader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-Agent header for Internet Explorer 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S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-Agent header for WAP 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A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-Agent header for i-mode 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ix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-Agent header for J2ME de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2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DP-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419360" y="1676160"/>
            <a:ext cx="4419720" cy="1524240"/>
            <a:chOff x="4419360" y="1676160"/>
            <a:chExt cx="4419720" cy="1524240"/>
          </a:xfrm>
        </p:grpSpPr>
        <p:sp>
          <p:nvSpPr>
            <p:cNvPr id="141" name=""/>
            <p:cNvSpPr/>
            <p:nvPr/>
          </p:nvSpPr>
          <p:spPr>
            <a:xfrm>
              <a:off x="5943600" y="18288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 of all client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s, which act as “identifiers” for each client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4572000" y="167616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419360" y="2209680"/>
              <a:ext cx="1523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00240" y="228600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952880" y="228600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elcome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7" name="image1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906800" cy="325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63640" y="5264280"/>
            <a:ext cx="63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Serv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x.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XHTML cl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elcome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0" name="image1" descr=""/>
          <p:cNvPicPr/>
          <p:nvPr/>
        </p:nvPicPr>
        <p:blipFill>
          <a:blip r:embed="rId1"/>
          <a:stretch/>
        </p:blipFill>
        <p:spPr>
          <a:xfrm>
            <a:off x="3581280" y="838080"/>
            <a:ext cx="1741680" cy="4800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20" y="5568840"/>
            <a:ext cx="839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Serv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x.w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WAP client. (Image of UP.SDK courtes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wave Systems Inc. Openwave, the Openwave logo, and UP.SDK are trademarks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wave Systems Inc. All rights reserve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elcome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3" name=""/>
          <p:cNvSpPr/>
          <p:nvPr/>
        </p:nvSpPr>
        <p:spPr>
          <a:xfrm>
            <a:off x="2445480" y="5416560"/>
            <a:ext cx="482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Serv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x.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-mode client. (Courtesy of Pixo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image2" descr=""/>
          <p:cNvPicPr/>
          <p:nvPr/>
        </p:nvPicPr>
        <p:blipFill>
          <a:blip r:embed="rId1"/>
          <a:stretch/>
        </p:blipFill>
        <p:spPr>
          <a:xfrm>
            <a:off x="3352680" y="1066680"/>
            <a:ext cx="231624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elcome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6" name="image3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1540080" cy="3817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70600" y="5264280"/>
            <a:ext cx="499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Serv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pu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x.t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2ME client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Tip-Test questions and answ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s questions and answers to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pTes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pTestServlet sends Tip Test to cli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wirel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parser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strea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xml.sax.SAX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pTes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BuilderFactory 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erFactory transformer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database driver and instantiate XML facto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0600" y="3124080"/>
            <a:ext cx="4114800" cy="2514600"/>
            <a:chOff x="4800600" y="3124080"/>
            <a:chExt cx="4114800" cy="2514600"/>
          </a:xfrm>
        </p:grpSpPr>
        <p:sp>
          <p:nvSpPr>
            <p:cNvPr id="163" name=""/>
            <p:cNvSpPr/>
            <p:nvPr/>
          </p:nvSpPr>
          <p:spPr>
            <a:xfrm>
              <a:off x="4800600" y="3124080"/>
              <a:ext cx="4114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invoked when the client makes a reques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but the servlet has not received a previous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876560" y="3962520"/>
              <a:ext cx="19810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504960" y="1828800"/>
            <a:ext cx="5181840" cy="2286000"/>
            <a:chOff x="3504960" y="1828800"/>
            <a:chExt cx="5181840" cy="2286000"/>
          </a:xfrm>
        </p:grpSpPr>
        <p:sp>
          <p:nvSpPr>
            <p:cNvPr id="166" name=""/>
            <p:cNvSpPr/>
            <p:nvPr/>
          </p:nvSpPr>
          <p:spPr>
            <a:xfrm flipH="1">
              <a:off x="3504960" y="2362320"/>
              <a:ext cx="33526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29200" y="182880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nerates and sends questions and answers to each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-4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0-5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JDBC driver from servlet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jdbcDri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fig().getIni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DBC_DRI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.forName( jdbcDriver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ad JDBC dri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abase URL from servlet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tabaseUr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fig().getInitParame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BASE_UR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= DriverManager.getConnection( database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Factory to build XML Doc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actory = DocumentBuild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Transform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Factory = Transform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database driver class does not ex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NotFoun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NotFoun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 making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028840" y="762120"/>
            <a:ext cx="3810240" cy="1310760"/>
            <a:chOff x="5028840" y="762120"/>
            <a:chExt cx="3810240" cy="1310760"/>
          </a:xfrm>
        </p:grpSpPr>
        <p:sp>
          <p:nvSpPr>
            <p:cNvPr id="171" name=""/>
            <p:cNvSpPr/>
            <p:nvPr/>
          </p:nvSpPr>
          <p:spPr>
            <a:xfrm>
              <a:off x="5791320" y="762120"/>
              <a:ext cx="30477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parameters in deployment descriptor to specify database; this approach enables us to change the database, without having to recomp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105160" y="1447920"/>
              <a:ext cx="685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5028840" y="8380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790960" y="2819520"/>
            <a:ext cx="2972160" cy="685800"/>
            <a:chOff x="5790960" y="2819520"/>
            <a:chExt cx="2972160" cy="685800"/>
          </a:xfrm>
        </p:grpSpPr>
        <p:sp>
          <p:nvSpPr>
            <p:cNvPr id="175" name=""/>
            <p:cNvSpPr/>
            <p:nvPr/>
          </p:nvSpPr>
          <p:spPr>
            <a:xfrm>
              <a:off x="6324480" y="28195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objects used for XML-document proces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867280" y="312408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790960" y="3124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1-9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8-9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ge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tatement from database, then send Tip-Test Ques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QL query to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tement statement = connection.createStat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atabase information using SQL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tement.executeQuer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* FROM tipInf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arse and send ResultSe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nsure that client does not cache ques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che-Contro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-cache, must-revali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agm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-cach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TipTestQuestion( request, response, resultS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tement.clos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 exectuting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09720" y="152280"/>
            <a:ext cx="3505680" cy="824040"/>
            <a:chOff x="5409720" y="152280"/>
            <a:chExt cx="3505680" cy="824040"/>
          </a:xfrm>
        </p:grpSpPr>
        <p:sp>
          <p:nvSpPr>
            <p:cNvPr id="181" name=""/>
            <p:cNvSpPr/>
            <p:nvPr/>
          </p:nvSpPr>
          <p:spPr>
            <a:xfrm>
              <a:off x="6248520" y="152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nd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 (i.e., when the client requests a ques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409720" y="6094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90960" y="2209680"/>
            <a:ext cx="3124440" cy="2286000"/>
            <a:chOff x="5790960" y="2209680"/>
            <a:chExt cx="3124440" cy="2286000"/>
          </a:xfrm>
        </p:grpSpPr>
        <p:sp>
          <p:nvSpPr>
            <p:cNvPr id="184" name=""/>
            <p:cNvSpPr/>
            <p:nvPr/>
          </p:nvSpPr>
          <p:spPr>
            <a:xfrm>
              <a:off x="6781680" y="220968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he Tip-Test question from database contents, then send that question to th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400800" y="2743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790960" y="2743200"/>
              <a:ext cx="9903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181120" y="3505320"/>
            <a:ext cx="3734280" cy="824040"/>
            <a:chOff x="5181120" y="3505320"/>
            <a:chExt cx="3734280" cy="824040"/>
          </a:xfrm>
        </p:grpSpPr>
        <p:sp>
          <p:nvSpPr>
            <p:cNvPr id="188" name=""/>
            <p:cNvSpPr/>
            <p:nvPr/>
          </p:nvSpPr>
          <p:spPr>
            <a:xfrm>
              <a:off x="6400800" y="35053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that the client’s browser does not cache a previous Tip-Test ques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181120" y="3962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7-1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post reque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ResultSet to appropri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rmine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serAgent = request.g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-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nternet Explorer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Answer( reque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XML content to client after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/XHTMLTipAnswer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WAP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A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Answer( reque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562720" y="304920"/>
            <a:ext cx="3352680" cy="824040"/>
            <a:chOff x="5562720" y="304920"/>
            <a:chExt cx="3352680" cy="824040"/>
          </a:xfrm>
        </p:grpSpPr>
        <p:sp>
          <p:nvSpPr>
            <p:cNvPr id="193" name=""/>
            <p:cNvSpPr/>
            <p:nvPr/>
          </p:nvSpPr>
          <p:spPr>
            <a:xfrm>
              <a:off x="6019920" y="3049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nd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 (i.e., when the client sends its answer to the serv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562720" y="76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105520" y="2971800"/>
            <a:ext cx="3733560" cy="1447920"/>
            <a:chOff x="5105520" y="2971800"/>
            <a:chExt cx="3733560" cy="1447920"/>
          </a:xfrm>
        </p:grpSpPr>
        <p:sp>
          <p:nvSpPr>
            <p:cNvPr id="196" name=""/>
            <p:cNvSpPr/>
            <p:nvPr/>
          </p:nvSpPr>
          <p:spPr>
            <a:xfrm>
              <a:off x="6400800" y="29718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Internet Explorer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set content type to HTML and send the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181120" y="297180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638320" y="35053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486400" y="350532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105520" y="3429000"/>
              <a:ext cx="1295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-Test”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choice g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-tier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ps.sq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let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 Expl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2 Micro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9-1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7-1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2-1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vnd.wap.w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XML content to client after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AP/WAPTipAnswer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-mode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Answer( reque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nd XML content to client after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ode/IMODETipAnswer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J2ME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2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J2MEAnswer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ocument is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llPointerException nullPoint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llPoint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4640" y="304920"/>
            <a:ext cx="3048480" cy="1067400"/>
            <a:chOff x="5714640" y="304920"/>
            <a:chExt cx="3048480" cy="1067400"/>
          </a:xfrm>
        </p:grpSpPr>
        <p:sp>
          <p:nvSpPr>
            <p:cNvPr id="204" name=""/>
            <p:cNvSpPr/>
            <p:nvPr/>
          </p:nvSpPr>
          <p:spPr>
            <a:xfrm>
              <a:off x="6477120" y="30492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WAP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set content type to WML and send the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5943600" y="60912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714640" y="83808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181120" y="2057400"/>
            <a:ext cx="3353400" cy="1676520"/>
            <a:chOff x="5181120" y="2057400"/>
            <a:chExt cx="3353400" cy="1676520"/>
          </a:xfrm>
        </p:grpSpPr>
        <p:sp>
          <p:nvSpPr>
            <p:cNvPr id="208" name=""/>
            <p:cNvSpPr/>
            <p:nvPr/>
          </p:nvSpPr>
          <p:spPr>
            <a:xfrm>
              <a:off x="6324480" y="2057400"/>
              <a:ext cx="2210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i-mode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set content type to cHTML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ompact HTML) and send the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410080" y="2286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638320" y="274320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486400" y="274320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5181120" y="266688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05520" y="4572000"/>
            <a:ext cx="3657600" cy="1067400"/>
            <a:chOff x="5105520" y="4572000"/>
            <a:chExt cx="3657600" cy="1067400"/>
          </a:xfrm>
        </p:grpSpPr>
        <p:sp>
          <p:nvSpPr>
            <p:cNvPr id="214" name=""/>
            <p:cNvSpPr/>
            <p:nvPr/>
          </p:nvSpPr>
          <p:spPr>
            <a:xfrm>
              <a:off x="5943600" y="45720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J2ME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dJ2MEAnsw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sends the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105520" y="5105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7-19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P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Tip-Test data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TipTestQues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et resultSe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ResultSet to appropri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rmine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serAgent = request.g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-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nternet Explorer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Question( resultSet,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quest.getContextPa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HTML/images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/XHTMLTipQuestion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WAP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WAP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962160" y="380880"/>
            <a:ext cx="3886560" cy="533520"/>
            <a:chOff x="3962160" y="380880"/>
            <a:chExt cx="3886560" cy="533520"/>
          </a:xfrm>
        </p:grpSpPr>
        <p:sp>
          <p:nvSpPr>
            <p:cNvPr id="219" name=""/>
            <p:cNvSpPr/>
            <p:nvPr/>
          </p:nvSpPr>
          <p:spPr>
            <a:xfrm>
              <a:off x="5105520" y="38088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962160" y="5335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181120" y="1143000"/>
            <a:ext cx="3734280" cy="3429000"/>
            <a:chOff x="5181120" y="1143000"/>
            <a:chExt cx="3734280" cy="3429000"/>
          </a:xfrm>
        </p:grpSpPr>
        <p:sp>
          <p:nvSpPr>
            <p:cNvPr id="222" name=""/>
            <p:cNvSpPr/>
            <p:nvPr/>
          </p:nvSpPr>
          <p:spPr>
            <a:xfrm flipH="1">
              <a:off x="5181120" y="2209680"/>
              <a:ext cx="2057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33760" y="2209680"/>
              <a:ext cx="19047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410080" y="2209680"/>
              <a:ext cx="18288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91320" y="114300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Internet Explorer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generate Tip-Test question, set content type to HTML and send the question to th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5-2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7-2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2-2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Question( resultSet,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quest.getContextPa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WAP/images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wbm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vnd.wap.w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AP/WAPTipQuestion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-mode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 docu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reateXMLTipTestQuestion( resultSet,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quest.getContextPa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iMode/images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appropriate Content-Type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pplyXSL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ode/IMODETipQuestion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J2ME client is requesting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2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J2MEClientResponse( resultSet,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57800" y="457200"/>
            <a:ext cx="3657600" cy="1310760"/>
            <a:chOff x="5257800" y="457200"/>
            <a:chExt cx="3657600" cy="1310760"/>
          </a:xfrm>
        </p:grpSpPr>
        <p:sp>
          <p:nvSpPr>
            <p:cNvPr id="229" name=""/>
            <p:cNvSpPr/>
            <p:nvPr/>
          </p:nvSpPr>
          <p:spPr>
            <a:xfrm flipH="1" flipV="1">
              <a:off x="5257800" y="83772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019560" y="114300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080" y="45720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WAP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generate Tip-Test question, set content type to WML and send the question to th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409720" y="2742840"/>
            <a:ext cx="3582000" cy="1524240"/>
            <a:chOff x="5409720" y="2742840"/>
            <a:chExt cx="3582000" cy="1524240"/>
          </a:xfrm>
        </p:grpSpPr>
        <p:sp>
          <p:nvSpPr>
            <p:cNvPr id="233" name=""/>
            <p:cNvSpPr/>
            <p:nvPr/>
          </p:nvSpPr>
          <p:spPr>
            <a:xfrm flipH="1" flipV="1">
              <a:off x="5409720" y="274284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791320" y="342900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05720" y="2743200"/>
              <a:ext cx="2286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i-mode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generate Tip-Test question, set content type to cHTML and send the question to th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257800" y="4800600"/>
            <a:ext cx="3581280" cy="1310760"/>
            <a:chOff x="5257800" y="4800600"/>
            <a:chExt cx="3581280" cy="1310760"/>
          </a:xfrm>
        </p:grpSpPr>
        <p:sp>
          <p:nvSpPr>
            <p:cNvPr id="237" name=""/>
            <p:cNvSpPr/>
            <p:nvPr/>
          </p:nvSpPr>
          <p:spPr>
            <a:xfrm>
              <a:off x="6095880" y="4800600"/>
              <a:ext cx="2743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J2ME client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dJ2MEClient-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sends the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257800" y="5486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4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62-26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71-27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ocument is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llPointerException nullPoint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llPoint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TipTestQues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Tip Test to Internet Explore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 createXMLTipTestQues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et resultSet,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magePrefix, String imageSuffi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vert ResultSet to two-dimensional String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esultTable[][] = getResultTable( resultS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andom-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andom rando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( System.currentTimeMilli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4 random ti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[] = getRandomIndices( rando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andomly determine correct index from 4 random ind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Answer = Math.abs( random.nextInt() ) %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andomRow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Row = randomRow[ correctAnswer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new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answer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correctAnsw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876560" y="1066680"/>
            <a:ext cx="3505320" cy="762120"/>
            <a:chOff x="4876560" y="1066680"/>
            <a:chExt cx="3505320" cy="762120"/>
          </a:xfrm>
        </p:grpSpPr>
        <p:sp>
          <p:nvSpPr>
            <p:cNvPr id="242" name=""/>
            <p:cNvSpPr/>
            <p:nvPr/>
          </p:nvSpPr>
          <p:spPr>
            <a:xfrm>
              <a:off x="5867280" y="10666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question as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876560" y="137160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095880" y="2133720"/>
            <a:ext cx="2743200" cy="824040"/>
            <a:chOff x="6095880" y="2133720"/>
            <a:chExt cx="2743200" cy="824040"/>
          </a:xfrm>
        </p:grpSpPr>
        <p:sp>
          <p:nvSpPr>
            <p:cNvPr id="245" name=""/>
            <p:cNvSpPr/>
            <p:nvPr/>
          </p:nvSpPr>
          <p:spPr>
            <a:xfrm>
              <a:off x="6705720" y="2133720"/>
              <a:ext cx="2133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database contents in two-dimens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095880" y="251460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257440" y="4648320"/>
            <a:ext cx="3429360" cy="824040"/>
            <a:chOff x="5257440" y="4648320"/>
            <a:chExt cx="3429360" cy="824040"/>
          </a:xfrm>
        </p:grpSpPr>
        <p:sp>
          <p:nvSpPr>
            <p:cNvPr id="248" name=""/>
            <p:cNvSpPr/>
            <p:nvPr/>
          </p:nvSpPr>
          <p:spPr>
            <a:xfrm>
              <a:off x="6324480" y="464832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correct answer (represented as index in row of 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638320" y="46483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257440" y="51055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723920" y="5562720"/>
            <a:ext cx="3582000" cy="824040"/>
            <a:chOff x="4723920" y="5562720"/>
            <a:chExt cx="3582000" cy="824040"/>
          </a:xfrm>
        </p:grpSpPr>
        <p:sp>
          <p:nvSpPr>
            <p:cNvPr id="252" name=""/>
            <p:cNvSpPr/>
            <p:nvPr/>
          </p:nvSpPr>
          <p:spPr>
            <a:xfrm>
              <a:off x="6400800" y="556272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correct answ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for future sess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723920" y="6019920"/>
              <a:ext cx="1676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9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5-28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0-29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8-3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tip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tip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image to send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mageName = imagePrefix 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+ imageSuffi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XML document based on randomly determined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 builder = factory.newDocumentBuil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document = builder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question roo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roo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s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roo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lement image, which references imag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image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imageNam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choices Element to hold 4 choice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choices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410080" y="304920"/>
            <a:ext cx="3505320" cy="1981080"/>
            <a:chOff x="5410080" y="304920"/>
            <a:chExt cx="3505320" cy="1981080"/>
          </a:xfrm>
        </p:grpSpPr>
        <p:sp>
          <p:nvSpPr>
            <p:cNvPr id="257" name=""/>
            <p:cNvSpPr/>
            <p:nvPr/>
          </p:nvSpPr>
          <p:spPr>
            <a:xfrm>
              <a:off x="6400800" y="3049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name, description and image name of correct answ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943600" y="76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410080" y="762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486400" y="762120"/>
              <a:ext cx="9144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866920" y="2743200"/>
            <a:ext cx="3124800" cy="609480"/>
            <a:chOff x="5866920" y="2743200"/>
            <a:chExt cx="3124800" cy="609480"/>
          </a:xfrm>
        </p:grpSpPr>
        <p:sp>
          <p:nvSpPr>
            <p:cNvPr id="262" name=""/>
            <p:cNvSpPr/>
            <p:nvPr/>
          </p:nvSpPr>
          <p:spPr>
            <a:xfrm>
              <a:off x="6553080" y="27432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question as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866920" y="30481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095520" y="4648320"/>
            <a:ext cx="2591280" cy="580680"/>
            <a:chOff x="6095520" y="4648320"/>
            <a:chExt cx="2591280" cy="580680"/>
          </a:xfrm>
        </p:grpSpPr>
        <p:sp>
          <p:nvSpPr>
            <p:cNvPr id="265" name=""/>
            <p:cNvSpPr/>
            <p:nvPr/>
          </p:nvSpPr>
          <p:spPr>
            <a:xfrm>
              <a:off x="6858000" y="46483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image name in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095520" y="4952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0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0-3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8-3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4 choice Elements that represent user cho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andomRow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etermine choice Elements from result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choice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hoice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Table[ randomRow[ i ]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t choice Element as correct or in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ttr attribut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ocument.create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== correctAnsw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ttribute.se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ttribute.se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ppend choice Element to choices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hoice.setAttributeNode( attribu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hoices.appendChild( cho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choic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building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ars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s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714640" y="1066680"/>
            <a:ext cx="2972160" cy="824040"/>
            <a:chOff x="5714640" y="1066680"/>
            <a:chExt cx="2972160" cy="824040"/>
          </a:xfrm>
        </p:grpSpPr>
        <p:sp>
          <p:nvSpPr>
            <p:cNvPr id="270" name=""/>
            <p:cNvSpPr/>
            <p:nvPr/>
          </p:nvSpPr>
          <p:spPr>
            <a:xfrm>
              <a:off x="6858000" y="106668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four possible answers in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714640" y="1447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723920" y="2438280"/>
            <a:ext cx="3582000" cy="609840"/>
            <a:chOff x="4723920" y="2438280"/>
            <a:chExt cx="3582000" cy="609840"/>
          </a:xfrm>
        </p:grpSpPr>
        <p:sp>
          <p:nvSpPr>
            <p:cNvPr id="273" name=""/>
            <p:cNvSpPr/>
            <p:nvPr/>
          </p:nvSpPr>
          <p:spPr>
            <a:xfrm>
              <a:off x="6324480" y="24382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k one of the answers as “correct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723920" y="2743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800240" y="274320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971800" y="4419720"/>
            <a:ext cx="5638680" cy="580680"/>
            <a:chOff x="2971800" y="4419720"/>
            <a:chExt cx="5638680" cy="580680"/>
          </a:xfrm>
        </p:grpSpPr>
        <p:sp>
          <p:nvSpPr>
            <p:cNvPr id="277" name=""/>
            <p:cNvSpPr/>
            <p:nvPr/>
          </p:nvSpPr>
          <p:spPr>
            <a:xfrm>
              <a:off x="5715000" y="44197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XML document, which represents Tip-Test ques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971800" y="47242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8-36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7-37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XMLTipTestQues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tip test to J2M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J2MEClientResponse( ResultSet resultSe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vert ResultSet to two-dimensional String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esultTable[][] = getResultTable( resultS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andom-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andom rando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( System.currentTimeMilli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4 random ti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[] = getRandomIndices( rando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andomly determine correct index from 4 random ind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Answer = Math.abs( random.nextInt() ) %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andomRow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Row = randomRow[ correctAnswer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old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answer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correctAnsw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tip name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172200" y="228600"/>
            <a:ext cx="2819520" cy="1554120"/>
            <a:chOff x="6172200" y="228600"/>
            <a:chExt cx="2819520" cy="1554120"/>
          </a:xfrm>
        </p:grpSpPr>
        <p:sp>
          <p:nvSpPr>
            <p:cNvPr id="282" name=""/>
            <p:cNvSpPr/>
            <p:nvPr/>
          </p:nvSpPr>
          <p:spPr>
            <a:xfrm>
              <a:off x="6553080" y="228600"/>
              <a:ext cx="24386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question for J2ME client (we do not use XML, because J2ME clients cannot parse XML documents without using proprietary 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172200" y="990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095520" y="1905120"/>
            <a:ext cx="2896200" cy="900000"/>
            <a:chOff x="6095520" y="1905120"/>
            <a:chExt cx="2896200" cy="900000"/>
          </a:xfrm>
        </p:grpSpPr>
        <p:sp>
          <p:nvSpPr>
            <p:cNvPr id="285" name=""/>
            <p:cNvSpPr/>
            <p:nvPr/>
          </p:nvSpPr>
          <p:spPr>
            <a:xfrm>
              <a:off x="6858000" y="198108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database contents in two-dimens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6095520" y="19051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257440" y="3581280"/>
            <a:ext cx="3429360" cy="824040"/>
            <a:chOff x="5257440" y="3581280"/>
            <a:chExt cx="3429360" cy="824040"/>
          </a:xfrm>
        </p:grpSpPr>
        <p:sp>
          <p:nvSpPr>
            <p:cNvPr id="288" name=""/>
            <p:cNvSpPr/>
            <p:nvPr/>
          </p:nvSpPr>
          <p:spPr>
            <a:xfrm>
              <a:off x="6324480" y="35812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correct answer (represented as index in row of 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638320" y="35812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257440" y="40384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724280" y="4800600"/>
            <a:ext cx="3810240" cy="990720"/>
            <a:chOff x="4724280" y="4800600"/>
            <a:chExt cx="3810240" cy="990720"/>
          </a:xfrm>
        </p:grpSpPr>
        <p:sp>
          <p:nvSpPr>
            <p:cNvPr id="292" name=""/>
            <p:cNvSpPr/>
            <p:nvPr/>
          </p:nvSpPr>
          <p:spPr>
            <a:xfrm>
              <a:off x="6629400" y="480060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correct answ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for future sess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724280" y="52578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866920" y="52578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83-38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correct tip description in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J2ME client imag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mage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j2me/images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Table[ correctRow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pl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imag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J2ME client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andomRow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resultTable[ randomRow[ i ]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J2MEClient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vert ResultSet to two-dimensional String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[] getResultTable( ResultSet resultSe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able of Strings to store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esultTable[]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Table[ i ][ j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all columns in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419360" y="1752480"/>
            <a:ext cx="4343760" cy="990720"/>
            <a:chOff x="4419360" y="1752480"/>
            <a:chExt cx="4343760" cy="990720"/>
          </a:xfrm>
        </p:grpSpPr>
        <p:sp>
          <p:nvSpPr>
            <p:cNvPr id="298" name=""/>
            <p:cNvSpPr/>
            <p:nvPr/>
          </p:nvSpPr>
          <p:spPr>
            <a:xfrm>
              <a:off x="6324480" y="1752480"/>
              <a:ext cx="2438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 stream to send image name and four possible answers to J2M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419360" y="22096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333760" y="2209680"/>
              <a:ext cx="9903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486400" y="3962520"/>
            <a:ext cx="2971800" cy="1981800"/>
            <a:chOff x="5486400" y="3962520"/>
            <a:chExt cx="2971800" cy="1981800"/>
          </a:xfrm>
        </p:grpSpPr>
        <p:sp>
          <p:nvSpPr>
            <p:cNvPr id="302" name=""/>
            <p:cNvSpPr/>
            <p:nvPr/>
          </p:nvSpPr>
          <p:spPr>
            <a:xfrm>
              <a:off x="5562720" y="487692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converts a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 two-dimens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(arrays offer faster looku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5486400" y="396252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31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or each row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esultSet.next(); row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for each column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lumn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lumn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tore resultSet element in result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Table[ row ][ column ] +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sultSet.getObject( colum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servlet cannot get ResultSe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T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Result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4 randomly generated indices from result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getRandomIndices( Random rando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list containing row indices for result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ist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[ i ] =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029200" y="3352680"/>
            <a:ext cx="3809880" cy="1371600"/>
            <a:chOff x="5029200" y="3352680"/>
            <a:chExt cx="3809880" cy="1371600"/>
          </a:xfrm>
        </p:grpSpPr>
        <p:sp>
          <p:nvSpPr>
            <p:cNvPr id="307" name=""/>
            <p:cNvSpPr/>
            <p:nvPr/>
          </p:nvSpPr>
          <p:spPr>
            <a:xfrm flipH="1">
              <a:off x="5257440" y="4191120"/>
              <a:ext cx="1523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29200" y="3352680"/>
              <a:ext cx="3809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returns an array of four randomly gener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;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presents an index to a row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5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lect 4 randomly generated indices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randomRow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andomRow[ i ] = getRandomRow( list, rando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these ind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RandomIndi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random element from list, then nullif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ndom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[], Random rando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andom element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 = Math.abs( random.nextInt() ) % list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[ randomRow ]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andomRow = Math.abs( random.nextInt() ) % list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[ randomRow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llify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Ro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Random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XSLT style sheet to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XSLT( String xslFil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 xmlDocument,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ly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pen InputStream for XSL docu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Stream xsl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text().getResourceAsStream( xsl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562720" y="990720"/>
            <a:ext cx="3352680" cy="990360"/>
            <a:chOff x="5562720" y="990720"/>
            <a:chExt cx="3352680" cy="990360"/>
          </a:xfrm>
        </p:grpSpPr>
        <p:sp>
          <p:nvSpPr>
            <p:cNvPr id="312" name=""/>
            <p:cNvSpPr/>
            <p:nvPr/>
          </p:nvSpPr>
          <p:spPr>
            <a:xfrm flipH="1">
              <a:off x="5790960" y="1523880"/>
              <a:ext cx="1600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62720" y="99072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returns at random an index to a row in th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571640" y="3505320"/>
            <a:ext cx="4267440" cy="1295280"/>
            <a:chOff x="4571640" y="3505320"/>
            <a:chExt cx="4267440" cy="1295280"/>
          </a:xfrm>
        </p:grpSpPr>
        <p:sp>
          <p:nvSpPr>
            <p:cNvPr id="315" name=""/>
            <p:cNvSpPr/>
            <p:nvPr/>
          </p:nvSpPr>
          <p:spPr>
            <a:xfrm flipH="1">
              <a:off x="4571640" y="403848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15000" y="350532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XSLT to XML document (i.e., convert Tip-Test question or answer XML document to one that a browser can displa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746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50160" y="5791320"/>
            <a:ext cx="39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tier architecture for Tip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9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0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Source for XSLT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slSour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Source( xslStre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OMSource for source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mlSour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MSource( xml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intWriter for writing data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Writer outp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Result for transformatio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resul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Result(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ransformer for XSL trans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 transform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Transformer( xslSour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ransform and deliver conten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.transform( xmlSource, resul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transforming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former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pply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XML Document that stores Tip Test 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 createXMLTipTestAnsw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410080" y="2133720"/>
            <a:ext cx="3429000" cy="1295280"/>
            <a:chOff x="5410080" y="2133720"/>
            <a:chExt cx="3429000" cy="1295280"/>
          </a:xfrm>
        </p:grpSpPr>
        <p:sp>
          <p:nvSpPr>
            <p:cNvPr id="320" name=""/>
            <p:cNvSpPr/>
            <p:nvPr/>
          </p:nvSpPr>
          <p:spPr>
            <a:xfrm flipH="1">
              <a:off x="5410080" y="2743200"/>
              <a:ext cx="1828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43600" y="21337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 DOM tree (XML document)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eam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62720" y="5181480"/>
            <a:ext cx="2971800" cy="824040"/>
            <a:chOff x="5562720" y="5181480"/>
            <a:chExt cx="2971800" cy="824040"/>
          </a:xfrm>
        </p:grpSpPr>
        <p:sp>
          <p:nvSpPr>
            <p:cNvPr id="323" name=""/>
            <p:cNvSpPr/>
            <p:nvPr/>
          </p:nvSpPr>
          <p:spPr>
            <a:xfrm>
              <a:off x="6324480" y="518148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answer and game results as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562720" y="5638680"/>
              <a:ext cx="7617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12-5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31-53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44-5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tch correct answer with session 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 inte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Integer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Answer = integer.in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ive client correct tip name and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orrectTip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tring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orrectTipDescrip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tring ) session.getAttribu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 sel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answ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if user answer is 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rrectAnswer == sele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nsw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nsw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link to TipTest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ervletName = request.getContextPa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ServletConfig().getServle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XML document based on randomly determined 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 builder = factory.newDocumentBuil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document = builder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419360" y="838080"/>
            <a:ext cx="4496040" cy="1738440"/>
            <a:chOff x="4419360" y="838080"/>
            <a:chExt cx="4496040" cy="1738440"/>
          </a:xfrm>
        </p:grpSpPr>
        <p:sp>
          <p:nvSpPr>
            <p:cNvPr id="328" name=""/>
            <p:cNvSpPr/>
            <p:nvPr/>
          </p:nvSpPr>
          <p:spPr>
            <a:xfrm>
              <a:off x="6781680" y="175248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correct answer from previous 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6171840" y="838080"/>
              <a:ext cx="6094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419360" y="22096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943600" y="175248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267080" y="3733920"/>
            <a:ext cx="4114800" cy="580680"/>
            <a:chOff x="4267080" y="3733920"/>
            <a:chExt cx="4114800" cy="580680"/>
          </a:xfrm>
        </p:grpSpPr>
        <p:sp>
          <p:nvSpPr>
            <p:cNvPr id="333" name=""/>
            <p:cNvSpPr/>
            <p:nvPr/>
          </p:nvSpPr>
          <p:spPr>
            <a:xfrm>
              <a:off x="6248520" y="373392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whether user answered correct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4267080" y="40384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477120" y="5486400"/>
            <a:ext cx="2438280" cy="824040"/>
            <a:chOff x="6477120" y="5486400"/>
            <a:chExt cx="2438280" cy="824040"/>
          </a:xfrm>
        </p:grpSpPr>
        <p:sp>
          <p:nvSpPr>
            <p:cNvPr id="336" name=""/>
            <p:cNvSpPr/>
            <p:nvPr/>
          </p:nvSpPr>
          <p:spPr>
            <a:xfrm>
              <a:off x="6934320" y="548640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answer and results as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47712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52-56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72-5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question roo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roo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roo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lement that informs client of correct 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correc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rrect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answ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corr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lement that describes tip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e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correctTipNam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lement that describes tip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descrip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scription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correctTipDescript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ppend Element that links to TipTest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servletLink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le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rvletLink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TextNode( servletNam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ot.appendChild( servletLin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562720" y="1600200"/>
            <a:ext cx="3276360" cy="2362320"/>
            <a:chOff x="5562720" y="1600200"/>
            <a:chExt cx="3276360" cy="2362320"/>
          </a:xfrm>
        </p:grpSpPr>
        <p:sp>
          <p:nvSpPr>
            <p:cNvPr id="341" name=""/>
            <p:cNvSpPr/>
            <p:nvPr/>
          </p:nvSpPr>
          <p:spPr>
            <a:xfrm>
              <a:off x="6858000" y="22096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correct answer in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5562720" y="160020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943600" y="2514600"/>
              <a:ext cx="9144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714640" y="251460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409720" y="4876920"/>
            <a:ext cx="3429360" cy="824040"/>
            <a:chOff x="5409720" y="4876920"/>
            <a:chExt cx="3429360" cy="824040"/>
          </a:xfrm>
        </p:grpSpPr>
        <p:sp>
          <p:nvSpPr>
            <p:cNvPr id="346" name=""/>
            <p:cNvSpPr/>
            <p:nvPr/>
          </p:nvSpPr>
          <p:spPr>
            <a:xfrm>
              <a:off x="6553080" y="48769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link to servlet in XML document, so client can “reconnect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409720" y="5334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9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07-6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building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ars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s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XMLTipTest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answer to J2M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J2MEAnswer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lient tes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Reader in = request.getR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 = Integer.parseInt( in.readLine().tri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J2ME client tex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pl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form client whether client is correct or in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tch correct answer with session 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 integ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Integer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rrectAnswer = integer.in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correct tip name and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orrectTip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tring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638320" y="1676520"/>
            <a:ext cx="3277080" cy="609480"/>
            <a:chOff x="5638320" y="1676520"/>
            <a:chExt cx="3277080" cy="609480"/>
          </a:xfrm>
        </p:grpSpPr>
        <p:sp>
          <p:nvSpPr>
            <p:cNvPr id="351" name=""/>
            <p:cNvSpPr/>
            <p:nvPr/>
          </p:nvSpPr>
          <p:spPr>
            <a:xfrm>
              <a:off x="6477120" y="16765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Tip-Test answer and results for J2M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638320" y="198108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095880" y="5334120"/>
            <a:ext cx="2819520" cy="824040"/>
            <a:chOff x="6095880" y="5334120"/>
            <a:chExt cx="2819520" cy="824040"/>
          </a:xfrm>
        </p:grpSpPr>
        <p:sp>
          <p:nvSpPr>
            <p:cNvPr id="354" name=""/>
            <p:cNvSpPr/>
            <p:nvPr/>
          </p:nvSpPr>
          <p:spPr>
            <a:xfrm>
              <a:off x="6705720" y="53341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correct answer from previous 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6095880" y="54097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172200" y="571500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game logic and sends Tip Test to clients (part 19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20-6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26-6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orrectTipDescrip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tring ) session.getAttribu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whether answer is 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lection == correctAnsw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corr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ive client correct tip name and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correctTip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correctTip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J2MEAnsw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d when servlet i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tro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f connection cannot be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estro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648320" y="1981080"/>
            <a:ext cx="4038480" cy="824040"/>
            <a:chOff x="4648320" y="1981080"/>
            <a:chExt cx="4038480" cy="824040"/>
          </a:xfrm>
        </p:grpSpPr>
        <p:sp>
          <p:nvSpPr>
            <p:cNvPr id="360" name=""/>
            <p:cNvSpPr/>
            <p:nvPr/>
          </p:nvSpPr>
          <p:spPr>
            <a:xfrm>
              <a:off x="6781680" y="198108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 stream to send correct answer to J2M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648320" y="24382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190760" y="990720"/>
            <a:ext cx="4115160" cy="580680"/>
            <a:chOff x="4190760" y="990720"/>
            <a:chExt cx="4115160" cy="580680"/>
          </a:xfrm>
        </p:grpSpPr>
        <p:sp>
          <p:nvSpPr>
            <p:cNvPr id="363" name=""/>
            <p:cNvSpPr/>
            <p:nvPr/>
          </p:nvSpPr>
          <p:spPr>
            <a:xfrm>
              <a:off x="6172200" y="99072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whether user answered correct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190760" y="1295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52680" y="3733920"/>
            <a:ext cx="5410440" cy="824040"/>
            <a:chOff x="3352680" y="3733920"/>
            <a:chExt cx="5410440" cy="824040"/>
          </a:xfrm>
        </p:grpSpPr>
        <p:sp>
          <p:nvSpPr>
            <p:cNvPr id="366" name=""/>
            <p:cNvSpPr/>
            <p:nvPr/>
          </p:nvSpPr>
          <p:spPr>
            <a:xfrm>
              <a:off x="6095880" y="37339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database connection when servlet container destroy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352680" y="41911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1   Internet Explorer Reques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Explorer receives and displays X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qu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answer and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HTML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XHTML docu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7-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"1.0"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HTMLTipQuestion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HTML stylesheet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xmlns:xs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output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mit-xml-declara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ctype-system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TD/xhtml1-strict.dt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ctype-publi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template matc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s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T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!-- display imag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l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r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mag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im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hat is the name of the icon shown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52680" y="380880"/>
            <a:ext cx="5029200" cy="824040"/>
            <a:chOff x="3352680" y="380880"/>
            <a:chExt cx="5029200" cy="824040"/>
          </a:xfrm>
        </p:grpSpPr>
        <p:sp>
          <p:nvSpPr>
            <p:cNvPr id="373" name=""/>
            <p:cNvSpPr/>
            <p:nvPr/>
          </p:nvSpPr>
          <p:spPr>
            <a:xfrm>
              <a:off x="6095880" y="38088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Tip-Test question on Internet Explorer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3352680" y="8380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86040" y="4952880"/>
            <a:ext cx="3277080" cy="337320"/>
            <a:chOff x="5486040" y="4952880"/>
            <a:chExt cx="3277080" cy="337320"/>
          </a:xfrm>
        </p:grpSpPr>
        <p:sp>
          <p:nvSpPr>
            <p:cNvPr id="376" name=""/>
            <p:cNvSpPr/>
            <p:nvPr/>
          </p:nvSpPr>
          <p:spPr>
            <a:xfrm>
              <a:off x="7010280" y="495288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ip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486040" y="51055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HTML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XHTML docum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!-- create a form with four checkbox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tip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&lt;!-- build a table for the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1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2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3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171840" y="2666880"/>
            <a:ext cx="2667240" cy="3048120"/>
            <a:chOff x="6171840" y="2666880"/>
            <a:chExt cx="2667240" cy="3048120"/>
          </a:xfrm>
        </p:grpSpPr>
        <p:sp>
          <p:nvSpPr>
            <p:cNvPr id="381" name=""/>
            <p:cNvSpPr/>
            <p:nvPr/>
          </p:nvSpPr>
          <p:spPr>
            <a:xfrm>
              <a:off x="7238880" y="37339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four possible ans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400800" y="4038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6324480" y="266688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171840" y="403848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HTML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XHTML document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3-7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4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00800" y="609480"/>
            <a:ext cx="2514600" cy="580680"/>
            <a:chOff x="6400800" y="609480"/>
            <a:chExt cx="2514600" cy="580680"/>
          </a:xfrm>
        </p:grpSpPr>
        <p:sp>
          <p:nvSpPr>
            <p:cNvPr id="388" name=""/>
            <p:cNvSpPr/>
            <p:nvPr/>
          </p:nvSpPr>
          <p:spPr>
            <a:xfrm>
              <a:off x="6934320" y="6094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four possible answers (cont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00800" y="914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172200" y="2057400"/>
            <a:ext cx="2514600" cy="580680"/>
            <a:chOff x="6172200" y="2057400"/>
            <a:chExt cx="2514600" cy="580680"/>
          </a:xfrm>
        </p:grpSpPr>
        <p:sp>
          <p:nvSpPr>
            <p:cNvPr id="391" name=""/>
            <p:cNvSpPr/>
            <p:nvPr/>
          </p:nvSpPr>
          <p:spPr>
            <a:xfrm>
              <a:off x="6705720" y="20574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tton for submitting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172200" y="236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1   Internet Explorer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94" name="image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933640" cy="3078360"/>
          </a:xfrm>
          <a:prstGeom prst="rect">
            <a:avLst/>
          </a:prstGeom>
          <a:ln w="0">
            <a:noFill/>
          </a:ln>
        </p:spPr>
      </p:pic>
      <p:pic>
        <p:nvPicPr>
          <p:cNvPr id="395" name="image4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2934000" cy="3078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914480" y="4952880"/>
            <a:ext cx="51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Explorer Tip-Test question output scr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219320"/>
          <a:ext cx="807696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076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HTMLTipAnswer. 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XHTML docu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HTMLTipAnswer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HTML styleshee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TD/xhtml1-strict.dt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 xmlns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Test Answ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123720" y="304920"/>
            <a:ext cx="5334480" cy="1067400"/>
            <a:chOff x="3123720" y="304920"/>
            <a:chExt cx="5334480" cy="1067400"/>
          </a:xfrm>
        </p:grpSpPr>
        <p:sp>
          <p:nvSpPr>
            <p:cNvPr id="400" name=""/>
            <p:cNvSpPr/>
            <p:nvPr/>
          </p:nvSpPr>
          <p:spPr>
            <a:xfrm>
              <a:off x="6172200" y="30492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correct Tip-Test answer and game results on Internet Explorer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123720" y="8380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486400" y="4648320"/>
            <a:ext cx="3276720" cy="580680"/>
            <a:chOff x="5486400" y="4648320"/>
            <a:chExt cx="3276720" cy="580680"/>
          </a:xfrm>
        </p:grpSpPr>
        <p:sp>
          <p:nvSpPr>
            <p:cNvPr id="403" name=""/>
            <p:cNvSpPr/>
            <p:nvPr/>
          </p:nvSpPr>
          <p:spPr>
            <a:xfrm>
              <a:off x="6477120" y="46483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 user whether user guessed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486400" y="4952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HTMLTipAnswer. 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XHTML docum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5-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Descrip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servletNam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 Ti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333760" y="838080"/>
            <a:ext cx="3353040" cy="1828800"/>
            <a:chOff x="5333760" y="838080"/>
            <a:chExt cx="3353040" cy="1828800"/>
          </a:xfrm>
        </p:grpSpPr>
        <p:sp>
          <p:nvSpPr>
            <p:cNvPr id="408" name=""/>
            <p:cNvSpPr/>
            <p:nvPr/>
          </p:nvSpPr>
          <p:spPr>
            <a:xfrm>
              <a:off x="6400800" y="15238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correct tip name and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5410080" y="838080"/>
              <a:ext cx="990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333760" y="1828800"/>
              <a:ext cx="10666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638680" y="3352680"/>
            <a:ext cx="3200400" cy="824040"/>
            <a:chOff x="5638680" y="3352680"/>
            <a:chExt cx="3200400" cy="824040"/>
          </a:xfrm>
        </p:grpSpPr>
        <p:sp>
          <p:nvSpPr>
            <p:cNvPr id="412" name=""/>
            <p:cNvSpPr/>
            <p:nvPr/>
          </p:nvSpPr>
          <p:spPr>
            <a:xfrm>
              <a:off x="6629400" y="33526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link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user can play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638680" y="3809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1   Internet Explorer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15" name="image5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495680" cy="43131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991160" y="5410080"/>
            <a:ext cx="50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Explorer Tip-Test answer output scr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2   WAP Reques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P client receives and displays W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qu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answer and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PTipQuestion. 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WML docu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6-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APTipQuestion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AP stylesheet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apforum.org/DTD/wml_1.1.x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APFORUM//DTD WML 1.1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s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K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go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card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mg sr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mag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5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Imag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go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tip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200040" y="380880"/>
            <a:ext cx="5105880" cy="824040"/>
            <a:chOff x="3200040" y="380880"/>
            <a:chExt cx="5105880" cy="824040"/>
          </a:xfrm>
        </p:grpSpPr>
        <p:sp>
          <p:nvSpPr>
            <p:cNvPr id="422" name=""/>
            <p:cNvSpPr/>
            <p:nvPr/>
          </p:nvSpPr>
          <p:spPr>
            <a:xfrm>
              <a:off x="6095880" y="38088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Tip-Test question on WAP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200040" y="8380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952880" y="3124080"/>
            <a:ext cx="3733920" cy="580680"/>
            <a:chOff x="4952880" y="3124080"/>
            <a:chExt cx="3733920" cy="580680"/>
          </a:xfrm>
        </p:grpSpPr>
        <p:sp>
          <p:nvSpPr>
            <p:cNvPr id="425" name=""/>
            <p:cNvSpPr/>
            <p:nvPr/>
          </p:nvSpPr>
          <p:spPr>
            <a:xfrm>
              <a:off x="5943600" y="31240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displayable screen on WAP client is called a “card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4952880" y="3429000"/>
              <a:ext cx="990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00800" y="4800600"/>
            <a:ext cx="2286000" cy="337320"/>
            <a:chOff x="6400800" y="4800600"/>
            <a:chExt cx="2286000" cy="337320"/>
          </a:xfrm>
        </p:grpSpPr>
        <p:sp>
          <p:nvSpPr>
            <p:cNvPr id="428" name=""/>
            <p:cNvSpPr/>
            <p:nvPr/>
          </p:nvSpPr>
          <p:spPr>
            <a:xfrm>
              <a:off x="6934320" y="480060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ip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40080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257800" y="5486400"/>
            <a:ext cx="3352680" cy="762120"/>
            <a:chOff x="5257800" y="5486400"/>
            <a:chExt cx="3352680" cy="762120"/>
          </a:xfrm>
        </p:grpSpPr>
        <p:sp>
          <p:nvSpPr>
            <p:cNvPr id="431" name=""/>
            <p:cNvSpPr/>
            <p:nvPr/>
          </p:nvSpPr>
          <p:spPr>
            <a:xfrm>
              <a:off x="6629400" y="54864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tton for submitting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257800" y="57913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PTipQuestion. 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WML docu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8-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postfield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(question)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g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he tip shown on the previous screen is calle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select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s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i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ques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i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option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1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o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option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2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o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option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3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o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option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4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o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selec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095880" y="2971440"/>
            <a:ext cx="2590920" cy="1524240"/>
            <a:chOff x="6095880" y="2971440"/>
            <a:chExt cx="2590920" cy="1524240"/>
          </a:xfrm>
        </p:grpSpPr>
        <p:sp>
          <p:nvSpPr>
            <p:cNvPr id="436" name=""/>
            <p:cNvSpPr/>
            <p:nvPr/>
          </p:nvSpPr>
          <p:spPr>
            <a:xfrm>
              <a:off x="7086600" y="34290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four possible ans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6172200" y="350496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6095880" y="297144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172200" y="3733920"/>
              <a:ext cx="9144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172200" y="37339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2   WAP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2" name="image3" descr=""/>
          <p:cNvPicPr/>
          <p:nvPr/>
        </p:nvPicPr>
        <p:blipFill>
          <a:blip r:embed="rId1"/>
          <a:stretch/>
        </p:blipFill>
        <p:spPr>
          <a:xfrm>
            <a:off x="2549520" y="1066680"/>
            <a:ext cx="1574640" cy="4343400"/>
          </a:xfrm>
          <a:prstGeom prst="rect">
            <a:avLst/>
          </a:prstGeom>
          <a:ln w="0">
            <a:noFill/>
          </a:ln>
        </p:spPr>
      </p:pic>
      <p:pic>
        <p:nvPicPr>
          <p:cNvPr id="443" name="image5" descr=""/>
          <p:cNvPicPr/>
          <p:nvPr/>
        </p:nvPicPr>
        <p:blipFill>
          <a:blip r:embed="rId2"/>
          <a:stretch/>
        </p:blipFill>
        <p:spPr>
          <a:xfrm>
            <a:off x="4759200" y="1066680"/>
            <a:ext cx="1575000" cy="43434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839600" y="5334120"/>
            <a:ext cx="644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wave UP simulator Tip-Test question scre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mage of UP.SDK courtesy Openwave Systems Inc. Openwave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enwave logo, and UP.SDK are trademarks of Openwave Systems Inc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PTipAnswer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WML docu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2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APTipAnswer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AP stylesheet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syste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apforum.org/DTD/wml_1.1.xml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APFORUM//DTD WML 1.1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card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Test 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do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ep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lab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K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go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tip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g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d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ip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123720" y="457200"/>
            <a:ext cx="5791680" cy="824040"/>
            <a:chOff x="3123720" y="457200"/>
            <a:chExt cx="5791680" cy="824040"/>
          </a:xfrm>
        </p:grpSpPr>
        <p:sp>
          <p:nvSpPr>
            <p:cNvPr id="448" name=""/>
            <p:cNvSpPr/>
            <p:nvPr/>
          </p:nvSpPr>
          <p:spPr>
            <a:xfrm>
              <a:off x="6172200" y="4572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correct Tip-Test answer and game results on WAP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123720" y="8380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257800" y="5181480"/>
            <a:ext cx="3276720" cy="580680"/>
            <a:chOff x="5257800" y="5181480"/>
            <a:chExt cx="3276720" cy="580680"/>
          </a:xfrm>
        </p:grpSpPr>
        <p:sp>
          <p:nvSpPr>
            <p:cNvPr id="451" name=""/>
            <p:cNvSpPr/>
            <p:nvPr/>
          </p:nvSpPr>
          <p:spPr>
            <a:xfrm>
              <a:off x="6248520" y="51814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 user whether user guessed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257800" y="5486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800600" y="4114800"/>
            <a:ext cx="3657600" cy="824040"/>
            <a:chOff x="4800600" y="4114800"/>
            <a:chExt cx="3657600" cy="824040"/>
          </a:xfrm>
        </p:grpSpPr>
        <p:sp>
          <p:nvSpPr>
            <p:cNvPr id="454" name=""/>
            <p:cNvSpPr/>
            <p:nvPr/>
          </p:nvSpPr>
          <p:spPr>
            <a:xfrm>
              <a:off x="6248520" y="411480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link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user can play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800600" y="45720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PTipAnswer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WML docum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7-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ip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c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w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715000" y="685440"/>
            <a:ext cx="3124080" cy="1219680"/>
            <a:chOff x="5715000" y="685440"/>
            <a:chExt cx="3124080" cy="1219680"/>
          </a:xfrm>
        </p:grpSpPr>
        <p:sp>
          <p:nvSpPr>
            <p:cNvPr id="459" name=""/>
            <p:cNvSpPr/>
            <p:nvPr/>
          </p:nvSpPr>
          <p:spPr>
            <a:xfrm>
              <a:off x="6553080" y="9907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correct tip name and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flipV="1">
              <a:off x="5715000" y="68544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791320" y="1295280"/>
              <a:ext cx="761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2   WAP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63" name="image6" descr=""/>
          <p:cNvPicPr/>
          <p:nvPr/>
        </p:nvPicPr>
        <p:blipFill>
          <a:blip r:embed="rId1"/>
          <a:stretch/>
        </p:blipFill>
        <p:spPr>
          <a:xfrm>
            <a:off x="3733920" y="914400"/>
            <a:ext cx="1679400" cy="4629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003680" y="5638680"/>
            <a:ext cx="673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wave UP simulator Tip-Test answer screen. (Image of UP.SD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 Openwave Systems Inc. Openwave, the Openwave logo, and UP.SD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rademarks of OpenwaveSystems Inc. All rights reserve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elcome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irects client requests to static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pages are “welcome screens” for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game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3   Pixo i-mode Reques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mode client receives and displays c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qu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answer and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ODE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cHTML docu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6-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IMODETipQuestion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i-mode stylesheet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Compact HTML 1.0 Draf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s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T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!-- display imag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img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Imag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r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imag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im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hat is the name of the icon shown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352320" y="457200"/>
            <a:ext cx="5334480" cy="824040"/>
            <a:chOff x="3352320" y="457200"/>
            <a:chExt cx="5334480" cy="824040"/>
          </a:xfrm>
        </p:grpSpPr>
        <p:sp>
          <p:nvSpPr>
            <p:cNvPr id="470" name=""/>
            <p:cNvSpPr/>
            <p:nvPr/>
          </p:nvSpPr>
          <p:spPr>
            <a:xfrm>
              <a:off x="6400800" y="4572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correct Tip-Test question on i-mod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3352320" y="8380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105520" y="4952880"/>
            <a:ext cx="3429000" cy="337320"/>
            <a:chOff x="5105520" y="4952880"/>
            <a:chExt cx="3429000" cy="337320"/>
          </a:xfrm>
        </p:grpSpPr>
        <p:sp>
          <p:nvSpPr>
            <p:cNvPr id="473" name=""/>
            <p:cNvSpPr/>
            <p:nvPr/>
          </p:nvSpPr>
          <p:spPr>
            <a:xfrm>
              <a:off x="6781680" y="495288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ip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05520" y="51055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ODE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cHTML docum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6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!-- create a form with four checkboxe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tipte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&lt;!-- build a table for the op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1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2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3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6171840" y="2438280"/>
            <a:ext cx="2667240" cy="3124440"/>
            <a:chOff x="6171840" y="2438280"/>
            <a:chExt cx="2667240" cy="3124440"/>
          </a:xfrm>
        </p:grpSpPr>
        <p:sp>
          <p:nvSpPr>
            <p:cNvPr id="478" name=""/>
            <p:cNvSpPr/>
            <p:nvPr/>
          </p:nvSpPr>
          <p:spPr>
            <a:xfrm>
              <a:off x="7238880" y="35053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four possible ans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40080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>
              <a:off x="6324480" y="243828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171840" y="3809880"/>
              <a:ext cx="106668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1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ODETipQuestion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question to cHTML document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2-7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/inpu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&lt;xsl:value-of selec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ices/choice[4]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400800" y="457200"/>
            <a:ext cx="2514600" cy="580680"/>
            <a:chOff x="6400800" y="457200"/>
            <a:chExt cx="2514600" cy="580680"/>
          </a:xfrm>
        </p:grpSpPr>
        <p:sp>
          <p:nvSpPr>
            <p:cNvPr id="485" name=""/>
            <p:cNvSpPr/>
            <p:nvPr/>
          </p:nvSpPr>
          <p:spPr>
            <a:xfrm>
              <a:off x="6858000" y="4572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four possible answers (cont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6400800" y="76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095880" y="1905120"/>
            <a:ext cx="2590920" cy="580680"/>
            <a:chOff x="6095880" y="1905120"/>
            <a:chExt cx="2590920" cy="580680"/>
          </a:xfrm>
        </p:grpSpPr>
        <p:sp>
          <p:nvSpPr>
            <p:cNvPr id="488" name=""/>
            <p:cNvSpPr/>
            <p:nvPr/>
          </p:nvSpPr>
          <p:spPr>
            <a:xfrm>
              <a:off x="6705720" y="19051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tton for submitting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095880" y="22096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3   Pixo i-mode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91" name="image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2316240" cy="4084560"/>
          </a:xfrm>
          <a:prstGeom prst="rect">
            <a:avLst/>
          </a:prstGeom>
          <a:ln w="0">
            <a:noFill/>
          </a:ln>
        </p:spPr>
      </p:pic>
      <p:pic>
        <p:nvPicPr>
          <p:cNvPr id="492" name="image5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2315880" cy="40845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079280" y="5486400"/>
            <a:ext cx="68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xo i-mode browser Tip-Test question screen. (Courtesy of Pixo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ODETipAnswer 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cHTML docu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IMODETipAnswer.xs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i-mode stylesheet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ver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xmlns:xs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output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omit-xml-declara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doctype-publi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Compact HTML 1.0 Draf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xsl:template matc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sw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Test Answ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123720" y="457200"/>
            <a:ext cx="5791680" cy="824040"/>
            <a:chOff x="3123720" y="457200"/>
            <a:chExt cx="5791680" cy="824040"/>
          </a:xfrm>
        </p:grpSpPr>
        <p:sp>
          <p:nvSpPr>
            <p:cNvPr id="497" name=""/>
            <p:cNvSpPr/>
            <p:nvPr/>
          </p:nvSpPr>
          <p:spPr>
            <a:xfrm>
              <a:off x="6172200" y="4572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 sheet for displaying correct Tip-Test answer and game results on i-mod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123720" y="8380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486400" y="4419720"/>
            <a:ext cx="3276720" cy="580680"/>
            <a:chOff x="5486400" y="4419720"/>
            <a:chExt cx="3276720" cy="580680"/>
          </a:xfrm>
        </p:grpSpPr>
        <p:sp>
          <p:nvSpPr>
            <p:cNvPr id="500" name=""/>
            <p:cNvSpPr/>
            <p:nvPr/>
          </p:nvSpPr>
          <p:spPr>
            <a:xfrm>
              <a:off x="6477120" y="44197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 user whether user guessed correct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486400" y="4724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ODETipAnswer .x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s XML Tip-Test answer to cHTML docum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5-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Nam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 Descrip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xsl:value-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selec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rrectTipDescriptio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3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a href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{servletName}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 Ti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h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638320" y="3352680"/>
            <a:ext cx="3048480" cy="824040"/>
            <a:chOff x="5638320" y="3352680"/>
            <a:chExt cx="3048480" cy="824040"/>
          </a:xfrm>
        </p:grpSpPr>
        <p:sp>
          <p:nvSpPr>
            <p:cNvPr id="505" name=""/>
            <p:cNvSpPr/>
            <p:nvPr/>
          </p:nvSpPr>
          <p:spPr>
            <a:xfrm>
              <a:off x="6477120" y="33526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link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user can play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638320" y="38098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257440" y="837720"/>
            <a:ext cx="3429360" cy="1829160"/>
            <a:chOff x="5257440" y="837720"/>
            <a:chExt cx="3429360" cy="1829160"/>
          </a:xfrm>
        </p:grpSpPr>
        <p:sp>
          <p:nvSpPr>
            <p:cNvPr id="508" name=""/>
            <p:cNvSpPr/>
            <p:nvPr/>
          </p:nvSpPr>
          <p:spPr>
            <a:xfrm>
              <a:off x="6400800" y="17524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correct tip name and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5257440" y="837720"/>
              <a:ext cx="1143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638320" y="205740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3   Pixo i-mode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12" name="image6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316240" cy="40845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004040" y="5334120"/>
            <a:ext cx="676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xo i-mode browser Tip-Test answer screen. (Courtesy of Pixo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4   J2ME Client Reques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ME client receives and displays plai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p-Test question and ans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not use XML to markup question and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2ME must use proprietary packages for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, server sends data to J2ME client via byte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4   J2ME Client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17" name="image5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1539720" cy="3817800"/>
          </a:xfrm>
          <a:prstGeom prst="rect">
            <a:avLst/>
          </a:prstGeom>
          <a:ln w="0">
            <a:noFill/>
          </a:ln>
        </p:spPr>
      </p:pic>
      <p:pic>
        <p:nvPicPr>
          <p:cNvPr id="518" name="image6" descr=""/>
          <p:cNvPicPr/>
          <p:nvPr/>
        </p:nvPicPr>
        <p:blipFill>
          <a:blip r:embed="rId2"/>
          <a:stretch/>
        </p:blipFill>
        <p:spPr>
          <a:xfrm>
            <a:off x="4876920" y="1143000"/>
            <a:ext cx="1539720" cy="38178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776880" y="5334120"/>
            <a:ext cx="729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2ME client Tip-Test question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an introductory screen that provides game directions to a cli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lcome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ivers appropriate "Welcome" screen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wirel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d to get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serAgent = request.ge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-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welcome screen to appropriat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ientUserAgentHeaders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I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ndIEClientResponse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WA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WAPClientResponse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-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I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IModeClientResponse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124080" y="457200"/>
            <a:ext cx="5257800" cy="1828800"/>
            <a:chOff x="3124080" y="457200"/>
            <a:chExt cx="5257800" cy="1828800"/>
          </a:xfrm>
        </p:grpSpPr>
        <p:sp>
          <p:nvSpPr>
            <p:cNvPr id="102" name=""/>
            <p:cNvSpPr/>
            <p:nvPr/>
          </p:nvSpPr>
          <p:spPr>
            <a:xfrm flipH="1">
              <a:off x="3124080" y="1295280"/>
              <a:ext cx="3748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4572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lcome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directs client requests to static pages that display game instr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486040" y="2590920"/>
            <a:ext cx="3124440" cy="580680"/>
            <a:chOff x="5486040" y="2590920"/>
            <a:chExt cx="3124440" cy="580680"/>
          </a:xfrm>
        </p:grpSpPr>
        <p:sp>
          <p:nvSpPr>
            <p:cNvPr id="105" name=""/>
            <p:cNvSpPr/>
            <p:nvPr/>
          </p:nvSpPr>
          <p:spPr>
            <a:xfrm>
              <a:off x="6629400" y="25909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ndl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486040" y="2895480"/>
              <a:ext cx="11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095520" y="3352680"/>
            <a:ext cx="2819880" cy="824040"/>
            <a:chOff x="6095520" y="3352680"/>
            <a:chExt cx="2819880" cy="824040"/>
          </a:xfrm>
        </p:grpSpPr>
        <p:sp>
          <p:nvSpPr>
            <p:cNvPr id="108" name=""/>
            <p:cNvSpPr/>
            <p:nvPr/>
          </p:nvSpPr>
          <p:spPr>
            <a:xfrm flipH="1">
              <a:off x="6095520" y="380988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00800" y="33526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 helps to determine which client type s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105160" y="4572000"/>
            <a:ext cx="3657960" cy="1447920"/>
            <a:chOff x="5105160" y="4572000"/>
            <a:chExt cx="3657960" cy="1447920"/>
          </a:xfrm>
        </p:grpSpPr>
        <p:sp>
          <p:nvSpPr>
            <p:cNvPr id="111" name=""/>
            <p:cNvSpPr/>
            <p:nvPr/>
          </p:nvSpPr>
          <p:spPr>
            <a:xfrm flipH="1" flipV="1">
              <a:off x="5333760" y="4723920"/>
              <a:ext cx="92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45720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“welcome screen” to the client determined b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105160" y="495288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334120" y="4952880"/>
              <a:ext cx="9144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4   J2ME Client Reques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21" name="image7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1539720" cy="3817800"/>
          </a:xfrm>
          <a:prstGeom prst="rect">
            <a:avLst/>
          </a:prstGeom>
          <a:ln w="0">
            <a:noFill/>
          </a:ln>
        </p:spPr>
      </p:pic>
      <p:pic>
        <p:nvPicPr>
          <p:cNvPr id="522" name="image8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1540080" cy="38178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53920" y="5562720"/>
            <a:ext cx="71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2ME client Tip-Test answer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   Java 2 Micro Ed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tform for writing applications for consumer de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these devices have limite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LD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ID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wri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IDl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ed Limited Device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Information Devic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Connected Limited Device Configuration (CLD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Limited Device Configuration (CLD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AP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lps to create programs for devices with limited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VM – runs J2ME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packages that have subsets of JSE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  Connected Limited Device Configuration (CLDC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2   Mobile Information Device Profile (MIDP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Information Device Profile (MI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AP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s mobile-device specific 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user-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ting local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ng lifecycles of MIDP client application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Dl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packag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microedition.lcd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microedition.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microedition.mid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let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2   Mobile Information Device Profile (MIDP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39720" y="1554120"/>
          <a:ext cx="8031240" cy="37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554120"/>
                    <a:ext cx="8031240" cy="37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2   Mobile Information Device Profile (MIDP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838080" y="1143000"/>
          <a:ext cx="746784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4678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2   Mobile Information Device Profile (MIDP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bile Information Devic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IDlet su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s o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IDP de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P device ru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pplication management softw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S runs the MIDlet from MIDlet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pplication descriptor 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ten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MIDle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le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extend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D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microedition.mid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let life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A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useA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stroyA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an introductory screen that provides game directions to a cli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2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Agent.indexOf(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2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ientUserAgentHeaders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J2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ndJ2MEClientResponse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o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welcome screen to I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IEClientRespons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,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XHTML/index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welcome screen to Nokia WAP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WAPClientRespons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,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vnd.wap.w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WAP/index.w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welcome screen to i-mod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IModeClientRespons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,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iMode/index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343040" y="2286000"/>
            <a:ext cx="4572360" cy="3200400"/>
            <a:chOff x="4343040" y="2286000"/>
            <a:chExt cx="4572360" cy="3200400"/>
          </a:xfrm>
        </p:grpSpPr>
        <p:sp>
          <p:nvSpPr>
            <p:cNvPr id="118" name=""/>
            <p:cNvSpPr/>
            <p:nvPr/>
          </p:nvSpPr>
          <p:spPr>
            <a:xfrm>
              <a:off x="6019920" y="22860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mer-defined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ir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directs the client request to a static Web p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343040" y="2514240"/>
              <a:ext cx="1676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571640" y="2743200"/>
              <a:ext cx="1461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48320" y="2743200"/>
              <a:ext cx="13716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let used in case stu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-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-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pTestMID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s TipTest from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wirel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2ME Java package sub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2M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icroedition.mid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icroedition.lcdui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icroedition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pTestMID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 display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creens displayed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main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welcome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 info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 tip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 answer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 for soft-butt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 selectComma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 nextComma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 backComma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rvletBaseUR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localhost:8080/advjhtp1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welcomeServle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lcome servlet determines tip test servle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ipTestServle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3885840" y="1905120"/>
            <a:ext cx="4038840" cy="337320"/>
            <a:chOff x="3885840" y="1905120"/>
            <a:chExt cx="4038840" cy="337320"/>
          </a:xfrm>
        </p:grpSpPr>
        <p:sp>
          <p:nvSpPr>
            <p:cNvPr id="551" name=""/>
            <p:cNvSpPr/>
            <p:nvPr/>
          </p:nvSpPr>
          <p:spPr>
            <a:xfrm>
              <a:off x="6400800" y="190512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DP pack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885840" y="205740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209320" y="1143000"/>
            <a:ext cx="5334480" cy="337320"/>
            <a:chOff x="2209320" y="1143000"/>
            <a:chExt cx="5334480" cy="337320"/>
          </a:xfrm>
        </p:grpSpPr>
        <p:sp>
          <p:nvSpPr>
            <p:cNvPr id="554" name=""/>
            <p:cNvSpPr/>
            <p:nvPr/>
          </p:nvSpPr>
          <p:spPr>
            <a:xfrm>
              <a:off x="5791320" y="114300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DC pack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209320" y="12952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572000" y="2590920"/>
            <a:ext cx="4267080" cy="824040"/>
            <a:chOff x="4572000" y="2590920"/>
            <a:chExt cx="4267080" cy="824040"/>
          </a:xfrm>
        </p:grpSpPr>
        <p:sp>
          <p:nvSpPr>
            <p:cNvPr id="557" name=""/>
            <p:cNvSpPr/>
            <p:nvPr/>
          </p:nvSpPr>
          <p:spPr>
            <a:xfrm>
              <a:off x="6400800" y="25909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MIDlets must extend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D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must have o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952880" y="29718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4572000" y="259092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428640" y="3581280"/>
            <a:ext cx="4420080" cy="580680"/>
            <a:chOff x="3428640" y="3581280"/>
            <a:chExt cx="4420080" cy="580680"/>
          </a:xfrm>
        </p:grpSpPr>
        <p:sp>
          <p:nvSpPr>
            <p:cNvPr id="561" name=""/>
            <p:cNvSpPr/>
            <p:nvPr/>
          </p:nvSpPr>
          <p:spPr>
            <a:xfrm>
              <a:off x="5562720" y="35812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es used to display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3428640" y="38862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657240" y="4495680"/>
            <a:ext cx="4343760" cy="824040"/>
            <a:chOff x="3657240" y="4495680"/>
            <a:chExt cx="4343760" cy="824040"/>
          </a:xfrm>
        </p:grpSpPr>
        <p:sp>
          <p:nvSpPr>
            <p:cNvPr id="564" name=""/>
            <p:cNvSpPr/>
            <p:nvPr/>
          </p:nvSpPr>
          <p:spPr>
            <a:xfrm>
              <a:off x="5791320" y="44956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st used for requesting MIDlet actions (via soft butt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657240" y="49528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9-6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welcomeServletURL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letBaseURL + welcomeServle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ession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initializes display and mai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pTestMIDle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oft button comma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Comma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xtComma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xt Ti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Comma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ain screen allowing welcome servlet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in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TestMIDl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MPLIC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inScreen.addCommand( select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soft button access for main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inScreen.setCommand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user presses sof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mmand command, Displayable displayab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data from welcome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data = getServerData( welcomeServlet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reate welcome Screen using servle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play.setCurrent( createWelcomeScreen( dat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047760" y="1371600"/>
            <a:ext cx="5410440" cy="580680"/>
            <a:chOff x="3047760" y="1371600"/>
            <a:chExt cx="5410440" cy="580680"/>
          </a:xfrm>
        </p:grpSpPr>
        <p:sp>
          <p:nvSpPr>
            <p:cNvPr id="569" name=""/>
            <p:cNvSpPr/>
            <p:nvPr/>
          </p:nvSpPr>
          <p:spPr>
            <a:xfrm>
              <a:off x="6324480" y="13716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m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D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047760" y="167652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324480" y="2590920"/>
            <a:ext cx="2667240" cy="1067400"/>
            <a:chOff x="6324480" y="2590920"/>
            <a:chExt cx="2667240" cy="1067400"/>
          </a:xfrm>
        </p:grpSpPr>
        <p:sp>
          <p:nvSpPr>
            <p:cNvPr id="572" name=""/>
            <p:cNvSpPr/>
            <p:nvPr/>
          </p:nvSpPr>
          <p:spPr>
            <a:xfrm>
              <a:off x="6781680" y="2590920"/>
              <a:ext cx="2210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m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enables the user to select which servlet to invok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32448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190760" y="4038480"/>
            <a:ext cx="4648320" cy="1067400"/>
            <a:chOff x="4190760" y="4038480"/>
            <a:chExt cx="4648320" cy="1067400"/>
          </a:xfrm>
        </p:grpSpPr>
        <p:sp>
          <p:nvSpPr>
            <p:cNvPr id="575" name=""/>
            <p:cNvSpPr/>
            <p:nvPr/>
          </p:nvSpPr>
          <p:spPr>
            <a:xfrm>
              <a:off x="6248520" y="4038480"/>
              <a:ext cx="2590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m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nex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presses a soft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4190760" y="45720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5-8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ppropriate Display for dev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 = Display.getDispl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pTestMIDle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MID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App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isplay to mai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.setCurrent( mainScree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use MID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useApp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troy MID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troyAp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conditional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"welcome" Screen introducing tip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reen createWelcomeScreen( String 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ist[] = parseData( dat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creen welcoming user to tip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Lis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MPLIC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Screen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ake Tip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Screen.addCommand( select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Screen.addCommand( back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RL of information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.toCharArra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648320" y="380880"/>
            <a:ext cx="4190760" cy="824040"/>
            <a:chOff x="4648320" y="380880"/>
            <a:chExt cx="4190760" cy="824040"/>
          </a:xfrm>
        </p:grpSpPr>
        <p:sp>
          <p:nvSpPr>
            <p:cNvPr id="580" name=""/>
            <p:cNvSpPr/>
            <p:nvPr/>
          </p:nvSpPr>
          <p:spPr>
            <a:xfrm>
              <a:off x="6477120" y="3808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one insta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exist (Singleton design patter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4648320" y="7621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267080" y="1828800"/>
            <a:ext cx="4572000" cy="580680"/>
            <a:chOff x="4267080" y="1828800"/>
            <a:chExt cx="4572000" cy="580680"/>
          </a:xfrm>
        </p:grpSpPr>
        <p:sp>
          <p:nvSpPr>
            <p:cNvPr id="583" name=""/>
            <p:cNvSpPr/>
            <p:nvPr/>
          </p:nvSpPr>
          <p:spPr>
            <a:xfrm>
              <a:off x="6095880" y="18288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A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m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4267080" y="21337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200040" y="2514600"/>
            <a:ext cx="5715360" cy="914400"/>
            <a:chOff x="3200040" y="2514600"/>
            <a:chExt cx="5715360" cy="914400"/>
          </a:xfrm>
        </p:grpSpPr>
        <p:sp>
          <p:nvSpPr>
            <p:cNvPr id="586" name=""/>
            <p:cNvSpPr/>
            <p:nvPr/>
          </p:nvSpPr>
          <p:spPr>
            <a:xfrm>
              <a:off x="6172200" y="25146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useA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stroyA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o not need to be overridden for this MID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200040" y="28954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486040" y="28954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257440" y="3505320"/>
            <a:ext cx="3734280" cy="1310760"/>
            <a:chOff x="5257440" y="3505320"/>
            <a:chExt cx="3734280" cy="1310760"/>
          </a:xfrm>
        </p:grpSpPr>
        <p:sp>
          <p:nvSpPr>
            <p:cNvPr id="590" name=""/>
            <p:cNvSpPr/>
            <p:nvPr/>
          </p:nvSpPr>
          <p:spPr>
            <a:xfrm>
              <a:off x="6324480" y="35053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“welcome screen”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the user can select which game to play (of course, in this MIDlet, there is only one game to choo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5257440" y="4114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0-1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4-1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soft button access for welcome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Screen.setCommand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user presses sof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mmand command, Displayable displayab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oft button pressed is SELEC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mmand.getCommandType() ==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data from static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 data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getServerData( servletBaseURL +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thi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play.setCurr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createInformationScreen( dat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oft button pressed is BAC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mmand.getCommandType() =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play.setCurrent( mainScree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mma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Welcome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5486040" y="152280"/>
            <a:ext cx="3277080" cy="1143000"/>
            <a:chOff x="5486040" y="152280"/>
            <a:chExt cx="3277080" cy="1143000"/>
          </a:xfrm>
        </p:grpSpPr>
        <p:sp>
          <p:nvSpPr>
            <p:cNvPr id="595" name=""/>
            <p:cNvSpPr/>
            <p:nvPr/>
          </p:nvSpPr>
          <p:spPr>
            <a:xfrm flipH="1">
              <a:off x="5486040" y="6858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172200" y="15228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welco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game instructions when the user presses a soft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647960" y="2133360"/>
            <a:ext cx="4343760" cy="1905120"/>
            <a:chOff x="4647960" y="2133360"/>
            <a:chExt cx="4343760" cy="1905120"/>
          </a:xfrm>
        </p:grpSpPr>
        <p:sp>
          <p:nvSpPr>
            <p:cNvPr id="598" name=""/>
            <p:cNvSpPr/>
            <p:nvPr/>
          </p:nvSpPr>
          <p:spPr>
            <a:xfrm>
              <a:off x="6248520" y="220968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Command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soft button pressed, which is used to determine the requested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5486040" y="274320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4647960" y="2133360"/>
              <a:ext cx="1600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3-15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8-1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creen showing servlets to which client can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reen createInformationScreen( String 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ist[] = parseData( dat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rm showing available servl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form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ingItem that provides dire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Item infoTit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Item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.append( info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oiceGroup allowing user to select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Group choic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Gro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oiceGroup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EXCLUS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oices.append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ChoiceGroup to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.append( choic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.addCommand( select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.addCommand( back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soft button access for thi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foScreen.setCommand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user presses sof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mmand command, Displayable displayab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oft button pressed is SELEC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mmand.getCommandType() ==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O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800600" y="380880"/>
            <a:ext cx="4114800" cy="1067400"/>
            <a:chOff x="4800600" y="380880"/>
            <a:chExt cx="4114800" cy="1067400"/>
          </a:xfrm>
        </p:grpSpPr>
        <p:sp>
          <p:nvSpPr>
            <p:cNvPr id="604" name=""/>
            <p:cNvSpPr/>
            <p:nvPr/>
          </p:nvSpPr>
          <p:spPr>
            <a:xfrm>
              <a:off x="6705720" y="380880"/>
              <a:ext cx="2209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“information screen”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oice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800600" y="91440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248520" y="2133720"/>
            <a:ext cx="2743200" cy="824040"/>
            <a:chOff x="6248520" y="2133720"/>
            <a:chExt cx="2743200" cy="824040"/>
          </a:xfrm>
        </p:grpSpPr>
        <p:sp>
          <p:nvSpPr>
            <p:cNvPr id="607" name=""/>
            <p:cNvSpPr/>
            <p:nvPr/>
          </p:nvSpPr>
          <p:spPr>
            <a:xfrm>
              <a:off x="6705720" y="21337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ains game instr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248520" y="21337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334120" y="2819160"/>
            <a:ext cx="3581280" cy="1357560"/>
            <a:chOff x="5334120" y="2819160"/>
            <a:chExt cx="3581280" cy="1357560"/>
          </a:xfrm>
        </p:grpSpPr>
        <p:sp>
          <p:nvSpPr>
            <p:cNvPr id="610" name=""/>
            <p:cNvSpPr/>
            <p:nvPr/>
          </p:nvSpPr>
          <p:spPr>
            <a:xfrm>
              <a:off x="6553080" y="33526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oice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similar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except it may be embedded 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5334120" y="2819160"/>
              <a:ext cx="1218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333760" y="4419720"/>
            <a:ext cx="3581640" cy="1310760"/>
            <a:chOff x="5333760" y="4419720"/>
            <a:chExt cx="3581640" cy="1310760"/>
          </a:xfrm>
        </p:grpSpPr>
        <p:sp>
          <p:nvSpPr>
            <p:cNvPr id="613" name=""/>
            <p:cNvSpPr/>
            <p:nvPr/>
          </p:nvSpPr>
          <p:spPr>
            <a:xfrm flipH="1">
              <a:off x="5333760" y="510552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24480" y="441972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informa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ma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presses a soft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85-186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user chooses which servlet to conn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edIndex = choices.getSelectedInde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ipTestServlet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choices.getString( selected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onnect to servlet and receiv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 data = getServerData( servletBaseURL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ipTestServle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next Screen according to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play.setCurrent( createTipTestScree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ervletBaseURL + dat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oft button pressed is BAC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mmand.getCommandType() == Comman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display.setCurrent( welcomeScree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omman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fo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Information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creen to display Tip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reen createTipTestScreen( String 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se serv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ist[] = parseData( dat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5029200" y="2514600"/>
            <a:ext cx="3809880" cy="3048120"/>
            <a:chOff x="5029200" y="2514600"/>
            <a:chExt cx="3809880" cy="3048120"/>
          </a:xfrm>
        </p:grpSpPr>
        <p:sp>
          <p:nvSpPr>
            <p:cNvPr id="618" name=""/>
            <p:cNvSpPr/>
            <p:nvPr/>
          </p:nvSpPr>
          <p:spPr>
            <a:xfrm flipH="1" flipV="1">
              <a:off x="5029200" y="2514600"/>
              <a:ext cx="12952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24480" y="3200400"/>
              <a:ext cx="25146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ll send Tip-Test question when the user presses a soft button;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-TipTest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plays this ques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5333760" y="3962520"/>
              <a:ext cx="9903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8-2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4-2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rm to display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p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mage from serv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serverImage = getServerImage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image to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rverImag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pScreen.append( server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hoiceList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list for ChoiceGroup from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hoiceList.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oiceList[ i ] = list[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oiceGroup allowing user to input 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Group choic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Gro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oice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CLUS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hoiceLi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ChoiceGroup to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pScreen.append( choic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pScreen.addCommand( select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soft button access for thi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pScreen.setCommand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user presses sof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mmand command, Displayable displayab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nd user selection to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 = choices.getSelectedInde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419360" y="380880"/>
            <a:ext cx="4343760" cy="1067400"/>
            <a:chOff x="4419360" y="380880"/>
            <a:chExt cx="4343760" cy="1067400"/>
          </a:xfrm>
        </p:grpSpPr>
        <p:sp>
          <p:nvSpPr>
            <p:cNvPr id="624" name=""/>
            <p:cNvSpPr/>
            <p:nvPr/>
          </p:nvSpPr>
          <p:spPr>
            <a:xfrm>
              <a:off x="6781680" y="380880"/>
              <a:ext cx="1981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“question screen”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oice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4419360" y="609120"/>
              <a:ext cx="2361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562360" y="1218960"/>
            <a:ext cx="3276720" cy="870840"/>
            <a:chOff x="5562360" y="1218960"/>
            <a:chExt cx="3276720" cy="870840"/>
          </a:xfrm>
        </p:grpSpPr>
        <p:sp>
          <p:nvSpPr>
            <p:cNvPr id="627" name=""/>
            <p:cNvSpPr/>
            <p:nvPr/>
          </p:nvSpPr>
          <p:spPr>
            <a:xfrm>
              <a:off x="7010280" y="17524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ip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5562360" y="12189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724280" y="2209680"/>
            <a:ext cx="4191120" cy="809280"/>
            <a:chOff x="4724280" y="2209680"/>
            <a:chExt cx="4191120" cy="809280"/>
          </a:xfrm>
        </p:grpSpPr>
        <p:sp>
          <p:nvSpPr>
            <p:cNvPr id="630" name=""/>
            <p:cNvSpPr/>
            <p:nvPr/>
          </p:nvSpPr>
          <p:spPr>
            <a:xfrm>
              <a:off x="6172200" y="24382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oice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tain four possible ans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4724280" y="22096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334120" y="2743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809520" y="4724280"/>
            <a:ext cx="5105880" cy="1067400"/>
            <a:chOff x="3809520" y="4724280"/>
            <a:chExt cx="5105880" cy="1067400"/>
          </a:xfrm>
        </p:grpSpPr>
        <p:sp>
          <p:nvSpPr>
            <p:cNvPr id="634" name=""/>
            <p:cNvSpPr/>
            <p:nvPr/>
          </p:nvSpPr>
          <p:spPr>
            <a:xfrm flipH="1">
              <a:off x="3809520" y="52578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86400" y="4724280"/>
              <a:ext cx="3429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ip-Test ques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client to send answ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presses a soft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68-27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result = postData( sel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play.setCurr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reateAnswerScreen( resul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p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TipTest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creen to display Tip Test answer and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reen createAnswerScreen( String 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se serv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ist[] = parseData( dat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Form to display test answ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swer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rm(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ingItem showing tip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Item tipNameI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p Nam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ingItem showing tip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Item tipDescriptionI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ip Descrip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is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end StringItems to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swerScreen.append( tipName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swerScreen.append( tipDescription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648320" y="3962520"/>
            <a:ext cx="4114800" cy="824040"/>
            <a:chOff x="4648320" y="3962520"/>
            <a:chExt cx="4114800" cy="824040"/>
          </a:xfrm>
        </p:grpSpPr>
        <p:sp>
          <p:nvSpPr>
            <p:cNvPr id="639" name=""/>
            <p:cNvSpPr/>
            <p:nvPr/>
          </p:nvSpPr>
          <p:spPr>
            <a:xfrm>
              <a:off x="6324480" y="3962520"/>
              <a:ext cx="2438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“answer screen”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tain multi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4648320" y="44197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486400" y="5105520"/>
            <a:ext cx="3276720" cy="609480"/>
            <a:chOff x="5486400" y="5105520"/>
            <a:chExt cx="3276720" cy="609480"/>
          </a:xfrm>
        </p:grpSpPr>
        <p:sp>
          <p:nvSpPr>
            <p:cNvPr id="642" name=""/>
            <p:cNvSpPr/>
            <p:nvPr/>
          </p:nvSpPr>
          <p:spPr>
            <a:xfrm>
              <a:off x="6781680" y="510552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correct tip name and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5486400" y="51811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71840" y="5410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9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82-28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swerScreen.addCommand( nextComma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soft button access for thi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swerScreen.setCommand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user presses sof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andAc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mmand command, Displayable displayab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next ques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data = getServerData( servletBaseURL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ipTestServle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play next ques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isplay.setCurrent( createTipTestScree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rvletBaseURL + dat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Answer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s user's test selection to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ostData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erver, then pos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190760" y="380880"/>
            <a:ext cx="4724640" cy="1310760"/>
            <a:chOff x="4190760" y="380880"/>
            <a:chExt cx="4724640" cy="1310760"/>
          </a:xfrm>
        </p:grpSpPr>
        <p:sp>
          <p:nvSpPr>
            <p:cNvPr id="648" name=""/>
            <p:cNvSpPr/>
            <p:nvPr/>
          </p:nvSpPr>
          <p:spPr>
            <a:xfrm flipH="1">
              <a:off x="4190760" y="1066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91320" y="380880"/>
              <a:ext cx="3124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ip-Test answ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mand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client to receive another Tip-Test question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presses a soft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647960" y="5181480"/>
            <a:ext cx="3962520" cy="580680"/>
            <a:chOff x="4647960" y="5181480"/>
            <a:chExt cx="3962520" cy="580680"/>
          </a:xfrm>
        </p:grpSpPr>
        <p:sp>
          <p:nvSpPr>
            <p:cNvPr id="651" name=""/>
            <p:cNvSpPr/>
            <p:nvPr/>
          </p:nvSpPr>
          <p:spPr>
            <a:xfrm flipH="1">
              <a:off x="4647960" y="54864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15000" y="51814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sends user’s answ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an introductory screen that provides game directions to a client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8-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welcome screen to J2M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dJ2MEClientRespons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J2ME client tex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pla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file to send J2M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Reader bufferedRea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Re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text().getRealPath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2me/index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nputString = bufferedReader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each line in file to J2M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String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input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String = bufferedReader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ne sending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ndJ2MEClient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directs client request to another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irect( String contentType, String redirectPag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quest request,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,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952520" y="1143000"/>
            <a:ext cx="3810600" cy="580680"/>
            <a:chOff x="4952520" y="1143000"/>
            <a:chExt cx="3810600" cy="580680"/>
          </a:xfrm>
        </p:grpSpPr>
        <p:sp>
          <p:nvSpPr>
            <p:cNvPr id="125" name=""/>
            <p:cNvSpPr/>
            <p:nvPr/>
          </p:nvSpPr>
          <p:spPr>
            <a:xfrm>
              <a:off x="6553080" y="11430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2ME client receives ASCII text from 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9525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724280" y="2590560"/>
            <a:ext cx="4191120" cy="1219320"/>
            <a:chOff x="4724280" y="2590560"/>
            <a:chExt cx="4191120" cy="1219320"/>
          </a:xfrm>
        </p:grpSpPr>
        <p:sp>
          <p:nvSpPr>
            <p:cNvPr id="128" name=""/>
            <p:cNvSpPr/>
            <p:nvPr/>
          </p:nvSpPr>
          <p:spPr>
            <a:xfrm>
              <a:off x="6095880" y="27432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welcome screen from file into byte stream, then send byte stream to J2M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724280" y="259056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876920" y="3124080"/>
              <a:ext cx="1218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562360" y="3124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0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3-3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20-3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25-3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nect to server sending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 http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HttpConnection ) Connector.ope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rvletBaseURL + tipTestServlet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nnect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AD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UserAgentHeader( httpConn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sessionID, if one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ID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ttpConnection.setRequestProper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ession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form servlet of post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.setRequestMethod( HttpConne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pen output stream to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OutputStream ou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ttpConnection.openDataOutputStre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sel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writeUTF( Integer.toString( select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flus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sult from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ta = getData( httpConn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.clos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5334120" y="609480"/>
            <a:ext cx="3200400" cy="580680"/>
            <a:chOff x="5334120" y="609480"/>
            <a:chExt cx="3200400" cy="580680"/>
          </a:xfrm>
        </p:grpSpPr>
        <p:sp>
          <p:nvSpPr>
            <p:cNvPr id="656" name=""/>
            <p:cNvSpPr/>
            <p:nvPr/>
          </p:nvSpPr>
          <p:spPr>
            <a:xfrm flipH="1">
              <a:off x="5334120" y="91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53080" y="6094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connection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952520" y="1752480"/>
            <a:ext cx="3657960" cy="824040"/>
            <a:chOff x="4952520" y="1752480"/>
            <a:chExt cx="3657960" cy="824040"/>
          </a:xfrm>
        </p:grpSpPr>
        <p:sp>
          <p:nvSpPr>
            <p:cNvPr id="659" name=""/>
            <p:cNvSpPr/>
            <p:nvPr/>
          </p:nvSpPr>
          <p:spPr>
            <a:xfrm flipH="1">
              <a:off x="4952520" y="2209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72200" y="1752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session identification, 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“identify” the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333760" y="3047760"/>
            <a:ext cx="3353040" cy="1067040"/>
            <a:chOff x="5333760" y="3047760"/>
            <a:chExt cx="3353040" cy="1067040"/>
          </a:xfrm>
        </p:grpSpPr>
        <p:sp>
          <p:nvSpPr>
            <p:cNvPr id="662" name=""/>
            <p:cNvSpPr/>
            <p:nvPr/>
          </p:nvSpPr>
          <p:spPr>
            <a:xfrm flipH="1">
              <a:off x="5333760" y="3581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00800" y="32004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, then send the answ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pTest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638320" y="358128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5562720" y="3047760"/>
              <a:ext cx="8380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f MIDlet cannot open HTTP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ost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 tokenizer parses String into sub-string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parseData( String dat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imit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Lin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number of delimiter characters in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data.length()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crease number of delimiters by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.charAt( i ) == delimit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Lines++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String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ist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 newLines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NewLineInde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NewLineInd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Strings into array based on demil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newLines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rmine index where delimiter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NewLineIndex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ata.indexOf( delimiter, oldNewLine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715000" y="838080"/>
            <a:ext cx="2666880" cy="1219320"/>
            <a:chOff x="5715000" y="838080"/>
            <a:chExt cx="2666880" cy="1219320"/>
          </a:xfrm>
        </p:grpSpPr>
        <p:sp>
          <p:nvSpPr>
            <p:cNvPr id="669" name=""/>
            <p:cNvSpPr/>
            <p:nvPr/>
          </p:nvSpPr>
          <p:spPr>
            <a:xfrm flipH="1">
              <a:off x="6095520" y="1676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15000" y="838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par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nt by a servlet into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9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96-39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01-4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xtract String within delimiter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[ i ] = data.substring( oldNewLineIndex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NewLineIndex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ldNewLineIndex = currentNewLineIndex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rse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nect to server and receiv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erverData( String serverUr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server, then ge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nect to server sending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 http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( HttpConnection ) Connector.open( server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UserAgentHeader( httpConn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sessionID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ID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ttpConnection.setRequestProper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ession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essionID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sessionIDHeaderFiel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ttpConnection.getHeader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5334120" y="2209680"/>
            <a:ext cx="3352680" cy="824040"/>
            <a:chOff x="5334120" y="2209680"/>
            <a:chExt cx="3352680" cy="824040"/>
          </a:xfrm>
        </p:grpSpPr>
        <p:sp>
          <p:nvSpPr>
            <p:cNvPr id="674" name=""/>
            <p:cNvSpPr/>
            <p:nvPr/>
          </p:nvSpPr>
          <p:spPr>
            <a:xfrm flipH="1">
              <a:off x="53341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72200" y="22096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receives data (in the form of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from a 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019560" y="3581280"/>
            <a:ext cx="2286360" cy="580680"/>
            <a:chOff x="6019560" y="3581280"/>
            <a:chExt cx="2286360" cy="580680"/>
          </a:xfrm>
        </p:grpSpPr>
        <p:sp>
          <p:nvSpPr>
            <p:cNvPr id="677" name=""/>
            <p:cNvSpPr/>
            <p:nvPr/>
          </p:nvSpPr>
          <p:spPr>
            <a:xfrm flipH="1">
              <a:off x="601956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05720" y="35812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connection to serv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876920" y="4724280"/>
            <a:ext cx="3886200" cy="580680"/>
            <a:chOff x="4876920" y="4724280"/>
            <a:chExt cx="3886200" cy="580680"/>
          </a:xfrm>
        </p:grpSpPr>
        <p:sp>
          <p:nvSpPr>
            <p:cNvPr id="680" name=""/>
            <p:cNvSpPr/>
            <p:nvPr/>
          </p:nvSpPr>
          <p:spPr>
            <a:xfrm flipH="1" flipV="1">
              <a:off x="4876920" y="48002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91320" y="4724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session identification, so servlet can “identify” the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3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41-44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tore sessionID from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IDHeaderField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= sessionIDHeaderField.index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I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ssionIDHeaderField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ceive serv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data = getData( httpConn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.clos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HTTP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Server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ownloads an image from a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 getServerImage( String imageUr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wnload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pen connection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 httpConnec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( HttpConnection ) Connector.open( image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3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181480" y="1523880"/>
            <a:ext cx="2895840" cy="580680"/>
            <a:chOff x="5181480" y="1523880"/>
            <a:chExt cx="2895840" cy="580680"/>
          </a:xfrm>
        </p:grpSpPr>
        <p:sp>
          <p:nvSpPr>
            <p:cNvPr id="685" name=""/>
            <p:cNvSpPr/>
            <p:nvPr/>
          </p:nvSpPr>
          <p:spPr>
            <a:xfrm flipH="1">
              <a:off x="5181480" y="1828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95880" y="15238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data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257800" y="4800600"/>
            <a:ext cx="3352680" cy="580680"/>
            <a:chOff x="5257800" y="4800600"/>
            <a:chExt cx="3352680" cy="580680"/>
          </a:xfrm>
        </p:grpSpPr>
        <p:sp>
          <p:nvSpPr>
            <p:cNvPr id="688" name=""/>
            <p:cNvSpPr/>
            <p:nvPr/>
          </p:nvSpPr>
          <p:spPr>
            <a:xfrm flipH="1">
              <a:off x="5257800" y="5105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5880" y="48006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receiv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a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715000" y="5791320"/>
            <a:ext cx="2971800" cy="457200"/>
            <a:chOff x="5715000" y="5791320"/>
            <a:chExt cx="2971800" cy="457200"/>
          </a:xfrm>
        </p:grpSpPr>
        <p:sp>
          <p:nvSpPr>
            <p:cNvPr id="691" name=""/>
            <p:cNvSpPr/>
            <p:nvPr/>
          </p:nvSpPr>
          <p:spPr>
            <a:xfrm flipH="1">
              <a:off x="5715000" y="59436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48520" y="579132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connection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44-4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66-46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3-4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Siz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httpConnection.getLeng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Bytes[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connection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image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Stream input = httpConnection.openInputStrea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.read( imageByt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image from imageBy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.createImage( imageByt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nnection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InputStream cannot input by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Server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ser-Agent header to identify client to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rAgentHe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Connection httpConne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ser-Agen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profile/configuration properties for User-Ag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serAgentHead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fil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get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croedition.profil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onfigur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get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croedition.configur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885840" y="609120"/>
            <a:ext cx="4800960" cy="1053000"/>
            <a:chOff x="3885840" y="609120"/>
            <a:chExt cx="4800960" cy="1053000"/>
          </a:xfrm>
        </p:grpSpPr>
        <p:sp>
          <p:nvSpPr>
            <p:cNvPr id="696" name=""/>
            <p:cNvSpPr/>
            <p:nvPr/>
          </p:nvSpPr>
          <p:spPr>
            <a:xfrm flipH="1">
              <a:off x="3885840" y="12952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81680" y="83808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data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Connection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ream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867280" y="60912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6400440" y="2133720"/>
            <a:ext cx="2438640" cy="580680"/>
            <a:chOff x="6400440" y="2133720"/>
            <a:chExt cx="2438640" cy="580680"/>
          </a:xfrm>
        </p:grpSpPr>
        <p:sp>
          <p:nvSpPr>
            <p:cNvPr id="700" name=""/>
            <p:cNvSpPr/>
            <p:nvPr/>
          </p:nvSpPr>
          <p:spPr>
            <a:xfrm>
              <a:off x="7010280" y="21337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r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6400440" y="21337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38480" y="3962520"/>
            <a:ext cx="4800600" cy="824040"/>
            <a:chOff x="4038480" y="3962520"/>
            <a:chExt cx="4800600" cy="824040"/>
          </a:xfrm>
        </p:grpSpPr>
        <p:sp>
          <p:nvSpPr>
            <p:cNvPr id="703" name=""/>
            <p:cNvSpPr/>
            <p:nvPr/>
          </p:nvSpPr>
          <p:spPr>
            <a:xfrm flipH="1">
              <a:off x="4038480" y="4419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324480" y="3962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s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 field for a J2ME-client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172200" y="5334120"/>
            <a:ext cx="2819520" cy="824040"/>
            <a:chOff x="6172200" y="5334120"/>
            <a:chExt cx="2819520" cy="824040"/>
          </a:xfrm>
        </p:grpSpPr>
        <p:sp>
          <p:nvSpPr>
            <p:cNvPr id="706" name=""/>
            <p:cNvSpPr/>
            <p:nvPr/>
          </p:nvSpPr>
          <p:spPr>
            <a:xfrm flipH="1">
              <a:off x="6172200" y="579132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629400" y="533412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DP does not spec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r-Ag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eader, so we must create our o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9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97-49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04-5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ttpConnection.setRequestProper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-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userAgentHea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request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UserAgent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DataInputStream to receiv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Data( HttpConnection httpConne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ata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input stream from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InputStream dataInput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InputStrea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httpConnection.openInputStrea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Character = dataInputStream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all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Characte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 = data +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inputCharac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Character = dataInputStream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6019560" y="2209680"/>
            <a:ext cx="2819520" cy="1067400"/>
            <a:chOff x="6019560" y="2209680"/>
            <a:chExt cx="2819520" cy="1067400"/>
          </a:xfrm>
        </p:grpSpPr>
        <p:sp>
          <p:nvSpPr>
            <p:cNvPr id="711" name=""/>
            <p:cNvSpPr/>
            <p:nvPr/>
          </p:nvSpPr>
          <p:spPr>
            <a:xfrm flipH="1">
              <a:off x="6019560" y="2743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53080" y="220968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that receives data (in the form of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from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876920" y="3886200"/>
            <a:ext cx="3962160" cy="580680"/>
            <a:chOff x="4876920" y="3886200"/>
            <a:chExt cx="3962160" cy="580680"/>
          </a:xfrm>
        </p:grpSpPr>
        <p:sp>
          <p:nvSpPr>
            <p:cNvPr id="714" name=""/>
            <p:cNvSpPr/>
            <p:nvPr/>
          </p:nvSpPr>
          <p:spPr>
            <a:xfrm flipH="1">
              <a:off x="4876920" y="4191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95880" y="3886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ttp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181120" y="5181480"/>
            <a:ext cx="3582000" cy="580680"/>
            <a:chOff x="5181120" y="5181480"/>
            <a:chExt cx="3582000" cy="580680"/>
          </a:xfrm>
        </p:grpSpPr>
        <p:sp>
          <p:nvSpPr>
            <p:cNvPr id="717" name=""/>
            <p:cNvSpPr/>
            <p:nvPr/>
          </p:nvSpPr>
          <p:spPr>
            <a:xfrm flipH="1">
              <a:off x="5181120" y="5486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3600" y="51814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data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Input-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2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MID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s Tip Tes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6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InputStream.clos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4410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2373120" y="5562720"/>
            <a:ext cx="44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2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2ME user-interface API class hierarc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25" name="image1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1539720" cy="381780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1156680" y="5264280"/>
            <a:ext cx="685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TestMID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in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28" name="image3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540080" cy="381780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1080720" y="5416560"/>
            <a:ext cx="718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TestMID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lcome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12.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an introductory screen that provides game directions to a client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1-1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new content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contentTy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questDispatcher dispatc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ServletContext().getRequestDispatch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directP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ward user to redirect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76920" y="457200"/>
            <a:ext cx="3962160" cy="1310760"/>
            <a:chOff x="4876920" y="457200"/>
            <a:chExt cx="3962160" cy="1310760"/>
          </a:xfrm>
        </p:grpSpPr>
        <p:sp>
          <p:nvSpPr>
            <p:cNvPr id="135" name=""/>
            <p:cNvSpPr/>
            <p:nvPr/>
          </p:nvSpPr>
          <p:spPr>
            <a:xfrm>
              <a:off x="6095880" y="457200"/>
              <a:ext cx="2743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the other client types,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questDispatc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redirect request to static page (this approach does not work with J2ME clie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5257800" y="9140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876920" y="1143000"/>
              <a:ext cx="1218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31" name="image4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540080" cy="381780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005480" y="5492880"/>
            <a:ext cx="74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TestMID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ormation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34" name="image5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1540080" cy="3818160"/>
          </a:xfrm>
          <a:prstGeom prst="rect">
            <a:avLst/>
          </a:prstGeom>
          <a:ln w="0">
            <a:noFill/>
          </a:ln>
        </p:spPr>
      </p:pic>
      <p:pic>
        <p:nvPicPr>
          <p:cNvPr id="735" name="image6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1539720" cy="381816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700560" y="5645160"/>
            <a:ext cx="78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TestMID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-Test question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pTestMID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38" name="image7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1539720" cy="3818160"/>
          </a:xfrm>
          <a:prstGeom prst="rect">
            <a:avLst/>
          </a:prstGeom>
          <a:ln w="0">
            <a:noFill/>
          </a:ln>
        </p:spPr>
      </p:pic>
      <p:pic>
        <p:nvPicPr>
          <p:cNvPr id="739" name="image8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1539720" cy="381816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777600" y="5645160"/>
            <a:ext cx="77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2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TestMID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-Test answer screen. (Courtesy of Sun Microsystems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5   Installation Instru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-server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deployment descri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ps.sq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ME Wireless Toolkit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lients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 Internet Explor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wave UP sim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ixo Internet Microbrow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descriptor to ru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Servlet defini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 servlet that returns a "Welcome" screen throug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 HTTP get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m.deitel.advjhtp1.wireless.Welcome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t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 servlet that accesses a database to generate test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itel programming ti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init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aram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ASE_UR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aram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aram-valu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dbc:cloudscape:rmi:tip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aram-valu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init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init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aram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DBC_DRIV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aram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aram-valu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M.cloudscape.core.RmiJdbcDri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aram-valu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init-par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2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descriptor to ru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pTest-Serv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m.deitel.advjhtp1.wireless.TipTest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Servlet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rl-patter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welco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rl-patter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pt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rl-patter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tipt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rl-patter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ime-mapping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ML Sourc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xten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xten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ime-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/vnd.wap.wm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im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ime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ime-mapping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Wireless Bitma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xten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bm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xten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ime-typ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/vnd.wap.wbm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ime-ty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mime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5   Installation Instruc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685800" y="1752480"/>
          <a:ext cx="7764480" cy="230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644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29T17:28:37Z</dcterms:modified>
  <cp:revision>129</cp:revision>
  <dc:subject/>
  <dc:title>Chapter 12: Java-Based Wireless Applications Development and J2ME</dc:title>
</cp:coreProperties>
</file>