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5DEA-B508-4167-BDBA-92E7EE10F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E8D1-46E9-49B1-874E-5A123A4A3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8D66-EDC0-4C05-8235-E2C09F108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69CB-7460-439D-B9D8-C90049D0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41A3-0265-4DD5-B243-EDF51C479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35A7-C082-4BD8-AFFC-1E140DBCE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0FCB-2F45-46DB-8167-71FBADD7F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896F-9566-46BD-A200-816BB8AE8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9876-BD95-4A38-9E9B-CA179DE53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807E-6466-4C7F-8A16-36A479057D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8440-D0B2-4BA9-BDCF-4471E1384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5DD9-8566-4802-87CE-E429C0E0A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6386-2BD4-4670-878D-A72FCFC041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54E3-61F3-45CC-B404-4E3F78D65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616A-2EAC-43A6-83A5-5D18B339B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4FCB-892A-42E7-BF77-75DB849FD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903B-95E8-4B45-989E-2F7E5013E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CE1D-631E-4377-BD0A-22BB72842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FBC2-6A41-470A-B665-1784424F2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F81D-7ED0-4B5A-8CA1-2B1171816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3240-C042-471D-A7D2-B8913A2E3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2FE8-E479-4B6A-BC4F-EFA146FF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1FCD-BD35-4090-968B-92313D808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58D1-E597-4FC7-9C0D-0F28317D9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827-3533-42A4-9AEA-B0C0D2912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46D-D9DC-4CCA-8B38-0C3253F8E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9: Introduction to Web Services and SOAP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mple Object Access Protocol (SOAP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AP Weath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 Weath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ication of RMI-based Weather Service (Chapter 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OAP RPC instead of Java 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information from server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5: Weather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 provides a method to retriev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from the National Weather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oap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weatherInformation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WeatherCondi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new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text input stream to read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elps determine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52320" y="1143000"/>
            <a:ext cx="5182200" cy="1067400"/>
            <a:chOff x="3352320" y="1143000"/>
            <a:chExt cx="5182200" cy="1067400"/>
          </a:xfrm>
        </p:grpSpPr>
        <p:sp>
          <p:nvSpPr>
            <p:cNvPr id="148" name=""/>
            <p:cNvSpPr/>
            <p:nvPr/>
          </p:nvSpPr>
          <p:spPr>
            <a:xfrm>
              <a:off x="5029200" y="11430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Service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through SOAP 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52320" y="16765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6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Infor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s containing weather dat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in weatherInformation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s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then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epare strings for WeatherBean for each city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irst 16 characters are city name. Next, si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weather description. Next si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HI/LO or LO/HI temperat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520" y="5715000"/>
            <a:ext cx="3733560" cy="824040"/>
            <a:chOff x="5105520" y="5715000"/>
            <a:chExt cx="3733560" cy="824040"/>
          </a:xfrm>
        </p:grpSpPr>
        <p:sp>
          <p:nvSpPr>
            <p:cNvPr id="153" name=""/>
            <p:cNvSpPr/>
            <p:nvPr/>
          </p:nvSpPr>
          <p:spPr>
            <a:xfrm>
              <a:off x="6324480" y="5715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parsed from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veler’s Foreca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eb pag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520" y="6095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5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failure to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ementation for WeatherService interfac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getWeatherInforma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WeatherCondi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nform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67080" y="5029200"/>
            <a:ext cx="4419720" cy="732960"/>
            <a:chOff x="4267080" y="5029200"/>
            <a:chExt cx="4419720" cy="732960"/>
          </a:xfrm>
        </p:grpSpPr>
        <p:sp>
          <p:nvSpPr>
            <p:cNvPr id="158" name=""/>
            <p:cNvSpPr/>
            <p:nvPr/>
          </p:nvSpPr>
          <p:spPr>
            <a:xfrm>
              <a:off x="5181480" y="51814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de available to remote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2670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6: WeatherService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 accesses the WeatherService rem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ject via SOAP to retrieve wea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oap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rp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String 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AP WeatherService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 and get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RL of remote SOAP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" + server + ":8080/soap/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let/rpcrou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248520" y="4800600"/>
            <a:ext cx="2438280" cy="914400"/>
            <a:chOff x="6248520" y="4800600"/>
            <a:chExt cx="2438280" cy="914400"/>
          </a:xfrm>
        </p:grpSpPr>
        <p:sp>
          <p:nvSpPr>
            <p:cNvPr id="163" name=""/>
            <p:cNvSpPr/>
            <p:nvPr/>
          </p:nvSpPr>
          <p:spPr>
            <a:xfrm flipH="1">
              <a:off x="6248520" y="5105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48006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OAP service’s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9-55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8-6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uild SOAP RPC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l remoteMetho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TargetObject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rn:xml-weather-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 of remote method to be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Method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WeatherInform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EncodingStyle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S_URI_SOAP_EN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response = remoteMethod.invoke( ur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.generatedFaul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ult fault = response.get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 FAILED:\nFault Cod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Cod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ault String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 result = response.getRetur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ector weatherStrings = ( Vect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weather information from resul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 weatherInformation = createBean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Strin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19360" y="457200"/>
            <a:ext cx="3962520" cy="580680"/>
            <a:chOff x="4419360" y="457200"/>
            <a:chExt cx="3962520" cy="580680"/>
          </a:xfrm>
        </p:grpSpPr>
        <p:sp>
          <p:nvSpPr>
            <p:cNvPr id="168" name=""/>
            <p:cNvSpPr/>
            <p:nvPr/>
          </p:nvSpPr>
          <p:spPr>
            <a:xfrm>
              <a:off x="6400800" y="457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its U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419360" y="762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57800" y="1295280"/>
            <a:ext cx="3657600" cy="1067400"/>
            <a:chOff x="5257800" y="1295280"/>
            <a:chExt cx="3657600" cy="1067400"/>
          </a:xfrm>
        </p:grpSpPr>
        <p:sp>
          <p:nvSpPr>
            <p:cNvPr id="171" name=""/>
            <p:cNvSpPr/>
            <p:nvPr/>
          </p:nvSpPr>
          <p:spPr>
            <a:xfrm>
              <a:off x="6248520" y="1295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atherInfo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re returned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57800" y="19051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95880" y="3809520"/>
            <a:ext cx="2743200" cy="581040"/>
            <a:chOff x="6095880" y="3809520"/>
            <a:chExt cx="2743200" cy="581040"/>
          </a:xfrm>
        </p:grpSpPr>
        <p:sp>
          <p:nvSpPr>
            <p:cNvPr id="174" name=""/>
            <p:cNvSpPr/>
            <p:nvPr/>
          </p:nvSpPr>
          <p:spPr>
            <a:xfrm>
              <a:off x="7086600" y="38098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essage if error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95880" y="3809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876560" y="4876560"/>
            <a:ext cx="3886560" cy="1220040"/>
            <a:chOff x="4876560" y="4876560"/>
            <a:chExt cx="3886560" cy="1220040"/>
          </a:xfrm>
        </p:grpSpPr>
        <p:sp>
          <p:nvSpPr>
            <p:cNvPr id="177" name=""/>
            <p:cNvSpPr/>
            <p:nvPr/>
          </p:nvSpPr>
          <p:spPr>
            <a:xfrm>
              <a:off x="6934320" y="502920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remote method’s returned value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no problems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790960" y="4876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257440" y="55627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76560" y="51811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ListModel for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Model weatherLis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weatherInform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JList, set its CellRenderer and ad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CellRender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ScrollPane( weatherJLi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ba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SOAP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APException soap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ap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List of WeatherBeans from Vector of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createBeans( Vector weatherStrin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3760" y="5486040"/>
            <a:ext cx="3657960" cy="581040"/>
            <a:chOff x="5333760" y="5486040"/>
            <a:chExt cx="3657960" cy="581040"/>
          </a:xfrm>
        </p:grpSpPr>
        <p:sp>
          <p:nvSpPr>
            <p:cNvPr id="184" name=""/>
            <p:cNvSpPr/>
            <p:nvPr/>
          </p:nvSpPr>
          <p:spPr>
            <a:xfrm>
              <a:off x="6324480" y="5486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ve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5333760" y="548604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P implementa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-Service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weatherStrings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 i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weatherStrings.elementAt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WeatherService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server IP address or host name specifi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"localhost"; otherwise use specified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9" name="soap1" descr=""/>
          <p:cNvPicPr/>
          <p:nvPr/>
        </p:nvPicPr>
        <p:blipFill>
          <a:blip r:embed="rId1"/>
          <a:stretch/>
        </p:blipFill>
        <p:spPr>
          <a:xfrm>
            <a:off x="1062000" y="1019160"/>
            <a:ext cx="7018200" cy="481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71200" y="5943600"/>
            <a:ext cx="36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ache SOAP Ad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2" name="soap3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818160" cy="4694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79880" y="5715000"/>
            <a:ext cx="63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che SOA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Deployment Descriptor Temp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Object Access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different softwar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XML communication in man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ses public interfaces usable by Web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3   SOAP Weather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5" name="weatherservice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381120" cy="280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1920" y="4876920"/>
            <a:ext cx="39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AP WeatherService 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-XML-based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application to communicate over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XML documents call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 message contain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essage’s content and intended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make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mote Procedure Ca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P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to another machine to run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-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9.1: Simple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for the requested method on th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Welcome( String messag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SOAP!\nHere is your messag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040" y="609480"/>
            <a:ext cx="5639040" cy="580680"/>
            <a:chOff x="3200040" y="609480"/>
            <a:chExt cx="5639040" cy="580680"/>
          </a:xfrm>
        </p:grpSpPr>
        <p:sp>
          <p:nvSpPr>
            <p:cNvPr id="96" name=""/>
            <p:cNvSpPr/>
            <p:nvPr/>
          </p:nvSpPr>
          <p:spPr>
            <a:xfrm>
              <a:off x="6553080" y="609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ides on a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00040" y="9144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43600" y="1371240"/>
            <a:ext cx="2895480" cy="1586520"/>
            <a:chOff x="5943600" y="1371240"/>
            <a:chExt cx="2895480" cy="1586520"/>
          </a:xfrm>
        </p:grpSpPr>
        <p:sp>
          <p:nvSpPr>
            <p:cNvPr id="99" name=""/>
            <p:cNvSpPr/>
            <p:nvPr/>
          </p:nvSpPr>
          <p:spPr>
            <a:xfrm>
              <a:off x="5943600" y="21337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invoked; this method is made available to remote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6171840" y="137124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2" name="soap2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9124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0720" y="594360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AP package administration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9.2   Simple Object Access Protocol (SOA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5" name="soap4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951440" cy="442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25280" y="5867280"/>
            <a:ext cx="373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deployed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1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9.4 : Get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hat makes a SOAP RP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apache.soap.rp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essag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 String args[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encodingStyleURI = 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S_URI_SOAP_EN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messag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mess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ank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SOAP remote procedur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localhost:8080/soap/servlet/rpcrou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ild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l remoteMetho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TargetObjectURI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rn:xml-simple-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440" y="2362320"/>
            <a:ext cx="5105880" cy="337320"/>
            <a:chOff x="2971440" y="2362320"/>
            <a:chExt cx="5105880" cy="337320"/>
          </a:xfrm>
        </p:grpSpPr>
        <p:sp>
          <p:nvSpPr>
            <p:cNvPr id="110" name=""/>
            <p:cNvSpPr/>
            <p:nvPr/>
          </p:nvSpPr>
          <p:spPr>
            <a:xfrm>
              <a:off x="6324480" y="23623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 for the 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71440" y="2514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1143000"/>
            <a:ext cx="5334120" cy="914400"/>
            <a:chOff x="3200400" y="1143000"/>
            <a:chExt cx="5334120" cy="914400"/>
          </a:xfrm>
        </p:grpSpPr>
        <p:sp>
          <p:nvSpPr>
            <p:cNvPr id="113" name=""/>
            <p:cNvSpPr/>
            <p:nvPr/>
          </p:nvSpPr>
          <p:spPr>
            <a:xfrm>
              <a:off x="5943600" y="11430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AP-implementation AP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200400" y="1295280"/>
              <a:ext cx="2743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19920" y="3048120"/>
            <a:ext cx="2514600" cy="824040"/>
            <a:chOff x="6019920" y="3048120"/>
            <a:chExt cx="2514600" cy="824040"/>
          </a:xfrm>
        </p:grpSpPr>
        <p:sp>
          <p:nvSpPr>
            <p:cNvPr id="116" name=""/>
            <p:cNvSpPr/>
            <p:nvPr/>
          </p:nvSpPr>
          <p:spPr>
            <a:xfrm>
              <a:off x="6858000" y="30481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encoding style used for SOAP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019920" y="327636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714640" y="4267080"/>
            <a:ext cx="2972160" cy="838440"/>
            <a:chOff x="5714640" y="4267080"/>
            <a:chExt cx="2972160" cy="838440"/>
          </a:xfrm>
        </p:grpSpPr>
        <p:sp>
          <p:nvSpPr>
            <p:cNvPr id="119" name=""/>
            <p:cNvSpPr/>
            <p:nvPr/>
          </p:nvSpPr>
          <p:spPr>
            <a:xfrm>
              <a:off x="6477120" y="42670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URL of server to which the client sends the SOAP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714640" y="46483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95680" y="5715000"/>
            <a:ext cx="3962520" cy="580680"/>
            <a:chOff x="4495680" y="5715000"/>
            <a:chExt cx="3962520" cy="580680"/>
          </a:xfrm>
        </p:grpSpPr>
        <p:sp>
          <p:nvSpPr>
            <p:cNvPr id="122" name=""/>
            <p:cNvSpPr/>
            <p:nvPr/>
          </p:nvSpPr>
          <p:spPr>
            <a:xfrm>
              <a:off x="6477120" y="57150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its U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95680" y="60199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 of remote method to be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Method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Welc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EncodingStyleURI( encodingStyleUR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parameters for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ector paramet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ameters.add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ess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Method.setParams( paramet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vok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remoteMethod.invoke( ur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.generatedFaul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ult fault = response.get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 FAILED:\nFault Cod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Code()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ault String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fault.getFault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 result = response.getRetur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 result of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result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52520" y="1447920"/>
            <a:ext cx="3810600" cy="1067400"/>
            <a:chOff x="4952520" y="1447920"/>
            <a:chExt cx="3810600" cy="1067400"/>
          </a:xfrm>
        </p:grpSpPr>
        <p:sp>
          <p:nvSpPr>
            <p:cNvPr id="127" name=""/>
            <p:cNvSpPr/>
            <p:nvPr/>
          </p:nvSpPr>
          <p:spPr>
            <a:xfrm>
              <a:off x="6629400" y="144792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parameters used to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52520" y="1981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3760" y="2666880"/>
            <a:ext cx="3429360" cy="1067400"/>
            <a:chOff x="5333760" y="2666880"/>
            <a:chExt cx="3429360" cy="1067400"/>
          </a:xfrm>
        </p:grpSpPr>
        <p:sp>
          <p:nvSpPr>
            <p:cNvPr id="130" name=""/>
            <p:cNvSpPr/>
            <p:nvPr/>
          </p:nvSpPr>
          <p:spPr>
            <a:xfrm>
              <a:off x="6781680" y="266688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re returned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5333760" y="281952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560" y="4038120"/>
            <a:ext cx="2743560" cy="581040"/>
            <a:chOff x="6019560" y="4038120"/>
            <a:chExt cx="2743560" cy="581040"/>
          </a:xfrm>
        </p:grpSpPr>
        <p:sp>
          <p:nvSpPr>
            <p:cNvPr id="133" name=""/>
            <p:cNvSpPr/>
            <p:nvPr/>
          </p:nvSpPr>
          <p:spPr>
            <a:xfrm>
              <a:off x="7010280" y="40384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essage if error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019560" y="403812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09720" y="4952880"/>
            <a:ext cx="3353400" cy="824040"/>
            <a:chOff x="5409720" y="4952880"/>
            <a:chExt cx="3353400" cy="824040"/>
          </a:xfrm>
        </p:grpSpPr>
        <p:sp>
          <p:nvSpPr>
            <p:cNvPr id="136" name=""/>
            <p:cNvSpPr/>
            <p:nvPr/>
          </p:nvSpPr>
          <p:spPr>
            <a:xfrm>
              <a:off x="6553080" y="49528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remote method’s returned value if no problems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791320" y="50288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09720" y="53341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9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making a SOAP request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malformed URL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OA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APException soap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messag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ap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200400"/>
            <a:ext cx="69339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GetMessag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SOAP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re is your message: Thanks!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4114800"/>
            <a:ext cx="69339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GetMessage "my message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SOAP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re is your message: my mess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9:17Z</dcterms:modified>
  <cp:revision>41</cp:revision>
  <dc:subject/>
  <dc:title>Chapter 29: Introduction to Web Services and SOAP</dc:title>
</cp:coreProperties>
</file>