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39CD-7BC0-43F6-9571-DF70E1FE4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0FF4-D9D5-49FD-9C6D-4D564C254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8A6C-1A5A-4662-8E36-73E7D2CFC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A1BA-BE22-42AE-9FBD-6E45B25A0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89C2-7678-4F62-B635-FD0117E49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419F-3D25-42B5-AA55-D82527C1C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279B-B68F-4FAF-9DCD-EBCA3720A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7630-5176-4601-9F3C-FC4CAF1ECC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594E-20B7-49F3-9AD1-452D2A5ED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74B4-645D-4EDA-A157-B0689B79ED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8FDE-1704-4AC9-A95E-EE1D32040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B0DA-68A1-485F-8C2E-3A550CEA0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0AA7-38C8-4BB7-B6C0-EA18BB3294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A600-0309-43F8-B762-717B6070E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896C-05D7-4480-875E-8A9369074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1C4D-CCF1-468B-94C7-0EFA9CFBE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D626-D8CD-41BA-B8E4-3ADB77F29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16C9-902C-4DC2-9A69-E6B013C94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125A-AA53-4230-8FAE-7AAA209A2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AD1F-C60D-4428-AF8A-0BE009C94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01F8-CE66-4904-A077-ED1511771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E69C-3727-4698-B420-5771A55A0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392F-91D5-45DA-8051-A2B61EBDD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75CC-79D9-45D5-9045-4DF940742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A7D-52D3-4A1C-85B1-11E9A1E64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B4F-7B98-4CEF-8332-6E86CA1A0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6: Java Beans Component Model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Beans in Forte for Java Community Edi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eparing a Class to be a JavaBea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reating a JavaBean: Java Archive Fil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Bean Proper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und Properti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dexed Properties and Custom Ev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izing JavaBeans for Builder Too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pertyEdi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ustomiz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8" name="Forteexplorer8" descr=""/>
          <p:cNvPicPr/>
          <p:nvPr/>
        </p:nvPicPr>
        <p:blipFill>
          <a:blip r:embed="rId1"/>
          <a:stretch/>
        </p:blipFill>
        <p:spPr>
          <a:xfrm>
            <a:off x="2905200" y="2709720"/>
            <a:ext cx="3333600" cy="143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7080" y="4646520"/>
            <a:ext cx="569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89" name="Fortecustomizerdialog" descr=""/>
          <p:cNvPicPr/>
          <p:nvPr/>
        </p:nvPicPr>
        <p:blipFill>
          <a:blip r:embed="rId1"/>
          <a:stretch/>
        </p:blipFill>
        <p:spPr>
          <a:xfrm>
            <a:off x="2928960" y="2957400"/>
            <a:ext cx="3286080" cy="943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989360" y="4568760"/>
            <a:ext cx="50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izer Dia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2286000"/>
            <a:ext cx="6926400" cy="2457360"/>
            <a:chOff x="1143000" y="2286000"/>
            <a:chExt cx="6926400" cy="2457360"/>
          </a:xfrm>
        </p:grpSpPr>
        <p:pic>
          <p:nvPicPr>
            <p:cNvPr id="122" name="Fortefilemenubar" descr=""/>
            <p:cNvPicPr/>
            <p:nvPr/>
          </p:nvPicPr>
          <p:blipFill>
            <a:blip r:embed="rId1"/>
            <a:stretch/>
          </p:blipFill>
          <p:spPr>
            <a:xfrm>
              <a:off x="1143000" y="2286000"/>
              <a:ext cx="6926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Fortefilemenubarselected" descr=""/>
            <p:cNvPicPr/>
            <p:nvPr/>
          </p:nvPicPr>
          <p:blipFill>
            <a:blip r:embed="rId2"/>
            <a:stretch/>
          </p:blipFill>
          <p:spPr>
            <a:xfrm>
              <a:off x="1143000" y="2743200"/>
              <a:ext cx="174312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3207240" y="50277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6" name="fortenew" descr=""/>
          <p:cNvPicPr/>
          <p:nvPr/>
        </p:nvPicPr>
        <p:blipFill>
          <a:blip r:embed="rId1"/>
          <a:stretch/>
        </p:blipFill>
        <p:spPr>
          <a:xfrm>
            <a:off x="1674720" y="1695600"/>
            <a:ext cx="5792760" cy="3466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74800" y="533232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...- Template Choos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9" name="Forteguieditor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67360" cy="467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9360" y="5865840"/>
            <a:ext cx="33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UI Edi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2" name="Fortecomponentinspector1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2571840" cy="4038480"/>
          </a:xfrm>
          <a:prstGeom prst="rect">
            <a:avLst/>
          </a:prstGeom>
          <a:ln w="0">
            <a:noFill/>
          </a:ln>
        </p:spPr>
      </p:pic>
      <p:pic>
        <p:nvPicPr>
          <p:cNvPr id="133" name="Forteformwindow1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68800" y="5713560"/>
            <a:ext cx="48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6" name="Fortesourceeditor1" descr=""/>
          <p:cNvPicPr/>
          <p:nvPr/>
        </p:nvPicPr>
        <p:blipFill>
          <a:blip r:embed="rId1"/>
          <a:stretch/>
        </p:blipFill>
        <p:spPr>
          <a:xfrm>
            <a:off x="2381400" y="1424160"/>
            <a:ext cx="4381200" cy="4009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51000" y="5560920"/>
            <a:ext cx="31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 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9" name="Fortecomponentpalettebeans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22160" y="4646520"/>
            <a:ext cx="44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2" name="Fortecomponentpalletelogoanim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4720" y="450216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5" name="Fortelogoanimator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41640" y="4879800"/>
            <a:ext cx="52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i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8" name="Fortecomponentinspector2" descr=""/>
          <p:cNvPicPr/>
          <p:nvPr/>
        </p:nvPicPr>
        <p:blipFill>
          <a:blip r:embed="rId1"/>
          <a:stretch/>
        </p:blipFill>
        <p:spPr>
          <a:xfrm>
            <a:off x="3286080" y="1409760"/>
            <a:ext cx="2571840" cy="4038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06080" y="5638680"/>
            <a:ext cx="66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rapid application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ing predefined softwa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onent assemb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e through well-defined services (i.e.,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e cod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1" name="Fortecomponentinspectormenu2" descr=""/>
          <p:cNvPicPr/>
          <p:nvPr/>
        </p:nvPicPr>
        <p:blipFill>
          <a:blip r:embed="rId1"/>
          <a:stretch/>
        </p:blipFill>
        <p:spPr>
          <a:xfrm>
            <a:off x="3776760" y="1581120"/>
            <a:ext cx="1590480" cy="3695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28320" y="5484960"/>
            <a:ext cx="70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op down-menu for the background proper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4" name="Fortelogoanimator2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Fortecomponentinspector3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571840" cy="403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63880" y="5791320"/>
            <a:ext cx="54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ckgrou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or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8" name="Forteexplorer4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52432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8800" y="4424400"/>
            <a:ext cx="46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ed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1676520"/>
            <a:ext cx="4357080" cy="3467160"/>
            <a:chOff x="2133720" y="1676520"/>
            <a:chExt cx="4357080" cy="3467160"/>
          </a:xfrm>
        </p:grpSpPr>
        <p:pic>
          <p:nvPicPr>
            <p:cNvPr id="162" name="Forteexplorer3" descr=""/>
            <p:cNvPicPr/>
            <p:nvPr/>
          </p:nvPicPr>
          <p:blipFill>
            <a:blip r:embed="rId1"/>
            <a:stretch/>
          </p:blipFill>
          <p:spPr>
            <a:xfrm>
              <a:off x="2133720" y="1676520"/>
              <a:ext cx="252396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Forteexplorermenu1" descr=""/>
            <p:cNvPicPr/>
            <p:nvPr/>
          </p:nvPicPr>
          <p:blipFill>
            <a:blip r:embed="rId2"/>
            <a:stretch/>
          </p:blipFill>
          <p:spPr>
            <a:xfrm>
              <a:off x="3852720" y="2486160"/>
              <a:ext cx="15332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Forteexplorermenu2" descr=""/>
            <p:cNvPicPr/>
            <p:nvPr/>
          </p:nvPicPr>
          <p:blipFill>
            <a:blip r:embed="rId3"/>
            <a:stretch/>
          </p:blipFill>
          <p:spPr>
            <a:xfrm>
              <a:off x="5376600" y="2714760"/>
              <a:ext cx="111420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2217240" y="5338800"/>
            <a:ext cx="49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wLay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7" name="Fortecomponentpaletteswing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260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47280" y="403704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w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0" name="Fortecomponentpalettebutt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46920" y="4646520"/>
            <a:ext cx="47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3" name="Forteformwindow2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91760" y="4807080"/>
            <a:ext cx="48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76" name="Fortecomponentpalettetex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2571480" cy="403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73360" y="541656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ng text propert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Forteformwindow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0" name="Fortecomponentpaletteselecti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51480" y="464652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 Sel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3" name="Fortecomponentpaletteconnection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23240" y="4646520"/>
            <a:ext cx="47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 Conn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e for Java Community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builder tool for assembling 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ing and manipulating 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s must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al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being man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being installed, beans can be insert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6" name="Fortecomponentpaletteconnection2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54600" y="4570560"/>
            <a:ext cx="33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9" name="Forteformwindow4" descr=""/>
          <p:cNvPicPr/>
          <p:nvPr/>
        </p:nvPicPr>
        <p:blipFill>
          <a:blip r:embed="rId1"/>
          <a:stretch/>
        </p:blipFill>
        <p:spPr>
          <a:xfrm>
            <a:off x="3143160" y="24764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15080" y="4952880"/>
            <a:ext cx="48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2" name="Forteconnectionwizard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584440" cy="4506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8240" y="586728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5" name="Forteconnectionwizard2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584440" cy="4505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3720" y="5943600"/>
            <a:ext cx="40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8" name="Forteconnectionwizard3" descr=""/>
          <p:cNvPicPr/>
          <p:nvPr/>
        </p:nvPicPr>
        <p:blipFill>
          <a:blip r:embed="rId1"/>
          <a:stretch/>
        </p:blipFill>
        <p:spPr>
          <a:xfrm>
            <a:off x="2905200" y="1047600"/>
            <a:ext cx="3333600" cy="4762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35400" y="5943600"/>
            <a:ext cx="63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tAni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target compon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24080" y="1676520"/>
            <a:ext cx="2795760" cy="3105000"/>
            <a:chOff x="3124080" y="1676520"/>
            <a:chExt cx="2795760" cy="3105000"/>
          </a:xfrm>
        </p:grpSpPr>
        <p:pic>
          <p:nvPicPr>
            <p:cNvPr id="202" name="Forteexplorer6" descr=""/>
            <p:cNvPicPr/>
            <p:nvPr/>
          </p:nvPicPr>
          <p:blipFill>
            <a:blip r:embed="rId1"/>
            <a:stretch/>
          </p:blipFill>
          <p:spPr>
            <a:xfrm>
              <a:off x="3124080" y="1676520"/>
              <a:ext cx="252432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Forteexplorermenu3" descr=""/>
            <p:cNvPicPr/>
            <p:nvPr/>
          </p:nvPicPr>
          <p:blipFill>
            <a:blip r:embed="rId2"/>
            <a:stretch/>
          </p:blipFill>
          <p:spPr>
            <a:xfrm>
              <a:off x="4309920" y="2105280"/>
              <a:ext cx="1609920" cy="26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2446200" y="518148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6" name="Forterunningtab" descr=""/>
          <p:cNvPicPr/>
          <p:nvPr/>
        </p:nvPicPr>
        <p:blipFill>
          <a:blip r:embed="rId1"/>
          <a:stretch/>
        </p:blipFill>
        <p:spPr>
          <a:xfrm>
            <a:off x="1103400" y="1476360"/>
            <a:ext cx="6935760" cy="390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70240" y="5638680"/>
            <a:ext cx="43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imationWind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nn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  Preparing a Class to be a JavaBea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oAnim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goAnimator.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34: LogoAnima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oAnimator is a JavaBean containing an animated log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,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 images[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Imag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urrent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animationTi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images and start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[ totalImages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animation 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images.length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= LogAnimator.class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deit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s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Anima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23920" y="1752480"/>
            <a:ext cx="4039200" cy="1143000"/>
            <a:chOff x="4723920" y="1752480"/>
            <a:chExt cx="4039200" cy="1143000"/>
          </a:xfrm>
        </p:grpSpPr>
        <p:sp>
          <p:nvSpPr>
            <p:cNvPr id="213" name=""/>
            <p:cNvSpPr/>
            <p:nvPr/>
          </p:nvSpPr>
          <p:spPr>
            <a:xfrm>
              <a:off x="6781680" y="17524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JavaBeans must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rializ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723920" y="2133720"/>
              <a:ext cx="2057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43400" y="990720"/>
            <a:ext cx="4495680" cy="1676160"/>
            <a:chOff x="4343400" y="990720"/>
            <a:chExt cx="4495680" cy="1676160"/>
          </a:xfrm>
        </p:grpSpPr>
        <p:sp>
          <p:nvSpPr>
            <p:cNvPr id="216" name=""/>
            <p:cNvSpPr/>
            <p:nvPr/>
          </p:nvSpPr>
          <p:spPr>
            <a:xfrm>
              <a:off x="5638680" y="9907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making it a GUI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43400" y="1295280"/>
              <a:ext cx="1295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581280" y="2895480"/>
            <a:ext cx="5181840" cy="2438640"/>
            <a:chOff x="3581280" y="2895480"/>
            <a:chExt cx="5181840" cy="2438640"/>
          </a:xfrm>
        </p:grpSpPr>
        <p:sp>
          <p:nvSpPr>
            <p:cNvPr id="219" name=""/>
            <p:cNvSpPr/>
            <p:nvPr/>
          </p:nvSpPr>
          <p:spPr>
            <a:xfrm>
              <a:off x="6019920" y="2895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, which contains 30 PNG image that comprise the animated 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581280" y="32767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572000" y="32767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800240" y="3276720"/>
              <a:ext cx="12193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-4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2-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nder one frame of the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current animation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s[ currentImage ].pain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g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Image = ( currentImag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totalImag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Timer that drives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nima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animationTimer is null, restart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nimationTimer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Im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imation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nimationTim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inue from last image displa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animationTimer.isRunning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nimationTimer.re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when Timer event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05160" y="3124080"/>
            <a:ext cx="3657960" cy="1067400"/>
            <a:chOff x="5105160" y="3124080"/>
            <a:chExt cx="3657960" cy="1067400"/>
          </a:xfrm>
        </p:grpSpPr>
        <p:sp>
          <p:nvSpPr>
            <p:cNvPr id="226" name=""/>
            <p:cNvSpPr/>
            <p:nvPr/>
          </p:nvSpPr>
          <p:spPr>
            <a:xfrm>
              <a:off x="6629400" y="3124080"/>
              <a:ext cx="2133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ry 50 milli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05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67280" y="1600200"/>
            <a:ext cx="2819520" cy="580680"/>
            <a:chOff x="5867280" y="1600200"/>
            <a:chExt cx="2819520" cy="580680"/>
          </a:xfrm>
        </p:grpSpPr>
        <p:sp>
          <p:nvSpPr>
            <p:cNvPr id="229" name=""/>
            <p:cNvSpPr/>
            <p:nvPr/>
          </p:nvSpPr>
          <p:spPr>
            <a:xfrm>
              <a:off x="6781680" y="16002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next frame of ani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867280" y="1905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943600" y="5334120"/>
            <a:ext cx="2819520" cy="580680"/>
            <a:chOff x="5943600" y="5334120"/>
            <a:chExt cx="2819520" cy="580680"/>
          </a:xfrm>
        </p:grpSpPr>
        <p:sp>
          <p:nvSpPr>
            <p:cNvPr id="232" name=""/>
            <p:cNvSpPr/>
            <p:nvPr/>
          </p:nvSpPr>
          <p:spPr>
            <a:xfrm>
              <a:off x="6858000" y="53341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aint screen every 50 milliseco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94360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4" name="ForteMainScreen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648400" cy="478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9160" y="6095880"/>
            <a:ext cx="42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for Java Community Edition 2.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7-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op Timer that drives ani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opAnima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imationTime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 preferred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 minimum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bean as standalon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Animator ani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Frame with title "Animation tes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tor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ogoAnimator to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getContentPane().add( anim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1752480"/>
            <a:ext cx="4800960" cy="1433880"/>
            <a:chOff x="3962160" y="1752480"/>
            <a:chExt cx="4800960" cy="1433880"/>
          </a:xfrm>
        </p:grpSpPr>
        <p:sp>
          <p:nvSpPr>
            <p:cNvPr id="237" name=""/>
            <p:cNvSpPr/>
            <p:nvPr/>
          </p:nvSpPr>
          <p:spPr>
            <a:xfrm>
              <a:off x="5867280" y="236232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yout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these two methods to determine how to s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114800" y="1752480"/>
              <a:ext cx="1752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62160" y="274320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219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window size and validate 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  Preparing a Class to be a JavaBea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3" name="Fortesourceeditor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5008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40920" y="6095880"/>
            <a:ext cx="49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 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rchiv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known as JA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JavaB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anifes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JAR-fil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IFEST.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A-I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y in JA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6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ifest.t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914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-Class: com.deitel.advjhtp1.beans.LogoAnim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LogoAnimator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29200" y="457200"/>
            <a:ext cx="3809880" cy="1357560"/>
            <a:chOff x="5029200" y="457200"/>
            <a:chExt cx="3809880" cy="1357560"/>
          </a:xfrm>
        </p:grpSpPr>
        <p:sp>
          <p:nvSpPr>
            <p:cNvPr id="250" name=""/>
            <p:cNvSpPr/>
            <p:nvPr/>
          </p:nvSpPr>
          <p:spPr>
            <a:xfrm>
              <a:off x="5029200" y="99072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virtual machines can execute the application in this JAR file direc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257440" y="457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133720" y="914040"/>
            <a:ext cx="5943600" cy="1876320"/>
            <a:chOff x="2133720" y="914040"/>
            <a:chExt cx="5943600" cy="1876320"/>
          </a:xfrm>
        </p:grpSpPr>
        <p:sp>
          <p:nvSpPr>
            <p:cNvPr id="253" name=""/>
            <p:cNvSpPr/>
            <p:nvPr/>
          </p:nvSpPr>
          <p:spPr>
            <a:xfrm>
              <a:off x="5181480" y="22096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133720" y="914040"/>
              <a:ext cx="3047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6" name="Fortejarpackager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88320" cy="4562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88640" y="5867280"/>
            <a:ext cx="52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.j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   Creating a JavaBean: Java Archive Fil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9" name="Fortejarpackager4" descr=""/>
          <p:cNvPicPr/>
          <p:nvPr/>
        </p:nvPicPr>
        <p:blipFill>
          <a:blip r:embed="rId1"/>
          <a:stretch/>
        </p:blipFill>
        <p:spPr>
          <a:xfrm>
            <a:off x="1527120" y="1147680"/>
            <a:ext cx="6087960" cy="4562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91760" y="5943600"/>
            <a:ext cx="44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AR Pack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  JavaBean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c attribute of a JavaB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/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pair of t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er tool inspects bean methods for thes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er exposes that pair of methods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to expos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Background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 col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 getBackgrou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imationDe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-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39: LogoAnimator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goAnimator2 extends LogoAnimator to inclu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imationDelay property and implements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nimationDelay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nimationDe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imationTimer.setDelay( dela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nimationDelay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nimationDe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tionTimer.getDe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LogoAnimator in JFrame for tes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ogoAnimat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Animator2 anim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goAnimator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181480" y="2209680"/>
            <a:ext cx="3810240" cy="580680"/>
            <a:chOff x="5181480" y="2209680"/>
            <a:chExt cx="3810240" cy="580680"/>
          </a:xfrm>
        </p:grpSpPr>
        <p:sp>
          <p:nvSpPr>
            <p:cNvPr id="266" name=""/>
            <p:cNvSpPr/>
            <p:nvPr/>
          </p:nvSpPr>
          <p:spPr>
            <a:xfrm>
              <a:off x="5791320" y="2209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goAnim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user to modify the rate of ani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181480" y="2514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733920" y="3200400"/>
            <a:ext cx="4800600" cy="1266480"/>
            <a:chOff x="3733920" y="3200400"/>
            <a:chExt cx="4800600" cy="1266480"/>
          </a:xfrm>
        </p:grpSpPr>
        <p:sp>
          <p:nvSpPr>
            <p:cNvPr id="269" name=""/>
            <p:cNvSpPr/>
            <p:nvPr/>
          </p:nvSpPr>
          <p:spPr>
            <a:xfrm>
              <a:off x="5867280" y="3886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imationDe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648320" y="320040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733920" y="4191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3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o-Animator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imationDe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Frame and add LogoAnimator2 to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Fram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imator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getContentPane().add( anim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ogoAnimat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9320" y="2819520"/>
            <a:ext cx="6897600" cy="1504800"/>
            <a:chOff x="1219320" y="2819520"/>
            <a:chExt cx="6897600" cy="1504800"/>
          </a:xfrm>
        </p:grpSpPr>
        <p:pic>
          <p:nvPicPr>
            <p:cNvPr id="98" name="Fortetoolsmenubar" descr=""/>
            <p:cNvPicPr/>
            <p:nvPr/>
          </p:nvPicPr>
          <p:blipFill>
            <a:blip r:embed="rId1"/>
            <a:stretch/>
          </p:blipFill>
          <p:spPr>
            <a:xfrm>
              <a:off x="1219320" y="2819520"/>
              <a:ext cx="68976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Fortetoolsmenubarselected" descr=""/>
            <p:cNvPicPr/>
            <p:nvPr/>
          </p:nvPicPr>
          <p:blipFill>
            <a:blip r:embed="rId2"/>
            <a:stretch/>
          </p:blipFill>
          <p:spPr>
            <a:xfrm>
              <a:off x="3276720" y="3200400"/>
              <a:ext cx="189540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2448000" y="479916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 New JavaBean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  JavaBean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75" name="Forteformwindow5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276" name="Fortecomponentinspector4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438640" cy="4057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60760" y="5715000"/>
            <a:ext cx="61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n with proper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De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d in Forte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Bean notifies other objects when property valu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mplished via standard Java event-handl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.PropertyChange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s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.PropertyChang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1: SliderField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 provides a slider to adjust the anima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eed of LogoAnimator2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 boxContai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to support bound property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 change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liderField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pertyChangeSupport for bound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0040" y="2362320"/>
            <a:ext cx="5563080" cy="1371600"/>
            <a:chOff x="3200040" y="2362320"/>
            <a:chExt cx="5563080" cy="1371600"/>
          </a:xfrm>
        </p:grpSpPr>
        <p:sp>
          <p:nvSpPr>
            <p:cNvPr id="283" name=""/>
            <p:cNvSpPr/>
            <p:nvPr/>
          </p:nvSpPr>
          <p:spPr>
            <a:xfrm>
              <a:off x="5791320" y="23623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is updated automatically with the new value (and vice vers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200040" y="2895480"/>
              <a:ext cx="2590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4343400"/>
            <a:ext cx="3886200" cy="1219320"/>
            <a:chOff x="4952880" y="4343400"/>
            <a:chExt cx="3886200" cy="1219320"/>
          </a:xfrm>
        </p:grpSpPr>
        <p:sp>
          <p:nvSpPr>
            <p:cNvPr id="286" name=""/>
            <p:cNvSpPr/>
            <p:nvPr/>
          </p:nvSpPr>
          <p:spPr>
            <a:xfrm>
              <a:off x="5867280" y="43434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Sup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the listener registration and notification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95288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029200" y="472428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slider and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slider.getValue()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ox layout and add slider and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BoxLayou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X_AX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Box.createHorizontalStr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add( 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oxContai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hangeListener for J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addChange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state change for J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CurrentValue( slider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ChangeListe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05320" y="2971800"/>
            <a:ext cx="5257800" cy="580680"/>
            <a:chOff x="3505320" y="2971800"/>
            <a:chExt cx="5257800" cy="580680"/>
          </a:xfrm>
        </p:grpSpPr>
        <p:sp>
          <p:nvSpPr>
            <p:cNvPr id="292" name=""/>
            <p:cNvSpPr/>
            <p:nvPr/>
          </p:nvSpPr>
          <p:spPr>
            <a:xfrm>
              <a:off x="5791320" y="29718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505320" y="3276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4572000"/>
            <a:ext cx="3810240" cy="1524600"/>
            <a:chOff x="4952880" y="4572000"/>
            <a:chExt cx="3810240" cy="1524600"/>
          </a:xfrm>
        </p:grpSpPr>
        <p:sp>
          <p:nvSpPr>
            <p:cNvPr id="295" name=""/>
            <p:cNvSpPr/>
            <p:nvPr/>
          </p:nvSpPr>
          <p:spPr>
            <a:xfrm>
              <a:off x="4952880" y="502920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5410080" y="45720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3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for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for J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tion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CurrentValu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Integer.parseInt( 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liderField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add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 remove 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remove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429000" y="228600"/>
            <a:ext cx="5257800" cy="580680"/>
            <a:chOff x="3429000" y="228600"/>
            <a:chExt cx="5257800" cy="580680"/>
          </a:xfrm>
        </p:grpSpPr>
        <p:sp>
          <p:nvSpPr>
            <p:cNvPr id="300" name=""/>
            <p:cNvSpPr/>
            <p:nvPr/>
          </p:nvSpPr>
          <p:spPr>
            <a:xfrm>
              <a:off x="5715000" y="228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429000" y="533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105520" y="1600200"/>
            <a:ext cx="3809880" cy="1905480"/>
            <a:chOff x="5105520" y="1600200"/>
            <a:chExt cx="3809880" cy="1905480"/>
          </a:xfrm>
        </p:grpSpPr>
        <p:sp>
          <p:nvSpPr>
            <p:cNvPr id="303" name=""/>
            <p:cNvSpPr/>
            <p:nvPr/>
          </p:nvSpPr>
          <p:spPr>
            <a:xfrm>
              <a:off x="5105520" y="243828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changes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5409720" y="160020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360" y="4038480"/>
            <a:ext cx="4496040" cy="1219320"/>
            <a:chOff x="4419360" y="4038480"/>
            <a:chExt cx="4496040" cy="1219320"/>
          </a:xfrm>
        </p:grpSpPr>
        <p:sp>
          <p:nvSpPr>
            <p:cNvPr id="306" name=""/>
            <p:cNvSpPr/>
            <p:nvPr/>
          </p:nvSpPr>
          <p:spPr>
            <a:xfrm>
              <a:off x="6400800" y="4038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to support the registr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4419360" y="411480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723920" y="4495680"/>
              <a:ext cx="1676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7-1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4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imum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inimum( minimum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lider.getValue() &lt; slider.getMinimum() )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lider.setValue( slider.getMinimu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.setText( String.valueOf( 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imum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Minimum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aximum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aximum( maximum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lider.getValue() &gt; slider.getMaximum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lider.setValue( slider.getMaximu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.setText( String.valueOf( 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aximum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Maximum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504960" y="533520"/>
            <a:ext cx="5258160" cy="1904760"/>
            <a:chOff x="3504960" y="533520"/>
            <a:chExt cx="5258160" cy="1904760"/>
          </a:xfrm>
        </p:grpSpPr>
        <p:sp>
          <p:nvSpPr>
            <p:cNvPr id="312" name=""/>
            <p:cNvSpPr/>
            <p:nvPr/>
          </p:nvSpPr>
          <p:spPr>
            <a:xfrm>
              <a:off x="5867280" y="6094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4800240" y="53352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504960" y="914400"/>
              <a:ext cx="2361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04960" y="3657600"/>
            <a:ext cx="5258160" cy="1905120"/>
            <a:chOff x="3504960" y="3657600"/>
            <a:chExt cx="5258160" cy="1905120"/>
          </a:xfrm>
        </p:grpSpPr>
        <p:sp>
          <p:nvSpPr>
            <p:cNvPr id="316" name=""/>
            <p:cNvSpPr/>
            <p:nvPr/>
          </p:nvSpPr>
          <p:spPr>
            <a:xfrm>
              <a:off x="5867280" y="37339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4800240" y="36576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04960" y="4038480"/>
              <a:ext cx="236196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1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urren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curre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Value = cur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hange slider and textfiel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Value( curre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Text( String.valueOf( current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re Property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oldValu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current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urren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.ge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eld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eld.setColumns( colum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Container.valid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05320" y="685800"/>
            <a:ext cx="5257440" cy="3809880"/>
            <a:chOff x="3505320" y="685800"/>
            <a:chExt cx="5257440" cy="3809880"/>
          </a:xfrm>
        </p:grpSpPr>
        <p:sp>
          <p:nvSpPr>
            <p:cNvPr id="322" name=""/>
            <p:cNvSpPr/>
            <p:nvPr/>
          </p:nvSpPr>
          <p:spPr>
            <a:xfrm>
              <a:off x="5987880" y="3124080"/>
              <a:ext cx="2774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4600080" y="685800"/>
              <a:ext cx="138708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505320" y="3429000"/>
              <a:ext cx="2482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6720" y="3809520"/>
            <a:ext cx="4648320" cy="1220400"/>
            <a:chOff x="4266720" y="3809520"/>
            <a:chExt cx="4648320" cy="1220400"/>
          </a:xfrm>
        </p:grpSpPr>
        <p:sp>
          <p:nvSpPr>
            <p:cNvPr id="326" name=""/>
            <p:cNvSpPr/>
            <p:nvPr/>
          </p:nvSpPr>
          <p:spPr>
            <a:xfrm>
              <a:off x="5241600" y="3962520"/>
              <a:ext cx="3673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bound property, because it notifies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(via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PropertyChan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266720" y="3809520"/>
              <a:ext cx="974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648320" y="5334120"/>
            <a:ext cx="3429000" cy="580680"/>
            <a:chOff x="4648320" y="5334120"/>
            <a:chExt cx="3429000" cy="580680"/>
          </a:xfrm>
        </p:grpSpPr>
        <p:sp>
          <p:nvSpPr>
            <p:cNvPr id="329" name=""/>
            <p:cNvSpPr/>
            <p:nvPr/>
          </p:nvSpPr>
          <p:spPr>
            <a:xfrm>
              <a:off x="5523840" y="5334120"/>
              <a:ext cx="2553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648320" y="5638680"/>
              <a:ext cx="8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for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ieldWid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.getColumn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 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Container.getMinimum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Container.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352680" y="304920"/>
            <a:ext cx="4572000" cy="580680"/>
            <a:chOff x="3352680" y="304920"/>
            <a:chExt cx="4572000" cy="580680"/>
          </a:xfrm>
        </p:grpSpPr>
        <p:sp>
          <p:nvSpPr>
            <p:cNvPr id="334" name=""/>
            <p:cNvSpPr/>
            <p:nvPr/>
          </p:nvSpPr>
          <p:spPr>
            <a:xfrm>
              <a:off x="52578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52680" y="6094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fest fil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SliderFieldPanel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057040" y="762120"/>
            <a:ext cx="6096240" cy="1113840"/>
            <a:chOff x="2057040" y="762120"/>
            <a:chExt cx="6096240" cy="1113840"/>
          </a:xfrm>
        </p:grpSpPr>
        <p:sp>
          <p:nvSpPr>
            <p:cNvPr id="339" name=""/>
            <p:cNvSpPr/>
            <p:nvPr/>
          </p:nvSpPr>
          <p:spPr>
            <a:xfrm>
              <a:off x="4952880" y="1295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2057040" y="762120"/>
              <a:ext cx="2895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2" name="comp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343" name="comp2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438640" cy="1809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684080" y="441972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roperti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2" name="Forteinstalljavabean" descr=""/>
          <p:cNvPicPr/>
          <p:nvPr/>
        </p:nvPicPr>
        <p:blipFill>
          <a:blip r:embed="rId1"/>
          <a:stretch/>
        </p:blipFill>
        <p:spPr>
          <a:xfrm>
            <a:off x="2152800" y="1871640"/>
            <a:ext cx="4838400" cy="311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00160" y="518004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 Java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6" name="Forteconnectionwizard4" descr=""/>
          <p:cNvPicPr/>
          <p:nvPr/>
        </p:nvPicPr>
        <p:blipFill>
          <a:blip r:embed="rId1"/>
          <a:stretch/>
        </p:blipFill>
        <p:spPr>
          <a:xfrm>
            <a:off x="2905200" y="2014560"/>
            <a:ext cx="3333600" cy="2828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673360" y="5181480"/>
            <a:ext cx="38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perty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9" name="Forteconnectionwizard5" descr=""/>
          <p:cNvPicPr/>
          <p:nvPr/>
        </p:nvPicPr>
        <p:blipFill>
          <a:blip r:embed="rId1"/>
          <a:stretch/>
        </p:blipFill>
        <p:spPr>
          <a:xfrm>
            <a:off x="2905200" y="2414520"/>
            <a:ext cx="3333600" cy="2028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62560" y="480060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imationDel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2" name="Forteconnectionwizard6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81400" cy="3486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7720" y="541008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und Propert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  Bound Properti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5" name="Forteexecuted" descr=""/>
          <p:cNvPicPr/>
          <p:nvPr/>
        </p:nvPicPr>
        <p:blipFill>
          <a:blip r:embed="rId1"/>
          <a:stretch/>
        </p:blipFill>
        <p:spPr>
          <a:xfrm>
            <a:off x="3295800" y="2819520"/>
            <a:ext cx="2552400" cy="1218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32520" y="4495680"/>
            <a:ext cx="62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Fr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standard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primitiv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ex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e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functionality not provided by standard Java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util.Event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ener interface 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util.Event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Ev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-event class indicating a color chang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8 ColorEve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Event is an EventObject subclass that indicat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in col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Objec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ets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( Object source,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our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ethod for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lor( Color new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= new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ethod for colo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l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19160" y="2057400"/>
            <a:ext cx="5867640" cy="580680"/>
            <a:chOff x="2819160" y="2057400"/>
            <a:chExt cx="5867640" cy="580680"/>
          </a:xfrm>
        </p:grpSpPr>
        <p:sp>
          <p:nvSpPr>
            <p:cNvPr id="364" name=""/>
            <p:cNvSpPr/>
            <p:nvPr/>
          </p:nvSpPr>
          <p:spPr>
            <a:xfrm>
              <a:off x="5715000" y="20574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esent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819160" y="23623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047760" y="4267080"/>
            <a:ext cx="5562720" cy="1342800"/>
            <a:chOff x="3047760" y="4267080"/>
            <a:chExt cx="5562720" cy="1342800"/>
          </a:xfrm>
        </p:grpSpPr>
        <p:sp>
          <p:nvSpPr>
            <p:cNvPr id="367" name=""/>
            <p:cNvSpPr/>
            <p:nvPr/>
          </p:nvSpPr>
          <p:spPr>
            <a:xfrm>
              <a:off x="6400800" y="5029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4343040" y="4267080"/>
              <a:ext cx="20574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047760" y="5334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4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Listen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for receiv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Chan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tification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-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49 ColorListen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 listener is the interface for custom event ColorEv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isten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colorChanged ColorEvent to 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Changed( ColorEvent color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409720" y="1523880"/>
            <a:ext cx="3429360" cy="1310760"/>
            <a:chOff x="5409720" y="1523880"/>
            <a:chExt cx="3429360" cy="1310760"/>
          </a:xfrm>
        </p:grpSpPr>
        <p:sp>
          <p:nvSpPr>
            <p:cNvPr id="373" name=""/>
            <p:cNvSpPr/>
            <p:nvPr/>
          </p:nvSpPr>
          <p:spPr>
            <a:xfrm>
              <a:off x="6248520" y="1523880"/>
              <a:ext cx="25905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 listener interface that calls registered listen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cribing the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56236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409720" y="175248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4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0 ColorSlider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SliderPanel contains 3 SliderFieldPanels connected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exed property redGreenBlue that adjusts the red, g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blue colors of an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Slider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rializ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redLabel, greenLabel, blue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redSlider, greenSlider, blue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labelPanel, slide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redGreenB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 listen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for ColorSlide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Slider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24080" y="1143000"/>
            <a:ext cx="5639040" cy="2209680"/>
            <a:chOff x="3124080" y="1143000"/>
            <a:chExt cx="5639040" cy="2209680"/>
          </a:xfrm>
        </p:grpSpPr>
        <p:sp>
          <p:nvSpPr>
            <p:cNvPr id="379" name=""/>
            <p:cNvSpPr/>
            <p:nvPr/>
          </p:nvSpPr>
          <p:spPr>
            <a:xfrm>
              <a:off x="5029200" y="114300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lider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JavaBean that issu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hen sliders change color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124080" y="1600200"/>
              <a:ext cx="19051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428640" y="4571640"/>
            <a:ext cx="5029560" cy="1676880"/>
            <a:chOff x="3428640" y="4571640"/>
            <a:chExt cx="5029560" cy="1676880"/>
          </a:xfrm>
        </p:grpSpPr>
        <p:sp>
          <p:nvSpPr>
            <p:cNvPr id="382" name=""/>
            <p:cNvSpPr/>
            <p:nvPr/>
          </p:nvSpPr>
          <p:spPr>
            <a:xfrm>
              <a:off x="6019920" y="50292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495680" y="5334120"/>
              <a:ext cx="1524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3428640" y="4571640"/>
              <a:ext cx="2590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7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red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green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gui components for blue 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in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aximum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layout and add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re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gree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belPanel.add( blu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red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green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Panel.add( blue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labe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slider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419720" y="838080"/>
            <a:ext cx="4343400" cy="2057400"/>
            <a:chOff x="4419720" y="838080"/>
            <a:chExt cx="4343400" cy="2057400"/>
          </a:xfrm>
        </p:grpSpPr>
        <p:sp>
          <p:nvSpPr>
            <p:cNvPr id="388" name=""/>
            <p:cNvSpPr/>
            <p:nvPr/>
          </p:nvSpPr>
          <p:spPr>
            <a:xfrm>
              <a:off x="609588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red, green and b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724280" y="18288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571640" y="1828800"/>
              <a:ext cx="1523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4197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5" name="Forteselectjavabean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409920" cy="2990880"/>
          </a:xfrm>
          <a:prstGeom prst="rect">
            <a:avLst/>
          </a:prstGeom>
          <a:ln w="0">
            <a:noFill/>
          </a:ln>
        </p:spPr>
      </p:pic>
      <p:pic>
        <p:nvPicPr>
          <p:cNvPr id="106" name="Fortepalettecategory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409920" cy="2990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63520" y="5027760"/>
            <a:ext cx="53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JavaBe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lette Categ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lo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1-8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8-1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red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red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ed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green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addPropertyChange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green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reen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72000" y="609120"/>
            <a:ext cx="4267080" cy="1448280"/>
            <a:chOff x="4572000" y="609120"/>
            <a:chExt cx="4267080" cy="1448280"/>
          </a:xfrm>
        </p:grpSpPr>
        <p:sp>
          <p:nvSpPr>
            <p:cNvPr id="395" name=""/>
            <p:cNvSpPr/>
            <p:nvPr/>
          </p:nvSpPr>
          <p:spPr>
            <a:xfrm>
              <a:off x="6400800" y="9144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4572000" y="60912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800240" y="144792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47960" y="3733920"/>
            <a:ext cx="4267440" cy="1447560"/>
            <a:chOff x="4647960" y="3733920"/>
            <a:chExt cx="4267440" cy="1447560"/>
          </a:xfrm>
        </p:grpSpPr>
        <p:sp>
          <p:nvSpPr>
            <p:cNvPr id="399" name=""/>
            <p:cNvSpPr/>
            <p:nvPr/>
          </p:nvSpPr>
          <p:spPr>
            <a:xfrm>
              <a:off x="6248520" y="4038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een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een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647960" y="37339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181480" y="4572000"/>
              <a:ext cx="1067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5-1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pertyChangeListener for blue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propertyChange for blueSl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( PropertyChangeEv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ropertyChange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RedGreenB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lueSlider.getCurren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PropertyChang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lorSlider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Color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Listener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atom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s.add( color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648320" y="609120"/>
            <a:ext cx="4267080" cy="1448280"/>
            <a:chOff x="4648320" y="609120"/>
            <a:chExt cx="4267080" cy="1448280"/>
          </a:xfrm>
        </p:grpSpPr>
        <p:sp>
          <p:nvSpPr>
            <p:cNvPr id="405" name=""/>
            <p:cNvSpPr/>
            <p:nvPr/>
          </p:nvSpPr>
          <p:spPr>
            <a:xfrm>
              <a:off x="6400800" y="9144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lue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lue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indexed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648320" y="6091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952880" y="1447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5-1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1-1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olor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Color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Listener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by one thread o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s.remove( color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re Color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ColorChang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ers must be accessed atom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ynchroniz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eners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Set( listeners 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Color with values of redGreenB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// create new ColorEvent with color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redGreenBlu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_INDE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Event color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Ev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all registered ColorListeners of Color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Listener colorListener = ( Color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Listener.colorChanged( color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733920" y="1828800"/>
            <a:ext cx="4724280" cy="580680"/>
            <a:chOff x="3733920" y="1828800"/>
            <a:chExt cx="4724280" cy="580680"/>
          </a:xfrm>
        </p:grpSpPr>
        <p:sp>
          <p:nvSpPr>
            <p:cNvPr id="411" name=""/>
            <p:cNvSpPr/>
            <p:nvPr/>
          </p:nvSpPr>
          <p:spPr>
            <a:xfrm>
              <a:off x="5943600" y="18288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733920" y="2133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790960" y="5334120"/>
            <a:ext cx="3124440" cy="580680"/>
            <a:chOff x="5790960" y="5334120"/>
            <a:chExt cx="3124440" cy="580680"/>
          </a:xfrm>
        </p:grpSpPr>
        <p:sp>
          <p:nvSpPr>
            <p:cNvPr id="414" name=""/>
            <p:cNvSpPr/>
            <p:nvPr/>
          </p:nvSpPr>
          <p:spPr>
            <a:xfrm>
              <a:off x="632448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-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olor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790960" y="5638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43240" y="3581280"/>
            <a:ext cx="2895840" cy="1219320"/>
            <a:chOff x="5943240" y="3581280"/>
            <a:chExt cx="2895840" cy="1219320"/>
          </a:xfrm>
        </p:grpSpPr>
        <p:sp>
          <p:nvSpPr>
            <p:cNvPr id="417" name=""/>
            <p:cNvSpPr/>
            <p:nvPr/>
          </p:nvSpPr>
          <p:spPr>
            <a:xfrm flipH="1">
              <a:off x="5943240" y="411480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nd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9-1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getRedGreenB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GreenB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redGreenBlue index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GreenBlue[ inde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redGreenB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 =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redGreenBlue index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edGreenB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GreenBlue[ index ] =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Color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lorSlide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657240" y="609480"/>
            <a:ext cx="4800960" cy="3124440"/>
            <a:chOff x="3657240" y="609480"/>
            <a:chExt cx="4800960" cy="3124440"/>
          </a:xfrm>
        </p:grpSpPr>
        <p:sp>
          <p:nvSpPr>
            <p:cNvPr id="422" name=""/>
            <p:cNvSpPr/>
            <p:nvPr/>
          </p:nvSpPr>
          <p:spPr>
            <a:xfrm>
              <a:off x="6248520" y="1523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er tool will exp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dGreenB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indexed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657240" y="609480"/>
              <a:ext cx="2590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4495320" y="1676520"/>
              <a:ext cx="1752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8006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34120" y="1981080"/>
              <a:ext cx="9144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1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fest fil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avaBea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m/deitel/advjhtp1/beans/ColorSliderPanel.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-Bean: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040" y="762120"/>
            <a:ext cx="6096240" cy="1113840"/>
            <a:chOff x="2057040" y="762120"/>
            <a:chExt cx="6096240" cy="1113840"/>
          </a:xfrm>
        </p:grpSpPr>
        <p:sp>
          <p:nvSpPr>
            <p:cNvPr id="430" name=""/>
            <p:cNvSpPr/>
            <p:nvPr/>
          </p:nvSpPr>
          <p:spPr>
            <a:xfrm>
              <a:off x="4952880" y="1295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lider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treated as a Java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2057040" y="762120"/>
              <a:ext cx="2895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3" name="Forteconnectionwizard8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09920" cy="307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457280" y="5029200"/>
            <a:ext cx="611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Chan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6" name="Forteconnectionwizard9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33960" cy="2124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231200" y="4572000"/>
            <a:ext cx="66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Backgrou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for targe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9" name="Forteconnectionwizard10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81760" cy="3486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140920" y="5334120"/>
            <a:ext cx="47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ing user code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on Wiz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  Indexed Properties and Custom Event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42" name="Fortecolorslider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933640" cy="1619280"/>
          </a:xfrm>
          <a:prstGeom prst="rect">
            <a:avLst/>
          </a:prstGeom>
          <a:ln w="0">
            <a:noFill/>
          </a:ln>
        </p:spPr>
      </p:pic>
      <p:pic>
        <p:nvPicPr>
          <p:cNvPr id="443" name="Fortecolorslider2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934000" cy="1619280"/>
          </a:xfrm>
          <a:prstGeom prst="rect">
            <a:avLst/>
          </a:prstGeom>
          <a:ln w="0">
            <a:noFill/>
          </a:ln>
        </p:spPr>
      </p:pic>
      <p:pic>
        <p:nvPicPr>
          <p:cNvPr id="444" name="Fortecolorslider3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2933640" cy="1619280"/>
          </a:xfrm>
          <a:prstGeom prst="rect">
            <a:avLst/>
          </a:prstGeom>
          <a:ln w="0">
            <a:noFill/>
          </a:ln>
        </p:spPr>
      </p:pic>
      <p:pic>
        <p:nvPicPr>
          <p:cNvPr id="445" name="Fortecolorslider4" descr=""/>
          <p:cNvPicPr/>
          <p:nvPr/>
        </p:nvPicPr>
        <p:blipFill>
          <a:blip r:embed="rId4"/>
          <a:stretch/>
        </p:blipFill>
        <p:spPr>
          <a:xfrm>
            <a:off x="4952880" y="3505320"/>
            <a:ext cx="2934000" cy="16192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0960" y="5486400"/>
            <a:ext cx="83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Slider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hange the background color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  Customizing JavaBeans for Builder Too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ing exposed sets of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ly class that implement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an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b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ean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to builder tool how to present customiz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9" name="fortecomponentpalette" descr=""/>
          <p:cNvPicPr/>
          <p:nvPr/>
        </p:nvPicPr>
        <p:blipFill>
          <a:blip r:embed="rId1"/>
          <a:stretch/>
        </p:blipFill>
        <p:spPr>
          <a:xfrm>
            <a:off x="1108080" y="2743200"/>
            <a:ext cx="69264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638680" y="1447920"/>
            <a:ext cx="1828800" cy="1600200"/>
            <a:chOff x="5638680" y="1447920"/>
            <a:chExt cx="1828800" cy="1600200"/>
          </a:xfrm>
        </p:grpSpPr>
        <p:sp>
          <p:nvSpPr>
            <p:cNvPr id="111" name=""/>
            <p:cNvSpPr/>
            <p:nvPr/>
          </p:nvSpPr>
          <p:spPr>
            <a:xfrm>
              <a:off x="5638680" y="1447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nent Palet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1828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45760" y="4876920"/>
            <a:ext cx="80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alet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ooltip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oAn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B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6 SliderFieldPanelBeanInfo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BeanInfo is the BeanInfo 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BeanInfo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BeanInf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beanClas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FieldPanel.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general description of b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nDescriptor getBeanDescrip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eanDescriptor descrip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nDescrip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eanClass, SliderFieldPanelCustomiz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.setDisplay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lider Fie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criptor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lider bar to change a numerical property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bea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g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Ki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67080" y="1143000"/>
            <a:ext cx="4114800" cy="1219320"/>
            <a:chOff x="4267080" y="1143000"/>
            <a:chExt cx="4114800" cy="1219320"/>
          </a:xfrm>
        </p:grpSpPr>
        <p:sp>
          <p:nvSpPr>
            <p:cNvPr id="452" name=""/>
            <p:cNvSpPr/>
            <p:nvPr/>
          </p:nvSpPr>
          <p:spPr>
            <a:xfrm>
              <a:off x="5181480" y="1143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Bean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Bean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mplements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ean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267080" y="16002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47960" y="2819520"/>
            <a:ext cx="4343760" cy="761760"/>
            <a:chOff x="4647960" y="2819520"/>
            <a:chExt cx="4343760" cy="761760"/>
          </a:xfrm>
        </p:grpSpPr>
        <p:sp>
          <p:nvSpPr>
            <p:cNvPr id="455" name=""/>
            <p:cNvSpPr/>
            <p:nvPr/>
          </p:nvSpPr>
          <p:spPr>
            <a:xfrm>
              <a:off x="5257800" y="281952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ean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urn JavaBean’s name and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647960" y="3124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266720" y="5562720"/>
            <a:ext cx="4343760" cy="580680"/>
            <a:chOff x="4266720" y="5562720"/>
            <a:chExt cx="4343760" cy="580680"/>
          </a:xfrm>
        </p:grpSpPr>
        <p:sp>
          <p:nvSpPr>
            <p:cNvPr id="458" name=""/>
            <p:cNvSpPr/>
            <p:nvPr/>
          </p:nvSpPr>
          <p:spPr>
            <a:xfrm>
              <a:off x="5867280" y="55627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appropriate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266720" y="5867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conKin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COLOR_16x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1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COLOR_32x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2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MONO_16x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3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CON_MONO_32x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mage = loadIm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con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rray of MethodDescriptors for public get metho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class SliderField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thodDescriptor[] getMethodDescriptor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Method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Min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4120" y="5181480"/>
            <a:ext cx="3504960" cy="824040"/>
            <a:chOff x="5334120" y="5181480"/>
            <a:chExt cx="3504960" cy="824040"/>
          </a:xfrm>
        </p:grpSpPr>
        <p:sp>
          <p:nvSpPr>
            <p:cNvPr id="463" name=""/>
            <p:cNvSpPr/>
            <p:nvPr/>
          </p:nvSpPr>
          <p:spPr>
            <a:xfrm flipH="1" flipV="1">
              <a:off x="5334120" y="533376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72200" y="5181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s a specific method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-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Max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Current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 getFieldWid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ethodDescriptor( beanClass.getMetho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etField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Descriptor[] descriptors = { getMinimum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MaximumValue, getCurrentValue, getFieldWidth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StackTrace if NoSuchMethodException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oSuchMethodException metho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tho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intStackTrace if SecurityException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curityException security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urity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028840" y="533520"/>
            <a:ext cx="3962880" cy="1371600"/>
            <a:chOff x="5028840" y="533520"/>
            <a:chExt cx="3962880" cy="1371600"/>
          </a:xfrm>
        </p:grpSpPr>
        <p:sp>
          <p:nvSpPr>
            <p:cNvPr id="468" name=""/>
            <p:cNvSpPr/>
            <p:nvPr/>
          </p:nvSpPr>
          <p:spPr>
            <a:xfrm flipH="1">
              <a:off x="5028840" y="9144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38680" y="53352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b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s for 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05160" y="914400"/>
              <a:ext cx="533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5181480" y="60912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8-1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opertyDescript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Descriptor[] getPropertyDescriptor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Property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eldWid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fieldWid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eld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eldWidth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of the text fiel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urrent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current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rrent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max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.setPropertyEditorCla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aximumValueEdit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minimum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pertyDescrip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ean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 value of slider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.setPropertyEditorClas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inimumValueEdit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114440" y="609480"/>
            <a:ext cx="4648680" cy="824040"/>
            <a:chOff x="4114440" y="609480"/>
            <a:chExt cx="4648680" cy="824040"/>
          </a:xfrm>
        </p:grpSpPr>
        <p:sp>
          <p:nvSpPr>
            <p:cNvPr id="475" name=""/>
            <p:cNvSpPr/>
            <p:nvPr/>
          </p:nvSpPr>
          <p:spPr>
            <a:xfrm flipH="1" flipV="1">
              <a:off x="4114440" y="685800"/>
              <a:ext cx="2057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72200" y="60948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represents specific properties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562360" y="2133360"/>
            <a:ext cx="3429360" cy="3429360"/>
            <a:chOff x="5562360" y="2133360"/>
            <a:chExt cx="3429360" cy="3429360"/>
          </a:xfrm>
        </p:grpSpPr>
        <p:sp>
          <p:nvSpPr>
            <p:cNvPr id="478" name=""/>
            <p:cNvSpPr/>
            <p:nvPr/>
          </p:nvSpPr>
          <p:spPr>
            <a:xfrm flipH="1" flipV="1">
              <a:off x="5866920" y="2133360"/>
              <a:ext cx="6858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53080" y="2514600"/>
              <a:ext cx="2438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eld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be exposed to the builder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17220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562360" y="312408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866920" y="3124080"/>
              <a:ext cx="6858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sure PropertyChangeEvent occurs for this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Value.setBou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opertyDescriptor descriptors[] = { fieldWidth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Value, maximumValue, minimumValue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RuntimeException if Introspection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rosp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Value property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efaultPropertyInde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EventSetDescriptor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SetDescriptor[] getEventSetDescript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of EventSetDescrip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tDescriptor chang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SetDescriptor( beanClas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Ch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beans.PropertyChangeListener.class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Ch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66720" y="533520"/>
            <a:ext cx="4648680" cy="580680"/>
            <a:chOff x="4266720" y="533520"/>
            <a:chExt cx="4648680" cy="580680"/>
          </a:xfrm>
        </p:grpSpPr>
        <p:sp>
          <p:nvSpPr>
            <p:cNvPr id="486" name=""/>
            <p:cNvSpPr/>
            <p:nvPr/>
          </p:nvSpPr>
          <p:spPr>
            <a:xfrm flipH="1" flipV="1">
              <a:off x="4266720" y="5335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335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-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bound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191120" y="2895480"/>
            <a:ext cx="4343400" cy="1067400"/>
            <a:chOff x="4191120" y="2895480"/>
            <a:chExt cx="4343400" cy="1067400"/>
          </a:xfrm>
        </p:grpSpPr>
        <p:sp>
          <p:nvSpPr>
            <p:cNvPr id="489" name=""/>
            <p:cNvSpPr/>
            <p:nvPr/>
          </p:nvSpPr>
          <p:spPr>
            <a:xfrm flipH="1">
              <a:off x="41911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8954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 that the property at position 1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i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57800" y="4343400"/>
            <a:ext cx="3657600" cy="1067400"/>
            <a:chOff x="5257800" y="4343400"/>
            <a:chExt cx="3657600" cy="1067400"/>
          </a:xfrm>
        </p:grpSpPr>
        <p:sp>
          <p:nvSpPr>
            <p:cNvPr id="492" name=""/>
            <p:cNvSpPr/>
            <p:nvPr/>
          </p:nvSpPr>
          <p:spPr>
            <a:xfrm flipH="1" flipV="1">
              <a:off x="5257800" y="47242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5880" y="4343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ventSet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describe to a builder tool the events supports by this b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6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oses properties and event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la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event description and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.setShortDescri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perty change event for currentValu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.setDisplay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liderFieldPanel value chang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ventSetDescriptor[] descriptors = { changed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o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RuntimeException if Introspection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rospec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( exception.getMess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opertyChange event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efaultEventInde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d class SliderFieldPanelBeanInf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962520" y="3276720"/>
            <a:ext cx="4343400" cy="1067400"/>
            <a:chOff x="3962520" y="3276720"/>
            <a:chExt cx="4343400" cy="1067400"/>
          </a:xfrm>
        </p:grpSpPr>
        <p:sp>
          <p:nvSpPr>
            <p:cNvPr id="497" name=""/>
            <p:cNvSpPr/>
            <p:nvPr/>
          </p:nvSpPr>
          <p:spPr>
            <a:xfrm flipH="1">
              <a:off x="396252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32767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cate that the event at position 0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ventSet-Descrip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i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  Customizing JavaBeans for Builder Tool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00" name="Fortecomponentinspector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438640" cy="2905200"/>
          </a:xfrm>
          <a:prstGeom prst="rect">
            <a:avLst/>
          </a:prstGeom>
          <a:ln w="0">
            <a:noFill/>
          </a:ln>
        </p:spPr>
      </p:pic>
      <p:pic>
        <p:nvPicPr>
          <p:cNvPr id="501" name="Forteconnectionwizard7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333960" cy="27622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227600" y="5105520"/>
            <a:ext cx="68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5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nd events expos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Bean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s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how a property is edited inside the editor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for further custom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8 MaximumValueEdi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ValueEditor is the PropertyEditor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Value property of the SliderFieldPanel 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ValueEdi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ditor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max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Value = ( Integer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 from tex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sText( String 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ode may throw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ximumValue = Integer.decod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04960" y="457200"/>
            <a:ext cx="4953240" cy="1295280"/>
            <a:chOff x="3504960" y="457200"/>
            <a:chExt cx="4953240" cy="1295280"/>
          </a:xfrm>
        </p:grpSpPr>
        <p:sp>
          <p:nvSpPr>
            <p:cNvPr id="508" name=""/>
            <p:cNvSpPr/>
            <p:nvPr/>
          </p:nvSpPr>
          <p:spPr>
            <a:xfrm flipH="1">
              <a:off x="3504960" y="83808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1992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2057400"/>
            <a:ext cx="5029200" cy="580680"/>
            <a:chOff x="3657600" y="2057400"/>
            <a:chExt cx="5029200" cy="580680"/>
          </a:xfrm>
        </p:grpSpPr>
        <p:sp>
          <p:nvSpPr>
            <p:cNvPr id="511" name=""/>
            <p:cNvSpPr/>
            <p:nvPr/>
          </p:nvSpPr>
          <p:spPr>
            <a:xfrm flipH="1" flipV="1">
              <a:off x="3657600" y="2209680"/>
              <a:ext cx="2209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67280" y="2057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ores the value selected in the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266720" y="3123720"/>
            <a:ext cx="4039200" cy="657360"/>
            <a:chOff x="4266720" y="3123720"/>
            <a:chExt cx="4039200" cy="657360"/>
          </a:xfrm>
        </p:grpSpPr>
        <p:sp>
          <p:nvSpPr>
            <p:cNvPr id="514" name=""/>
            <p:cNvSpPr/>
            <p:nvPr/>
          </p:nvSpPr>
          <p:spPr>
            <a:xfrm flipH="1" flipV="1">
              <a:off x="4266720" y="31237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24480" y="3200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8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4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decode th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As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array for pull-down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T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aximumValue property a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s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itialization string for Java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JavaInitialization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aximumValueEdi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724280" y="1295280"/>
            <a:ext cx="3886200" cy="914400"/>
            <a:chOff x="4724280" y="1295280"/>
            <a:chExt cx="3886200" cy="914400"/>
          </a:xfrm>
        </p:grpSpPr>
        <p:sp>
          <p:nvSpPr>
            <p:cNvPr id="519" name=""/>
            <p:cNvSpPr/>
            <p:nvPr/>
          </p:nvSpPr>
          <p:spPr>
            <a:xfrm flipH="1">
              <a:off x="4724280" y="160020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200" y="12952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  Using Beans in Forte for Java Community Edition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15" name="Forteexplorer7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333960" cy="143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91760" y="4646520"/>
            <a:ext cx="46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59 MinimumValueEdito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imumValueEditor is the PropertyEditor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imumValue property of the SliderFieldPanel bea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ValueEdi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EditorSuppor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min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Value = ( Integer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value of property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Valu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 from tex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sText( String 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ode may throw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inimumValue = Integer.decod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ePropertyChan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038120" y="457200"/>
            <a:ext cx="4572360" cy="1219320"/>
            <a:chOff x="4038120" y="457200"/>
            <a:chExt cx="4572360" cy="1219320"/>
          </a:xfrm>
        </p:grpSpPr>
        <p:sp>
          <p:nvSpPr>
            <p:cNvPr id="524" name=""/>
            <p:cNvSpPr/>
            <p:nvPr/>
          </p:nvSpPr>
          <p:spPr>
            <a:xfrm flipH="1">
              <a:off x="4038120" y="838080"/>
              <a:ext cx="2133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7220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liderField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809520" y="2057400"/>
            <a:ext cx="5029560" cy="580680"/>
            <a:chOff x="3809520" y="2057400"/>
            <a:chExt cx="5029560" cy="580680"/>
          </a:xfrm>
        </p:grpSpPr>
        <p:sp>
          <p:nvSpPr>
            <p:cNvPr id="527" name=""/>
            <p:cNvSpPr/>
            <p:nvPr/>
          </p:nvSpPr>
          <p:spPr>
            <a:xfrm flipH="1" flipV="1">
              <a:off x="3809520" y="2209680"/>
              <a:ext cx="2210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19920" y="20574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ores the value selected in the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267080" y="3123720"/>
            <a:ext cx="4267440" cy="657360"/>
            <a:chOff x="4267080" y="3123720"/>
            <a:chExt cx="4267440" cy="657360"/>
          </a:xfrm>
        </p:grpSpPr>
        <p:sp>
          <p:nvSpPr>
            <p:cNvPr id="530" name=""/>
            <p:cNvSpPr/>
            <p:nvPr/>
          </p:nvSpPr>
          <p:spPr>
            <a:xfrm flipH="1" flipV="1">
              <a:off x="4267080" y="3123720"/>
              <a:ext cx="2286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53080" y="320040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notify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59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imum-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hrow IllegalArgumentException if decode thr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umberForma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numberForma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array for pull-down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T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Value property a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s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itialization string for Java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JavaInitializationStr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inimumValueEdi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724280" y="1143000"/>
            <a:ext cx="3886200" cy="914400"/>
            <a:chOff x="4724280" y="1143000"/>
            <a:chExt cx="3886200" cy="914400"/>
          </a:xfrm>
        </p:grpSpPr>
        <p:sp>
          <p:nvSpPr>
            <p:cNvPr id="535" name=""/>
            <p:cNvSpPr/>
            <p:nvPr/>
          </p:nvSpPr>
          <p:spPr>
            <a:xfrm flipH="1">
              <a:off x="4724280" y="1447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11430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38" name="Fortecomponentinspector8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38280" cy="2895840"/>
          </a:xfrm>
          <a:prstGeom prst="rect">
            <a:avLst/>
          </a:prstGeom>
          <a:ln w="0">
            <a:noFill/>
          </a:ln>
        </p:spPr>
      </p:pic>
      <p:pic>
        <p:nvPicPr>
          <p:cNvPr id="539" name="Fortecomponentinspector9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438280" cy="28958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20280" y="4952880"/>
            <a:ext cx="80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Value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imumValue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l-down menus in For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1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pertyEdi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542" name="Forteformwindow6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5276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Forteformwindow7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2552760" cy="1219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228320" y="5486400"/>
            <a:ext cx="67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iderFieldPan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constrained b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perty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usto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customized interface for setting bean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manipulating beans that cannot be edited in standard property she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2-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6.62 SliderFieldPanelCustomiz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Customizer is the Customizer 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liderFieldPan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bea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Customiz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iz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maximumCombo, minimumComb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 minimumLabel, maximumLab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 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 changeSuppo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5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iderFieldPanelCustomiz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ropertyChangeSupport to handle Property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pertyChangeSupp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bels for maximum and minimum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 Slider Va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Slider Valu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885840" y="1447920"/>
            <a:ext cx="4800960" cy="1371600"/>
            <a:chOff x="3885840" y="1447920"/>
            <a:chExt cx="4800960" cy="1371600"/>
          </a:xfrm>
        </p:grpSpPr>
        <p:sp>
          <p:nvSpPr>
            <p:cNvPr id="550" name=""/>
            <p:cNvSpPr/>
            <p:nvPr/>
          </p:nvSpPr>
          <p:spPr>
            <a:xfrm flipH="1">
              <a:off x="3885840" y="198108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144792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es that imp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stomiz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provide a no-argument constructor, so the builder tool can instantiate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476760" y="4038480"/>
            <a:ext cx="2514960" cy="580680"/>
            <a:chOff x="6476760" y="4038480"/>
            <a:chExt cx="2514960" cy="580680"/>
          </a:xfrm>
        </p:grpSpPr>
        <p:sp>
          <p:nvSpPr>
            <p:cNvPr id="553" name=""/>
            <p:cNvSpPr/>
            <p:nvPr/>
          </p:nvSpPr>
          <p:spPr>
            <a:xfrm flipH="1">
              <a:off x="6476760" y="4343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4038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of all tags that appear in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791320" y="4952880"/>
            <a:ext cx="3047760" cy="1067400"/>
            <a:chOff x="5791320" y="4952880"/>
            <a:chExt cx="3047760" cy="1067400"/>
          </a:xfrm>
        </p:grpSpPr>
        <p:sp>
          <p:nvSpPr>
            <p:cNvPr id="556" name=""/>
            <p:cNvSpPr/>
            <p:nvPr/>
          </p:nvSpPr>
          <p:spPr>
            <a:xfrm>
              <a:off x="6705720" y="4952880"/>
              <a:ext cx="2133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Change-Sup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the listener registration and notification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791320" y="548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bo boxes adjust maximum and minimum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.setSelectedInde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to minimumValu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nimumCombo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of minimum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Minimum( minimumCombo.getSelectedIndex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tionListener to maximumValue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imumCombo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action of maximum combo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Maximum( maximumCombo.getSelectedIndex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800600" y="533520"/>
            <a:ext cx="4114800" cy="824040"/>
            <a:chOff x="4800600" y="533520"/>
            <a:chExt cx="4114800" cy="824040"/>
          </a:xfrm>
        </p:grpSpPr>
        <p:sp>
          <p:nvSpPr>
            <p:cNvPr id="561" name=""/>
            <p:cNvSpPr/>
            <p:nvPr/>
          </p:nvSpPr>
          <p:spPr>
            <a:xfrm>
              <a:off x="5638680" y="53352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t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be se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incr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00600" y="914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4800600" y="6091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038480" y="1600200"/>
            <a:ext cx="4724640" cy="580680"/>
            <a:chOff x="4038480" y="1600200"/>
            <a:chExt cx="4724640" cy="580680"/>
          </a:xfrm>
        </p:grpSpPr>
        <p:sp>
          <p:nvSpPr>
            <p:cNvPr id="565" name=""/>
            <p:cNvSpPr/>
            <p:nvPr/>
          </p:nvSpPr>
          <p:spPr>
            <a:xfrm>
              <a:off x="5410080" y="16002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bo box,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038480" y="16761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114800" y="4343400"/>
            <a:ext cx="4724280" cy="580680"/>
            <a:chOff x="4114800" y="4343400"/>
            <a:chExt cx="4724280" cy="580680"/>
          </a:xfrm>
        </p:grpSpPr>
        <p:sp>
          <p:nvSpPr>
            <p:cNvPr id="568" name=""/>
            <p:cNvSpPr/>
            <p:nvPr/>
          </p:nvSpPr>
          <p:spPr>
            <a:xfrm>
              <a:off x="5486400" y="43434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bo box,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114800" y="44193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8-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inimum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inimumComb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aximum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maximumComb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he customiz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bject( Object bea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 = ( SliderFieldPanel ) bea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PropertyChangeListener with PropertyChange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add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PropertyChangeListener with PropertyChangeSupp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PropertyChang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opertyChangeListener listen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removePropertyChangeListener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in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slider.getMinimum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= Integer.parseInt( VALUES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267080" y="1295280"/>
            <a:ext cx="3810240" cy="824040"/>
            <a:chOff x="4267080" y="1295280"/>
            <a:chExt cx="3810240" cy="824040"/>
          </a:xfrm>
        </p:grpSpPr>
        <p:sp>
          <p:nvSpPr>
            <p:cNvPr id="573" name=""/>
            <p:cNvSpPr/>
            <p:nvPr/>
          </p:nvSpPr>
          <p:spPr>
            <a:xfrm>
              <a:off x="5334120" y="1295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n argument an instance of the JavaBean being instantia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67080" y="1676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6.62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Field-PanelCustomiz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stom GUI for 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ider-Field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ans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4-10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inimumValue( new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n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ldValue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aximumValu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Value = slider.getMaximum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Value = Integer.parseInt( VALUES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lider.setMaximumValue( new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Support.firePropertyCh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oldValue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newValu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liderFieldPanelCustomiz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790960" y="152280"/>
            <a:ext cx="3048120" cy="824040"/>
            <a:chOff x="5790960" y="152280"/>
            <a:chExt cx="3048120" cy="824040"/>
          </a:xfrm>
        </p:grpSpPr>
        <p:sp>
          <p:nvSpPr>
            <p:cNvPr id="578" name=""/>
            <p:cNvSpPr/>
            <p:nvPr/>
          </p:nvSpPr>
          <p:spPr>
            <a:xfrm>
              <a:off x="6324480" y="152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imum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790960" y="533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790960" y="2133720"/>
            <a:ext cx="3048120" cy="824040"/>
            <a:chOff x="5790960" y="2133720"/>
            <a:chExt cx="3048120" cy="824040"/>
          </a:xfrm>
        </p:grpSpPr>
        <p:sp>
          <p:nvSpPr>
            <p:cNvPr id="581" name=""/>
            <p:cNvSpPr/>
            <p:nvPr/>
          </p:nvSpPr>
          <p:spPr>
            <a:xfrm>
              <a:off x="6324480" y="21337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perty-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chang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ximum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790960" y="2514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ustomiz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352680" y="914400"/>
            <a:ext cx="3286080" cy="4876920"/>
            <a:chOff x="3352680" y="914400"/>
            <a:chExt cx="3286080" cy="4876920"/>
          </a:xfrm>
        </p:grpSpPr>
        <p:pic>
          <p:nvPicPr>
            <p:cNvPr id="585" name="Fortecomponentinspector10" descr=""/>
            <p:cNvPicPr/>
            <p:nvPr/>
          </p:nvPicPr>
          <p:blipFill>
            <a:blip r:embed="rId1"/>
            <a:stretch/>
          </p:blipFill>
          <p:spPr>
            <a:xfrm>
              <a:off x="3352680" y="914400"/>
              <a:ext cx="2438640" cy="40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netbeans3" descr=""/>
            <p:cNvPicPr/>
            <p:nvPr/>
          </p:nvPicPr>
          <p:blipFill>
            <a:blip r:embed="rId2"/>
            <a:stretch/>
          </p:blipFill>
          <p:spPr>
            <a:xfrm>
              <a:off x="4952880" y="1876680"/>
              <a:ext cx="1685880" cy="39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1688760" y="5867280"/>
            <a:ext cx="58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.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Insp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8:20Z</dcterms:modified>
  <cp:revision>120</cp:revision>
  <dc:subject/>
  <dc:title>Chapter 6: Java Beans Component Model</dc:title>
</cp:coreProperties>
</file>