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3.wmf" ContentType="image/x-wmf"/>
  <Override PartName="/ppt/media/image26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30.wmf" ContentType="image/x-wmf"/>
  <Override PartName="/ppt/media/image27.png" ContentType="image/png"/>
  <Override PartName="/ppt/media/image1.wmf" ContentType="image/x-wmf"/>
  <Override PartName="/ppt/media/image28.png" ContentType="image/png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5B93-1862-46E4-AF5E-4956A54CE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26C9-5F0F-4B34-9E16-0EDD7248E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3E3A-375F-40A3-98FF-B1FF6167F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065C-E576-41E0-98BB-E38CB5A63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FC70-067B-4072-88D5-172248272A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537E-F868-4D61-98B8-5857107F35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DC80-3557-4A0B-97A5-2A67C25EBD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2C6C-535D-4E53-86C5-8B65A26EC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9AB5-FF3C-419C-BEF1-B586F43BC3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F94A-22B6-4B79-A41A-8CC7A1AE9F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3741-6CED-4A6A-A44C-66286C4DF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20D1-13BB-44C9-822D-ED1AE3177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35C5-6850-4963-956D-F3108EBC9E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DDDE-4A8A-4781-B38B-A1F653674D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107D-F5A3-4225-8BB3-D7F89BB336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3A41-1446-4195-982C-59A9A7E1E4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64EA-B6CC-4B43-A025-F19392777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DA74-3FB5-4F03-8A24-558A66BCB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CAD8-1811-47AF-A37F-7A182AD8D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C5C2-85B6-4BF3-828F-5C1D8CD24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151E-36C2-4C4B-9D97-6E8F915CB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2C79-C7F2-468B-9F24-0B0ABC0F7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4C6E-51FC-4F6B-B4F8-7CA80F2E5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7862-BF95-4FD2-9F83-059307BA0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BD94-B14E-499D-B8C9-893DF646D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9104-225E-4D2F-B271-39DE35DEC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20: Enterprise Java Case Study: Business Logic Part 2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er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ress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quenceFacto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quenceFacto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quenceFactory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quenceFactory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Bookstore Application Deployment with J2E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Deitel Bookstore CMP Entity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0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Deitel Bookstore Serv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5-1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1-1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Order EJB to obtain list of Orders for Custome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Home orderHome = ( Order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Orders for this Custom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order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Home.findByCustomerID( custom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order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list of Orders to build Order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 order = ( Order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terator.next(), Ord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trieve OrderModel for the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Model orderModel = order.getOrd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each OrderModel to Order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story.add( order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09720" y="1828800"/>
            <a:ext cx="3429360" cy="762120"/>
            <a:chOff x="5409720" y="1828800"/>
            <a:chExt cx="3429360" cy="762120"/>
          </a:xfrm>
        </p:grpSpPr>
        <p:sp>
          <p:nvSpPr>
            <p:cNvPr id="134" name=""/>
            <p:cNvSpPr/>
            <p:nvPr/>
          </p:nvSpPr>
          <p:spPr>
            <a:xfrm>
              <a:off x="6095880" y="18288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409720" y="21337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867280" y="3886200"/>
            <a:ext cx="3048120" cy="2119320"/>
            <a:chOff x="5867280" y="3886200"/>
            <a:chExt cx="3048120" cy="2119320"/>
          </a:xfrm>
        </p:grpSpPr>
        <p:sp>
          <p:nvSpPr>
            <p:cNvPr id="137" name=""/>
            <p:cNvSpPr/>
            <p:nvPr/>
          </p:nvSpPr>
          <p:spPr>
            <a:xfrm>
              <a:off x="5867280" y="51814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lac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00800" y="3886200"/>
              <a:ext cx="990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019920" y="464796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1-17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finding Order reco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OrderHistory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ord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ry found for the customer with user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Order EJB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s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Order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ssword hint for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asswordH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Hi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ustomer data using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ustomerModel( CustomerModel custom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ustomer data members to CustomerMode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ID = customer.getUser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 = customer.getPasswo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Hint = customer.getPasswordH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customer.getFirs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customer.getLas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I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getBillingAddress().getAddress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638680" y="3581280"/>
            <a:ext cx="2971800" cy="1067040"/>
            <a:chOff x="5638680" y="3581280"/>
            <a:chExt cx="2971800" cy="1067040"/>
          </a:xfrm>
        </p:grpSpPr>
        <p:sp>
          <p:nvSpPr>
            <p:cNvPr id="143" name=""/>
            <p:cNvSpPr/>
            <p:nvPr/>
          </p:nvSpPr>
          <p:spPr>
            <a:xfrm>
              <a:off x="6172200" y="35812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modifies the detail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638680" y="39625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81480" y="5334120"/>
            <a:ext cx="3581640" cy="824040"/>
            <a:chOff x="5181480" y="5334120"/>
            <a:chExt cx="3581640" cy="824040"/>
          </a:xfrm>
        </p:grpSpPr>
        <p:sp>
          <p:nvSpPr>
            <p:cNvPr id="146" name=""/>
            <p:cNvSpPr/>
            <p:nvPr/>
          </p:nvSpPr>
          <p:spPr>
            <a:xfrm>
              <a:off x="5791320" y="53341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and 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’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81480" y="5715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1-1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I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getShippingAddress().getAddress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Name = customer.getCreditCard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Number = customer.getCreditCard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ExpirationDat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getCreditCardExpiration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CustomerMode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Customer EJB using given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CustomerModel customer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unique value for primary key us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Sequence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Home sequenceFactoryHo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equenceFactoryHome )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SequenceFactory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sequence for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 sequence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quenceFactoryHome.findByPrimaryKe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next available custom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ID = sequenceFactory.getNext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714640" y="457200"/>
            <a:ext cx="3277080" cy="824040"/>
            <a:chOff x="5714640" y="457200"/>
            <a:chExt cx="3277080" cy="824040"/>
          </a:xfrm>
        </p:grpSpPr>
        <p:sp>
          <p:nvSpPr>
            <p:cNvPr id="151" name=""/>
            <p:cNvSpPr/>
            <p:nvPr/>
          </p:nvSpPr>
          <p:spPr>
            <a:xfrm>
              <a:off x="6019920" y="4572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and 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’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714640" y="83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360" y="2819160"/>
            <a:ext cx="3200760" cy="900360"/>
            <a:chOff x="5562360" y="2819160"/>
            <a:chExt cx="3200760" cy="900360"/>
          </a:xfrm>
        </p:grpSpPr>
        <p:sp>
          <p:nvSpPr>
            <p:cNvPr id="154" name=""/>
            <p:cNvSpPr/>
            <p:nvPr/>
          </p:nvSpPr>
          <p:spPr>
            <a:xfrm>
              <a:off x="6248520" y="2895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cre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5562360" y="281916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7800" y="5715000"/>
            <a:ext cx="3657600" cy="762120"/>
            <a:chOff x="5257800" y="5715000"/>
            <a:chExt cx="3657600" cy="762120"/>
          </a:xfrm>
        </p:grpSpPr>
        <p:sp>
          <p:nvSpPr>
            <p:cNvPr id="157" name=""/>
            <p:cNvSpPr/>
            <p:nvPr/>
          </p:nvSpPr>
          <p:spPr>
            <a:xfrm>
              <a:off x="7010280" y="57150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unique ID for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257800" y="60199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5-2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ddress EJBs for billing and shipp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resses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Home addressHome = ( Address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ress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Model billingAddress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BillingAddr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ddress EJB for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 billing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Home.create( billingAddress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ddressID in billing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illingAddressModel.setAddressID( ( Integ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illingAddress.getPrimaryKe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Model shippingAddress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ShippingAddr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ddress EJB for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 shipping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Home.create( shippingAddress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ddressID in shipping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ippingAddressModel.setAddressID( ( Integ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ippingAddress.getPrimaryKey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76560" y="2590560"/>
            <a:ext cx="3962520" cy="2743560"/>
            <a:chOff x="4876560" y="2590560"/>
            <a:chExt cx="3962520" cy="2743560"/>
          </a:xfrm>
        </p:grpSpPr>
        <p:sp>
          <p:nvSpPr>
            <p:cNvPr id="162" name=""/>
            <p:cNvSpPr/>
            <p:nvPr/>
          </p:nvSpPr>
          <p:spPr>
            <a:xfrm>
              <a:off x="6324480" y="27432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a billing address and shipping address, each of which is stor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876560" y="25905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486400" y="32767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410080" y="3276720"/>
              <a:ext cx="9144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8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CustomerModel to set data for new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CustomerModel( customerModel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, finding and using EJ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( 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JB container will return a remot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CustomerModel customer 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Custom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9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Custom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Custom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Customer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Customer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reate methods for crea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finder methods for finding exi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creating and fin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2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-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Home is the home interface for entity EJB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Bookst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Customer EJB using given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create( CustomerModel customer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Customer with given userID and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findByLogin( String userID, String pa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Customer with given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findByUserID( String us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Customer with given custom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findByPrimaryKey( Integer customer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562360" y="1295280"/>
            <a:ext cx="3048120" cy="1828800"/>
            <a:chOff x="5562360" y="1295280"/>
            <a:chExt cx="3048120" cy="1828800"/>
          </a:xfrm>
        </p:grpSpPr>
        <p:sp>
          <p:nvSpPr>
            <p:cNvPr id="175" name=""/>
            <p:cNvSpPr/>
            <p:nvPr/>
          </p:nvSpPr>
          <p:spPr>
            <a:xfrm>
              <a:off x="6629400" y="1295280"/>
              <a:ext cx="1981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rrespond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2360" y="18288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19920" y="2743200"/>
            <a:ext cx="2819160" cy="1310760"/>
            <a:chOff x="6019920" y="2743200"/>
            <a:chExt cx="2819160" cy="1310760"/>
          </a:xfrm>
        </p:grpSpPr>
        <p:sp>
          <p:nvSpPr>
            <p:cNvPr id="178" name=""/>
            <p:cNvSpPr/>
            <p:nvPr/>
          </p:nvSpPr>
          <p:spPr>
            <a:xfrm>
              <a:off x="6934320" y="2743200"/>
              <a:ext cx="19047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19920" y="3429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105520" y="4419720"/>
            <a:ext cx="3657600" cy="580680"/>
            <a:chOff x="5105520" y="4419720"/>
            <a:chExt cx="3657600" cy="580680"/>
          </a:xfrm>
        </p:grpSpPr>
        <p:sp>
          <p:nvSpPr>
            <p:cNvPr id="181" name=""/>
            <p:cNvSpPr/>
            <p:nvPr/>
          </p:nvSpPr>
          <p:spPr>
            <a:xfrm>
              <a:off x="6858000" y="44197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4724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43240" y="5181480"/>
            <a:ext cx="2895840" cy="580680"/>
            <a:chOff x="5943240" y="5181480"/>
            <a:chExt cx="2895840" cy="580680"/>
          </a:xfrm>
        </p:grpSpPr>
        <p:sp>
          <p:nvSpPr>
            <p:cNvPr id="184" name=""/>
            <p:cNvSpPr/>
            <p:nvPr/>
          </p:nvSpPr>
          <p:spPr>
            <a:xfrm>
              <a:off x="6553080" y="5181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943240" y="5486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clas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Model represents a Deitel Bookstore Custom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ing billing, shipping and credit card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ustomer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custom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sswo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sswordH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billing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shipping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ExpirationD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empty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581280" y="3352680"/>
            <a:ext cx="4800600" cy="2057400"/>
            <a:chOff x="3581280" y="3352680"/>
            <a:chExt cx="4800600" cy="2057400"/>
          </a:xfrm>
        </p:grpSpPr>
        <p:sp>
          <p:nvSpPr>
            <p:cNvPr id="191" name=""/>
            <p:cNvSpPr/>
            <p:nvPr/>
          </p:nvSpPr>
          <p:spPr>
            <a:xfrm>
              <a:off x="5486400" y="3352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581280" y="38098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266720" y="380988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419360" y="3809880"/>
              <a:ext cx="1066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ing custo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purchases more 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unique IDs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ustom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ustomerID( Integer 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ID = 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stom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Customer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s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rID( String 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ID = 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User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assword( String customerPasswor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 = customerPasswor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asswor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47760" y="609480"/>
            <a:ext cx="5486760" cy="5257800"/>
            <a:chOff x="3047760" y="609480"/>
            <a:chExt cx="5486760" cy="5257800"/>
          </a:xfrm>
        </p:grpSpPr>
        <p:sp>
          <p:nvSpPr>
            <p:cNvPr id="198" name=""/>
            <p:cNvSpPr/>
            <p:nvPr/>
          </p:nvSpPr>
          <p:spPr>
            <a:xfrm flipH="1" flipV="1">
              <a:off x="3581280" y="1752120"/>
              <a:ext cx="27432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4266720" y="609480"/>
              <a:ext cx="205740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35053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276720" y="38098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962160" y="2895480"/>
              <a:ext cx="2361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333760" y="38098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047760" y="3809880"/>
              <a:ext cx="32763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1-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assword h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asswordHint( String passwordHi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Hint = passwordHi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ssword h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asswordH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Hi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76360" y="838080"/>
            <a:ext cx="5486760" cy="5257800"/>
            <a:chOff x="3276360" y="838080"/>
            <a:chExt cx="5486760" cy="5257800"/>
          </a:xfrm>
        </p:grpSpPr>
        <p:sp>
          <p:nvSpPr>
            <p:cNvPr id="208" name=""/>
            <p:cNvSpPr/>
            <p:nvPr/>
          </p:nvSpPr>
          <p:spPr>
            <a:xfrm>
              <a:off x="6553080" y="37339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505320" y="4038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495320" y="3047760"/>
              <a:ext cx="2057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733560" y="1905120"/>
              <a:ext cx="281916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71640" y="838080"/>
              <a:ext cx="198108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886200" y="4038480"/>
              <a:ext cx="2666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276360" y="4038480"/>
              <a:ext cx="32763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7-1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illingAddress( AddressModel 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 =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getBillingAddres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lling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ippingAddress( AddressModel 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 =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getShippingAddres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ipping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name of credit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reditCard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95320" y="990720"/>
            <a:ext cx="4343760" cy="4190760"/>
            <a:chOff x="4495320" y="990720"/>
            <a:chExt cx="4343760" cy="4190760"/>
          </a:xfrm>
        </p:grpSpPr>
        <p:sp>
          <p:nvSpPr>
            <p:cNvPr id="218" name=""/>
            <p:cNvSpPr/>
            <p:nvPr/>
          </p:nvSpPr>
          <p:spPr>
            <a:xfrm>
              <a:off x="6629400" y="28195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866920" y="312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495320" y="2057040"/>
              <a:ext cx="21337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952520" y="990720"/>
              <a:ext cx="16765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571640" y="3124080"/>
              <a:ext cx="20574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724280" y="3124080"/>
              <a:ext cx="19051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7-1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ame of credit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reditCard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ditCard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redit card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reditCardNumber( String numb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Number = numb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redit card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reditCardNumb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ditCardNumb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xpiration date of credit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reditCardExpirationDate( String dat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ditCardExpirationDate = d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xpiration date of credit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reditCardExpirationD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ditCardExpirationD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86200" y="685800"/>
            <a:ext cx="4876920" cy="4191120"/>
            <a:chOff x="3886200" y="685800"/>
            <a:chExt cx="4876920" cy="4191120"/>
          </a:xfrm>
        </p:grpSpPr>
        <p:sp>
          <p:nvSpPr>
            <p:cNvPr id="227" name=""/>
            <p:cNvSpPr/>
            <p:nvPr/>
          </p:nvSpPr>
          <p:spPr>
            <a:xfrm>
              <a:off x="6553080" y="35053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94324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4114440" y="2742840"/>
              <a:ext cx="24382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4114440" y="1752120"/>
              <a:ext cx="24382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886200" y="685800"/>
              <a:ext cx="266688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876920" y="3809880"/>
              <a:ext cx="16761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an XML representation of this Customer inclu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 public properties as 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ustom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ustomerI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CustomerID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serI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UserI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rs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Fir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as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La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illingAddres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billingAddress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800240" y="457200"/>
            <a:ext cx="3962880" cy="580680"/>
            <a:chOff x="4800240" y="457200"/>
            <a:chExt cx="3962880" cy="580680"/>
          </a:xfrm>
        </p:grpSpPr>
        <p:sp>
          <p:nvSpPr>
            <p:cNvPr id="236" name=""/>
            <p:cNvSpPr/>
            <p:nvPr/>
          </p:nvSpPr>
          <p:spPr>
            <a:xfrm>
              <a:off x="6324480" y="4572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describ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00240" y="762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 (Part 7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ippingAddres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shippingAddress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reditCard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reditCard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reditCardNumb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reditCardNumbe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reditCardExpirationDat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Expiration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reditCardExpirationDat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asswordHi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H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PasswordHin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5800" y="1371600"/>
          <a:ext cx="775008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50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685800" y="5791320"/>
            <a:ext cx="7772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6 (Part 1 of 2)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tity and deployment settings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990720"/>
          <a:ext cx="80391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039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customer in underlying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s billing and shipping addresses for ea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data in and retrieving data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ail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 is the remote interface for entity EJB Addre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Bookst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ddress data as an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getAddress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343040" y="2895480"/>
            <a:ext cx="4038840" cy="824040"/>
            <a:chOff x="4343040" y="2895480"/>
            <a:chExt cx="4038840" cy="824040"/>
          </a:xfrm>
        </p:grpSpPr>
        <p:sp>
          <p:nvSpPr>
            <p:cNvPr id="260" name=""/>
            <p:cNvSpPr/>
            <p:nvPr/>
          </p:nvSpPr>
          <p:spPr>
            <a:xfrm>
              <a:off x="5867280" y="2895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detail of particula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343040" y="3276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Address represents an Address, inclu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treet address, city, state and zip cod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eetAddressLin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eetAddressLin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zipC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ou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hone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6360" y="4419360"/>
            <a:ext cx="5639040" cy="1600560"/>
            <a:chOff x="3276360" y="4419360"/>
            <a:chExt cx="5639040" cy="1600560"/>
          </a:xfrm>
        </p:grpSpPr>
        <p:sp>
          <p:nvSpPr>
            <p:cNvPr id="267" name=""/>
            <p:cNvSpPr/>
            <p:nvPr/>
          </p:nvSpPr>
          <p:spPr>
            <a:xfrm>
              <a:off x="5715000" y="45720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ntainer-managed data members for information regarding person 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352680" y="5029200"/>
              <a:ext cx="2362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276360" y="4419360"/>
              <a:ext cx="2438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962520" y="5029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getAddressMod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new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Model addr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pulate AddressModel fields with Address EJ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ta me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AddressID( address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StreetAddressLine1( streetAddressLine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StreetAddressLine2( streetAddressLine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City( c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State( st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ZipCode( zipCod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Country( count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setPhoneNumber( phone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ddress data using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Model( AddressModel 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ddress' data members using values provid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the AddressModel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address.getFirs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address.getLas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eetAddressLine1 = address.getStreetAddressLine1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eetAddressLine2 = address.getStreetAddressLine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y = address.getC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e = address.getSt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zipCode = address.getZipCod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343400" y="152280"/>
            <a:ext cx="4495680" cy="824040"/>
            <a:chOff x="4343400" y="152280"/>
            <a:chExt cx="4495680" cy="824040"/>
          </a:xfrm>
        </p:grpSpPr>
        <p:sp>
          <p:nvSpPr>
            <p:cNvPr id="274" name=""/>
            <p:cNvSpPr/>
            <p:nvPr/>
          </p:nvSpPr>
          <p:spPr>
            <a:xfrm>
              <a:off x="5638680" y="15228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et its properties to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43400" y="533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952520" y="3886200"/>
            <a:ext cx="3962880" cy="762120"/>
            <a:chOff x="4952520" y="3886200"/>
            <a:chExt cx="3962880" cy="762120"/>
          </a:xfrm>
        </p:grpSpPr>
        <p:sp>
          <p:nvSpPr>
            <p:cNvPr id="277" name=""/>
            <p:cNvSpPr/>
            <p:nvPr/>
          </p:nvSpPr>
          <p:spPr>
            <a:xfrm>
              <a:off x="5715000" y="38862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updating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data 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952520" y="41911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ry = address.getCount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oneNumber = address.getPhone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AddressModel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ddress EJB using given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AddressModel addre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unique value for primary key us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Sequence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Home sequenceFactoryHo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equenceFactory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SequenceFactory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sequence for Addres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 sequence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quenceFactoryHome.findByPrimaryKe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next available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ID = sequenceFactory.getNextID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ddressID for Address (primary key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.setAddressID( addressID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AddressModel to set data for new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AddressModel( address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181120" y="685800"/>
            <a:ext cx="3734280" cy="609480"/>
            <a:chOff x="5181120" y="685800"/>
            <a:chExt cx="3734280" cy="609480"/>
          </a:xfrm>
        </p:grpSpPr>
        <p:sp>
          <p:nvSpPr>
            <p:cNvPr id="282" name=""/>
            <p:cNvSpPr/>
            <p:nvPr/>
          </p:nvSpPr>
          <p:spPr>
            <a:xfrm>
              <a:off x="5562720" y="6858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181120" y="990720"/>
              <a:ext cx="381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181120" y="5029200"/>
            <a:ext cx="3734280" cy="824040"/>
            <a:chOff x="5181120" y="5029200"/>
            <a:chExt cx="3734280" cy="824040"/>
          </a:xfrm>
        </p:grpSpPr>
        <p:sp>
          <p:nvSpPr>
            <p:cNvPr id="285" name=""/>
            <p:cNvSpPr/>
            <p:nvPr/>
          </p:nvSpPr>
          <p:spPr>
            <a:xfrm>
              <a:off x="5867280" y="502920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uniq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have uniq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its primary ke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181120" y="548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sing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( exception.getMessag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JB container will return a remot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AddressModel address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Address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5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Address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ddress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Address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Address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thods for creating and fin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business logic methods in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creating and fin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Home is the home interface for entity EJB Addre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Bookst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ddress EJB using given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 create( AddressModel addre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Address with given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 findByPrimaryKey( Integer address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105520" y="2286000"/>
            <a:ext cx="3352680" cy="1143000"/>
            <a:chOff x="5105520" y="2286000"/>
            <a:chExt cx="3352680" cy="1143000"/>
          </a:xfrm>
        </p:grpSpPr>
        <p:sp>
          <p:nvSpPr>
            <p:cNvPr id="296" name=""/>
            <p:cNvSpPr/>
            <p:nvPr/>
          </p:nvSpPr>
          <p:spPr>
            <a:xfrm>
              <a:off x="6477120" y="2286000"/>
              <a:ext cx="1981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rrespond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105520" y="281952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714640" y="3886200"/>
            <a:ext cx="2743560" cy="580680"/>
            <a:chOff x="5714640" y="3886200"/>
            <a:chExt cx="2743560" cy="580680"/>
          </a:xfrm>
        </p:grpSpPr>
        <p:sp>
          <p:nvSpPr>
            <p:cNvPr id="299" name=""/>
            <p:cNvSpPr/>
            <p:nvPr/>
          </p:nvSpPr>
          <p:spPr>
            <a:xfrm>
              <a:off x="6324480" y="38862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714640" y="4191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class generates an XML description of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Model represents a Customer's address, inclu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et, city, state and zip cod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ress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eetAddressLin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reetAddressLin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zipC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ou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hone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empty Address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ID( Integer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352320" y="3276360"/>
            <a:ext cx="5563080" cy="1600560"/>
            <a:chOff x="3352320" y="3276360"/>
            <a:chExt cx="5563080" cy="1600560"/>
          </a:xfrm>
        </p:grpSpPr>
        <p:sp>
          <p:nvSpPr>
            <p:cNvPr id="306" name=""/>
            <p:cNvSpPr/>
            <p:nvPr/>
          </p:nvSpPr>
          <p:spPr>
            <a:xfrm>
              <a:off x="6019920" y="35053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14800" y="39625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428640" y="3962520"/>
              <a:ext cx="2590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352320" y="3276360"/>
              <a:ext cx="266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Address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line of stree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eetAddressLine1( String addre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eetAddressLine1 = addres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352680" y="762120"/>
            <a:ext cx="5410440" cy="5333760"/>
            <a:chOff x="3352680" y="762120"/>
            <a:chExt cx="5410440" cy="5333760"/>
          </a:xfrm>
        </p:grpSpPr>
        <p:sp>
          <p:nvSpPr>
            <p:cNvPr id="313" name=""/>
            <p:cNvSpPr/>
            <p:nvPr/>
          </p:nvSpPr>
          <p:spPr>
            <a:xfrm>
              <a:off x="6553080" y="25909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505320" y="2895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4495320" y="1904760"/>
              <a:ext cx="2057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267080" y="2895480"/>
              <a:ext cx="2286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3580920" y="762120"/>
              <a:ext cx="297180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352680" y="2895480"/>
              <a:ext cx="32004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181480" y="2895480"/>
              <a:ext cx="137160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4-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line of stree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reetAddressLine1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etAddressLine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 line of stree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eetAddressLine2( String addres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eetAddressLine2 = addres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 line of street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reetAddressLine2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etAddressLine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i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ity( String addressCit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y = addressCit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i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it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t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048120" y="990720"/>
            <a:ext cx="5790960" cy="4190760"/>
            <a:chOff x="3048120" y="990720"/>
            <a:chExt cx="5790960" cy="4190760"/>
          </a:xfrm>
        </p:grpSpPr>
        <p:sp>
          <p:nvSpPr>
            <p:cNvPr id="323" name=""/>
            <p:cNvSpPr/>
            <p:nvPr/>
          </p:nvSpPr>
          <p:spPr>
            <a:xfrm>
              <a:off x="6629400" y="28195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343400" y="31240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962520" y="3124080"/>
              <a:ext cx="2666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48120" y="3124080"/>
              <a:ext cx="35812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495320" y="2133360"/>
              <a:ext cx="21337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4267080" y="990720"/>
              <a:ext cx="23623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4-1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te( String addressStat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e = addressSt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zip c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ZipCode( String zip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zipCode = zi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zip c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ZipCod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ipCod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ou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untry( String addressCount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ry = addressCount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u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unt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124080" y="685800"/>
            <a:ext cx="5486400" cy="5257800"/>
            <a:chOff x="3124080" y="685800"/>
            <a:chExt cx="5486400" cy="5257800"/>
          </a:xfrm>
        </p:grpSpPr>
        <p:sp>
          <p:nvSpPr>
            <p:cNvPr id="332" name=""/>
            <p:cNvSpPr/>
            <p:nvPr/>
          </p:nvSpPr>
          <p:spPr>
            <a:xfrm>
              <a:off x="6400800" y="35053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6720" y="38098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4038480" y="289548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124080" y="1752120"/>
              <a:ext cx="32767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3504960" y="685800"/>
              <a:ext cx="289548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33920" y="3809880"/>
              <a:ext cx="2666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76720" y="3809880"/>
              <a:ext cx="31240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0-1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hone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honeNumber( String phon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oneNumber = ph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hone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honeNumb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XML representation of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ddres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address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ate firs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Fir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as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La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eetAddressLine1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eetAddressLine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581280" y="457200"/>
            <a:ext cx="5029200" cy="1295280"/>
            <a:chOff x="3581280" y="457200"/>
            <a:chExt cx="5029200" cy="1295280"/>
          </a:xfrm>
        </p:grpSpPr>
        <p:sp>
          <p:nvSpPr>
            <p:cNvPr id="342" name=""/>
            <p:cNvSpPr/>
            <p:nvPr/>
          </p:nvSpPr>
          <p:spPr>
            <a:xfrm>
              <a:off x="6400800" y="457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ccess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800240" y="762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581280" y="762120"/>
              <a:ext cx="2819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800240" y="2438280"/>
            <a:ext cx="4115160" cy="824040"/>
            <a:chOff x="4800240" y="2438280"/>
            <a:chExt cx="4115160" cy="824040"/>
          </a:xfrm>
        </p:grpSpPr>
        <p:sp>
          <p:nvSpPr>
            <p:cNvPr id="346" name=""/>
            <p:cNvSpPr/>
            <p:nvPr/>
          </p:nvSpPr>
          <p:spPr>
            <a:xfrm>
              <a:off x="5867280" y="2438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ch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800240" y="2895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6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StreetAddressLine1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eetAddressLine2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eetAddressLine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StreetAddressLine2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it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cit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at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Stat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zipCod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ZipCod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untr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Country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data (Part 7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honeNumb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PhoneNumbe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ails, gett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istory and password hi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9-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 is the remote interface for entity EJB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Bookst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stomer data as a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 getCustomer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history for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OrderHisto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NoOrderHistory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ssword hint for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asswordH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95320" y="2514600"/>
            <a:ext cx="4115160" cy="1143000"/>
            <a:chOff x="4495320" y="2514600"/>
            <a:chExt cx="4115160" cy="1143000"/>
          </a:xfrm>
        </p:grpSpPr>
        <p:sp>
          <p:nvSpPr>
            <p:cNvPr id="98" name=""/>
            <p:cNvSpPr/>
            <p:nvPr/>
          </p:nvSpPr>
          <p:spPr>
            <a:xfrm>
              <a:off x="6248520" y="251460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rializ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495320" y="2819520"/>
              <a:ext cx="1752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343040" y="3276720"/>
            <a:ext cx="4267440" cy="1310760"/>
            <a:chOff x="4343040" y="3276720"/>
            <a:chExt cx="4267440" cy="1310760"/>
          </a:xfrm>
        </p:grpSpPr>
        <p:sp>
          <p:nvSpPr>
            <p:cNvPr id="101" name=""/>
            <p:cNvSpPr/>
            <p:nvPr/>
          </p:nvSpPr>
          <p:spPr>
            <a:xfrm>
              <a:off x="6477120" y="3276720"/>
              <a:ext cx="21333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contains information about p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pla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343040" y="39625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3920" y="5257440"/>
            <a:ext cx="3962880" cy="1053000"/>
            <a:chOff x="4723920" y="5257440"/>
            <a:chExt cx="3962880" cy="1053000"/>
          </a:xfrm>
        </p:grpSpPr>
        <p:sp>
          <p:nvSpPr>
            <p:cNvPr id="104" name=""/>
            <p:cNvSpPr/>
            <p:nvPr/>
          </p:nvSpPr>
          <p:spPr>
            <a:xfrm>
              <a:off x="6172200" y="54864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hint to remi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forgotten passw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723920" y="5257440"/>
              <a:ext cx="1443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685800" y="5791320"/>
            <a:ext cx="769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13 (Part 1 of 2)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tity and deployment settings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371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ress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lds primary key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ly identifies row in databas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ed to define relationships between tables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interfac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5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generating primary key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 is the remote interface for the entity EJ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uenceFactor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ext available uniqu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NextI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562360" y="2590920"/>
            <a:ext cx="2972160" cy="580680"/>
            <a:chOff x="5562360" y="2590920"/>
            <a:chExt cx="2972160" cy="580680"/>
          </a:xfrm>
        </p:grpSpPr>
        <p:sp>
          <p:nvSpPr>
            <p:cNvPr id="372" name=""/>
            <p:cNvSpPr/>
            <p:nvPr/>
          </p:nvSpPr>
          <p:spPr>
            <a:xfrm>
              <a:off x="6553080" y="25909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next available primary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562360" y="2895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quenceFactoryEJ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-Factory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SequenceFactory generates unique primary keys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uenceFactory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ableNam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le name for ID sequ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nextID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xt available uniqu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ext available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Next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nextID for returning to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xtID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crement ID to produce next available uniqu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xt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ID.intValu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200400" y="2286000"/>
            <a:ext cx="5334120" cy="1143000"/>
            <a:chOff x="3200400" y="2286000"/>
            <a:chExt cx="5334120" cy="1143000"/>
          </a:xfrm>
        </p:grpSpPr>
        <p:sp>
          <p:nvSpPr>
            <p:cNvPr id="379" name=""/>
            <p:cNvSpPr/>
            <p:nvPr/>
          </p:nvSpPr>
          <p:spPr>
            <a:xfrm>
              <a:off x="6400800" y="228600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manages synchroniz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with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00400" y="2819520"/>
              <a:ext cx="3200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352320" y="3657600"/>
            <a:ext cx="5334480" cy="1067400"/>
            <a:chOff x="3352320" y="3657600"/>
            <a:chExt cx="5334480" cy="1067400"/>
          </a:xfrm>
        </p:grpSpPr>
        <p:sp>
          <p:nvSpPr>
            <p:cNvPr id="382" name=""/>
            <p:cNvSpPr/>
            <p:nvPr/>
          </p:nvSpPr>
          <p:spPr>
            <a:xfrm>
              <a:off x="6477120" y="3657600"/>
              <a:ext cx="2209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culate next available uniq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crementing current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352320" y="41911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-Factory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SequenceFactory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leName = ( String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SequenceFactory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le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SequenceFactory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SequenceFactory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SequenceFactory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quenceFactory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 interfac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er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instance variables for ea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1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-Factory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fin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quenceFa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Home is the home interface for entity EJ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quenceFacto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uenceFactory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SequenceFactory with given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quenceFactory findByPrimaryKey( String tabl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876560" y="3048120"/>
            <a:ext cx="3962520" cy="1281240"/>
            <a:chOff x="4876560" y="3048120"/>
            <a:chExt cx="3962520" cy="1281240"/>
          </a:xfrm>
        </p:grpSpPr>
        <p:sp>
          <p:nvSpPr>
            <p:cNvPr id="391" name=""/>
            <p:cNvSpPr/>
            <p:nvPr/>
          </p:nvSpPr>
          <p:spPr>
            <a:xfrm>
              <a:off x="6019920" y="350532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remote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quence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database table with given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4876560" y="304812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quenceFactory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 Deitel Bookstore Application Deployment with J2E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ing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 Deploy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02" name="cmp_deployment_step1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97360" cy="4819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063880" y="6172200"/>
            <a:ext cx="46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n EJB to an enterprise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05" name="cmp_deployment_step2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476600" cy="4572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129480" y="5943600"/>
            <a:ext cx="32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EJB JAR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08" name="cmp_deployment_step3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810240" cy="3790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142720" y="5332320"/>
            <a:ext cx="50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ot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JB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1" name="cmp_deployment_step4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790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444040" y="5410080"/>
            <a:ext cx="43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EJB classes to an EJB JAR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4" name="cmp_deployment_step5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476600" cy="4572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988640" y="5715000"/>
            <a:ext cx="51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adding EJB classes to an EJB JAR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7" name="cmp_deployment_step6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327560" cy="44193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310760" y="5791320"/>
            <a:ext cx="62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classes for EJB, home interface and remote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Customer represents a Customer, inclu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ustomer's user name, password, bill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ress, shipping address and credit card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 initial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custom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sswo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asswordH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billing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shipping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9520" y="4876920"/>
            <a:ext cx="4953600" cy="1600200"/>
            <a:chOff x="3809520" y="4876920"/>
            <a:chExt cx="4953600" cy="1600200"/>
          </a:xfrm>
        </p:grpSpPr>
        <p:sp>
          <p:nvSpPr>
            <p:cNvPr id="111" name=""/>
            <p:cNvSpPr/>
            <p:nvPr/>
          </p:nvSpPr>
          <p:spPr>
            <a:xfrm>
              <a:off x="5638680" y="502920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variable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809520" y="4876920"/>
              <a:ext cx="1824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809880" y="5334120"/>
              <a:ext cx="1828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962520" y="5334120"/>
              <a:ext cx="1676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0" name="cmp_deployment_step7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402080" cy="44960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977200" y="5865840"/>
            <a:ext cx="36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3" name="cmp_deployment_step8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3578400" cy="4343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611360" y="5638680"/>
            <a:ext cx="60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ing container-managed fields and primary-key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6" name="cmp_deployment_step9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29160" cy="3943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217240" y="5486400"/>
            <a:ext cx="485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other EJBs referenced by this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9" name="cmp_deployment_step10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57480" cy="3619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077120" y="5256360"/>
            <a:ext cx="74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er-Manag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a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JB business metho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2" name="cmp_deployment_step11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57480" cy="36194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535760" y="5332320"/>
            <a:ext cx="63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 descriptor generat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loy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5" name="cmp_deployment_step12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840200" cy="4030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369160" y="5408640"/>
            <a:ext cx="44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J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loy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t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8" name="cmp_deployment_step13" descr=""/>
          <p:cNvPicPr/>
          <p:nvPr/>
        </p:nvPicPr>
        <p:blipFill>
          <a:blip r:embed="rId1"/>
          <a:stretch/>
        </p:blipFill>
        <p:spPr>
          <a:xfrm>
            <a:off x="2843280" y="1166760"/>
            <a:ext cx="3457440" cy="4524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519280" y="5865840"/>
            <a:ext cx="43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ing EJ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t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1" name="cmp_deployment_step14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562640" cy="13525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851040" y="4121280"/>
            <a:ext cx="69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log indicating methods that requi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 for SQL qu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1   Deploying Deitel Bookstore CMP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4" name="cmp_deployment_step15" descr=""/>
          <p:cNvPicPr/>
          <p:nvPr/>
        </p:nvPicPr>
        <p:blipFill>
          <a:blip r:embed="rId1"/>
          <a:stretch/>
        </p:blipFill>
        <p:spPr>
          <a:xfrm>
            <a:off x="2557440" y="1495440"/>
            <a:ext cx="4029120" cy="3867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837080" y="5562720"/>
            <a:ext cx="599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SQL query for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dByCustomer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5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reditCardExpirationDat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 getCustomerMode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new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 custom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pulate CustomerModel with data for this Custome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CustomerID( custom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UserID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Password(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PasswordHint( passwordH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Address EJB to get Customer billing and shipp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ress inst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Home addressHome = ( Address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ressHome.class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mote reference to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 billing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Home.findByPrimaryKey( billingAddress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billing AddressModel to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setBillingAddres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illingAddress.getAddressMode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6400" y="990360"/>
            <a:ext cx="3505320" cy="976680"/>
            <a:chOff x="5486400" y="990360"/>
            <a:chExt cx="3505320" cy="976680"/>
          </a:xfrm>
        </p:grpSpPr>
        <p:sp>
          <p:nvSpPr>
            <p:cNvPr id="118" name=""/>
            <p:cNvSpPr/>
            <p:nvPr/>
          </p:nvSpPr>
          <p:spPr>
            <a:xfrm>
              <a:off x="6324480" y="11430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ose data members contain valu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86400" y="99036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38320" y="4876920"/>
            <a:ext cx="3124800" cy="838080"/>
            <a:chOff x="5638320" y="4876920"/>
            <a:chExt cx="3124800" cy="838080"/>
          </a:xfrm>
        </p:grpSpPr>
        <p:sp>
          <p:nvSpPr>
            <p:cNvPr id="121" name=""/>
            <p:cNvSpPr/>
            <p:nvPr/>
          </p:nvSpPr>
          <p:spPr>
            <a:xfrm>
              <a:off x="6781680" y="48769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638320" y="5181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0" name="servlet_context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811840" cy="40860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88760" y="5560920"/>
            <a:ext cx="60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Deitel Bookstore servl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3" name="servlet_context_parameters" descr=""/>
          <p:cNvPicPr/>
          <p:nvPr/>
        </p:nvPicPr>
        <p:blipFill>
          <a:blip r:embed="rId1"/>
          <a:stretch/>
        </p:blipFill>
        <p:spPr>
          <a:xfrm>
            <a:off x="1665360" y="1386000"/>
            <a:ext cx="5811840" cy="4086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99840" y="5641920"/>
            <a:ext cx="79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_LI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Deitel Bookstore servl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6" name="servlet_ejb_references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938920" cy="45039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823480" y="5789520"/>
            <a:ext cx="33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0.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l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J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.2   Deploying Deitel Bookstore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20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5-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mote reference to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 shippingAddre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Home.findByPrimaryKey( shippingAddressID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shipping AddressModel to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.setShippingAddress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ippingAddress.getAddressMode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using Addres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redit card information in 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CreditCardName( creditCard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CreditCardNumber( creditCard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.setCreditCardExpirationDa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ditCardExpirationD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Custom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history for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OrderHisto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OrderHistoryException,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lection histo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5520" y="914400"/>
            <a:ext cx="2667600" cy="580680"/>
            <a:chOff x="6095520" y="914400"/>
            <a:chExt cx="2667600" cy="580680"/>
          </a:xfrm>
        </p:grpSpPr>
        <p:sp>
          <p:nvSpPr>
            <p:cNvPr id="126" name=""/>
            <p:cNvSpPr/>
            <p:nvPr/>
          </p:nvSpPr>
          <p:spPr>
            <a:xfrm>
              <a:off x="6781680" y="91440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095520" y="1219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90760" y="4343400"/>
            <a:ext cx="4648320" cy="990720"/>
            <a:chOff x="4190760" y="4343400"/>
            <a:chExt cx="4648320" cy="99072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lac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190760" y="4724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2-04T18:24:15Z</dcterms:modified>
  <cp:revision>93</cp:revision>
  <dc:subject/>
  <dc:title>Chapter 20: Enterprise Java Case Study: Business Logic Part 2</dc:title>
</cp:coreProperties>
</file>