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822A-074D-4B0A-8DD0-21D81821E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EBE1-7E95-415F-9EA8-7B957EE66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32DF-4ACC-4C2C-BBCF-190186DB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2B9E-5B39-4EBF-AF11-2CD709853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469F-0505-46A5-BB55-E60DDA2A34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C384-4045-43F7-84AF-5440F8A7E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FE73-D611-4B92-9DE5-79FCA672A2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E17B-FB7F-4445-A01B-B81546A6DB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C000-27B3-48DF-9D42-869AB9A899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E4B7-579D-4D79-A8A0-85EE41063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5778-BCA9-46FA-B08F-A859EC57D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6950-35BE-4B54-A882-44FADEA78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F4B4-12F9-4D02-A9BC-49D909EA7F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809B-80E8-4468-8108-5FA1016E88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427D-287C-4C5F-9094-922016AFFE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8DC6-F72A-4E14-95C1-13C66D6658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1841-3B19-42E1-97B0-8987CC812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983B-E080-477C-8C95-39A475440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F59F-711B-4183-A07F-557D50434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2A43-2DA6-4B22-9E0E-5B780830B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571B-93BD-41C5-B8FB-24E3B5A43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4720-B925-4B79-A04D-38A547634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0A4C-4F6F-484A-A208-BA7AAF62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32E4-C1DB-4325-B66E-96226FAC8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A924-A4E5-48D6-A18D-50FA73F1C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975F-9FA5-424C-92EB-C36284603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2 - Jin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1095840" y="685800"/>
            <a:ext cx="712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stal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t Up Run-Time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rt Required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unning the Jini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LookupBrows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icast 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cast Discov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ini Service and Client Implement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Interfaces and Supporting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Proxy and Service Implement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gistering the Service with Lookup Servi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ini Service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High-Level Helper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iscove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nt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ease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JoinManag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Utilit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rvice Discovery Util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Running the Jini LookupBrows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ini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Brow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486400" cy="213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62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Lookup Service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available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.2 Unicast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cast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on a specific h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Lo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63244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 is an application that demonstrates Jini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ce discovery for a known host (unicast)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discove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discover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stname for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1981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65530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( String hos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Discovery Outp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arget hostname for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to discover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ver Lookup Servi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Button.addActionListener(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ver lookup services on given ho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coverLookupService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outputArea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discoverButton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38520" y="990720"/>
            <a:ext cx="1676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47960" y="3733920"/>
            <a:ext cx="3429360" cy="824040"/>
            <a:chOff x="4647960" y="3733920"/>
            <a:chExt cx="3429360" cy="824040"/>
          </a:xfrm>
        </p:grpSpPr>
        <p:sp>
          <p:nvSpPr>
            <p:cNvPr id="123" name=""/>
            <p:cNvSpPr/>
            <p:nvPr/>
          </p:nvSpPr>
          <p:spPr>
            <a:xfrm>
              <a:off x="5791320" y="3733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lookup services when user clicks th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647960" y="3809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78168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lookup services on given host and get detail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out each lookup service from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LookupServices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Jini 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okup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lookup service at lookupURL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okup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ing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okupURL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unicast discovery to get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int lookup service information a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t ServiceRegistra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okup Service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cator.getHos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okup Service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locator.getPor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s that lookup service suppor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 support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 group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group(s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, write public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groups.length 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public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roups[i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connect to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perform unicast 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838080"/>
            <a:ext cx="1600200" cy="381240"/>
            <a:chOff x="5486400" y="838080"/>
            <a:chExt cx="1600200" cy="381240"/>
          </a:xfrm>
        </p:grpSpPr>
        <p:sp>
          <p:nvSpPr>
            <p:cNvPr id="128" name=""/>
            <p:cNvSpPr/>
            <p:nvPr/>
          </p:nvSpPr>
          <p:spPr>
            <a:xfrm>
              <a:off x="6019920" y="8380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ini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486400" y="1066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" y="1980720"/>
            <a:ext cx="990720" cy="1449000"/>
            <a:chOff x="457200" y="1980720"/>
            <a:chExt cx="990720" cy="1449000"/>
          </a:xfrm>
        </p:grpSpPr>
        <p:sp>
          <p:nvSpPr>
            <p:cNvPr id="131" name=""/>
            <p:cNvSpPr/>
            <p:nvPr/>
          </p:nvSpPr>
          <p:spPr>
            <a:xfrm>
              <a:off x="457200" y="2362320"/>
              <a:ext cx="914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 to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1980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38480" y="2743200"/>
            <a:ext cx="2971800" cy="337320"/>
            <a:chOff x="4038480" y="2743200"/>
            <a:chExt cx="2971800" cy="337320"/>
          </a:xfrm>
        </p:grpSpPr>
        <p:sp>
          <p:nvSpPr>
            <p:cNvPr id="134" name=""/>
            <p:cNvSpPr/>
            <p:nvPr/>
          </p:nvSpPr>
          <p:spPr>
            <a:xfrm>
              <a:off x="4648320" y="274320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038480" y="281916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790960" y="3886200"/>
            <a:ext cx="3200760" cy="732960"/>
            <a:chOff x="5790960" y="3886200"/>
            <a:chExt cx="3200760" cy="732960"/>
          </a:xfrm>
        </p:grpSpPr>
        <p:sp>
          <p:nvSpPr>
            <p:cNvPr id="137" name=""/>
            <p:cNvSpPr/>
            <p:nvPr/>
          </p:nvSpPr>
          <p:spPr>
            <a:xfrm>
              <a:off x="6400800" y="40384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host name and port number of the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790960" y="388620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33760" y="4267080"/>
            <a:ext cx="3276720" cy="580680"/>
            <a:chOff x="5333760" y="4267080"/>
            <a:chExt cx="3276720" cy="580680"/>
          </a:xfrm>
        </p:grpSpPr>
        <p:sp>
          <p:nvSpPr>
            <p:cNvPr id="140" name=""/>
            <p:cNvSpPr/>
            <p:nvPr/>
          </p:nvSpPr>
          <p:spPr>
            <a:xfrm>
              <a:off x="6858000" y="42670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group name of the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5333760" y="43430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0572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URL is invali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ClassNotFoundException obtaining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 obtaining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exception.getMessage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Lookup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Discovery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5 handle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48320" y="5638680"/>
            <a:ext cx="3200400" cy="533520"/>
            <a:chOff x="4648320" y="5638680"/>
            <a:chExt cx="3200400" cy="533520"/>
          </a:xfrm>
        </p:grpSpPr>
        <p:sp>
          <p:nvSpPr>
            <p:cNvPr id="145" name=""/>
            <p:cNvSpPr/>
            <p:nvPr/>
          </p:nvSpPr>
          <p:spPr>
            <a:xfrm>
              <a:off x="5943600" y="56386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48320" y="58672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32448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Discovery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icastDiscovery for given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Discovery discovery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010280" y="2743200"/>
            <a:ext cx="19051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licy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3352680"/>
            <a:ext cx="5181840" cy="1006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// policy.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// grant AllPermission to all code (DANGEROUS!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security.AllPermission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5880" y="3657600"/>
            <a:ext cx="2895840" cy="580680"/>
            <a:chOff x="6095880" y="3657600"/>
            <a:chExt cx="2895840" cy="580680"/>
          </a:xfrm>
        </p:grpSpPr>
        <p:sp>
          <p:nvSpPr>
            <p:cNvPr id="152" name=""/>
            <p:cNvSpPr/>
            <p:nvPr/>
          </p:nvSpPr>
          <p:spPr>
            <a:xfrm>
              <a:off x="7086600" y="36576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lPer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95880" y="38098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1219320"/>
            <a:ext cx="3200400" cy="838080"/>
            <a:chOff x="5715000" y="1219320"/>
            <a:chExt cx="3200400" cy="838080"/>
          </a:xfrm>
        </p:grpSpPr>
        <p:sp>
          <p:nvSpPr>
            <p:cNvPr id="155" name=""/>
            <p:cNvSpPr/>
            <p:nvPr/>
          </p:nvSpPr>
          <p:spPr>
            <a:xfrm>
              <a:off x="6705720" y="12193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window clo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715000" y="137160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the interface of the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services on the network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download classes required to use those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class downloading is transparent to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.2 Multicast Discov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when host is not kn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announc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okup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scovery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640080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Discovery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castDiscovery is an application that demonstrates Jini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ce discovery using multicast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discove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 of lookup services discovered through multica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sFound = 0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ulticast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90760" y="4419720"/>
            <a:ext cx="4800960" cy="580680"/>
            <a:chOff x="4190760" y="4419720"/>
            <a:chExt cx="4800960" cy="580680"/>
          </a:xfrm>
        </p:grpSpPr>
        <p:sp>
          <p:nvSpPr>
            <p:cNvPr id="162" name=""/>
            <p:cNvSpPr/>
            <p:nvPr/>
          </p:nvSpPr>
          <p:spPr>
            <a:xfrm>
              <a:off x="5638680" y="441972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covery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discovery not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190760" y="4724280"/>
              <a:ext cx="1447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castDiscovery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 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Discove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 in public group using multicas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lookup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ing lookup services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 group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isten for DiscoveryEven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.addDiscoveryListene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outputArea )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foun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ServiceRegistrars for foun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086240" y="99072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multicast discover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add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ceive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038120" y="1981080"/>
            <a:ext cx="2819880" cy="733320"/>
            <a:chOff x="4038120" y="1981080"/>
            <a:chExt cx="2819880" cy="733320"/>
          </a:xfrm>
        </p:grpSpPr>
        <p:sp>
          <p:nvSpPr>
            <p:cNvPr id="167" name=""/>
            <p:cNvSpPr/>
            <p:nvPr/>
          </p:nvSpPr>
          <p:spPr>
            <a:xfrm>
              <a:off x="5257800" y="2133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ver public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8120" y="19810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866920" y="3123720"/>
            <a:ext cx="1981800" cy="1067760"/>
            <a:chOff x="5866920" y="3123720"/>
            <a:chExt cx="1981800" cy="1067760"/>
          </a:xfrm>
        </p:grpSpPr>
        <p:sp>
          <p:nvSpPr>
            <p:cNvPr id="170" name=""/>
            <p:cNvSpPr/>
            <p:nvPr/>
          </p:nvSpPr>
          <p:spPr>
            <a:xfrm>
              <a:off x="6629400" y="3124080"/>
              <a:ext cx="1219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o receive discovery not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866920" y="3123720"/>
              <a:ext cx="7621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09720" y="4800600"/>
            <a:ext cx="3429360" cy="685800"/>
            <a:chOff x="5409720" y="4800600"/>
            <a:chExt cx="3429360" cy="685800"/>
          </a:xfrm>
        </p:grpSpPr>
        <p:sp>
          <p:nvSpPr>
            <p:cNvPr id="173" name=""/>
            <p:cNvSpPr/>
            <p:nvPr/>
          </p:nvSpPr>
          <p:spPr>
            <a:xfrm>
              <a:off x="6172200" y="4800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notification when a valid lookup service is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409720" y="5105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7676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information for each lookup service fou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gistra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information about discovered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 = servicesFound + i + 1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hostname and port numb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unnable appen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rd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ar.getLocator().getHos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gistrar.getLocator().getPort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o outputArea on event-dispatch threa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wingUtilities.invokeLater( append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group(s) the lookup service serv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[] groups = registrar.getGroup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Buffer 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he group names, if empty write public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groups.length ; j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j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ames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ames.append( groups[ j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lookup servic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2971800"/>
            <a:ext cx="1676520" cy="824040"/>
            <a:chOff x="914400" y="2971800"/>
            <a:chExt cx="1676520" cy="824040"/>
          </a:xfrm>
        </p:grpSpPr>
        <p:sp>
          <p:nvSpPr>
            <p:cNvPr id="178" name=""/>
            <p:cNvSpPr/>
            <p:nvPr/>
          </p:nvSpPr>
          <p:spPr>
            <a:xfrm>
              <a:off x="914400" y="2971800"/>
              <a:ext cx="1219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por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477120" y="2362320"/>
            <a:ext cx="2133360" cy="685800"/>
            <a:chOff x="6477120" y="2362320"/>
            <a:chExt cx="2133360" cy="685800"/>
          </a:xfrm>
        </p:grpSpPr>
        <p:sp>
          <p:nvSpPr>
            <p:cNvPr id="181" name=""/>
            <p:cNvSpPr/>
            <p:nvPr/>
          </p:nvSpPr>
          <p:spPr>
            <a:xfrm>
              <a:off x="6934320" y="23623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ho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77120" y="27432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638320" y="5486400"/>
            <a:ext cx="2972160" cy="685800"/>
            <a:chOff x="5638320" y="5486400"/>
            <a:chExt cx="2972160" cy="685800"/>
          </a:xfrm>
        </p:grpSpPr>
        <p:sp>
          <p:nvSpPr>
            <p:cNvPr id="184" name=""/>
            <p:cNvSpPr/>
            <p:nvPr/>
          </p:nvSpPr>
          <p:spPr>
            <a:xfrm>
              <a:off x="6781680" y="54864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service group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8320" y="57913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678204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group names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wingUtilities.invokeLat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names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communicating with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number of services foun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sFound = ord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discarded lookup services tha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re no longer vali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discardedRegistrars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ngUtilities.invokeLater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discarded registra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+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ardedRegistrars.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752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 get invalid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05520" y="3962520"/>
            <a:ext cx="3352680" cy="824040"/>
            <a:chOff x="5105520" y="3962520"/>
            <a:chExt cx="3352680" cy="824040"/>
          </a:xfrm>
        </p:grpSpPr>
        <p:sp>
          <p:nvSpPr>
            <p:cNvPr id="189" name=""/>
            <p:cNvSpPr/>
            <p:nvPr/>
          </p:nvSpPr>
          <p:spPr>
            <a:xfrm>
              <a:off x="6324480" y="39625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notification when a lookup service becomes inval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105520" y="4190760"/>
              <a:ext cx="1218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55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Appender is a Runnable class for appending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xt to outputArea on the event-dispatching thread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ToAppen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 to append to outputAre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Appender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Appender( String tex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ToAppend = tex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text to outputArea and scroll to bottom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append( textToAppend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ea.setCaretPositio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Area.getText().length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TextAppend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MulticastDiscovery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Discovery discove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castDiscovery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ver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Inner class TextApp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19360" y="4952880"/>
            <a:ext cx="3353040" cy="337320"/>
            <a:chOff x="4419360" y="4952880"/>
            <a:chExt cx="3353040" cy="337320"/>
          </a:xfrm>
        </p:grpSpPr>
        <p:sp>
          <p:nvSpPr>
            <p:cNvPr id="194" name=""/>
            <p:cNvSpPr/>
            <p:nvPr/>
          </p:nvSpPr>
          <p:spPr>
            <a:xfrm>
              <a:off x="5867280" y="49528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19360" y="5105520"/>
              <a:ext cx="144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19720" y="1371600"/>
            <a:ext cx="3124080" cy="900360"/>
            <a:chOff x="4419720" y="1371600"/>
            <a:chExt cx="3124080" cy="900360"/>
          </a:xfrm>
        </p:grpSpPr>
        <p:sp>
          <p:nvSpPr>
            <p:cNvPr id="197" name=""/>
            <p:cNvSpPr/>
            <p:nvPr/>
          </p:nvSpPr>
          <p:spPr>
            <a:xfrm>
              <a:off x="5257800" y="1447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for appending text to output area on the event-dispatching th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419720" y="13716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32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 Jini Service and Client Implement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ckend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s service’s public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1 Service Interfaces and Supporting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ter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ublic 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endInter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nknown to cli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m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57150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 represents a seminar, or lecture, including the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 title and location.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VersionUID =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20010724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 constructo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String seminarTitle, String seminarLocation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seminar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tion = seminar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representation of Seminar object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 title: 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Title() +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; location: 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Location(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titl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location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ocation(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90960" y="2209680"/>
            <a:ext cx="2667240" cy="580680"/>
            <a:chOff x="5790960" y="2209680"/>
            <a:chExt cx="2667240" cy="580680"/>
          </a:xfrm>
        </p:grpSpPr>
        <p:sp>
          <p:nvSpPr>
            <p:cNvPr id="208" name=""/>
            <p:cNvSpPr/>
            <p:nvPr/>
          </p:nvSpPr>
          <p:spPr>
            <a:xfrm>
              <a:off x="6477120" y="22096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licitly specify the serial version 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790960" y="22856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0760" y="3047760"/>
            <a:ext cx="3810240" cy="657000"/>
            <a:chOff x="4190760" y="3047760"/>
            <a:chExt cx="3810240" cy="657000"/>
          </a:xfrm>
        </p:grpSpPr>
        <p:sp>
          <p:nvSpPr>
            <p:cNvPr id="211" name=""/>
            <p:cNvSpPr/>
            <p:nvPr/>
          </p:nvSpPr>
          <p:spPr>
            <a:xfrm>
              <a:off x="6095880" y="312408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title and location of a semin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190760" y="3047760"/>
              <a:ext cx="1904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2 Instal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 Standard Edition (J2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Starter K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 Technology Starter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Core Platform (J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Technology Extended Platform (JX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ni Software Kit (JS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6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terfa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terface defines methods available from the SeminarInf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t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endInterfa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endInterface defines the interface through which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 proxy communicates with the back-end service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y of the wee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end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038480" y="2361960"/>
            <a:ext cx="2971800" cy="337680"/>
            <a:chOff x="4038480" y="2361960"/>
            <a:chExt cx="2971800" cy="337680"/>
          </a:xfrm>
        </p:grpSpPr>
        <p:sp>
          <p:nvSpPr>
            <p:cNvPr id="216" name=""/>
            <p:cNvSpPr/>
            <p:nvPr/>
          </p:nvSpPr>
          <p:spPr>
            <a:xfrm>
              <a:off x="5486400" y="23623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038480" y="2361960"/>
              <a:ext cx="1447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334120" y="5029200"/>
            <a:ext cx="3047760" cy="580680"/>
            <a:chOff x="5334120" y="5029200"/>
            <a:chExt cx="3047760" cy="580680"/>
          </a:xfrm>
        </p:grpSpPr>
        <p:sp>
          <p:nvSpPr>
            <p:cNvPr id="219" name=""/>
            <p:cNvSpPr/>
            <p:nvPr/>
          </p:nvSpPr>
          <p:spPr>
            <a:xfrm>
              <a:off x="6095880" y="50292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ice proxy’s interfac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known to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34120" y="5410080"/>
              <a:ext cx="7617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2 Service Proxy and Service Implement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Prox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548640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xy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xy is a proxy for the SeminarInfo Jini service.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Serializabl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,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rializable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back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Proxy constructo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BackendInterface inputInterface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Interface = input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for given date through BackendInterfa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 from service through BackendInterfa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Interface.getSeminar( date 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back-end servic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minar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33760" y="3886200"/>
            <a:ext cx="3505320" cy="1067400"/>
            <a:chOff x="5333760" y="3886200"/>
            <a:chExt cx="3505320" cy="1067400"/>
          </a:xfrm>
        </p:grpSpPr>
        <p:sp>
          <p:nvSpPr>
            <p:cNvPr id="226" name=""/>
            <p:cNvSpPr/>
            <p:nvPr/>
          </p:nvSpPr>
          <p:spPr>
            <a:xfrm>
              <a:off x="6400800" y="38862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icates through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end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R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333760" y="42670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028840" y="2133720"/>
            <a:ext cx="3886560" cy="900000"/>
            <a:chOff x="5028840" y="2133720"/>
            <a:chExt cx="3886560" cy="900000"/>
          </a:xfrm>
        </p:grpSpPr>
        <p:sp>
          <p:nvSpPr>
            <p:cNvPr id="229" name=""/>
            <p:cNvSpPr/>
            <p:nvPr/>
          </p:nvSpPr>
          <p:spPr>
            <a:xfrm>
              <a:off x="6095880" y="22096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nar service proxy implements the public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minar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028840" y="21337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3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17220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 is a Jini service that provides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ut Seminars offered throughout the week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UnicastRemoteObject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StringTokeniz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endInterface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s that represent days of the week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ON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UE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DNE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HURS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I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 no-argum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8288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19560" y="2971800"/>
            <a:ext cx="2210040" cy="533520"/>
            <a:chOff x="6019560" y="2971800"/>
            <a:chExt cx="2210040" cy="533520"/>
          </a:xfrm>
        </p:grpSpPr>
        <p:sp>
          <p:nvSpPr>
            <p:cNvPr id="234" name=""/>
            <p:cNvSpPr/>
            <p:nvPr/>
          </p:nvSpPr>
          <p:spPr>
            <a:xfrm>
              <a:off x="7086600" y="29718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019560" y="31240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40080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minar information for given day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 getSeminar( String date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titl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location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seminar information from text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SeminarInfo.class.getResource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Info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oString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Name = fileNam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putStream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Na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re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inputStream )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line = reader.readLi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seminar info from the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No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lin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amp;&amp; ( lineNo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lineNo++ ) {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Tokenizer tokeniz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Tokenizer( lin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s[ lineNo ] = tokenizer.nextToke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ions[ lineNo ] = tokenizer.nextToken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ne = reader.readLin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7524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semina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load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ad seminar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81480" y="2590560"/>
            <a:ext cx="2362320" cy="824400"/>
            <a:chOff x="5181480" y="2590560"/>
            <a:chExt cx="2362320" cy="824400"/>
          </a:xfrm>
        </p:grpSpPr>
        <p:sp>
          <p:nvSpPr>
            <p:cNvPr id="239" name=""/>
            <p:cNvSpPr/>
            <p:nvPr/>
          </p:nvSpPr>
          <p:spPr>
            <a:xfrm>
              <a:off x="6248520" y="2590920"/>
              <a:ext cx="1295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ext file that contains seminar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181480" y="259056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86400" y="4191120"/>
            <a:ext cx="2743200" cy="533160"/>
            <a:chOff x="5486400" y="4191120"/>
            <a:chExt cx="2743200" cy="533160"/>
          </a:xfrm>
        </p:grpSpPr>
        <p:sp>
          <p:nvSpPr>
            <p:cNvPr id="242" name=""/>
            <p:cNvSpPr/>
            <p:nvPr/>
          </p:nvSpPr>
          <p:spPr>
            <a:xfrm>
              <a:off x="6477120" y="41911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seminar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86400" y="43434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32448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ading Seminar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NotFoundException file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rom Seminar fi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given day of the week to available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ON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UE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DNE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HURS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e.equalsIgnoreC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I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tit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ocation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availab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min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 Swing GUI Components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l-View-Controller Architecture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2 Enterprise Edition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duction to Jini; Deitel Seminar Room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2 Micro Edition; Deitel Seminar Ro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086600" y="990720"/>
            <a:ext cx="18288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retur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48520" y="2514600"/>
            <a:ext cx="2361960" cy="580680"/>
            <a:chOff x="6248520" y="2514600"/>
            <a:chExt cx="2361960" cy="580680"/>
          </a:xfrm>
        </p:grpSpPr>
        <p:sp>
          <p:nvSpPr>
            <p:cNvPr id="247" name=""/>
            <p:cNvSpPr/>
            <p:nvPr/>
          </p:nvSpPr>
          <p:spPr>
            <a:xfrm>
              <a:off x="7086600" y="25146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minar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520" y="28954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8840" y="5867280"/>
            <a:ext cx="3277080" cy="580680"/>
            <a:chOff x="5028840" y="5867280"/>
            <a:chExt cx="3277080" cy="580680"/>
          </a:xfrm>
        </p:grpSpPr>
        <p:sp>
          <p:nvSpPr>
            <p:cNvPr id="250" name=""/>
            <p:cNvSpPr/>
            <p:nvPr/>
          </p:nvSpPr>
          <p:spPr>
            <a:xfrm>
              <a:off x="5791320" y="5867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minarInfo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028840" y="6095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0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3 Registering the Service with Lookup Servi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cast discovery for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minarInf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ce with lookup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40080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Service.java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Service discovers lookup services and registe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minarInfo service with those lookup services.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 serviceItem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Service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lookup services with public group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 discover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listener for DiscoveryEvent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086240" y="914400"/>
            <a:ext cx="2057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discover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09720" y="4191120"/>
            <a:ext cx="3124800" cy="1218960"/>
            <a:chOff x="5409720" y="4191120"/>
            <a:chExt cx="3124800" cy="1218960"/>
          </a:xfrm>
        </p:grpSpPr>
        <p:sp>
          <p:nvSpPr>
            <p:cNvPr id="257" name=""/>
            <p:cNvSpPr/>
            <p:nvPr/>
          </p:nvSpPr>
          <p:spPr>
            <a:xfrm>
              <a:off x="6553080" y="419112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 for public lookup services with 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409720" y="46483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8320" y="1676520"/>
            <a:ext cx="2286000" cy="1752480"/>
            <a:chOff x="4648320" y="1676520"/>
            <a:chExt cx="2286000" cy="1752480"/>
          </a:xfrm>
        </p:grpSpPr>
        <p:sp>
          <p:nvSpPr>
            <p:cNvPr id="260" name=""/>
            <p:cNvSpPr/>
            <p:nvPr/>
          </p:nvSpPr>
          <p:spPr>
            <a:xfrm>
              <a:off x="4648320" y="16765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covery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ceive notifications of discovered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486040" y="27432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40080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 Entry for this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service's proxy and Entry 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reateProxy(), entries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Service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ookup service discovery notification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service with each lookup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egistrars.length; i++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service with discovered lookup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Registration registration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gistrar.register( serviceItem, LEASETIM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tch the remote excep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service 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Register service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800240" y="873000"/>
            <a:ext cx="2209680" cy="337320"/>
            <a:chOff x="4800240" y="873000"/>
            <a:chExt cx="2209680" cy="337320"/>
          </a:xfrm>
        </p:grpSpPr>
        <p:sp>
          <p:nvSpPr>
            <p:cNvPr id="265" name=""/>
            <p:cNvSpPr/>
            <p:nvPr/>
          </p:nvSpPr>
          <p:spPr>
            <a:xfrm>
              <a:off x="5618880" y="873000"/>
              <a:ext cx="1391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800240" y="1025280"/>
              <a:ext cx="818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648320" y="1828440"/>
            <a:ext cx="2438280" cy="581040"/>
            <a:chOff x="4648320" y="1828440"/>
            <a:chExt cx="2438280" cy="581040"/>
          </a:xfrm>
        </p:grpSpPr>
        <p:sp>
          <p:nvSpPr>
            <p:cNvPr id="268" name=""/>
            <p:cNvSpPr/>
            <p:nvPr/>
          </p:nvSpPr>
          <p:spPr>
            <a:xfrm>
              <a:off x="5562720" y="18288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648320" y="1828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86400" y="2743200"/>
            <a:ext cx="3048120" cy="337320"/>
            <a:chOff x="5486400" y="2743200"/>
            <a:chExt cx="3048120" cy="337320"/>
          </a:xfrm>
        </p:grpSpPr>
        <p:sp>
          <p:nvSpPr>
            <p:cNvPr id="271" name=""/>
            <p:cNvSpPr/>
            <p:nvPr/>
          </p:nvSpPr>
          <p:spPr>
            <a:xfrm>
              <a:off x="6477120" y="2743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86400" y="2895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714640" y="4114800"/>
            <a:ext cx="3048480" cy="609480"/>
            <a:chOff x="5714640" y="4114800"/>
            <a:chExt cx="3048480" cy="609480"/>
          </a:xfrm>
        </p:grpSpPr>
        <p:sp>
          <p:nvSpPr>
            <p:cNvPr id="274" name=""/>
            <p:cNvSpPr/>
            <p:nvPr/>
          </p:nvSpPr>
          <p:spPr>
            <a:xfrm>
              <a:off x="6781680" y="41148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 with 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714640" y="44197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670572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he seminar service 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ckendInterface for service and create Seminar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Ignore invalid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Create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714640" y="3123720"/>
            <a:ext cx="2667240" cy="414000"/>
            <a:chOff x="5714640" y="3123720"/>
            <a:chExt cx="2667240" cy="414000"/>
          </a:xfrm>
        </p:grpSpPr>
        <p:sp>
          <p:nvSpPr>
            <p:cNvPr id="279" name=""/>
            <p:cNvSpPr/>
            <p:nvPr/>
          </p:nvSpPr>
          <p:spPr>
            <a:xfrm>
              <a:off x="6477120" y="320040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5714640" y="31237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 Set up Run-time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vironment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i-core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i-ext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n-util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65530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main keeps the application aliv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Servi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keep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Alive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application aliv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epAlive.wait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wait interrupted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086240" y="1066320"/>
            <a:ext cx="2057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keep application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3048120"/>
            <a:ext cx="3429000" cy="761760"/>
            <a:chOff x="4114800" y="3048120"/>
            <a:chExt cx="3429000" cy="761760"/>
          </a:xfrm>
        </p:grpSpPr>
        <p:sp>
          <p:nvSpPr>
            <p:cNvPr id="284" name=""/>
            <p:cNvSpPr/>
            <p:nvPr/>
          </p:nvSpPr>
          <p:spPr>
            <a:xfrm>
              <a:off x="5486400" y="3048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application al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14800" y="32767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castSeminarInfo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 with un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semina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 seminar 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67280" cy="6019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SeminarInfoClient.java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SeminarInfoClient uses unicast discovery to locate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 servides for the SeminarInfo service.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client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min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SeminarInterfac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s representing the days of the week on which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s are offered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days = {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Tue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Wedne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Thurs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0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stname and ServiceRegistrar for lookup services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hostname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Registrar registrar;</a:t>
            </a:r>
            <a:br>
              <a:rPr sz="1000"/>
            </a:br>
            <a:r>
              <a:rPr b="1" lang="en-US" sz="1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629040" y="990360"/>
            <a:ext cx="25146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SeminarInfo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Button for finding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findSeminarButton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SeminarInfoCli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( String hos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SeminarInfo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stname = hos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arget hostname for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finding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Semina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 Semin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SeminarButton.addActionListener(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ver lookup services, look up SeminarInfo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rvice, prompt user for desired day of th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eek and display available 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coverLookupServices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minarInterface seminarServi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okupSeminarServi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y = ( String ) JOptionPane.showInputDialog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nicastSeminarInfo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Sel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ys, day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owSeminars( seminarService, day );      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086600" y="914040"/>
            <a:ext cx="18288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4876920"/>
            <a:ext cx="1600200" cy="824040"/>
            <a:chOff x="380880" y="4876920"/>
            <a:chExt cx="1600200" cy="824040"/>
          </a:xfrm>
        </p:grpSpPr>
        <p:sp>
          <p:nvSpPr>
            <p:cNvPr id="293" name=""/>
            <p:cNvSpPr/>
            <p:nvPr/>
          </p:nvSpPr>
          <p:spPr>
            <a:xfrm>
              <a:off x="380880" y="4876920"/>
              <a:ext cx="1067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user-specified 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52578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65530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indSeminarButton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SeminarInfoClient constructo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ver lookup services using unicast discovery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LookupServices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okup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lookup service locator at jini://hostnam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default por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lookupURL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ar = locator.getRegistra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discovering lookup 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LookupService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086240" y="990360"/>
            <a:ext cx="20574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cover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specify lookup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et lookup locator and 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38680" y="2895120"/>
            <a:ext cx="2971800" cy="490320"/>
            <a:chOff x="5638680" y="2895120"/>
            <a:chExt cx="2971800" cy="490320"/>
          </a:xfrm>
        </p:grpSpPr>
        <p:sp>
          <p:nvSpPr>
            <p:cNvPr id="298" name=""/>
            <p:cNvSpPr/>
            <p:nvPr/>
          </p:nvSpPr>
          <p:spPr>
            <a:xfrm>
              <a:off x="6705720" y="304812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lookup 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638680" y="289512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876560" y="4267080"/>
            <a:ext cx="3276720" cy="580680"/>
            <a:chOff x="4876560" y="4267080"/>
            <a:chExt cx="3276720" cy="580680"/>
          </a:xfrm>
        </p:grpSpPr>
        <p:sp>
          <p:nvSpPr>
            <p:cNvPr id="301" name=""/>
            <p:cNvSpPr/>
            <p:nvPr/>
          </p:nvSpPr>
          <p:spPr>
            <a:xfrm>
              <a:off x="6400800" y="42670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lookup locator and registr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4876560" y="441936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670572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kup SeminarInfo service in given ServiceRegistrar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lookupSeminarService(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 requiremen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[] ty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[] { SeminarInterface.class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attribu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]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}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Template templat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Templ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ypes, attribu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he service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minarInterface seminarInterface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minarInterface ) registrar.lookup( template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SeminarInfo 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lookupSeminarServic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Seminar in given SeminarInfo service for give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y of the week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eminars( SeminarInterface seminarService,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y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086240" y="914040"/>
            <a:ext cx="2057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Search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specify service requi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790960" y="1752480"/>
            <a:ext cx="1829160" cy="809280"/>
            <a:chOff x="5790960" y="1752480"/>
            <a:chExt cx="1829160" cy="809280"/>
          </a:xfrm>
        </p:grpSpPr>
        <p:sp>
          <p:nvSpPr>
            <p:cNvPr id="306" name=""/>
            <p:cNvSpPr/>
            <p:nvPr/>
          </p:nvSpPr>
          <p:spPr>
            <a:xfrm>
              <a:off x="6400800" y="19810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ice 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5790960" y="17524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181480" y="2895120"/>
            <a:ext cx="1905120" cy="962280"/>
            <a:chOff x="5181480" y="2895120"/>
            <a:chExt cx="1905120" cy="962280"/>
          </a:xfrm>
        </p:grpSpPr>
        <p:sp>
          <p:nvSpPr>
            <p:cNvPr id="309" name=""/>
            <p:cNvSpPr/>
            <p:nvPr/>
          </p:nvSpPr>
          <p:spPr>
            <a:xfrm>
              <a:off x="6172200" y="3276720"/>
              <a:ext cx="9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181480" y="289512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3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655344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 from SeminarInfo service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minarServic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minar seminar = seminarService.getSeminar( day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ubject and location from Seminar object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 information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d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seminar.getTitl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seminar.getLocation()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minarInfo service does not availabl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minarInfo service does not available.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Seminar inform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uffer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eminars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SeminarInfoClient applicatio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 ( String args[] )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SeminarInfoClient ho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</a:t>
            </a:r>
            <a:r>
              <a:rPr b="1" lang="en-US" sz="4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086600" y="914400"/>
            <a:ext cx="19051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1 append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2 display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715000" y="2971800"/>
            <a:ext cx="2362320" cy="609480"/>
            <a:chOff x="5715000" y="2971800"/>
            <a:chExt cx="2362320" cy="609480"/>
          </a:xfrm>
        </p:grpSpPr>
        <p:sp>
          <p:nvSpPr>
            <p:cNvPr id="314" name=""/>
            <p:cNvSpPr/>
            <p:nvPr/>
          </p:nvSpPr>
          <p:spPr>
            <a:xfrm>
              <a:off x="6629400" y="29718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715000" y="327672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629040" y="2057400"/>
            <a:ext cx="2286360" cy="580680"/>
            <a:chOff x="6629040" y="2057400"/>
            <a:chExt cx="2286360" cy="580680"/>
          </a:xfrm>
        </p:grpSpPr>
        <p:sp>
          <p:nvSpPr>
            <p:cNvPr id="317" name=""/>
            <p:cNvSpPr/>
            <p:nvPr/>
          </p:nvSpPr>
          <p:spPr>
            <a:xfrm>
              <a:off x="7315200" y="20574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seminar title and 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629040" y="22860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7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47712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icastSeminarInfoClient for given hostname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SeminarInfoClient client =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SeminarInfo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pack(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main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086600" y="3200400"/>
            <a:ext cx="18288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2381400" cy="619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571840" cy="1257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114800" y="4191120"/>
            <a:ext cx="257184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JA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iles for the Jin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Service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iles for the Jini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Client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wnloadable Jini service class fi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minarServiceDownload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m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b server and lookup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castSeminarInfo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Start Required Servi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rt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property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lookup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.4 Jini Servic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84360" y="1370160"/>
          <a:ext cx="777240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7240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Introduction to High-Level Helper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y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oin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Discovery Ut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1 Discove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LocatorDisco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over lookup services on multiple known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okupDiscovery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both unicast and multicast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934320" y="838080"/>
            <a:ext cx="2209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castDiscoveryUtilit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624852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castDiscoveryUtilit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how to locate multiple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LookupLocatorDiscovery util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wing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Locator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Discovery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DiscoveryEv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multiple lookup locato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discover lookup services using LookupLocatorDisco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icast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( String url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DiscoveryUtil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output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ver lookup services using LookupLocator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Locator for each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[ urls.leng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ocators.length 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s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( url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LocatorDiscover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Discovery locatorDiscove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Discovery( locato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catorDiscovery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icast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4120" y="2286000"/>
            <a:ext cx="2971800" cy="1067400"/>
            <a:chOff x="5334120" y="2286000"/>
            <a:chExt cx="2971800" cy="1067400"/>
          </a:xfrm>
        </p:grpSpPr>
        <p:sp>
          <p:nvSpPr>
            <p:cNvPr id="344" name=""/>
            <p:cNvSpPr/>
            <p:nvPr/>
          </p:nvSpPr>
          <p:spPr>
            <a:xfrm>
              <a:off x="6629400" y="228600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multiple lookup locators for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334120" y="25909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3962160"/>
            <a:ext cx="3429000" cy="824400"/>
            <a:chOff x="5562720" y="3962160"/>
            <a:chExt cx="3429000" cy="824400"/>
          </a:xfrm>
        </p:grpSpPr>
        <p:sp>
          <p:nvSpPr>
            <p:cNvPr id="347" name=""/>
            <p:cNvSpPr/>
            <p:nvPr/>
          </p:nvSpPr>
          <p:spPr>
            <a:xfrm>
              <a:off x="6400800" y="39625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LocatorDiscov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5562720" y="396216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52520" y="4800600"/>
            <a:ext cx="2057760" cy="489600"/>
            <a:chOff x="4952520" y="4800600"/>
            <a:chExt cx="2057760" cy="489600"/>
          </a:xfrm>
        </p:grpSpPr>
        <p:sp>
          <p:nvSpPr>
            <p:cNvPr id="350" name=""/>
            <p:cNvSpPr/>
            <p:nvPr/>
          </p:nvSpPr>
          <p:spPr>
            <a:xfrm>
              <a:off x="5791320" y="495288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952520" y="48006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6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Lookup services found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Display lookup service info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6858000" cy="5410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foun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for each lookup servic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ServiceDetails( registrar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tails of given Service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ServiceDetails( ServiceRegistrar registra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hostname and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Hos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Por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ookup service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38320" y="990360"/>
            <a:ext cx="2667600" cy="961920"/>
            <a:chOff x="5638320" y="990360"/>
            <a:chExt cx="2667600" cy="961920"/>
          </a:xfrm>
        </p:grpSpPr>
        <p:sp>
          <p:nvSpPr>
            <p:cNvPr id="355" name=""/>
            <p:cNvSpPr/>
            <p:nvPr/>
          </p:nvSpPr>
          <p:spPr>
            <a:xfrm>
              <a:off x="6934320" y="137160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un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638320" y="99036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29200" y="3962520"/>
            <a:ext cx="2819520" cy="609480"/>
            <a:chOff x="5029200" y="3962520"/>
            <a:chExt cx="2819520" cy="609480"/>
          </a:xfrm>
        </p:grpSpPr>
        <p:sp>
          <p:nvSpPr>
            <p:cNvPr id="358" name=""/>
            <p:cNvSpPr/>
            <p:nvPr/>
          </p:nvSpPr>
          <p:spPr>
            <a:xfrm>
              <a:off x="5943600" y="3962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029200" y="41911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05520" y="4572000"/>
            <a:ext cx="2514600" cy="580680"/>
            <a:chOff x="5105520" y="4572000"/>
            <a:chExt cx="2514600" cy="580680"/>
          </a:xfrm>
        </p:grpSpPr>
        <p:sp>
          <p:nvSpPr>
            <p:cNvPr id="361" name=""/>
            <p:cNvSpPr/>
            <p:nvPr/>
          </p:nvSpPr>
          <p:spPr>
            <a:xfrm>
              <a:off x="5943600" y="4572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port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105520" y="4876920"/>
              <a:ext cx="838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5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append outpu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GU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0"/>
            <a:ext cx="6248160" cy="6858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 write publ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group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groups[ i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information to out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Runnable for append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ext and update care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append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utpu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invokeL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playService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181120" y="838080"/>
            <a:ext cx="2210400" cy="580680"/>
            <a:chOff x="5181120" y="838080"/>
            <a:chExt cx="2210400" cy="580680"/>
          </a:xfrm>
        </p:grpSpPr>
        <p:sp>
          <p:nvSpPr>
            <p:cNvPr id="366" name=""/>
            <p:cNvSpPr/>
            <p:nvPr/>
          </p:nvSpPr>
          <p:spPr>
            <a:xfrm>
              <a:off x="5867280" y="838080"/>
              <a:ext cx="152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group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181120" y="9903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3505320"/>
            <a:ext cx="2286000" cy="380880"/>
            <a:chOff x="6248520" y="3505320"/>
            <a:chExt cx="2286000" cy="380880"/>
          </a:xfrm>
        </p:grpSpPr>
        <p:sp>
          <p:nvSpPr>
            <p:cNvPr id="369" name=""/>
            <p:cNvSpPr/>
            <p:nvPr/>
          </p:nvSpPr>
          <p:spPr>
            <a:xfrm>
              <a:off x="7010280" y="3505320"/>
              <a:ext cx="152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248520" y="37339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9" dur="1" fill="hold"/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3 ignore invali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67816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UnicastDiscoveryUtilit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command-line arguments for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UnicastDiscoveryUtilit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ini://hostname:port [ jini://hostname:port ]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UnicastDiscoveryUtility for set of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DiscoveryUtility unicastUtili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DiscoveryUtility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icastUtilit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629040" y="2286000"/>
            <a:ext cx="1829160" cy="580680"/>
            <a:chOff x="6629040" y="2286000"/>
            <a:chExt cx="1829160" cy="580680"/>
          </a:xfrm>
        </p:grpSpPr>
        <p:sp>
          <p:nvSpPr>
            <p:cNvPr id="374" name=""/>
            <p:cNvSpPr/>
            <p:nvPr/>
          </p:nvSpPr>
          <p:spPr>
            <a:xfrm>
              <a:off x="7315200" y="2286000"/>
              <a:ext cx="1143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securit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6629040" y="23623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8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143160" y="1704960"/>
            <a:ext cx="28576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14800" cy="352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0" y="838080"/>
            <a:ext cx="2286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neralDiscoveryUtilit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17220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lDiscoveryUtilit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lDiscoveryUtility demonstrates using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upDiscoveryManager for performing multicas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unicast discove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discov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Registr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discovery.LookupLoc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 lookup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ulticas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unicas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lookup locators for unicas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3 LookupDiscoveryManag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678204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neral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( String url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neralDiscoveryUtil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TextAre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multicas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cast (Group) Notifica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ulticas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ulticas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unicas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icas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cast (Locator) Notifica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icas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unicas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unicas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multicastPanel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ookupLocators and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Locator locator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Locator[ urls.leng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rray of LookupLoc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urls.length 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ors[ i ] = new LookupLocator( url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tantiate a LookupDiscoveryManag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veryGroupManagem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tor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181480" y="4267080"/>
            <a:ext cx="2667240" cy="914400"/>
            <a:chOff x="5181480" y="4267080"/>
            <a:chExt cx="2667240" cy="914400"/>
          </a:xfrm>
        </p:grpSpPr>
        <p:sp>
          <p:nvSpPr>
            <p:cNvPr id="383" name=""/>
            <p:cNvSpPr/>
            <p:nvPr/>
          </p:nvSpPr>
          <p:spPr>
            <a:xfrm>
              <a:off x="6248520" y="42670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locators for 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181480" y="457200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200" y="5181480"/>
            <a:ext cx="1295280" cy="1067040"/>
            <a:chOff x="457200" y="5181480"/>
            <a:chExt cx="1295280" cy="1067040"/>
          </a:xfrm>
        </p:grpSpPr>
        <p:sp>
          <p:nvSpPr>
            <p:cNvPr id="386" name=""/>
            <p:cNvSpPr/>
            <p:nvPr/>
          </p:nvSpPr>
          <p:spPr>
            <a:xfrm>
              <a:off x="457200" y="5181480"/>
              <a:ext cx="990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7920" y="548640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320" y="5410080"/>
            <a:ext cx="2514960" cy="762120"/>
            <a:chOff x="5638320" y="5410080"/>
            <a:chExt cx="2514960" cy="762120"/>
          </a:xfrm>
        </p:grpSpPr>
        <p:sp>
          <p:nvSpPr>
            <p:cNvPr id="389" name=""/>
            <p:cNvSpPr/>
            <p:nvPr/>
          </p:nvSpPr>
          <p:spPr>
            <a:xfrm>
              <a:off x="6477120" y="54100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 Lookup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638320" y="57150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24280" y="762120"/>
            <a:ext cx="2133720" cy="914400"/>
            <a:chOff x="4724280" y="762120"/>
            <a:chExt cx="2133720" cy="914400"/>
          </a:xfrm>
        </p:grpSpPr>
        <p:sp>
          <p:nvSpPr>
            <p:cNvPr id="392" name=""/>
            <p:cNvSpPr/>
            <p:nvPr/>
          </p:nvSpPr>
          <p:spPr>
            <a:xfrm>
              <a:off x="5029200" y="7621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rea for 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724280" y="1371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33760" y="3048120"/>
            <a:ext cx="3657960" cy="489600"/>
            <a:chOff x="5333760" y="3048120"/>
            <a:chExt cx="3657960" cy="489600"/>
          </a:xfrm>
        </p:grpSpPr>
        <p:sp>
          <p:nvSpPr>
            <p:cNvPr id="395" name=""/>
            <p:cNvSpPr/>
            <p:nvPr/>
          </p:nvSpPr>
          <p:spPr>
            <a:xfrm>
              <a:off x="6019920" y="32004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rea for un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5333760" y="3048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7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4 handle excep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Receive notifica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get lookup service proxy registra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display lookup service inf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678204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 Jini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eneralDiscoveryUtili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 of discovered lookup servi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proxy registrars for those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for each lookup servic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egistrar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multicast results in multicas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okupManager.getFrom( registrars[ i ] ) 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okupDiscoveryManag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OM_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ServiceDetails( registrars[ i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ulticas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unicast results in unicas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ServiceDetails( registrars[ i ], unicas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866920" y="4191120"/>
            <a:ext cx="2819880" cy="824040"/>
            <a:chOff x="5866920" y="4191120"/>
            <a:chExt cx="2819880" cy="824040"/>
          </a:xfrm>
        </p:grpSpPr>
        <p:sp>
          <p:nvSpPr>
            <p:cNvPr id="400" name=""/>
            <p:cNvSpPr/>
            <p:nvPr/>
          </p:nvSpPr>
          <p:spPr>
            <a:xfrm>
              <a:off x="6705720" y="419112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multicast discovere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866920" y="449568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638320" y="5105520"/>
            <a:ext cx="3277080" cy="761760"/>
            <a:chOff x="5638320" y="5105520"/>
            <a:chExt cx="3277080" cy="761760"/>
          </a:xfrm>
        </p:grpSpPr>
        <p:sp>
          <p:nvSpPr>
            <p:cNvPr id="403" name=""/>
            <p:cNvSpPr/>
            <p:nvPr/>
          </p:nvSpPr>
          <p:spPr>
            <a:xfrm>
              <a:off x="6477120" y="51055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unicast discovered lookup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638320" y="541008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1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Display details of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1 append output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64771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tails of given ServiceRegistr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ServiceDetai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 registra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outputAre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hostname and por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okup Servic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Ho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Hos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gistrar.getLocator().getPor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Group supp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ookup service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groups = registrar.getGroup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group names; if empty write publ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groups.length 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oups[ i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c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uffer.append( groups[ i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257440" y="2133720"/>
            <a:ext cx="2591280" cy="533160"/>
            <a:chOff x="5257440" y="2133720"/>
            <a:chExt cx="2591280" cy="533160"/>
          </a:xfrm>
        </p:grpSpPr>
        <p:sp>
          <p:nvSpPr>
            <p:cNvPr id="408" name=""/>
            <p:cNvSpPr/>
            <p:nvPr/>
          </p:nvSpPr>
          <p:spPr>
            <a:xfrm>
              <a:off x="5867280" y="213372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257440" y="22860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57440" y="2819520"/>
            <a:ext cx="2591280" cy="337320"/>
            <a:chOff x="5257440" y="2819520"/>
            <a:chExt cx="2591280" cy="337320"/>
          </a:xfrm>
        </p:grpSpPr>
        <p:sp>
          <p:nvSpPr>
            <p:cNvPr id="411" name=""/>
            <p:cNvSpPr/>
            <p:nvPr/>
          </p:nvSpPr>
          <p:spPr>
            <a:xfrm>
              <a:off x="5943600" y="28195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25744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257440" y="4495680"/>
            <a:ext cx="2667240" cy="580680"/>
            <a:chOff x="5257440" y="4495680"/>
            <a:chExt cx="2667240" cy="580680"/>
          </a:xfrm>
        </p:grpSpPr>
        <p:sp>
          <p:nvSpPr>
            <p:cNvPr id="414" name=""/>
            <p:cNvSpPr/>
            <p:nvPr/>
          </p:nvSpPr>
          <p:spPr>
            <a:xfrm>
              <a:off x="6400800" y="449568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service grou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257440" y="48006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0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2 GUI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Ignore invalid lookup servic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617220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information to out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Runnable for append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ppend text and update care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append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utput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utputArea.getText().leng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invokeL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playService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discarded lookup service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55344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GeneralDiscoveryUtilit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GeneralDiscoveryUtility for set of host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DiscoveryUtility utili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DiscoveryUtility( arg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tilit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4991400" cy="316224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5486400" y="2286000"/>
            <a:ext cx="3352680" cy="642240"/>
            <a:chOff x="5486400" y="2286000"/>
            <a:chExt cx="3352680" cy="642240"/>
          </a:xfrm>
        </p:grpSpPr>
        <p:sp>
          <p:nvSpPr>
            <p:cNvPr id="422" name=""/>
            <p:cNvSpPr/>
            <p:nvPr/>
          </p:nvSpPr>
          <p:spPr>
            <a:xfrm>
              <a:off x="6477120" y="259092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 when window clo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5486400" y="22860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2 Ent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Jini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defin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2 Ent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Provi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No-argument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Other construct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678204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vi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Provider is an Entry object for the SeminarInfo servi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Contro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rovid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Provider constructor for specifying provid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String provid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viderName = prov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04960" y="3733920"/>
            <a:ext cx="3353040" cy="337320"/>
            <a:chOff x="3504960" y="3733920"/>
            <a:chExt cx="3353040" cy="337320"/>
          </a:xfrm>
        </p:grpSpPr>
        <p:sp>
          <p:nvSpPr>
            <p:cNvPr id="432" name=""/>
            <p:cNvSpPr/>
            <p:nvPr/>
          </p:nvSpPr>
          <p:spPr>
            <a:xfrm>
              <a:off x="4572000" y="37339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-argument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504960" y="3962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38120" y="4723920"/>
            <a:ext cx="3429360" cy="337680"/>
            <a:chOff x="4038120" y="4723920"/>
            <a:chExt cx="3429360" cy="337680"/>
          </a:xfrm>
        </p:grpSpPr>
        <p:sp>
          <p:nvSpPr>
            <p:cNvPr id="435" name=""/>
            <p:cNvSpPr/>
            <p:nvPr/>
          </p:nvSpPr>
          <p:spPr>
            <a:xfrm>
              <a:off x="5715000" y="47242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038120" y="47239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962520" y="3124080"/>
            <a:ext cx="1981080" cy="337320"/>
            <a:chOff x="3962520" y="3124080"/>
            <a:chExt cx="1981080" cy="337320"/>
          </a:xfrm>
        </p:grpSpPr>
        <p:sp>
          <p:nvSpPr>
            <p:cNvPr id="438" name=""/>
            <p:cNvSpPr/>
            <p:nvPr/>
          </p:nvSpPr>
          <p:spPr>
            <a:xfrm>
              <a:off x="4800600" y="312408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962520" y="32767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8" dur="1" fill="hold"/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3 Lease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lea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f-he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ver from commonplace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ew leases until service ter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aseRenewal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4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2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minarInfoLeaseService</a:t>
            </a:r>
            <a:br>
              <a:rPr sz="1000"/>
            </a:b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Declaration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685800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Lease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LeaseService discovers lookup services, regis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minarInfo service, and creates a LeaseRenewal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aintain the SeminarInfo service le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leas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ease.Le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.SeminarProv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y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 disco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 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TI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 multicast discovers lookup servic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2 specify serv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662940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Lease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lookup services with public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Discovery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ver.addDiscovery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LookupDiscov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y[] ent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the service's proxy an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te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reateProxy(), entr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Lease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57800" y="2285640"/>
            <a:ext cx="2819520" cy="718560"/>
            <a:chOff x="5257800" y="2285640"/>
            <a:chExt cx="2819520" cy="718560"/>
          </a:xfrm>
        </p:grpSpPr>
        <p:sp>
          <p:nvSpPr>
            <p:cNvPr id="447" name=""/>
            <p:cNvSpPr/>
            <p:nvPr/>
          </p:nvSpPr>
          <p:spPr>
            <a:xfrm>
              <a:off x="6248520" y="26668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cast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257800" y="22856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105520" y="3581280"/>
            <a:ext cx="2743200" cy="685800"/>
            <a:chOff x="5105520" y="3581280"/>
            <a:chExt cx="2743200" cy="685800"/>
          </a:xfrm>
        </p:grpSpPr>
        <p:sp>
          <p:nvSpPr>
            <p:cNvPr id="450" name=""/>
            <p:cNvSpPr/>
            <p:nvPr/>
          </p:nvSpPr>
          <p:spPr>
            <a:xfrm>
              <a:off x="6400800" y="358128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105520" y="373392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2" dur="1" fill="hold"/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Foun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1 register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2 renew service’s leas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6553080" cy="62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s of discover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vered ( Discovery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iceRegistrar[] registrars = event.getRegistra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the service with the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egistrar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iceRegistrar registrar = registrar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gister the service with the lookup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rviceRegistration regist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gistrar.register( item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ASE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LeaseRenewal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RenewalManager lease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new SeminarInfo lease indefini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easeManager.renewUntil( registration.getLeas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eas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egistering Service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v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62720" y="2362320"/>
            <a:ext cx="2438280" cy="337320"/>
            <a:chOff x="5562720" y="2362320"/>
            <a:chExt cx="2438280" cy="337320"/>
          </a:xfrm>
        </p:grpSpPr>
        <p:sp>
          <p:nvSpPr>
            <p:cNvPr id="455" name=""/>
            <p:cNvSpPr/>
            <p:nvPr/>
          </p:nvSpPr>
          <p:spPr>
            <a:xfrm>
              <a:off x="6477120" y="23623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562720" y="251460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334120" y="4266720"/>
            <a:ext cx="2971800" cy="490320"/>
            <a:chOff x="5334120" y="4266720"/>
            <a:chExt cx="2971800" cy="490320"/>
          </a:xfrm>
        </p:grpSpPr>
        <p:sp>
          <p:nvSpPr>
            <p:cNvPr id="458" name=""/>
            <p:cNvSpPr/>
            <p:nvPr/>
          </p:nvSpPr>
          <p:spPr>
            <a:xfrm>
              <a:off x="6248520" y="44197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ew service’s 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5334120" y="42667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6" dur="1" fill="hold"/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Ignore invalid lookup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 Create service prox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63244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gnore discarded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arded( Discovery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minar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ckendInterface reference to Seminar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ckendInterface backInterfa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backInterfa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715000" y="3276720"/>
            <a:ext cx="2209680" cy="656640"/>
            <a:chOff x="5715000" y="3276720"/>
            <a:chExt cx="2209680" cy="656640"/>
          </a:xfrm>
        </p:grpSpPr>
        <p:sp>
          <p:nvSpPr>
            <p:cNvPr id="463" name=""/>
            <p:cNvSpPr/>
            <p:nvPr/>
          </p:nvSpPr>
          <p:spPr>
            <a:xfrm>
              <a:off x="6553080" y="3352680"/>
              <a:ext cx="137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5715000" y="32767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5" dur="1" fill="hold"/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 mai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1 set securit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2 keep application al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560" y="609480"/>
            <a:ext cx="655308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SeminarInfoLease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minarInfoLeaseService 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Lease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keepAliv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on keepAlive Object to keep service run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epAlive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keep application al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epAlive.wa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wait interrup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ynchronized b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886200" y="3657600"/>
            <a:ext cx="3048120" cy="380880"/>
            <a:chOff x="3886200" y="3657600"/>
            <a:chExt cx="3048120" cy="380880"/>
          </a:xfrm>
        </p:grpSpPr>
        <p:sp>
          <p:nvSpPr>
            <p:cNvPr id="468" name=""/>
            <p:cNvSpPr/>
            <p:nvPr/>
          </p:nvSpPr>
          <p:spPr>
            <a:xfrm>
              <a:off x="487692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ep application al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886200" y="38862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4" dur="1" fill="hold"/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3 Lease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oinManag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Ut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Jini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up dis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regi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se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oin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09920" y="838080"/>
            <a:ext cx="2133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inarInfoJoin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 Import pack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Join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minarInfoJoinService uses a JoinManager to find look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s, register the Seminar service with the look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ices and manage lease renewa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jo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IO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lookup.Servic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core.entry.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ini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entry.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ease.LeaseRenewal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Join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discovery.LookupDiscover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t.jini.lookup.ServiceID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seminar.servic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ini.utilities.en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 Construc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1 specify discovery manag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2 specify servic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3 deploy service</a:t>
            </a:r>
            <a:br>
              <a:rPr sz="1200"/>
            </a:b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647712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oinManager to register SeminarInfo servi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manage le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okupDiscoveryManager for disco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serv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okupDiscoveryManager lookupMana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Discover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d set Entry name fo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[] entries = new Entry[ 1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ies[ 0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vi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in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inManager( createProxy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tr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okupManag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seRenewal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Join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minarInfoJoinServi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477120" y="2590920"/>
            <a:ext cx="2514600" cy="580680"/>
            <a:chOff x="6477120" y="2590920"/>
            <a:chExt cx="2514600" cy="580680"/>
          </a:xfrm>
        </p:grpSpPr>
        <p:sp>
          <p:nvSpPr>
            <p:cNvPr id="480" name=""/>
            <p:cNvSpPr/>
            <p:nvPr/>
          </p:nvSpPr>
          <p:spPr>
            <a:xfrm>
              <a:off x="7315200" y="259092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discovery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6477120" y="266652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171840" y="3429000"/>
            <a:ext cx="2057760" cy="337320"/>
            <a:chOff x="6171840" y="3429000"/>
            <a:chExt cx="2057760" cy="337320"/>
          </a:xfrm>
        </p:grpSpPr>
        <p:sp>
          <p:nvSpPr>
            <p:cNvPr id="483" name=""/>
            <p:cNvSpPr/>
            <p:nvPr/>
          </p:nvSpPr>
          <p:spPr>
            <a:xfrm>
              <a:off x="6781680" y="342900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6171840" y="35049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028840" y="4343400"/>
            <a:ext cx="2591280" cy="642240"/>
            <a:chOff x="5028840" y="4343400"/>
            <a:chExt cx="2591280" cy="642240"/>
          </a:xfrm>
        </p:grpSpPr>
        <p:sp>
          <p:nvSpPr>
            <p:cNvPr id="486" name=""/>
            <p:cNvSpPr/>
            <p:nvPr/>
          </p:nvSpPr>
          <p:spPr>
            <a:xfrm>
              <a:off x="6172200" y="46483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lo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028840" y="43434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3" dur="1" fill="hold"/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 Create service proxy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 Get ServiceI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 m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55344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eminar service 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terface createProx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minarProxy for SeminarInfo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Proxy( new SeminarInfo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Seminar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ox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of ServiceI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iceIDNotify( ServiceID service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ice I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ic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SeminarInfoJoin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.getSecurityManager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minarInfoJoin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minarInfoJoinServ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638320" y="1371240"/>
            <a:ext cx="2591280" cy="414000"/>
            <a:chOff x="5638320" y="1371240"/>
            <a:chExt cx="2591280" cy="414000"/>
          </a:xfrm>
        </p:grpSpPr>
        <p:sp>
          <p:nvSpPr>
            <p:cNvPr id="491" name=""/>
            <p:cNvSpPr/>
            <p:nvPr/>
          </p:nvSpPr>
          <p:spPr>
            <a:xfrm>
              <a:off x="6324480" y="14479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service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638320" y="1371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019920" y="4038120"/>
            <a:ext cx="2819160" cy="337680"/>
            <a:chOff x="6019920" y="4038120"/>
            <a:chExt cx="2819160" cy="337680"/>
          </a:xfrm>
        </p:grpSpPr>
        <p:sp>
          <p:nvSpPr>
            <p:cNvPr id="494" name=""/>
            <p:cNvSpPr/>
            <p:nvPr/>
          </p:nvSpPr>
          <p:spPr>
            <a:xfrm>
              <a:off x="6934320" y="403848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ed Service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6019920" y="4038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7" dur="1" fill="hold"/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67480" y="-290880"/>
            <a:ext cx="990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60199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6019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oinManag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Ut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.5 Service Discovery Utili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 Jin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Discovery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local cache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event 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earches not possibl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ice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16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6324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4:24:58Z</dcterms:created>
  <dc:creator>zhang</dc:creator>
  <dc:description/>
  <dc:language>en-US</dc:language>
  <cp:lastModifiedBy>Sean Santry</cp:lastModifiedBy>
  <dcterms:modified xsi:type="dcterms:W3CDTF">2002-01-17T18:21:03Z</dcterms:modified>
  <cp:revision>211</cp:revision>
  <dc:subject/>
  <dc:title>Chapter 22 - Jini</dc:title>
</cp:coreProperties>
</file>