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81634-BC96-4A7A-AE23-3930007D8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6461-B70D-4EA7-8394-830EB7B3D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7D70E-D9A6-4AA0-A0F6-EECED494C3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B18BC-E3AA-4021-AAD5-BB1ED1C1D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556E3-1D23-4E1B-9B0E-FABA121B2D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4B320-2391-4B57-888B-68255CA4BD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2C0E9-09E8-4C1D-BF4F-C27E84C6AF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84F06-3E71-4A34-BA1D-60C2DB0CAC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4A0A8-0980-42D2-AA60-4CCDB41E6C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AA244-38DF-4EA5-9558-5231C81CA7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E1E81-749D-42E8-B25E-7FEA682AE1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1B5E-15D3-403F-B935-6DD765C0AC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D46D4-CCBB-4B5D-9CA2-F995AA642F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14BA3-E950-4F57-B5FE-AD2AE14D28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485C1-57DE-412E-8BE0-8AEF7108C1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F81CA-1FD3-4AB8-9472-53DEFE2C8F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4436A-EA06-4787-A588-FF7803F77E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065BB-F9EF-406B-AA6B-74EE3FB56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BF318-01C8-4BEC-8259-72331A8FB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4596F-1EC1-412E-AEA6-95D1307C8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22BA1-B3E5-4972-AEBB-67322E749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C41A8-4095-48DC-A93D-702F6C7A9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1A5A7-1374-43DA-B6C3-7A7CF5258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BF6C-3ECE-4CDE-85B4-977847140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CBA8-EA01-47B4-8AC8-6580A772E7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DEDC-1318-48FF-B095-0518F3DE74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http://www.sun.com/jini/specs/js1_1.pdf" TargetMode="External"/><Relationship Id="rId2" Type="http://schemas.openxmlformats.org/officeDocument/2006/relationships/hyperlink" Target="http://www.javaworld.com/jw-11-1999/jw-11-jiniology.html" TargetMode="External"/><Relationship Id="rId3" Type="http://schemas.openxmlformats.org/officeDocument/2006/relationships/hyperlink" Target="http://www.javaworld.com/jw-01-2000/jw-01-jiniology.html" TargetMode="External"/><Relationship Id="rId4" Type="http://schemas.openxmlformats.org/officeDocument/2006/relationships/hyperlink" Target="http://www.javaworld.com/jw-03-2000/jw-03-jiniology.html" TargetMode="External"/><Relationship Id="rId5" Type="http://schemas.openxmlformats.org/officeDocument/2006/relationships/hyperlink" Target="http://www.javaworld.com/jw-04-2000/jw-0421-jiniology.html" TargetMode="External"/><Relationship Id="rId6" Type="http://schemas.openxmlformats.org/officeDocument/2006/relationships/hyperlink" Target="http://www.javaworld.com/jw-06-2000/jw-0623-jiniology.html" TargetMode="External"/><Relationship Id="rId7" Type="http://schemas.openxmlformats.org/officeDocument/2006/relationships/hyperlink" Target="http://www.byte.com/documents/s=146/BYT19990921S0001/index.htm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3 - JavaSpac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762120"/>
            <a:ext cx="69343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3300"/>
                </a:solidFill>
                <a:uFillTx/>
                <a:latin typeface="AvantGarde"/>
              </a:rPr>
              <a:t>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1 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2 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JavaSpaces Service Properties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3 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JavaSpaces Service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4 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Discovering the JavaSpaces Service 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5 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JavaSpace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 Interface 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6 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Defining an 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7 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Write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8 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Read and Take Operations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8.1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Read Operation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8.2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Take Operation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9 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Notify Operation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10 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Method Snapshot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11 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Updating Entries with Jini Transaction Service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23.11.1 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Defining User Interface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11.2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Discovering the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TransactionManager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11.3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Updating an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Entry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12 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Case Study: Distributed Image Processing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12.1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Defining an Image Processor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12.2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Partitioning an Image into Smaller Pie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12.3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Compiling and Running the example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23.13  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vantGarde"/>
              </a:rPr>
              <a:t>Internet and World Wide Web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6 Defining an Ent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an E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-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mitive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1218960"/>
            <a:ext cx="6095880" cy="3733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3.2: AttendeeCounter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defines the AttendeeCounter Entry object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comm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Entry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ttendeeCount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eminarDay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attendeeCount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mpty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ttendeeCounter() {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has a single String inpu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ttendeeCounter( String day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minarDay = day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7162920" y="990720"/>
            <a:ext cx="18288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ttendeeCou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Empt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Metho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952880" y="1752480"/>
            <a:ext cx="1981440" cy="609840"/>
            <a:chOff x="4952880" y="1752480"/>
            <a:chExt cx="1981440" cy="609840"/>
          </a:xfrm>
        </p:grpSpPr>
        <p:sp>
          <p:nvSpPr>
            <p:cNvPr id="122" name=""/>
            <p:cNvSpPr/>
            <p:nvPr/>
          </p:nvSpPr>
          <p:spPr>
            <a:xfrm>
              <a:off x="5486400" y="1752480"/>
              <a:ext cx="1447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s Entry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952880" y="20574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419720" y="2590920"/>
            <a:ext cx="2971800" cy="824040"/>
            <a:chOff x="4419720" y="2590920"/>
            <a:chExt cx="2971800" cy="824040"/>
          </a:xfrm>
        </p:grpSpPr>
        <p:sp>
          <p:nvSpPr>
            <p:cNvPr id="125" name=""/>
            <p:cNvSpPr/>
            <p:nvPr/>
          </p:nvSpPr>
          <p:spPr>
            <a:xfrm>
              <a:off x="5334120" y="2590920"/>
              <a:ext cx="2057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the Integer wrapper class to wrap the int primitive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4419720" y="2971440"/>
              <a:ext cx="914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038480" y="3580920"/>
            <a:ext cx="3810240" cy="414000"/>
            <a:chOff x="4038480" y="3580920"/>
            <a:chExt cx="3810240" cy="414000"/>
          </a:xfrm>
        </p:grpSpPr>
        <p:sp>
          <p:nvSpPr>
            <p:cNvPr id="128" name=""/>
            <p:cNvSpPr/>
            <p:nvPr/>
          </p:nvSpPr>
          <p:spPr>
            <a:xfrm>
              <a:off x="5562720" y="365760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-argument constr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4038480" y="3580920"/>
              <a:ext cx="1524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7 Write Op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kes three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t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Trans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long value that specifies lease tim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write throws two 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mote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ansaction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640080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WriteOperation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This application initializes an new Entry object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and puts this Entry to the JavaSpace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m.deitel.advjhtp1.javaspace.writ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Jini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et.jini.core.lease.Leas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et.jini.core.transaction.Transaction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Jini extension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et.jini.space.Java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Java core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ava.rmi.Remote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Java extension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avax.swi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Deitel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m.deitel.advjhtp1.javaspace.common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riteOperation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avaSpace 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ring[] days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"Mon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"Tue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"Wedne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 "Thur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"Fri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}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ring outpu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086600" y="990360"/>
            <a:ext cx="190512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WriteOp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6705720" cy="65534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riteOperation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riteOperation( String hostname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jiniUR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ini:/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 hostnam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SpaceFinder findtoo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Finder( jiniUR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pace = findtool.getJavaSp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posit new Entry to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riteEntry( String day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AttendeeCounter Entry and deposit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try object in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ttendeeCounter coun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ttendeeCounter( day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nter.counter =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pace.write( counte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itialize the Entry: 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Day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day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Count: 0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network failure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nvalid transac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ransaction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086240" y="914400"/>
            <a:ext cx="20574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 obtain JavaSpaces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Write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1 initialize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write Entry into Java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638680" y="3429000"/>
            <a:ext cx="2438640" cy="657000"/>
            <a:chOff x="5638680" y="3429000"/>
            <a:chExt cx="2438640" cy="657000"/>
          </a:xfrm>
        </p:grpSpPr>
        <p:sp>
          <p:nvSpPr>
            <p:cNvPr id="137" name=""/>
            <p:cNvSpPr/>
            <p:nvPr/>
          </p:nvSpPr>
          <p:spPr>
            <a:xfrm>
              <a:off x="6629400" y="3505320"/>
              <a:ext cx="1447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rite Entry into JavaSp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5638680" y="342900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266720" y="1447560"/>
            <a:ext cx="3429360" cy="413640"/>
            <a:chOff x="4266720" y="1447560"/>
            <a:chExt cx="3429360" cy="413640"/>
          </a:xfrm>
        </p:grpSpPr>
        <p:sp>
          <p:nvSpPr>
            <p:cNvPr id="140" name=""/>
            <p:cNvSpPr/>
            <p:nvPr/>
          </p:nvSpPr>
          <p:spPr>
            <a:xfrm>
              <a:off x="5029200" y="15238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Spac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4266720" y="144756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572000" y="4038480"/>
            <a:ext cx="3429000" cy="565920"/>
            <a:chOff x="4572000" y="4038480"/>
            <a:chExt cx="3429000" cy="565920"/>
          </a:xfrm>
        </p:grpSpPr>
        <p:sp>
          <p:nvSpPr>
            <p:cNvPr id="143" name=""/>
            <p:cNvSpPr/>
            <p:nvPr/>
          </p:nvSpPr>
          <p:spPr>
            <a:xfrm>
              <a:off x="5410080" y="4267080"/>
              <a:ext cx="2590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utput displayed to the 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4572000" y="403848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655308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how outpu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wOutput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TextArea outpu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Area.setText( output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Area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riteOperation Outpu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NFORMATION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erminate program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mai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hostnam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WriteOperation hostnam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user input da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ay = ( String ) JOptionPane.showInputDialog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y Sele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QUESTION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ays, day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rite 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riteOperation writ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riteOperation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rite.writeEntry( day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rite.showOutput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7086600" y="914400"/>
            <a:ext cx="18288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Show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1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1 get ho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2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647960" y="1752480"/>
            <a:ext cx="2438640" cy="657000"/>
            <a:chOff x="4647960" y="1752480"/>
            <a:chExt cx="2438640" cy="657000"/>
          </a:xfrm>
        </p:grpSpPr>
        <p:sp>
          <p:nvSpPr>
            <p:cNvPr id="148" name=""/>
            <p:cNvSpPr/>
            <p:nvPr/>
          </p:nvSpPr>
          <p:spPr>
            <a:xfrm>
              <a:off x="5334120" y="182880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s output to a message dia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4647960" y="1752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562360" y="3962520"/>
            <a:ext cx="2743560" cy="609480"/>
            <a:chOff x="5562360" y="3962520"/>
            <a:chExt cx="2743560" cy="609480"/>
          </a:xfrm>
        </p:grpSpPr>
        <p:sp>
          <p:nvSpPr>
            <p:cNvPr id="151" name=""/>
            <p:cNvSpPr/>
            <p:nvPr/>
          </p:nvSpPr>
          <p:spPr>
            <a:xfrm>
              <a:off x="6553080" y="3962520"/>
              <a:ext cx="17528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user input 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562360" y="411480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38880" y="1295280"/>
            <a:ext cx="190512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55" name="DaySelection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2571840" cy="1247760"/>
          </a:xfrm>
          <a:prstGeom prst="rect">
            <a:avLst/>
          </a:prstGeom>
          <a:ln w="0">
            <a:noFill/>
          </a:ln>
        </p:spPr>
      </p:pic>
      <p:pic>
        <p:nvPicPr>
          <p:cNvPr id="156" name="WriteInitial" descr=""/>
          <p:cNvPicPr/>
          <p:nvPr/>
        </p:nvPicPr>
        <p:blipFill>
          <a:blip r:embed="rId2"/>
          <a:stretch/>
        </p:blipFill>
        <p:spPr>
          <a:xfrm>
            <a:off x="1981080" y="2971800"/>
            <a:ext cx="25718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8 Read and Take Oper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 ma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blic fie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ll acts as wildc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 read and readIfExi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 take and takeIfExi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8.1 Read Operat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stay i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ava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adIfExis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argu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wait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s before return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adIfExi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mmedi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640080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Operation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application reads an Entry from the JavaSpace an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s the Entry information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read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transaction.Transaction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UnusableEntry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space.Java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lang.Interrupted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common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adOperation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 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days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n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ue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dne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ur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i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outpu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7086240" y="914040"/>
            <a:ext cx="198108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adOp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systems commun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ssage Que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Space techn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Space fe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i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action Man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70572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gets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adOperation( String hostname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jiniUR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ini:/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 hostnam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SpaceFinder findtoo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Finder( jiniUR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pace = findtool.getJavaSp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 Entry from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adEntry( String day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pecify matching template, read templat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rom the JavaSpace and output the Entry informa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ad Entry from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ttendeeCounter coun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ttendeeCounter( day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ttendeeCounter resultCounter = ( AttendeeCounter )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pace.read( counter,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JavaSpac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_WAI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Counter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orry, cannot find an Entry for "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+ day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!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Entry informa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nt Informa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Day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esultCounter.seminarDay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Cou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+ resultCounter.counter.intValue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7086240" y="914400"/>
            <a:ext cx="20574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Obtain Java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Read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1 specify templ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read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3 append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171840" y="2666880"/>
            <a:ext cx="2286360" cy="685800"/>
            <a:chOff x="6171840" y="2666880"/>
            <a:chExt cx="2286360" cy="685800"/>
          </a:xfrm>
        </p:grpSpPr>
        <p:sp>
          <p:nvSpPr>
            <p:cNvPr id="166" name=""/>
            <p:cNvSpPr/>
            <p:nvPr/>
          </p:nvSpPr>
          <p:spPr>
            <a:xfrm>
              <a:off x="6781680" y="2666880"/>
              <a:ext cx="1676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temp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171840" y="2819520"/>
              <a:ext cx="6094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638680" y="3886200"/>
            <a:ext cx="2210040" cy="565920"/>
            <a:chOff x="5638680" y="3886200"/>
            <a:chExt cx="2210040" cy="565920"/>
          </a:xfrm>
        </p:grpSpPr>
        <p:sp>
          <p:nvSpPr>
            <p:cNvPr id="169" name=""/>
            <p:cNvSpPr/>
            <p:nvPr/>
          </p:nvSpPr>
          <p:spPr>
            <a:xfrm>
              <a:off x="6629400" y="4114800"/>
              <a:ext cx="1219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ad E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5638680" y="3886200"/>
              <a:ext cx="990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267080" y="4495680"/>
            <a:ext cx="2895840" cy="885600"/>
            <a:chOff x="4267080" y="4495680"/>
            <a:chExt cx="2895840" cy="885600"/>
          </a:xfrm>
        </p:grpSpPr>
        <p:sp>
          <p:nvSpPr>
            <p:cNvPr id="172" name=""/>
            <p:cNvSpPr/>
            <p:nvPr/>
          </p:nvSpPr>
          <p:spPr>
            <a:xfrm>
              <a:off x="5638680" y="4800600"/>
              <a:ext cx="1524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uld not find a matching E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4267080" y="4495680"/>
              <a:ext cx="13716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562360" y="5638680"/>
            <a:ext cx="3124440" cy="337320"/>
            <a:chOff x="5562360" y="5638680"/>
            <a:chExt cx="3124440" cy="337320"/>
          </a:xfrm>
        </p:grpSpPr>
        <p:sp>
          <p:nvSpPr>
            <p:cNvPr id="175" name=""/>
            <p:cNvSpPr/>
            <p:nvPr/>
          </p:nvSpPr>
          <p:spPr>
            <a:xfrm>
              <a:off x="6629400" y="563868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d a matching E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562360" y="5791320"/>
              <a:ext cx="10666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6019920" cy="65534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network failure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nvalid transac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ransaction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unusable Entry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nusableEntry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nterrupting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rrupted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read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how outpu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wOutput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TextArea outpu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Area.setText( output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Area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adOperation Outpu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NFORMATION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erminate program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086240" y="914400"/>
            <a:ext cx="20574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4 Handle exce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 Show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1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334120" y="4419720"/>
            <a:ext cx="2666880" cy="838080"/>
            <a:chOff x="5334120" y="4419720"/>
            <a:chExt cx="2666880" cy="838080"/>
          </a:xfrm>
        </p:grpSpPr>
        <p:sp>
          <p:nvSpPr>
            <p:cNvPr id="180" name=""/>
            <p:cNvSpPr/>
            <p:nvPr/>
          </p:nvSpPr>
          <p:spPr>
            <a:xfrm>
              <a:off x="6172200" y="441972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the output to a message dia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334120" y="472428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6553080" cy="4267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mai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hostnam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ReadOperation hostnam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user input da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ay = ( String ) JOptionPane.showInputDialog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y Sele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QUESTION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ays, day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ad 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adOperation rea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adOperation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ad.readEntry( day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ad.showOutput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086600" y="914040"/>
            <a:ext cx="175248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84" name="DaySelection" descr=""/>
          <p:cNvPicPr/>
          <p:nvPr/>
        </p:nvPicPr>
        <p:blipFill>
          <a:blip r:embed="rId1"/>
          <a:stretch/>
        </p:blipFill>
        <p:spPr>
          <a:xfrm>
            <a:off x="838080" y="4952880"/>
            <a:ext cx="2571840" cy="1247760"/>
          </a:xfrm>
          <a:prstGeom prst="rect">
            <a:avLst/>
          </a:prstGeom>
          <a:ln w="0">
            <a:noFill/>
          </a:ln>
        </p:spPr>
      </p:pic>
      <p:pic>
        <p:nvPicPr>
          <p:cNvPr id="185" name="ReadOperation" descr=""/>
          <p:cNvPicPr/>
          <p:nvPr/>
        </p:nvPicPr>
        <p:blipFill>
          <a:blip r:embed="rId2"/>
          <a:stretch/>
        </p:blipFill>
        <p:spPr>
          <a:xfrm>
            <a:off x="4191120" y="4724280"/>
            <a:ext cx="2571480" cy="161928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6095520" y="1828800"/>
            <a:ext cx="2514960" cy="685800"/>
            <a:chOff x="6095520" y="1828800"/>
            <a:chExt cx="2514960" cy="685800"/>
          </a:xfrm>
        </p:grpSpPr>
        <p:sp>
          <p:nvSpPr>
            <p:cNvPr id="187" name=""/>
            <p:cNvSpPr/>
            <p:nvPr/>
          </p:nvSpPr>
          <p:spPr>
            <a:xfrm>
              <a:off x="6858000" y="182880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user input day from a input dia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095520" y="228600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8.2 Take Op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s and remove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from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ava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a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milar to metho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akeIfExis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milar to metho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adIf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65530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akeOperation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application removes an Entry from the JavaSpace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tak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transaction.Transaction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UnusableEntry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space.Java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common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keOperation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 spac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ic final String[] days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n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ue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dne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ur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i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outpu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7086600" y="990720"/>
            <a:ext cx="190512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keOp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6705720" cy="65534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gets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keOperation( String hostname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jiniURL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jini:/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 hostnam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SpaceFinder findtoo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Finder( jiniUR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pace = findtool.getJavaSp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Entry from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keAnEntry( String day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ttendeeCounter resultCoun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pecify matching template, remove templat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rom JavaSpace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ttendeeCounter cou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ttendeeCounter( day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Counter = ( AttendeeCounter ) space.take( count,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JavaSpac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_WAI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Counter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 Entry fo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da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available from the JavaSpace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ry is taken away from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JavaSpace successfully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network failur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7086240" y="914400"/>
            <a:ext cx="20574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Obtain Java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Remove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1 specify templ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remove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3 append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4 catch exce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267080" y="1371240"/>
            <a:ext cx="3581640" cy="489960"/>
            <a:chOff x="4267080" y="1371240"/>
            <a:chExt cx="3581640" cy="489960"/>
          </a:xfrm>
        </p:grpSpPr>
        <p:sp>
          <p:nvSpPr>
            <p:cNvPr id="196" name=""/>
            <p:cNvSpPr/>
            <p:nvPr/>
          </p:nvSpPr>
          <p:spPr>
            <a:xfrm>
              <a:off x="5181480" y="152388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Spac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4267080" y="1371240"/>
              <a:ext cx="9144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6248520" y="3200400"/>
            <a:ext cx="2361960" cy="337320"/>
            <a:chOff x="6248520" y="3200400"/>
            <a:chExt cx="2361960" cy="337320"/>
          </a:xfrm>
        </p:grpSpPr>
        <p:sp>
          <p:nvSpPr>
            <p:cNvPr id="199" name=""/>
            <p:cNvSpPr/>
            <p:nvPr/>
          </p:nvSpPr>
          <p:spPr>
            <a:xfrm>
              <a:off x="7010280" y="3200400"/>
              <a:ext cx="1600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temp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248520" y="33526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724280" y="3733920"/>
            <a:ext cx="2895840" cy="489600"/>
            <a:chOff x="4724280" y="3733920"/>
            <a:chExt cx="2895840" cy="489600"/>
          </a:xfrm>
        </p:grpSpPr>
        <p:sp>
          <p:nvSpPr>
            <p:cNvPr id="202" name=""/>
            <p:cNvSpPr/>
            <p:nvPr/>
          </p:nvSpPr>
          <p:spPr>
            <a:xfrm>
              <a:off x="6172200" y="3886200"/>
              <a:ext cx="1447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 E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4724280" y="3733920"/>
              <a:ext cx="1447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5867280" cy="5562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nvalid transac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ransaction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unusable 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nusableEntry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nterrup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rrupted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TakeAn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how outpu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wOutput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TextArea outpu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Area.setText( output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Area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akeOperation Outpu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NFORMATION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erminate program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7086240" y="990360"/>
            <a:ext cx="167652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Show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257440" y="3733920"/>
            <a:ext cx="2895840" cy="838080"/>
            <a:chOff x="5257440" y="3733920"/>
            <a:chExt cx="2895840" cy="838080"/>
          </a:xfrm>
        </p:grpSpPr>
        <p:sp>
          <p:nvSpPr>
            <p:cNvPr id="207" name=""/>
            <p:cNvSpPr/>
            <p:nvPr/>
          </p:nvSpPr>
          <p:spPr>
            <a:xfrm>
              <a:off x="6400800" y="373392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output to a message dia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257440" y="403848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647712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hostnam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TakeOperation hostnam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user input da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ay = ( String ) JOptionPane.showInputDialog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y Sele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QUESTION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ays, day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ake 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keOperation tak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keOperation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ke.TakeAnEntry( day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ke.showOutput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7086600" y="914400"/>
            <a:ext cx="175248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11" name="DaySelection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2571840" cy="1247760"/>
          </a:xfrm>
          <a:prstGeom prst="rect">
            <a:avLst/>
          </a:prstGeom>
          <a:ln w="0">
            <a:noFill/>
          </a:ln>
        </p:spPr>
      </p:pic>
      <p:pic>
        <p:nvPicPr>
          <p:cNvPr id="212" name="TakeOperation" descr=""/>
          <p:cNvPicPr/>
          <p:nvPr/>
        </p:nvPicPr>
        <p:blipFill>
          <a:blip r:embed="rId2"/>
          <a:stretch/>
        </p:blipFill>
        <p:spPr>
          <a:xfrm>
            <a:off x="3352680" y="4952880"/>
            <a:ext cx="3467160" cy="129564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6172200" y="2666520"/>
            <a:ext cx="2362320" cy="490320"/>
            <a:chOff x="6172200" y="2666520"/>
            <a:chExt cx="2362320" cy="490320"/>
          </a:xfrm>
        </p:grpSpPr>
        <p:sp>
          <p:nvSpPr>
            <p:cNvPr id="214" name=""/>
            <p:cNvSpPr/>
            <p:nvPr/>
          </p:nvSpPr>
          <p:spPr>
            <a:xfrm>
              <a:off x="6705720" y="281952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user input 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6172200" y="26665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9 Notify Op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t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ans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liste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long value (lease tim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rshalled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mote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ansaction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24852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tryListener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defines the listener for the NotifyOpera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pplication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notify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vent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server.UnicastRemoteObject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Serializabl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Listen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ventListener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ventListener eventListen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ntryListener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Listener( RemoteEventListener listener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entListener = listen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xport stub objec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nicastRemoteObject.exportObjec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exporting stub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</a:t>
            </a:r>
            <a:r>
              <a:rPr b="0" lang="en-US" sz="4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086600" y="990360"/>
            <a:ext cx="190512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ry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486040" y="4114800"/>
            <a:ext cx="2438640" cy="609480"/>
            <a:chOff x="5486040" y="4114800"/>
            <a:chExt cx="2438640" cy="609480"/>
          </a:xfrm>
        </p:grpSpPr>
        <p:sp>
          <p:nvSpPr>
            <p:cNvPr id="221" name=""/>
            <p:cNvSpPr/>
            <p:nvPr/>
          </p:nvSpPr>
          <p:spPr>
            <a:xfrm>
              <a:off x="6095880" y="411480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port stub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486040" y="426708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2 JavaSpaces Service Propert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Jini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sist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mplate match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omic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ar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6324480" cy="1676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notification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y( RemoteEvent remoteEvent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knownEventException, RemoteExcep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orward notifications to NotifyOperation applica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ventListener.notify( remoteEvent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086600" y="990360"/>
            <a:ext cx="190512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Forward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800600" y="3200400"/>
            <a:ext cx="3200400" cy="565920"/>
            <a:chOff x="4800600" y="3200400"/>
            <a:chExt cx="3200400" cy="565920"/>
          </a:xfrm>
        </p:grpSpPr>
        <p:sp>
          <p:nvSpPr>
            <p:cNvPr id="226" name=""/>
            <p:cNvSpPr/>
            <p:nvPr/>
          </p:nvSpPr>
          <p:spPr>
            <a:xfrm>
              <a:off x="6095880" y="342900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ward no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4800600" y="320040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782040" cy="65534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: NotifyOperation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application receives a notification when a matching 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 written to the JavaSpace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notify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transaction.Transaction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ease.Leas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vent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space.Java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common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yOpera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ventListene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 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days = {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Mon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ue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Wedne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ur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iday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gets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yOperation( String hostname )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jiniUR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ini:/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 hostnam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SpaceFinder findtoo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Finder( jiniUR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pace = findtool.getJavaSp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7086240" y="914040"/>
            <a:ext cx="198108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tifyOp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028840" y="5715000"/>
            <a:ext cx="3505680" cy="457200"/>
            <a:chOff x="5028840" y="5715000"/>
            <a:chExt cx="3505680" cy="457200"/>
          </a:xfrm>
        </p:grpSpPr>
        <p:sp>
          <p:nvSpPr>
            <p:cNvPr id="231" name=""/>
            <p:cNvSpPr/>
            <p:nvPr/>
          </p:nvSpPr>
          <p:spPr>
            <a:xfrm>
              <a:off x="6095880" y="5715000"/>
              <a:ext cx="24386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Spac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5028840" y="5867280"/>
              <a:ext cx="1066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553080" cy="65534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all notify method of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yEntry( String day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Entry listene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ryListener listen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Listen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pecify matching template, asks JavaSpace to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notification when matching entry is writte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o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ttendeeCounter coun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ttendeeCounter( day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rshalledObject handback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rshalledObject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Space Notificatio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pace.notify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nte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istener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handback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notifying 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notify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how outpu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wOutput( String output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TextArea outpu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Area.setText( output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Area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tifyOperation Outpu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NFORMATION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7086240" y="914040"/>
            <a:ext cx="20574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Notify Op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1 specify templ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specify handback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3 notif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Show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095880" y="2742840"/>
            <a:ext cx="2667240" cy="718560"/>
            <a:chOff x="6095880" y="2742840"/>
            <a:chExt cx="2667240" cy="718560"/>
          </a:xfrm>
        </p:grpSpPr>
        <p:sp>
          <p:nvSpPr>
            <p:cNvPr id="236" name=""/>
            <p:cNvSpPr/>
            <p:nvPr/>
          </p:nvSpPr>
          <p:spPr>
            <a:xfrm>
              <a:off x="7086600" y="3124080"/>
              <a:ext cx="1676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nd back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6095880" y="274284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723920" y="3352680"/>
            <a:ext cx="2743560" cy="718560"/>
            <a:chOff x="4723920" y="3352680"/>
            <a:chExt cx="2743560" cy="718560"/>
          </a:xfrm>
        </p:grpSpPr>
        <p:sp>
          <p:nvSpPr>
            <p:cNvPr id="239" name=""/>
            <p:cNvSpPr/>
            <p:nvPr/>
          </p:nvSpPr>
          <p:spPr>
            <a:xfrm>
              <a:off x="5867280" y="3733920"/>
              <a:ext cx="1600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fy op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4723920" y="335268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257800" y="5105520"/>
            <a:ext cx="2666880" cy="685800"/>
            <a:chOff x="5257800" y="5105520"/>
            <a:chExt cx="2666880" cy="685800"/>
          </a:xfrm>
        </p:grpSpPr>
        <p:sp>
          <p:nvSpPr>
            <p:cNvPr id="242" name=""/>
            <p:cNvSpPr/>
            <p:nvPr/>
          </p:nvSpPr>
          <p:spPr>
            <a:xfrm>
              <a:off x="6172200" y="510552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output to a message dia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257800" y="5410080"/>
              <a:ext cx="9144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5867280" cy="4419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notification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y( RemoteEvent remoteEvent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outpu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epare outpu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emoteEvent.getID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quence numb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 remoteEvent.getSequenceNumber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handback = ( String )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moteEvent.getRegistrationObject().get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andback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handback +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isplay outpu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owOutput( output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getting handback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7086600" y="990360"/>
            <a:ext cx="190512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Receive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1 append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248160" y="2057400"/>
            <a:ext cx="2362320" cy="337320"/>
            <a:chOff x="6248160" y="2057400"/>
            <a:chExt cx="2362320" cy="337320"/>
          </a:xfrm>
        </p:grpSpPr>
        <p:sp>
          <p:nvSpPr>
            <p:cNvPr id="247" name=""/>
            <p:cNvSpPr/>
            <p:nvPr/>
          </p:nvSpPr>
          <p:spPr>
            <a:xfrm>
              <a:off x="7391520" y="2057400"/>
              <a:ext cx="12189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event 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248160" y="2209680"/>
              <a:ext cx="11430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019920" y="2590920"/>
            <a:ext cx="2971800" cy="580680"/>
            <a:chOff x="6019920" y="2590920"/>
            <a:chExt cx="2971800" cy="580680"/>
          </a:xfrm>
        </p:grpSpPr>
        <p:sp>
          <p:nvSpPr>
            <p:cNvPr id="250" name=""/>
            <p:cNvSpPr/>
            <p:nvPr/>
          </p:nvSpPr>
          <p:spPr>
            <a:xfrm>
              <a:off x="7238880" y="2590920"/>
              <a:ext cx="1752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event sequence 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6019920" y="2742840"/>
              <a:ext cx="1218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095520" y="3200040"/>
            <a:ext cx="2743560" cy="414000"/>
            <a:chOff x="6095520" y="3200040"/>
            <a:chExt cx="2743560" cy="414000"/>
          </a:xfrm>
        </p:grpSpPr>
        <p:sp>
          <p:nvSpPr>
            <p:cNvPr id="253" name=""/>
            <p:cNvSpPr/>
            <p:nvPr/>
          </p:nvSpPr>
          <p:spPr>
            <a:xfrm>
              <a:off x="6781680" y="327672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hand back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6095520" y="320004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6553440" cy="4267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mai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hostnam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NotifyOperation hostnam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user input da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ay = ( String ) JOptionPane.showInputDialog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y Sele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QUESTION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ays, day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otify 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otifyOperation notifyOperation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ifyOperation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otifyOperation.notifyEntry( day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7086600" y="990360"/>
            <a:ext cx="175248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57" name="Notify1" descr=""/>
          <p:cNvPicPr/>
          <p:nvPr/>
        </p:nvPicPr>
        <p:blipFill>
          <a:blip r:embed="rId1"/>
          <a:stretch/>
        </p:blipFill>
        <p:spPr>
          <a:xfrm>
            <a:off x="762120" y="4724280"/>
            <a:ext cx="2571480" cy="1619280"/>
          </a:xfrm>
          <a:prstGeom prst="rect">
            <a:avLst/>
          </a:prstGeom>
          <a:ln w="0">
            <a:noFill/>
          </a:ln>
        </p:spPr>
      </p:pic>
      <p:pic>
        <p:nvPicPr>
          <p:cNvPr id="258" name="Notify2" descr=""/>
          <p:cNvPicPr/>
          <p:nvPr/>
        </p:nvPicPr>
        <p:blipFill>
          <a:blip r:embed="rId2"/>
          <a:stretch/>
        </p:blipFill>
        <p:spPr>
          <a:xfrm>
            <a:off x="4038480" y="4648320"/>
            <a:ext cx="2571840" cy="161928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6248160" y="1981080"/>
            <a:ext cx="2514960" cy="824040"/>
            <a:chOff x="6248160" y="1981080"/>
            <a:chExt cx="2514960" cy="824040"/>
          </a:xfrm>
        </p:grpSpPr>
        <p:sp>
          <p:nvSpPr>
            <p:cNvPr id="260" name=""/>
            <p:cNvSpPr/>
            <p:nvPr/>
          </p:nvSpPr>
          <p:spPr>
            <a:xfrm>
              <a:off x="7315200" y="1981080"/>
              <a:ext cx="1447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user input day from an input dia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6248160" y="2438280"/>
              <a:ext cx="10666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10 Method Snapsho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timize interactions with the Java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void repeated serialization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napshot Entry only valid in the JavaSpace that generated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s a specialized representation of the E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670572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napshotUsage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application removes entries from the JavaSpace using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thod snapshot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snapshot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transaction.Transaction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UnusableEntry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Entry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space.Java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common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napshotUsage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 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days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n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ue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dne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ur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i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outpu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7086240" y="914040"/>
            <a:ext cx="20574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napshotU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655308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gets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napshotUsage( String hostname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jiniUR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ini:/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 hostnam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SpaceFinder findtoo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Finder( jiniUR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pace = findtool.getJavaSp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snapshot entry object, pass this object as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ntry parameter to take metho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napshotEntry( String day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pecify matching template, snapshot templat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d remove matching entries from JavaSpace using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napshot 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ttendeeCounter coun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ttendeeCounter( day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ntry snapshotentry = space.snapshot( counter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ttendeeCounter resultCounter = ( AttendeeCounter )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pace.take( snapshotentr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JavaSpac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_WAI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keep removing entries until no more entry exist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 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Counter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moving an entry ... 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ultCounter = ( AttendeeCounter ) space.take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napshotentr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JavaSpac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_WAI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 more entry to remove!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7086240" y="990360"/>
            <a:ext cx="20574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Snapsho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1 specify templ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snapshot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3 remove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095880" y="3200400"/>
            <a:ext cx="2514600" cy="457200"/>
            <a:chOff x="6095880" y="3200400"/>
            <a:chExt cx="2514600" cy="457200"/>
          </a:xfrm>
        </p:grpSpPr>
        <p:sp>
          <p:nvSpPr>
            <p:cNvPr id="269" name=""/>
            <p:cNvSpPr/>
            <p:nvPr/>
          </p:nvSpPr>
          <p:spPr>
            <a:xfrm>
              <a:off x="7162920" y="3200400"/>
              <a:ext cx="1447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napshot E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6095880" y="3352680"/>
              <a:ext cx="10670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248160" y="4191120"/>
            <a:ext cx="2743560" cy="656640"/>
            <a:chOff x="6248160" y="4191120"/>
            <a:chExt cx="2743560" cy="656640"/>
          </a:xfrm>
        </p:grpSpPr>
        <p:sp>
          <p:nvSpPr>
            <p:cNvPr id="272" name=""/>
            <p:cNvSpPr/>
            <p:nvPr/>
          </p:nvSpPr>
          <p:spPr>
            <a:xfrm>
              <a:off x="6858000" y="426708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 Entry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Spac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6248160" y="41911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486400" y="5409720"/>
            <a:ext cx="3200400" cy="581040"/>
            <a:chOff x="5486400" y="5409720"/>
            <a:chExt cx="3200400" cy="581040"/>
          </a:xfrm>
        </p:grpSpPr>
        <p:sp>
          <p:nvSpPr>
            <p:cNvPr id="275" name=""/>
            <p:cNvSpPr/>
            <p:nvPr/>
          </p:nvSpPr>
          <p:spPr>
            <a:xfrm>
              <a:off x="6324480" y="541008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ep removing until no more Entry exists in sp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5486400" y="540972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4343400" y="1447560"/>
            <a:ext cx="3429000" cy="413640"/>
            <a:chOff x="4343400" y="1447560"/>
            <a:chExt cx="3429000" cy="413640"/>
          </a:xfrm>
        </p:grpSpPr>
        <p:sp>
          <p:nvSpPr>
            <p:cNvPr id="278" name=""/>
            <p:cNvSpPr/>
            <p:nvPr/>
          </p:nvSpPr>
          <p:spPr>
            <a:xfrm>
              <a:off x="5334120" y="1523880"/>
              <a:ext cx="2438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Spac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4343400" y="1447560"/>
              <a:ext cx="990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655308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network failure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nvalid transac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ransactionException transaction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action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unusable 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nusableEntryException unusableEntry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nusableEntry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nterrup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rruptedException interrupted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terrupted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napshot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how outpu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wOutput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TextArea outpu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Area.setText( output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Area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napshotUsage Outpu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NFORMATION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erminate program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7086240" y="914400"/>
            <a:ext cx="20574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5 catch exce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Show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029200" y="4495680"/>
            <a:ext cx="2666880" cy="685800"/>
            <a:chOff x="5029200" y="4495680"/>
            <a:chExt cx="2666880" cy="685800"/>
          </a:xfrm>
        </p:grpSpPr>
        <p:sp>
          <p:nvSpPr>
            <p:cNvPr id="283" name=""/>
            <p:cNvSpPr/>
            <p:nvPr/>
          </p:nvSpPr>
          <p:spPr>
            <a:xfrm>
              <a:off x="6019920" y="4495680"/>
              <a:ext cx="1676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output to a message dia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029200" y="480060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6553440" cy="4267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mai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hostnam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Usage: SnapshotUsage ho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user input da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ay = ( String ) JOptionPane.showInputDialog(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y Sele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QUESTION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ays, day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napshot 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napshotUsage snapsho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napshotUsage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napshot.snapshotEntry( day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napshot.showOutput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7086600" y="914040"/>
            <a:ext cx="175248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87" name="DaySelection" descr=""/>
          <p:cNvPicPr/>
          <p:nvPr/>
        </p:nvPicPr>
        <p:blipFill>
          <a:blip r:embed="rId1"/>
          <a:stretch/>
        </p:blipFill>
        <p:spPr>
          <a:xfrm>
            <a:off x="762120" y="4876920"/>
            <a:ext cx="2571480" cy="1247760"/>
          </a:xfrm>
          <a:prstGeom prst="rect">
            <a:avLst/>
          </a:prstGeom>
          <a:ln w="0">
            <a:noFill/>
          </a:ln>
        </p:spPr>
      </p:pic>
      <p:pic>
        <p:nvPicPr>
          <p:cNvPr id="288" name="SnapshotUsage" descr=""/>
          <p:cNvPicPr/>
          <p:nvPr/>
        </p:nvPicPr>
        <p:blipFill>
          <a:blip r:embed="rId2"/>
          <a:stretch/>
        </p:blipFill>
        <p:spPr>
          <a:xfrm>
            <a:off x="4038480" y="4648320"/>
            <a:ext cx="2571840" cy="178092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6171840" y="1600200"/>
            <a:ext cx="2591280" cy="914400"/>
            <a:chOff x="6171840" y="1600200"/>
            <a:chExt cx="2591280" cy="914400"/>
          </a:xfrm>
        </p:grpSpPr>
        <p:sp>
          <p:nvSpPr>
            <p:cNvPr id="290" name=""/>
            <p:cNvSpPr/>
            <p:nvPr/>
          </p:nvSpPr>
          <p:spPr>
            <a:xfrm>
              <a:off x="6858000" y="1600200"/>
              <a:ext cx="1905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user input day from an input dia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171840" y="190512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3 JavaSpaces Servi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shared storage for Java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ions on Java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 net.jini.core.entry.Entry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public no-argument con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blic fie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primitive type fie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JavaSpaces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ient Java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sistent Java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11 Updating Entry with Jini Transaction Servi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E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 the Entry from the Java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 the values of the Entry fie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insert the Entry back into the Java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hese steps are involved in a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11.1 Defining the User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pdateInput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y to upd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people who will attend the seminar on that d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40080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dateInputWindow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application is an user interface use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get the input data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updat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InputWindow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dates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n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ue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dne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ur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i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 okButt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boBox dateComboBox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 firstLabel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numberText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dat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n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hostnam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InputWindow( String name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InputWindow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ostname = nam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fine center panel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center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nterPanel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7086600" y="914040"/>
            <a:ext cx="18288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pdateInput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800240" y="4724280"/>
            <a:ext cx="2895840" cy="900360"/>
            <a:chOff x="4800240" y="4724280"/>
            <a:chExt cx="2895840" cy="900360"/>
          </a:xfrm>
        </p:grpSpPr>
        <p:sp>
          <p:nvSpPr>
            <p:cNvPr id="299" name=""/>
            <p:cNvSpPr/>
            <p:nvPr/>
          </p:nvSpPr>
          <p:spPr>
            <a:xfrm>
              <a:off x="6019920" y="4800600"/>
              <a:ext cx="1676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takes hostname as input argu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4800240" y="4724280"/>
              <a:ext cx="12193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662940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label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st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choose a dat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nterPanel.add( firstLabe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combo box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eComboBox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boBox( dates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eComboBox.setSelectedInde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nterPanel.add( dateComboBox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tall listener to combo box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eComboBox.addItemListener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emListener(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emStateChanged( ItemEvent itemEvent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ate = ( String )dateComboBox.getSelectedItem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label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number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specify a number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wing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nterPanel.add( numberLabe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text fiel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nterPanel.add( numberText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7086600" y="914040"/>
            <a:ext cx="175248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2133720"/>
            <a:ext cx="1523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952520" y="3962520"/>
            <a:ext cx="3429360" cy="413280"/>
            <a:chOff x="4952520" y="3962520"/>
            <a:chExt cx="3429360" cy="413280"/>
          </a:xfrm>
        </p:grpSpPr>
        <p:sp>
          <p:nvSpPr>
            <p:cNvPr id="305" name=""/>
            <p:cNvSpPr/>
            <p:nvPr/>
          </p:nvSpPr>
          <p:spPr>
            <a:xfrm>
              <a:off x="6248520" y="4038480"/>
              <a:ext cx="21333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user specified 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4952520" y="3962520"/>
              <a:ext cx="12956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647712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tall listener to text fiel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Text.addActionListener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unt = Integer.parseInt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event.getActionCommand(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fine button panel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button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OK butt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k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add( okButton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listener to OK butt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kButton.addActionListener(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t user inpu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unt = Integer.parseInt( numberText.getText(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7086240" y="914400"/>
            <a:ext cx="167652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952880" y="1905120"/>
            <a:ext cx="3200400" cy="489600"/>
            <a:chOff x="4952880" y="1905120"/>
            <a:chExt cx="3200400" cy="489600"/>
          </a:xfrm>
        </p:grpSpPr>
        <p:sp>
          <p:nvSpPr>
            <p:cNvPr id="310" name=""/>
            <p:cNvSpPr/>
            <p:nvPr/>
          </p:nvSpPr>
          <p:spPr>
            <a:xfrm>
              <a:off x="6019920" y="2057400"/>
              <a:ext cx="21333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user input 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 flipV="1">
              <a:off x="4952880" y="1905120"/>
              <a:ext cx="10670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6705720" cy="51818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un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ystem.out.println(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Specify a Num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UpdateOperation update = new UpdateOperation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tring jiniUR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ini:/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 hostnam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update.getServices( jiniUR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update.updateEntry( date, count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update.showOutput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ut everything togethe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center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button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OU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window size and display i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updateInputWindow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7086600" y="914400"/>
            <a:ext cx="18288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181480" y="2286000"/>
            <a:ext cx="3276720" cy="732960"/>
            <a:chOff x="5181480" y="2286000"/>
            <a:chExt cx="3276720" cy="732960"/>
          </a:xfrm>
        </p:grpSpPr>
        <p:sp>
          <p:nvSpPr>
            <p:cNvPr id="315" name=""/>
            <p:cNvSpPr/>
            <p:nvPr/>
          </p:nvSpPr>
          <p:spPr>
            <a:xfrm>
              <a:off x="6095880" y="243828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UpdateOperation class and update the E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>
              <a:off x="5181480" y="228600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17220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ransactionManagerFinder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application unicast discovers the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ransactionManager service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comm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discovery.LookupLocato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ookup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Entry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transaction.server.TransactionManag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MISecurityManag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actionManagerFinder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actionManager transactionManag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actionManagerFinder( String jiniURL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okupLocator loc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Registrar registr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setSecurit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7086600" y="990360"/>
            <a:ext cx="190512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nsactionManagerFin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1 set security 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715000" y="5029200"/>
            <a:ext cx="2743200" cy="838080"/>
            <a:chOff x="5715000" y="5029200"/>
            <a:chExt cx="2743200" cy="838080"/>
          </a:xfrm>
        </p:grpSpPr>
        <p:sp>
          <p:nvSpPr>
            <p:cNvPr id="320" name=""/>
            <p:cNvSpPr/>
            <p:nvPr/>
          </p:nvSpPr>
          <p:spPr>
            <a:xfrm>
              <a:off x="6553080" y="502920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security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715000" y="518148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6629400" cy="6248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lookup service locator at "jini://hostname"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default por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c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Locator( jiniUR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registrar for the loca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gistrar = locator.getRegistrar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pecify service requiremen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ass[] typ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ass[] {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actionManager.class }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rviceTemplate template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Templ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type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nd service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actionManager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TransactionManager) registrar.lookup( templat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nvalid jini URL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lformedURLException malformedURL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lformedURL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/O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finding clas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assNotFoundException classNotFound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assNotFound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7086240" y="990360"/>
            <a:ext cx="20574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2 get lookup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3 find Transaction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4 catch exce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562360" y="3505320"/>
            <a:ext cx="3276720" cy="489600"/>
            <a:chOff x="5562360" y="3505320"/>
            <a:chExt cx="3276720" cy="489600"/>
          </a:xfrm>
        </p:grpSpPr>
        <p:sp>
          <p:nvSpPr>
            <p:cNvPr id="325" name=""/>
            <p:cNvSpPr/>
            <p:nvPr/>
          </p:nvSpPr>
          <p:spPr>
            <a:xfrm>
              <a:off x="6629400" y="3657600"/>
              <a:ext cx="2209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d Transaction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5562360" y="3505320"/>
              <a:ext cx="10666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638320" y="2514240"/>
            <a:ext cx="3200760" cy="414000"/>
            <a:chOff x="5638320" y="2514240"/>
            <a:chExt cx="3200760" cy="414000"/>
          </a:xfrm>
        </p:grpSpPr>
        <p:sp>
          <p:nvSpPr>
            <p:cNvPr id="328" name=""/>
            <p:cNvSpPr/>
            <p:nvPr/>
          </p:nvSpPr>
          <p:spPr>
            <a:xfrm>
              <a:off x="6400800" y="2590920"/>
              <a:ext cx="2438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matching temp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638320" y="25142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4876920" y="1143000"/>
            <a:ext cx="3429000" cy="580680"/>
            <a:chOff x="4876920" y="1143000"/>
            <a:chExt cx="3429000" cy="580680"/>
          </a:xfrm>
        </p:grpSpPr>
        <p:sp>
          <p:nvSpPr>
            <p:cNvPr id="331" name=""/>
            <p:cNvSpPr/>
            <p:nvPr/>
          </p:nvSpPr>
          <p:spPr>
            <a:xfrm>
              <a:off x="5791320" y="114300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lookup service registrar at “jini://hostname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876920" y="1447920"/>
              <a:ext cx="914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6553080" cy="2286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oes not find any matching servi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ransactionManager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 matching 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ansactionManagerFinder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actionManager getTransactionManager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actionManag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086600" y="914040"/>
            <a:ext cx="1905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 retur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nsaction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kButt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733920" y="2742840"/>
            <a:ext cx="5029200" cy="337680"/>
            <a:chOff x="3733920" y="2742840"/>
            <a:chExt cx="5029200" cy="337680"/>
          </a:xfrm>
        </p:grpSpPr>
        <p:sp>
          <p:nvSpPr>
            <p:cNvPr id="336" name=""/>
            <p:cNvSpPr/>
            <p:nvPr/>
          </p:nvSpPr>
          <p:spPr>
            <a:xfrm>
              <a:off x="4648320" y="2743200"/>
              <a:ext cx="4114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action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3733920" y="274284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400800" cy="6858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dateOperation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application removes an Entry from the JavaSpace,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nges the variable's value in the returned Entry an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posits the updated Entry into the JavaSpace. All thes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perations are occurred within a transaction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updat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ease.Leas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transaction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UnusableEntry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transaction.server.TransactionManag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space.Java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ease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common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Opera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kButtonListener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 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actionManager transactionManag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host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da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outpu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Operation() {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7086240" y="914040"/>
            <a:ext cx="198108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pdateOp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4 Discovering the JavaSpaces Servi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persistent JavaSpaces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m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okup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 access to the JavaSpaces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gets JavaSpace and TransactionManage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ervices( String jiniURL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JavaSpace and TransactionManage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SpaceFinder findtool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Finder( jiniUR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pace = findtool.getJavaSp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actionManagerFinder findTransaction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actionManagerFinder( jiniUR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actionManager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ndTransaction.getTransactionManager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 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Entry( String inputDa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Number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y = inputDay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Count = countNumb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ttendeeCounter resultCoun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action.Created transactionCreate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easeRenewalManager manag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RenewalManager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ld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ransaction and renew transaction's leas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actionCreated = TransactionFactory.create(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actionManager,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nager.renewUntil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actionCreated.lease,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7086240" y="990720"/>
            <a:ext cx="20574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Get JavaSpace and TransactionMa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Update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1 create tran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2 renew transaction’s le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019560" y="5181480"/>
            <a:ext cx="2743560" cy="533520"/>
            <a:chOff x="6019560" y="5181480"/>
            <a:chExt cx="2743560" cy="533520"/>
          </a:xfrm>
        </p:grpSpPr>
        <p:sp>
          <p:nvSpPr>
            <p:cNvPr id="343" name=""/>
            <p:cNvSpPr/>
            <p:nvPr/>
          </p:nvSpPr>
          <p:spPr>
            <a:xfrm>
              <a:off x="7010280" y="5181480"/>
              <a:ext cx="17528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019560" y="5334120"/>
              <a:ext cx="9903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324120" y="5715000"/>
            <a:ext cx="2439000" cy="457200"/>
            <a:chOff x="6324120" y="5715000"/>
            <a:chExt cx="2439000" cy="457200"/>
          </a:xfrm>
        </p:grpSpPr>
        <p:sp>
          <p:nvSpPr>
            <p:cNvPr id="346" name=""/>
            <p:cNvSpPr/>
            <p:nvPr/>
          </p:nvSpPr>
          <p:spPr>
            <a:xfrm>
              <a:off x="7162920" y="5715000"/>
              <a:ext cx="1600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new the le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6324120" y="5943600"/>
              <a:ext cx="838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4267080" y="1066680"/>
            <a:ext cx="3657600" cy="609840"/>
            <a:chOff x="4267080" y="1066680"/>
            <a:chExt cx="3657600" cy="609840"/>
          </a:xfrm>
        </p:grpSpPr>
        <p:sp>
          <p:nvSpPr>
            <p:cNvPr id="349" name=""/>
            <p:cNvSpPr/>
            <p:nvPr/>
          </p:nvSpPr>
          <p:spPr>
            <a:xfrm>
              <a:off x="5257800" y="10666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Spac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267080" y="1219320"/>
              <a:ext cx="990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3657240" y="2514240"/>
            <a:ext cx="4724640" cy="414000"/>
            <a:chOff x="3657240" y="2514240"/>
            <a:chExt cx="4724640" cy="414000"/>
          </a:xfrm>
        </p:grpSpPr>
        <p:sp>
          <p:nvSpPr>
            <p:cNvPr id="352" name=""/>
            <p:cNvSpPr/>
            <p:nvPr/>
          </p:nvSpPr>
          <p:spPr>
            <a:xfrm>
              <a:off x="4724280" y="2590920"/>
              <a:ext cx="3657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action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3657240" y="2514240"/>
              <a:ext cx="1066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6553080" cy="6096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reating transaction and renewing leas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pecify matching template, remove template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rom JavaSpace in transaction, change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variable's value and write updated template back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o JavaSpace within a transac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ake Entry away from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ttendeeCounter cou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ttendeeCounter( day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Counter = ( AttendeeCounter ) space.take( count,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actionCreated.transaction, JavaSpac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_WAI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no matching 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Counter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t output mess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No matching Entry is available!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find a matching 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update valu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ldCount = resultCounter.counter.intValu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newCount = oldCount + inputCount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put updated Entry back to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ultCounter.coun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newCount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pace.write( resultCounter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ransactionCreated.transaction,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086240" y="914400"/>
            <a:ext cx="20574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3 take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4 update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5 reinsert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6 append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477120" y="3200040"/>
            <a:ext cx="2133360" cy="414000"/>
            <a:chOff x="6477120" y="3200040"/>
            <a:chExt cx="2133360" cy="414000"/>
          </a:xfrm>
        </p:grpSpPr>
        <p:sp>
          <p:nvSpPr>
            <p:cNvPr id="357" name=""/>
            <p:cNvSpPr/>
            <p:nvPr/>
          </p:nvSpPr>
          <p:spPr>
            <a:xfrm>
              <a:off x="7391520" y="3276720"/>
              <a:ext cx="12189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ke E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flipV="1">
              <a:off x="6477120" y="3200040"/>
              <a:ext cx="9144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943240" y="5105520"/>
            <a:ext cx="2362680" cy="337320"/>
            <a:chOff x="5943240" y="5105520"/>
            <a:chExt cx="2362680" cy="337320"/>
          </a:xfrm>
        </p:grpSpPr>
        <p:sp>
          <p:nvSpPr>
            <p:cNvPr id="360" name=""/>
            <p:cNvSpPr/>
            <p:nvPr/>
          </p:nvSpPr>
          <p:spPr>
            <a:xfrm>
              <a:off x="7010280" y="5105520"/>
              <a:ext cx="12956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date E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5943240" y="52578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533520" y="5181480"/>
            <a:ext cx="1218960" cy="762120"/>
            <a:chOff x="533520" y="5181480"/>
            <a:chExt cx="1218960" cy="762120"/>
          </a:xfrm>
        </p:grpSpPr>
        <p:sp>
          <p:nvSpPr>
            <p:cNvPr id="363" name=""/>
            <p:cNvSpPr/>
            <p:nvPr/>
          </p:nvSpPr>
          <p:spPr>
            <a:xfrm>
              <a:off x="533520" y="5181480"/>
              <a:ext cx="914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insert E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47920" y="556272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601992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output result if transaction complet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nt Informa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Day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 += resultCounter.day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Old Cou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oldCount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New Cou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newCount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ommit transaction and release leas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actionCreated.transaction.commit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nager.remove( transactionCreated.leas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updating 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vert change and release leas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actionCreated.transaction.abort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anager.remove( transactionCreated.leas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reverting chan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abort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bort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update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7086240" y="990360"/>
            <a:ext cx="205740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7 commit tran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8 catch exce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866920" y="2361960"/>
            <a:ext cx="2591280" cy="809640"/>
            <a:chOff x="5866920" y="2361960"/>
            <a:chExt cx="2591280" cy="809640"/>
          </a:xfrm>
        </p:grpSpPr>
        <p:sp>
          <p:nvSpPr>
            <p:cNvPr id="368" name=""/>
            <p:cNvSpPr/>
            <p:nvPr/>
          </p:nvSpPr>
          <p:spPr>
            <a:xfrm>
              <a:off x="6629400" y="259092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mit transaction and release le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5866920" y="2361960"/>
              <a:ext cx="7621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662940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how outpu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wOutput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TextArea outpu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Area.setText( output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Area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Operation Outpu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NFORMATION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erminate program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xit( 0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hostnam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UpdateOperation ho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hostname =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user input da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pdateInputWindow inpu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InputWindow( hostnam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7086240" y="990360"/>
            <a:ext cx="20574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continue proc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 Show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4876920" y="1981080"/>
            <a:ext cx="3886200" cy="642240"/>
            <a:chOff x="4876920" y="1981080"/>
            <a:chExt cx="3886200" cy="642240"/>
          </a:xfrm>
        </p:grpSpPr>
        <p:sp>
          <p:nvSpPr>
            <p:cNvPr id="373" name=""/>
            <p:cNvSpPr/>
            <p:nvPr/>
          </p:nvSpPr>
          <p:spPr>
            <a:xfrm>
              <a:off x="5638680" y="2286000"/>
              <a:ext cx="31244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output to a message dia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4876920" y="198108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UpdateInputWindow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048120" cy="1238040"/>
          </a:xfrm>
          <a:prstGeom prst="rect">
            <a:avLst/>
          </a:prstGeom>
          <a:ln w="0">
            <a:noFill/>
          </a:ln>
        </p:spPr>
      </p:pic>
      <p:pic>
        <p:nvPicPr>
          <p:cNvPr id="376" name="UpdateResult" descr=""/>
          <p:cNvPicPr/>
          <p:nvPr/>
        </p:nvPicPr>
        <p:blipFill>
          <a:blip r:embed="rId2"/>
          <a:stretch/>
        </p:blipFill>
        <p:spPr>
          <a:xfrm>
            <a:off x="4114800" y="1295280"/>
            <a:ext cx="2571840" cy="178128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12 Case Study: Distributed Image Process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Space-based distribute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tition large image into smaller pie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 multiple image processors in parall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image processor process the smaller im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 processed subimages and build the complete processed im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12.1 Defining an Image Processo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processor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riev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t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from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vaSpace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t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 process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t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ack to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vaSpac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l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v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a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32448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3.20 ImageEntry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defines the Entry for the image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ImageProcesso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ImageIc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Entry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Entry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nam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ilt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numb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 processed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 imageIc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mpty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Entry() {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ageEntry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Entry( String imageName, String imageFilter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, boolean done, ImageIcon icon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 = imageNam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ter = imageFilt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order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cesse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( don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Icon = ic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7086600" y="990720"/>
            <a:ext cx="18288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age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276360" y="4038480"/>
            <a:ext cx="2819520" cy="337320"/>
            <a:chOff x="3276360" y="4038480"/>
            <a:chExt cx="2819520" cy="337320"/>
          </a:xfrm>
        </p:grpSpPr>
        <p:sp>
          <p:nvSpPr>
            <p:cNvPr id="385" name=""/>
            <p:cNvSpPr/>
            <p:nvPr/>
          </p:nvSpPr>
          <p:spPr>
            <a:xfrm>
              <a:off x="4343400" y="4038480"/>
              <a:ext cx="1752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mpty constr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3276360" y="4191120"/>
              <a:ext cx="10666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724280" y="5257800"/>
            <a:ext cx="3124440" cy="413640"/>
            <a:chOff x="4724280" y="5257800"/>
            <a:chExt cx="3124440" cy="413640"/>
          </a:xfrm>
        </p:grpSpPr>
        <p:sp>
          <p:nvSpPr>
            <p:cNvPr id="388" name=""/>
            <p:cNvSpPr/>
            <p:nvPr/>
          </p:nvSpPr>
          <p:spPr>
            <a:xfrm>
              <a:off x="6172200" y="5334120"/>
              <a:ext cx="1676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re constru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4724280" y="5257800"/>
              <a:ext cx="1447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057040"/>
            <a:ext cx="579132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ageEntry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Entry( String imageNam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ne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 = imageNam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cesse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( don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ageEntry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Entry( String imageName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 = imageNam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7086600" y="1066680"/>
            <a:ext cx="17524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Construc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876560" y="2590560"/>
            <a:ext cx="2895840" cy="990720"/>
            <a:chOff x="4876560" y="2590560"/>
            <a:chExt cx="2895840" cy="990720"/>
          </a:xfrm>
        </p:grpSpPr>
        <p:sp>
          <p:nvSpPr>
            <p:cNvPr id="393" name=""/>
            <p:cNvSpPr/>
            <p:nvPr/>
          </p:nvSpPr>
          <p:spPr>
            <a:xfrm>
              <a:off x="6019920" y="2971800"/>
              <a:ext cx="1752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re constru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4952880" y="2590560"/>
              <a:ext cx="10670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4876560" y="320040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55308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3.21 ImageProcessor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akes entries from the JavaSpace, applies a filter to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image piece, and writes processed entry back to JavaSpace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ImageProcesso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ease.Leas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transaction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transaction.server.TransactionManag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transaction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ease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space.Java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common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Processor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 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actionManager manag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ageProcessor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Processor ( String hostname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jiniUR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ini://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 hostnam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SpaceFinder finder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Finder( jiniUR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pace = finder.getJavaSpace()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7086240" y="990360"/>
            <a:ext cx="20574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ageProcess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 get JavaSpaces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647960" y="5562720"/>
            <a:ext cx="3581640" cy="685800"/>
            <a:chOff x="4647960" y="5562720"/>
            <a:chExt cx="3581640" cy="685800"/>
          </a:xfrm>
        </p:grpSpPr>
        <p:sp>
          <p:nvSpPr>
            <p:cNvPr id="399" name=""/>
            <p:cNvSpPr/>
            <p:nvPr/>
          </p:nvSpPr>
          <p:spPr>
            <a:xfrm>
              <a:off x="5791320" y="5562720"/>
              <a:ext cx="2438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Spac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4647960" y="579132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172200" cy="57909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SpaceFinder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application unicast discovers the JavaSpaces service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comm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discovery.LookupLocato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ookup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Entry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space.Java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Finder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 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Finder( String jiniURL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okupLocator loc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Registrar registr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setSecurit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</a:t>
            </a:r>
            <a:r>
              <a:rPr b="0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086600" y="914040"/>
            <a:ext cx="190512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avaSpaceFin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 Set security 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181480" y="5029200"/>
            <a:ext cx="3276720" cy="609480"/>
            <a:chOff x="5181480" y="5029200"/>
            <a:chExt cx="3276720" cy="609480"/>
          </a:xfrm>
        </p:grpSpPr>
        <p:sp>
          <p:nvSpPr>
            <p:cNvPr id="100" name=""/>
            <p:cNvSpPr/>
            <p:nvPr/>
          </p:nvSpPr>
          <p:spPr>
            <a:xfrm>
              <a:off x="6553080" y="502920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security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181480" y="5181480"/>
              <a:ext cx="1371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647712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TransactionManage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actionManagerFinder findTransaction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actionManagerFinder( jiniUR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nager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ndTransaction.getTransactionManager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ait for unprocessed im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itForImage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easeRenewalManager leaseManager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RenewalManager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unprocessed image and process it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action.Created transactionCreated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ransactionFactory.create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manager,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renew transaction's leas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easeManager.renewUntil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ransactionCreated.lease,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mageEntry templat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Entr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mageEntry entry = ( ImageEntry ) space.take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emplate, transactionCreated.transaction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934320" y="914400"/>
            <a:ext cx="22096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2 get Transaction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Wait for unprocessed im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1 create tran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renew transaction’s le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3 specify ImageEntry templ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4 remove the unprocessed image from the JavaSpaces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409720" y="1523520"/>
            <a:ext cx="2972160" cy="414000"/>
            <a:chOff x="5409720" y="1523520"/>
            <a:chExt cx="2972160" cy="414000"/>
          </a:xfrm>
        </p:grpSpPr>
        <p:sp>
          <p:nvSpPr>
            <p:cNvPr id="404" name=""/>
            <p:cNvSpPr/>
            <p:nvPr/>
          </p:nvSpPr>
          <p:spPr>
            <a:xfrm>
              <a:off x="6172200" y="1600200"/>
              <a:ext cx="2209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transaction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flipV="1">
              <a:off x="5409720" y="152352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85800" y="4191120"/>
            <a:ext cx="1523880" cy="732960"/>
            <a:chOff x="685800" y="4191120"/>
            <a:chExt cx="1523880" cy="732960"/>
          </a:xfrm>
        </p:grpSpPr>
        <p:sp>
          <p:nvSpPr>
            <p:cNvPr id="407" name=""/>
            <p:cNvSpPr/>
            <p:nvPr/>
          </p:nvSpPr>
          <p:spPr>
            <a:xfrm>
              <a:off x="685800" y="4343400"/>
              <a:ext cx="1143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1828800" y="41911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723920" y="4343400"/>
            <a:ext cx="3505680" cy="457200"/>
            <a:chOff x="4723920" y="4343400"/>
            <a:chExt cx="3505680" cy="457200"/>
          </a:xfrm>
        </p:grpSpPr>
        <p:sp>
          <p:nvSpPr>
            <p:cNvPr id="410" name=""/>
            <p:cNvSpPr/>
            <p:nvPr/>
          </p:nvSpPr>
          <p:spPr>
            <a:xfrm>
              <a:off x="5867280" y="434340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new transaction’s le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723920" y="4572000"/>
              <a:ext cx="1143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6705360" y="4800600"/>
            <a:ext cx="2210040" cy="457200"/>
            <a:chOff x="6705360" y="4800600"/>
            <a:chExt cx="2210040" cy="457200"/>
          </a:xfrm>
        </p:grpSpPr>
        <p:sp>
          <p:nvSpPr>
            <p:cNvPr id="413" name=""/>
            <p:cNvSpPr/>
            <p:nvPr/>
          </p:nvSpPr>
          <p:spPr>
            <a:xfrm>
              <a:off x="7315200" y="4800600"/>
              <a:ext cx="1600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temp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6705360" y="5029200"/>
              <a:ext cx="609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609480" y="4724280"/>
            <a:ext cx="1600200" cy="1310760"/>
            <a:chOff x="609480" y="4724280"/>
            <a:chExt cx="1600200" cy="1310760"/>
          </a:xfrm>
        </p:grpSpPr>
        <p:sp>
          <p:nvSpPr>
            <p:cNvPr id="416" name=""/>
            <p:cNvSpPr/>
            <p:nvPr/>
          </p:nvSpPr>
          <p:spPr>
            <a:xfrm>
              <a:off x="609480" y="4724280"/>
              <a:ext cx="12193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 unprocessed image from JavaSpaces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28800" y="548640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601992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ntry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t image ic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mageIcon imageIcon = entry.imageIc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Filters filter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ters( imageIcon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ntry.filter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LU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filters.blurImag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ntry.filter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L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filters.colorFilter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ntry.filter.equals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NVERT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filters.invertImag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ntry.filter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AR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filters.sharpenImag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update the fields of result ent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ntry.imageIcon = filters.getImageIcon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ntry.processe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put the updated Entry back to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Lease writeLease = space.write( entry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transactionCreated.transaction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leaseManager.renewUntil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writeLease,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934320" y="914400"/>
            <a:ext cx="220968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5 process the image if gets one from the JavaSpaces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6 update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7 put processed image back to the JavaSpaces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990720" y="1600200"/>
            <a:ext cx="1752480" cy="457200"/>
            <a:chOff x="990720" y="1600200"/>
            <a:chExt cx="1752480" cy="457200"/>
          </a:xfrm>
        </p:grpSpPr>
        <p:sp>
          <p:nvSpPr>
            <p:cNvPr id="421" name=""/>
            <p:cNvSpPr/>
            <p:nvPr/>
          </p:nvSpPr>
          <p:spPr>
            <a:xfrm>
              <a:off x="990720" y="1600200"/>
              <a:ext cx="1143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lur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133720" y="17524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914400" y="2133720"/>
            <a:ext cx="1828800" cy="457200"/>
            <a:chOff x="914400" y="2133720"/>
            <a:chExt cx="1828800" cy="457200"/>
          </a:xfrm>
        </p:grpSpPr>
        <p:sp>
          <p:nvSpPr>
            <p:cNvPr id="424" name=""/>
            <p:cNvSpPr/>
            <p:nvPr/>
          </p:nvSpPr>
          <p:spPr>
            <a:xfrm>
              <a:off x="914400" y="2133720"/>
              <a:ext cx="1219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or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33720" y="228600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914400" y="2666880"/>
            <a:ext cx="1828800" cy="457200"/>
            <a:chOff x="914400" y="2666880"/>
            <a:chExt cx="1828800" cy="457200"/>
          </a:xfrm>
        </p:grpSpPr>
        <p:sp>
          <p:nvSpPr>
            <p:cNvPr id="427" name=""/>
            <p:cNvSpPr/>
            <p:nvPr/>
          </p:nvSpPr>
          <p:spPr>
            <a:xfrm>
              <a:off x="914400" y="2666880"/>
              <a:ext cx="1295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ert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09680" y="2895480"/>
              <a:ext cx="533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143000" y="3200400"/>
            <a:ext cx="1600200" cy="580680"/>
            <a:chOff x="1143000" y="3200400"/>
            <a:chExt cx="1600200" cy="580680"/>
          </a:xfrm>
        </p:grpSpPr>
        <p:sp>
          <p:nvSpPr>
            <p:cNvPr id="430" name=""/>
            <p:cNvSpPr/>
            <p:nvPr/>
          </p:nvSpPr>
          <p:spPr>
            <a:xfrm>
              <a:off x="1143000" y="3200400"/>
              <a:ext cx="914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arpen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57400" y="3505320"/>
              <a:ext cx="68580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248160" y="4343400"/>
            <a:ext cx="1981440" cy="337320"/>
            <a:chOff x="6248160" y="4343400"/>
            <a:chExt cx="1981440" cy="337320"/>
          </a:xfrm>
        </p:grpSpPr>
        <p:sp>
          <p:nvSpPr>
            <p:cNvPr id="433" name=""/>
            <p:cNvSpPr/>
            <p:nvPr/>
          </p:nvSpPr>
          <p:spPr>
            <a:xfrm>
              <a:off x="6934320" y="4343400"/>
              <a:ext cx="1295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date E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6248160" y="441936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5790960" y="5105520"/>
            <a:ext cx="3200760" cy="732960"/>
            <a:chOff x="5790960" y="5105520"/>
            <a:chExt cx="3200760" cy="732960"/>
          </a:xfrm>
        </p:grpSpPr>
        <p:sp>
          <p:nvSpPr>
            <p:cNvPr id="436" name=""/>
            <p:cNvSpPr/>
            <p:nvPr/>
          </p:nvSpPr>
          <p:spPr>
            <a:xfrm>
              <a:off x="6477120" y="525780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t processed image back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Spac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5790960" y="510552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8 commit the transaction and release the leas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ma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640080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ommit the transaction and release the le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actionCreated.transaction.comm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easeManager.remove( transactionCreated.lea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wait for im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[] arg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ho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Usage: ImageProcessor hostnam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Processor processo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Processor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ait for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cessor.waitForImag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5181480" y="990360"/>
            <a:ext cx="3429000" cy="885600"/>
            <a:chOff x="5181480" y="990360"/>
            <a:chExt cx="3429000" cy="885600"/>
          </a:xfrm>
        </p:grpSpPr>
        <p:sp>
          <p:nvSpPr>
            <p:cNvPr id="441" name=""/>
            <p:cNvSpPr/>
            <p:nvPr/>
          </p:nvSpPr>
          <p:spPr>
            <a:xfrm>
              <a:off x="6248520" y="1295280"/>
              <a:ext cx="2361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mit the transaction and release the le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5181480" y="990360"/>
              <a:ext cx="10670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56386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3.24: Filters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filters an image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ImageProcesso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image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2d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ters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Java2DImageFilter blurFilt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Java2DImageFilter sharpenFilt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Java2DImageFilter invertFilt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Java2DImageFilter colorFilt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ufferedImage bufferedImag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7086600" y="914040"/>
            <a:ext cx="175248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le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655308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method initializes ImageFilters and pull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ufferedImage out of ImageIc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ters( ImageIcon icon )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lurFil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lurFilter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rpenFil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rpenFilter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vertFil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vertFilter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Fil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Filter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 image = icon.getImag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fferedIma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Image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.getWidt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image.getHeigh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edImage.TYPE_INT_RGB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 gg = bufferedImage.createGraphics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g.drawImage( imag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ly BlurFilter to bufferedIm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lurImage()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fferedImage = blurFilter.processImage( bufferedImag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ly SharpenFilter to bufferedIm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rpenImage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fferedImage = sharpenFilter.processImage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edImag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7086240" y="990720"/>
            <a:ext cx="205740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Blur process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Sharpen process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6019920" y="2743200"/>
            <a:ext cx="2895480" cy="642240"/>
            <a:chOff x="6019920" y="2743200"/>
            <a:chExt cx="2895480" cy="642240"/>
          </a:xfrm>
        </p:grpSpPr>
        <p:sp>
          <p:nvSpPr>
            <p:cNvPr id="448" name=""/>
            <p:cNvSpPr/>
            <p:nvPr/>
          </p:nvSpPr>
          <p:spPr>
            <a:xfrm>
              <a:off x="6781680" y="3048120"/>
              <a:ext cx="2133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ffered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6019920" y="27432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5334120" y="4647960"/>
            <a:ext cx="3352680" cy="990720"/>
            <a:chOff x="5334120" y="4647960"/>
            <a:chExt cx="3352680" cy="990720"/>
          </a:xfrm>
        </p:grpSpPr>
        <p:sp>
          <p:nvSpPr>
            <p:cNvPr id="451" name=""/>
            <p:cNvSpPr/>
            <p:nvPr/>
          </p:nvSpPr>
          <p:spPr>
            <a:xfrm>
              <a:off x="6629400" y="495288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ly filters to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5334120" y="4647960"/>
              <a:ext cx="12952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409720" y="5181480"/>
              <a:ext cx="1219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1219320"/>
            <a:ext cx="6172200" cy="3962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ly InvertFilter to bufferedIm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vertImage()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fferedImage = invertFilter.processImage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edImag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ly ColorFilter to bufferedIm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Filter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fferedImage = colorFilter.processImage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edImag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s and returns an ImageIcon from bufferedIm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 getImageIcon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bufferedImage 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7086240" y="990360"/>
            <a:ext cx="205740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Invert process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Color process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 Return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5486400" y="2057040"/>
            <a:ext cx="3352680" cy="990720"/>
            <a:chOff x="5486400" y="2057040"/>
            <a:chExt cx="3352680" cy="990720"/>
          </a:xfrm>
        </p:grpSpPr>
        <p:sp>
          <p:nvSpPr>
            <p:cNvPr id="457" name=""/>
            <p:cNvSpPr/>
            <p:nvPr/>
          </p:nvSpPr>
          <p:spPr>
            <a:xfrm>
              <a:off x="6781680" y="236196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ly filters to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flipV="1">
              <a:off x="5486400" y="2057040"/>
              <a:ext cx="12952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5562000" y="2590560"/>
              <a:ext cx="1219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12.2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Partitioning an Image into Smaller Piece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urrently filter the smaller imag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ageProcessingClien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Import packag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Declarations</a:t>
            </a:r>
            <a:br>
              <a:rPr sz="1200"/>
            </a:b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6840" y="228600"/>
            <a:ext cx="624852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3.23 ImageProcessingCli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application asks for user-specified image file, imag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ter type and image partition number, filters the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displays the processed imag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ImageProcess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ease.Le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transaction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transaction.server.Transaction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space.JavaSpa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common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ProcessingClien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operations = {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BLU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L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VE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ARP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 okButt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boBox operationComboBo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image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number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 get imag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655344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host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imag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opera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LU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rtitionNumb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ProcessingClient( String hos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ProcessInpu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ostname = ho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fine the center 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center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nterPanel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image lab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image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 Fil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nterPanel.add( image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openFil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ose file to process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penFile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JFileChooser fileChoos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ileChoos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fileChooser.setFileSelectionM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JFileChoos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ILES_ON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 = fileChooser.showOpen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File fi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6400440" y="5410080"/>
            <a:ext cx="2591280" cy="609840"/>
            <a:chOff x="6400440" y="5410080"/>
            <a:chExt cx="2591280" cy="609840"/>
          </a:xfrm>
        </p:grpSpPr>
        <p:sp>
          <p:nvSpPr>
            <p:cNvPr id="467" name=""/>
            <p:cNvSpPr/>
            <p:nvPr/>
          </p:nvSpPr>
          <p:spPr>
            <a:xfrm>
              <a:off x="7010280" y="541008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image name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FileChoo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6400440" y="5638680"/>
              <a:ext cx="609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2 get partition numb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533160" y="456840"/>
            <a:ext cx="617220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user clicked Cancel button on dialo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JFileChoos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ANCEL_O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fil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file = fileChooser.getSelectedFil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mageName = file.getPath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ctionPerfor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ctionListen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ddActi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nterPanel.add( openFi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number lab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number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rtition Number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nterPanel.add( number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number text 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nterPanel.add( numberTex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tall a listener to the number text 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Text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4800240" y="4419720"/>
            <a:ext cx="3277080" cy="380880"/>
            <a:chOff x="4800240" y="4419720"/>
            <a:chExt cx="3277080" cy="380880"/>
          </a:xfrm>
        </p:grpSpPr>
        <p:sp>
          <p:nvSpPr>
            <p:cNvPr id="472" name=""/>
            <p:cNvSpPr/>
            <p:nvPr/>
          </p:nvSpPr>
          <p:spPr>
            <a:xfrm>
              <a:off x="5943600" y="4419720"/>
              <a:ext cx="2133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tition number 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4800240" y="4648320"/>
              <a:ext cx="1143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5334120" y="1752120"/>
            <a:ext cx="3429000" cy="414000"/>
            <a:chOff x="5334120" y="1752120"/>
            <a:chExt cx="3429000" cy="414000"/>
          </a:xfrm>
        </p:grpSpPr>
        <p:sp>
          <p:nvSpPr>
            <p:cNvPr id="475" name=""/>
            <p:cNvSpPr/>
            <p:nvPr/>
          </p:nvSpPr>
          <p:spPr>
            <a:xfrm>
              <a:off x="6248520" y="182880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image name in full pa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>
              <a:off x="5334120" y="1752120"/>
              <a:ext cx="9144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6553080" cy="6096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lookup service locator at "jini://hostname"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default port and registrar of the loca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c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Locator( jiniUR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gistrar = locator.getRegistrar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nvalid jini URL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lformedURLException malformedURL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lformedURL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/O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java.io.IOException io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finding clas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assNotFoundException classNotFound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assNotFound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pecify the service requiremen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ass[] typ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ass[] { JavaSpace.class }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Template template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Templ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type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d service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pace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JavaSpace ) registrar.lookup( templat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086600" y="914400"/>
            <a:ext cx="18288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2 get lookup loc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3 specify template to ma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4 find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562360" y="4267080"/>
            <a:ext cx="2743560" cy="609840"/>
            <a:chOff x="5562360" y="4267080"/>
            <a:chExt cx="2743560" cy="609840"/>
          </a:xfrm>
        </p:grpSpPr>
        <p:sp>
          <p:nvSpPr>
            <p:cNvPr id="105" name=""/>
            <p:cNvSpPr/>
            <p:nvPr/>
          </p:nvSpPr>
          <p:spPr>
            <a:xfrm>
              <a:off x="6553080" y="4267080"/>
              <a:ext cx="17528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tching temp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562360" y="4495680"/>
              <a:ext cx="9903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866920" y="5486400"/>
            <a:ext cx="2362680" cy="533520"/>
            <a:chOff x="5866920" y="5486400"/>
            <a:chExt cx="2362680" cy="533520"/>
          </a:xfrm>
        </p:grpSpPr>
        <p:sp>
          <p:nvSpPr>
            <p:cNvPr id="108" name=""/>
            <p:cNvSpPr/>
            <p:nvPr/>
          </p:nvSpPr>
          <p:spPr>
            <a:xfrm>
              <a:off x="6705720" y="5486400"/>
              <a:ext cx="1523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d JavaSp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5866920" y="5715000"/>
              <a:ext cx="838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876920" y="1143000"/>
            <a:ext cx="2133360" cy="657000"/>
            <a:chOff x="4876920" y="1143000"/>
            <a:chExt cx="2133360" cy="657000"/>
          </a:xfrm>
        </p:grpSpPr>
        <p:sp>
          <p:nvSpPr>
            <p:cNvPr id="111" name=""/>
            <p:cNvSpPr/>
            <p:nvPr/>
          </p:nvSpPr>
          <p:spPr>
            <a:xfrm>
              <a:off x="5791320" y="1219320"/>
              <a:ext cx="1218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lookup loc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4876920" y="114300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3 get filter typ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62940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the text when the user feeds a retur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haracter in the text 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artitionNumber = Integer.parseI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event.getActionComma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operation lab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operation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peration Typ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nterPanel.add( operation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a combo bo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perationComboBox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boBox( operation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perationComboBox.setSelectedInde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nterPanel.add( operationComboBo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tall a listener to the combo bo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perationComboBox.addItem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em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n operation other than BLUR is selec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emStateChanged( ItemEvent item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pera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( String ) operationComboBox.getSelectedIte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6400800" y="4800600"/>
            <a:ext cx="2362320" cy="685800"/>
            <a:chOff x="6400800" y="4800600"/>
            <a:chExt cx="2362320" cy="685800"/>
          </a:xfrm>
        </p:grpSpPr>
        <p:sp>
          <p:nvSpPr>
            <p:cNvPr id="480" name=""/>
            <p:cNvSpPr/>
            <p:nvPr/>
          </p:nvSpPr>
          <p:spPr>
            <a:xfrm>
              <a:off x="7391520" y="4800600"/>
              <a:ext cx="1371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filter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400800" y="5029200"/>
              <a:ext cx="990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333760" y="3276720"/>
            <a:ext cx="2514960" cy="580680"/>
            <a:chOff x="5333760" y="3276720"/>
            <a:chExt cx="2514960" cy="580680"/>
          </a:xfrm>
        </p:grpSpPr>
        <p:sp>
          <p:nvSpPr>
            <p:cNvPr id="483" name=""/>
            <p:cNvSpPr/>
            <p:nvPr/>
          </p:nvSpPr>
          <p:spPr>
            <a:xfrm>
              <a:off x="6324480" y="3276720"/>
              <a:ext cx="1524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bo box to select filter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5333760" y="3428640"/>
              <a:ext cx="9903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4 Ok button action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662940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fine the button panel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button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the OK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k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O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add( ok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a listener to the OK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k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partition image file into number of pieces us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pecifi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t user inpu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artitionNumber = Integer.parseI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numberText.getT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check whether the us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fills in both text fiel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( partitionNumbe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|| ( imageName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ither image name or partition number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 not specified!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rr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RROR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5638680" y="3428640"/>
            <a:ext cx="2667240" cy="414000"/>
            <a:chOff x="5638680" y="3428640"/>
            <a:chExt cx="2667240" cy="414000"/>
          </a:xfrm>
        </p:grpSpPr>
        <p:sp>
          <p:nvSpPr>
            <p:cNvPr id="488" name=""/>
            <p:cNvSpPr/>
            <p:nvPr/>
          </p:nvSpPr>
          <p:spPr>
            <a:xfrm>
              <a:off x="6629400" y="3505320"/>
              <a:ext cx="1676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K button 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5638680" y="3428640"/>
              <a:ext cx="990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562360" y="4038480"/>
            <a:ext cx="3429360" cy="990720"/>
            <a:chOff x="5562360" y="4038480"/>
            <a:chExt cx="3429360" cy="990720"/>
          </a:xfrm>
        </p:grpSpPr>
        <p:sp>
          <p:nvSpPr>
            <p:cNvPr id="491" name=""/>
            <p:cNvSpPr/>
            <p:nvPr/>
          </p:nvSpPr>
          <p:spPr>
            <a:xfrm>
              <a:off x="6248520" y="403848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rror message is displayed if the user does not supply image name or partition 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5562360" y="457200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Collect processed imag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1 get JavaSpaces servi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62940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partition the image into smaller piec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and store the sub images into a Java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mageSeparator imageSeparato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Separato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imageName, operation, partition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mageSeparator.partitionImag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mageSeparator.storeImage( ho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mageSeparator.displayImag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collec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ctionPerfor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ActionListen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ddActi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ut everything toget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center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button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OU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mageProcessingCli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llect processed im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Java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jiniUR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ini:/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 ho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SpaceFinder findtoo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Finder( jini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Space space = findtool.getJavaSp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4495320" y="5715000"/>
            <a:ext cx="3429360" cy="457200"/>
            <a:chOff x="4495320" y="5715000"/>
            <a:chExt cx="3429360" cy="457200"/>
          </a:xfrm>
        </p:grpSpPr>
        <p:sp>
          <p:nvSpPr>
            <p:cNvPr id="496" name=""/>
            <p:cNvSpPr/>
            <p:nvPr/>
          </p:nvSpPr>
          <p:spPr>
            <a:xfrm>
              <a:off x="5791320" y="5715000"/>
              <a:ext cx="21333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JavaSpaces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4495320" y="5867280"/>
              <a:ext cx="1295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4952880" y="2286000"/>
            <a:ext cx="4038840" cy="1052640"/>
            <a:chOff x="4952880" y="2286000"/>
            <a:chExt cx="4038840" cy="1052640"/>
          </a:xfrm>
        </p:grpSpPr>
        <p:sp>
          <p:nvSpPr>
            <p:cNvPr id="499" name=""/>
            <p:cNvSpPr/>
            <p:nvPr/>
          </p:nvSpPr>
          <p:spPr>
            <a:xfrm>
              <a:off x="5486400" y="2514600"/>
              <a:ext cx="3505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tition the image, store subimages in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Spac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rvice and then collect the processed subim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4952880" y="2286000"/>
              <a:ext cx="533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get all processed im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ector unOrderedImag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ector orderedImag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s all images in the JavaSpac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at have the specified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Root = Math.sqrt( partition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th.floor( squareRoot ) != ( squareRoot 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artitionNumb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pecify the matching templ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Entry templat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Entry( imageNam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napshot the templ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ntry snapshotEntry = space.snapshot( templa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ollect im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partitionNumber 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mageEntry remove = ( ImageEntry ) space.tak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napshotEntr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nOrderedImages.add( remov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Count = unOrderedImages.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edImage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( imageC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itialize the Ve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imageCount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edImages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5943240" y="3123720"/>
            <a:ext cx="3048480" cy="337680"/>
            <a:chOff x="5943240" y="3123720"/>
            <a:chExt cx="3048480" cy="337680"/>
          </a:xfrm>
        </p:grpSpPr>
        <p:sp>
          <p:nvSpPr>
            <p:cNvPr id="504" name=""/>
            <p:cNvSpPr/>
            <p:nvPr/>
          </p:nvSpPr>
          <p:spPr>
            <a:xfrm>
              <a:off x="6553080" y="3124080"/>
              <a:ext cx="24386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matching temp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5943240" y="3123720"/>
              <a:ext cx="609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5409720" y="4114800"/>
            <a:ext cx="3048480" cy="489600"/>
            <a:chOff x="5409720" y="4114800"/>
            <a:chExt cx="3048480" cy="489600"/>
          </a:xfrm>
        </p:grpSpPr>
        <p:sp>
          <p:nvSpPr>
            <p:cNvPr id="507" name=""/>
            <p:cNvSpPr/>
            <p:nvPr/>
          </p:nvSpPr>
          <p:spPr>
            <a:xfrm>
              <a:off x="6172200" y="426708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all processed im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5409720" y="411480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638680" y="1676520"/>
            <a:ext cx="2590920" cy="580680"/>
            <a:chOff x="5638680" y="1676520"/>
            <a:chExt cx="2590920" cy="580680"/>
          </a:xfrm>
        </p:grpSpPr>
        <p:sp>
          <p:nvSpPr>
            <p:cNvPr id="510" name=""/>
            <p:cNvSpPr/>
            <p:nvPr/>
          </p:nvSpPr>
          <p:spPr>
            <a:xfrm>
              <a:off x="6629400" y="167652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ault partition number is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5638680" y="19810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3 order collected imag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4 build complete processed imag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380520" y="457200"/>
            <a:ext cx="632484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rder the sub im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imageCount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mageEntry imag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ImageEntry ) unOrderedImages.elementAt( i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edImages.setElementA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mage.imageIcon, image.number.intValu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ollecting imag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ut images together and display the result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orderedImages.size()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Parser imagePars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Pars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Icon icon = imageParser.putTogeth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edImag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Displayer imageDisplay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Displayer( ic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Displayer.setSize( icon.getIconWidth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con.getIconHeight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Displayer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Displayer.setDefaultCloseOpera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Fram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5486400" y="1676520"/>
            <a:ext cx="2971800" cy="641880"/>
            <a:chOff x="5486400" y="1676520"/>
            <a:chExt cx="2971800" cy="641880"/>
          </a:xfrm>
        </p:grpSpPr>
        <p:sp>
          <p:nvSpPr>
            <p:cNvPr id="515" name=""/>
            <p:cNvSpPr/>
            <p:nvPr/>
          </p:nvSpPr>
          <p:spPr>
            <a:xfrm>
              <a:off x="6324480" y="1981080"/>
              <a:ext cx="2133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 collected im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5486400" y="16765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5638320" y="3886200"/>
            <a:ext cx="2286360" cy="580680"/>
            <a:chOff x="5638320" y="3886200"/>
            <a:chExt cx="2286360" cy="580680"/>
          </a:xfrm>
        </p:grpSpPr>
        <p:sp>
          <p:nvSpPr>
            <p:cNvPr id="518" name=""/>
            <p:cNvSpPr/>
            <p:nvPr/>
          </p:nvSpPr>
          <p:spPr>
            <a:xfrm>
              <a:off x="6324480" y="388620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 complete processed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flipV="1">
              <a:off x="5638320" y="411444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5562720" y="5714640"/>
            <a:ext cx="3200400" cy="337680"/>
            <a:chOff x="5562720" y="5714640"/>
            <a:chExt cx="3200400" cy="337680"/>
          </a:xfrm>
        </p:grpSpPr>
        <p:sp>
          <p:nvSpPr>
            <p:cNvPr id="521" name=""/>
            <p:cNvSpPr/>
            <p:nvPr/>
          </p:nvSpPr>
          <p:spPr>
            <a:xfrm>
              <a:off x="6400800" y="571500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it when closes wind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flipV="1">
              <a:off x="5562720" y="5714640"/>
              <a:ext cx="838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ma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837720" y="685800"/>
            <a:ext cx="571500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valid image 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rr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RROR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erminate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oll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[] arg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ho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ImageProcessingClient ho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ProcessingClient processo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ProcessingClient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the window size and display 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cessor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cessor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24852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3.24 ImageSeparator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partitions the image into smaller pieces evenl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stores the smaller images into a JavaSpace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ImageProcesso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ease.Leas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transaction.Transaction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space.Java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ease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common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Separator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imageNam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ilterTyp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rtitionNumb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 imagePieces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 ic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ageSeparator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Separator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name, String typ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Name = name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7086240" y="990360"/>
            <a:ext cx="20574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ageSepa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4266720" y="5257800"/>
            <a:ext cx="3962880" cy="914400"/>
            <a:chOff x="4266720" y="5257800"/>
            <a:chExt cx="3962880" cy="914400"/>
          </a:xfrm>
        </p:grpSpPr>
        <p:sp>
          <p:nvSpPr>
            <p:cNvPr id="528" name=""/>
            <p:cNvSpPr/>
            <p:nvPr/>
          </p:nvSpPr>
          <p:spPr>
            <a:xfrm>
              <a:off x="5410080" y="525780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takes image name, filter type and partition 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4266720" y="5562720"/>
              <a:ext cx="11430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Partition imag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Display imag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Write subimages into the JavaSpace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1 get JavaSpaces servi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586728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terType = typ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rtitionNumber =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rtition the image into smaller pieces even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rtitionImag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Parser imagePars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Pars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c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image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artition the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Pieces = imageParser.parseIm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con, partition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the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Image( 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Displayer imageDisplay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Displayer( ic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Displayer.setSize( icon.getIconWidth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con.getIconHeight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Displayer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rite image pieces into a Java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reImage( String host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Java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jiniUR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ini:/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 ho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SpaceFinder findtoo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Finder( jini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Space space = findtool.getJavaSp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easeRenewalManager leaseManag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RenewalManag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5257800" y="1905120"/>
            <a:ext cx="2362320" cy="489600"/>
            <a:chOff x="5257800" y="1905120"/>
            <a:chExt cx="2362320" cy="489600"/>
          </a:xfrm>
        </p:grpSpPr>
        <p:sp>
          <p:nvSpPr>
            <p:cNvPr id="533" name=""/>
            <p:cNvSpPr/>
            <p:nvPr/>
          </p:nvSpPr>
          <p:spPr>
            <a:xfrm>
              <a:off x="6172200" y="2057400"/>
              <a:ext cx="1447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tition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flipV="1">
              <a:off x="5257800" y="19051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4800600" y="2971800"/>
            <a:ext cx="2438280" cy="685800"/>
            <a:chOff x="4800600" y="2971800"/>
            <a:chExt cx="2438280" cy="685800"/>
          </a:xfrm>
        </p:grpSpPr>
        <p:sp>
          <p:nvSpPr>
            <p:cNvPr id="536" name=""/>
            <p:cNvSpPr/>
            <p:nvPr/>
          </p:nvSpPr>
          <p:spPr>
            <a:xfrm>
              <a:off x="5791320" y="2971800"/>
              <a:ext cx="1447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4800600" y="3124080"/>
              <a:ext cx="9907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5181120" y="5181480"/>
            <a:ext cx="2972160" cy="609840"/>
            <a:chOff x="5181120" y="5181480"/>
            <a:chExt cx="2972160" cy="609840"/>
          </a:xfrm>
        </p:grpSpPr>
        <p:sp>
          <p:nvSpPr>
            <p:cNvPr id="539" name=""/>
            <p:cNvSpPr/>
            <p:nvPr/>
          </p:nvSpPr>
          <p:spPr>
            <a:xfrm>
              <a:off x="6019920" y="5181480"/>
              <a:ext cx="21333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JavaSpaces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5181120" y="5334120"/>
              <a:ext cx="838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2 put sumimages into JavaSpa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6400800" cy="5562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rite sub images to Java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imagePieces.size()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mageIcon subImag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ImageIcon ) imagePieces.elementAt( i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mageEntry imageEntry = new ImageEntr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mageName, filterType, i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ubIm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ease writeLease = space.writ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mageEntr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easeManager.renewUntil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writeLease,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a network failure occurs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write operates under an invalid tran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ransactionException transaction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action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tore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5486040" y="2743200"/>
            <a:ext cx="2591280" cy="657000"/>
            <a:chOff x="5486040" y="2743200"/>
            <a:chExt cx="2591280" cy="657000"/>
          </a:xfrm>
        </p:grpSpPr>
        <p:sp>
          <p:nvSpPr>
            <p:cNvPr id="544" name=""/>
            <p:cNvSpPr/>
            <p:nvPr/>
          </p:nvSpPr>
          <p:spPr>
            <a:xfrm>
              <a:off x="6629400" y="2819520"/>
              <a:ext cx="1447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t subimages into JavaSp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 flipV="1">
              <a:off x="5486040" y="274320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09624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3.27: ImageParser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class partitions an image into smaller pieces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ImageProcesso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image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URL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la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Vecto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geom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Parser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mageIcon image;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Parser() {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 parseImage an ImageIcon on the number of piece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you want it split into the number of piece must be a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erfect square - this can be extended late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 parseImage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Icon imageIco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Pieces )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ector vec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Root = Math.sqrt( numberPieces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Math.floor( squareRoot ) != ( squareRoot )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is is not a square number,"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setting to default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umberPiece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7086240" y="914040"/>
            <a:ext cx="205740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agePar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rtition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4191120" y="4572000"/>
            <a:ext cx="4267080" cy="337320"/>
            <a:chOff x="4191120" y="4572000"/>
            <a:chExt cx="4267080" cy="337320"/>
          </a:xfrm>
        </p:grpSpPr>
        <p:sp>
          <p:nvSpPr>
            <p:cNvPr id="549" name=""/>
            <p:cNvSpPr/>
            <p:nvPr/>
          </p:nvSpPr>
          <p:spPr>
            <a:xfrm>
              <a:off x="5867280" y="4572000"/>
              <a:ext cx="2590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tition image to subim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4191120" y="47242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6400440" y="5410080"/>
            <a:ext cx="2286360" cy="824040"/>
            <a:chOff x="6400440" y="5410080"/>
            <a:chExt cx="2286360" cy="824040"/>
          </a:xfrm>
        </p:grpSpPr>
        <p:sp>
          <p:nvSpPr>
            <p:cNvPr id="552" name=""/>
            <p:cNvSpPr/>
            <p:nvPr/>
          </p:nvSpPr>
          <p:spPr>
            <a:xfrm>
              <a:off x="7010280" y="5410080"/>
              <a:ext cx="167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not a square number, set to default which is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6400440" y="579132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5486400" cy="3200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getting JavaSpa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does not find any matching servi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pace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 matching 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JavaSpaceFinder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Space getJavaSpace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p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086600" y="990720"/>
            <a:ext cx="190512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Return Java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62481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number of rows and column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Rows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Math.sqrt( numberPieces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Columns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Math.sqrt( numberPieces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rieve Image from BufferedIm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 image = imageIcon.getImag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fferedImage bufferedIma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Image(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.getWidt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image.getHeigh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edImag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YPE_INT_RGB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 gg = bufferedImage.createGraphics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g.drawImage( imag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size of each pie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dth = bufferedImage.getWidth() / numberColumns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 = bufferedImage.getHeight() / numberRows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ke each of im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x &lt; numberRows; x++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y &lt; numberColumns; y++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vector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bufferedImage.getSubimage(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x * width, y * height, width, height ) 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arseIm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7086600" y="914400"/>
            <a:ext cx="190512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Partition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248520" y="1980720"/>
            <a:ext cx="2743200" cy="581040"/>
            <a:chOff x="6248520" y="1980720"/>
            <a:chExt cx="2743200" cy="581040"/>
          </a:xfrm>
        </p:grpSpPr>
        <p:sp>
          <p:nvSpPr>
            <p:cNvPr id="557" name=""/>
            <p:cNvSpPr/>
            <p:nvPr/>
          </p:nvSpPr>
          <p:spPr>
            <a:xfrm>
              <a:off x="7086600" y="1981080"/>
              <a:ext cx="1905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image from buffered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6248520" y="198072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5715000" y="4267080"/>
            <a:ext cx="2362320" cy="533520"/>
            <a:chOff x="5715000" y="4267080"/>
            <a:chExt cx="2362320" cy="533520"/>
          </a:xfrm>
        </p:grpSpPr>
        <p:sp>
          <p:nvSpPr>
            <p:cNvPr id="560" name=""/>
            <p:cNvSpPr/>
            <p:nvPr/>
          </p:nvSpPr>
          <p:spPr>
            <a:xfrm>
              <a:off x="6629400" y="4267080"/>
              <a:ext cx="1447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subim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571500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624816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akes a vector of image icons (must be a square number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f elements and returns an image icon with the images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ut back together again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 putTogether( Vector vector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= vector.siz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RowColumn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Math.sqrt( siz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ep 1, get first Im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 tempImage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( ImageIcon ) vector.ge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.getImag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otal size of one pie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dth = tempImage.getWidt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 = tempImage.getHeigh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buffered im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fferedImage totalPictur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Image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idth * numberRowColumn, height * numberRowColumn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edImag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YPE_INT_RGB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Graphics for BufferedIm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 graphics = totalPicture.createGraphics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7086600" y="914040"/>
            <a:ext cx="190512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Reform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5486040" y="1752120"/>
            <a:ext cx="3124440" cy="657360"/>
            <a:chOff x="5486040" y="1752120"/>
            <a:chExt cx="3124440" cy="657360"/>
          </a:xfrm>
        </p:grpSpPr>
        <p:sp>
          <p:nvSpPr>
            <p:cNvPr id="565" name=""/>
            <p:cNvSpPr/>
            <p:nvPr/>
          </p:nvSpPr>
          <p:spPr>
            <a:xfrm>
              <a:off x="7010280" y="182880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 completed processed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 flipV="1">
              <a:off x="5486040" y="1752120"/>
              <a:ext cx="1523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586728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images from the vector into buffered imag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x &lt; numberRowColumn; x++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y &lt; numberRowColumn; y++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mage image = ( ( ImageIcon ) vector.get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y + numberRowColumn * x ) ).getImag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raphics.drawImage( image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AffineTransform.getTranslateInstance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x * width, y * height )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totalPictur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utTogethe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7086600" y="990720"/>
            <a:ext cx="182880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Reform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94360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3.28: ImageDisplayer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application is an user interface use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display an image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space.ImageProcesso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Display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Displayer( ImageIcon icon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p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Displ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fine the center panel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center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display label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image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con, Swing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E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nterPanel.add( imageLabe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center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mageDisplayer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086600" y="914040"/>
            <a:ext cx="175248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ageDisplay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1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12.3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Compiling and Running the Exampl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s needed to execute the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MI activation daem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ini lookup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vaSpac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ini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ansa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mageProces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and clients on different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75" name="Input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3333600" cy="1428480"/>
          </a:xfrm>
          <a:prstGeom prst="rect">
            <a:avLst/>
          </a:prstGeom>
          <a:ln w="0">
            <a:noFill/>
          </a:ln>
        </p:spPr>
      </p:pic>
      <p:pic>
        <p:nvPicPr>
          <p:cNvPr id="576" name="BeforeBlur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2209680" cy="2743200"/>
          </a:xfrm>
          <a:prstGeom prst="rect">
            <a:avLst/>
          </a:prstGeom>
          <a:ln w="0">
            <a:noFill/>
          </a:ln>
        </p:spPr>
      </p:pic>
      <p:pic>
        <p:nvPicPr>
          <p:cNvPr id="577" name="AfterBlur" descr=""/>
          <p:cNvPicPr/>
          <p:nvPr/>
        </p:nvPicPr>
        <p:blipFill>
          <a:blip r:embed="rId3"/>
          <a:stretch/>
        </p:blipFill>
        <p:spPr>
          <a:xfrm>
            <a:off x="4419720" y="2971800"/>
            <a:ext cx="2209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13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and World Wide Web Resourc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Courier New"/>
                <a:hlinkClick r:id="rId1"/>
              </a:rPr>
              <a:t>www.sun.com/jini/specs/js1_1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Courier New"/>
                <a:hlinkClick r:id="rId2"/>
              </a:rPr>
              <a:t>www.javaworld.com/jw-11-1999/jw-11-jiniology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Courier New"/>
                <a:hlinkClick r:id="rId3"/>
              </a:rPr>
              <a:t>www.javaworld.com/jw-01-2000/jw-01-jiniology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Courier New"/>
                <a:hlinkClick r:id="rId4"/>
              </a:rPr>
              <a:t>www.javaworld.com/jw-03-2000/jw-03-jiniology.htm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Courier New"/>
                <a:hlinkClick r:id="rId5"/>
              </a:rPr>
              <a:t>www.javaworld.com/jw-04-2000/jw-0421-jiniology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Courier New"/>
                <a:hlinkClick r:id="rId6"/>
              </a:rPr>
              <a:t>www.javaworld.com/jw-06-2000/jw-0623-jiniology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Courier New"/>
                <a:hlinkClick r:id="rId7"/>
              </a:rPr>
              <a:t>www.byte.com/documents/s=146/BYT19990921S0001/index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3.5 JavaSpace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ify operation: notif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 operation: read readIfExi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 operation: take takeIfExi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 operation: wr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 snapsho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3T18:03:32Z</dcterms:created>
  <dc:creator>zhang</dc:creator>
  <dc:description/>
  <dc:language>en-US</dc:language>
  <cp:lastModifiedBy>zhang</cp:lastModifiedBy>
  <dcterms:modified xsi:type="dcterms:W3CDTF">2000-08-31T17:02:46Z</dcterms:modified>
  <cp:revision>303</cp:revision>
  <dc:subject/>
  <dc:title>PowerPoint Presentation</dc:title>
</cp:coreProperties>
</file>