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9B3D0-349A-4F10-A575-43940A436E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3D9A9-109E-4B91-884F-8B8D75FD9C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24175-7DDC-443A-8033-48E606B4A7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BD186-9091-4A3D-88B0-98E5B508EE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6C1D3-4BD7-48CE-9DFB-262C6CA111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56B18-516C-4F07-9C5A-1B6D2072AC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0CDC3-092E-4C45-8220-DBFE858845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BBF2B-931B-4843-909F-B99E724AFC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6434A-BC04-455B-B3ED-511375A641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A6057-986F-4C70-A18E-F5F3EB07C0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4F4A2-C8EE-4671-B485-1A58078D56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6FEAC-22ED-4234-B95D-CCE3F4329F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0770E-C2A6-4C42-97C5-B51FDFC85F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A8477-FF69-4A43-B58A-9B270ECA78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BD125-8D9D-43B4-A28C-D65ABBA924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33D90-EDFF-4E70-A142-9CF17FB083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2E759-0D35-49B5-BBE1-51F49D3EB8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C06C8-8B04-4E01-9D0A-44CBF9DC96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F9F7A-CA4B-43A0-8B84-B19DD10FE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A0465-62F7-4D2D-A183-B0B4B13B45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21121-4F52-4E83-BDA7-DAE88BB68F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7047A-B943-4A7A-B874-3C4822A1A9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DAE07-FC48-4CC7-9FE7-1A53736D3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B965B-B851-4462-B44C-BCAC3B7786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DB70-F3B9-4D26-8C3E-5C01FD5AEA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24AF-F54B-48D3-84A8-792F67793A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9 Enterprise Java Case Study: Business Logic Part 1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772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JB Architectur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hoppingCart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3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hoppingCar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Remote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3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hoppingCartEJB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3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hoppingCartHom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Produc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4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Product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mote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4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ProductEJB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4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ProductHom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4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ProductModel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Order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5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Order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Remote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5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OrderEJB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5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OrderHom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5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OrderMode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3.2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ShoppingCartEJB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hoppingCartEJ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oppingCar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mote interface imple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rderProductMode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resents an item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oppingC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contai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quantity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oppingC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Cart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e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Car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7-3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33-3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oppingCartEJB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teful session EJB ShoppingCart represents a Customer'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opping car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text.DateForma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PortableRemoteObje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xception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ppingCartEJB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ssionBea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ssionContext session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rderProductModels (Products &amp; quantities) in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lection orderProductModels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new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Creat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ProductModel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List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contents of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lection getContents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ProductModels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571640" y="4419720"/>
            <a:ext cx="4038840" cy="337320"/>
            <a:chOff x="4571640" y="4419720"/>
            <a:chExt cx="4038840" cy="337320"/>
          </a:xfrm>
        </p:grpSpPr>
        <p:sp>
          <p:nvSpPr>
            <p:cNvPr id="134" name=""/>
            <p:cNvSpPr/>
            <p:nvPr/>
          </p:nvSpPr>
          <p:spPr>
            <a:xfrm flipH="1">
              <a:off x="4571640" y="457200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34120" y="4419720"/>
              <a:ext cx="32763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76560" y="5334120"/>
            <a:ext cx="3276720" cy="337320"/>
            <a:chOff x="4876560" y="5334120"/>
            <a:chExt cx="3276720" cy="337320"/>
          </a:xfrm>
        </p:grpSpPr>
        <p:sp>
          <p:nvSpPr>
            <p:cNvPr id="137" name=""/>
            <p:cNvSpPr/>
            <p:nvPr/>
          </p:nvSpPr>
          <p:spPr>
            <a:xfrm flipH="1">
              <a:off x="4876560" y="548640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38680" y="5334120"/>
              <a:ext cx="2514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ializ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l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962160" y="6248520"/>
            <a:ext cx="4267440" cy="337320"/>
            <a:chOff x="3962160" y="6248520"/>
            <a:chExt cx="4267440" cy="337320"/>
          </a:xfrm>
        </p:grpSpPr>
        <p:sp>
          <p:nvSpPr>
            <p:cNvPr id="140" name=""/>
            <p:cNvSpPr/>
            <p:nvPr/>
          </p:nvSpPr>
          <p:spPr>
            <a:xfrm flipH="1">
              <a:off x="3962160" y="640080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24280" y="6248520"/>
              <a:ext cx="3505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s content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hoppingC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Cart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e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Car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44-6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54-5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 Product with given ISBN to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Product( String isbn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NotFoundException,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heck if Product with given ISBN is alread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iterator = orderProductModels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ProductModel orderProduct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OrderProductModel ) 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ductModel product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ProductModel.getProduct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Product is in ShoppingCart, increment quanti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oductModel.getISBN().equals( isbn )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ProductModel.setQuantit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rderProductModel.getQuantity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Product is not in ShoppingCart, find Product wi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iven ISBN and add OrderProductModel to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object = context.lookup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Produ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714640" y="3962520"/>
            <a:ext cx="3277080" cy="580680"/>
            <a:chOff x="5714640" y="3962520"/>
            <a:chExt cx="3277080" cy="580680"/>
          </a:xfrm>
        </p:grpSpPr>
        <p:sp>
          <p:nvSpPr>
            <p:cNvPr id="145" name=""/>
            <p:cNvSpPr/>
            <p:nvPr/>
          </p:nvSpPr>
          <p:spPr>
            <a:xfrm flipH="1">
              <a:off x="5714640" y="4114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19920" y="396252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sb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und, increase corresponding quantity 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410080" y="1981080"/>
            <a:ext cx="2438640" cy="824040"/>
            <a:chOff x="5410080" y="1981080"/>
            <a:chExt cx="2438640" cy="824040"/>
          </a:xfrm>
        </p:grpSpPr>
        <p:sp>
          <p:nvSpPr>
            <p:cNvPr id="148" name=""/>
            <p:cNvSpPr/>
            <p:nvPr/>
          </p:nvSpPr>
          <p:spPr>
            <a:xfrm flipH="1">
              <a:off x="5410080" y="213372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72200" y="1981080"/>
              <a:ext cx="1676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termine if product already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hoppingC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Cart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e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Car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7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84-8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8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8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9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96-10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ductHome productHome = ( ProductHo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ortableRemoteObject.narrow( objec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roductHom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ind Product with given ISB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duct product = productHome.findByPrimaryKey( isb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Produc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ductModel productModel = product.getProduct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OrderProductModel for ProductModel and 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ts quanti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ProductModel orderProduct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Product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ProductModel.setProductModel( productMod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ProductModel.setQuantit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OrderProductModel to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ProductModels.add( orderProductMod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finding Product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nderException finder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nder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NotFoundExce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Produc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th ISBN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isbn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was not foun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invoking Product EJB metho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exception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400440" y="1600200"/>
            <a:ext cx="2514960" cy="1052640"/>
            <a:chOff x="6400440" y="1600200"/>
            <a:chExt cx="2514960" cy="1052640"/>
          </a:xfrm>
        </p:grpSpPr>
        <p:sp>
          <p:nvSpPr>
            <p:cNvPr id="153" name=""/>
            <p:cNvSpPr/>
            <p:nvPr/>
          </p:nvSpPr>
          <p:spPr>
            <a:xfrm flipH="1" flipV="1">
              <a:off x="6400440" y="1600200"/>
              <a:ext cx="833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38880" y="1828800"/>
              <a:ext cx="1676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c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with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SB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647960" y="2743200"/>
            <a:ext cx="4343760" cy="580680"/>
            <a:chOff x="4647960" y="2743200"/>
            <a:chExt cx="4343760" cy="580680"/>
          </a:xfrm>
        </p:grpSpPr>
        <p:sp>
          <p:nvSpPr>
            <p:cNvPr id="156" name=""/>
            <p:cNvSpPr/>
            <p:nvPr/>
          </p:nvSpPr>
          <p:spPr>
            <a:xfrm flipH="1">
              <a:off x="4647960" y="289548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2743200"/>
              <a:ext cx="3581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to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hoppingC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867280" y="3429000"/>
            <a:ext cx="3124440" cy="657000"/>
            <a:chOff x="5867280" y="3429000"/>
            <a:chExt cx="3124440" cy="657000"/>
          </a:xfrm>
        </p:grpSpPr>
        <p:sp>
          <p:nvSpPr>
            <p:cNvPr id="159" name=""/>
            <p:cNvSpPr/>
            <p:nvPr/>
          </p:nvSpPr>
          <p:spPr>
            <a:xfrm flipH="1" flipV="1">
              <a:off x="5867280" y="3429000"/>
              <a:ext cx="609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77120" y="350532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Product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876560" y="3352680"/>
            <a:ext cx="2438640" cy="337320"/>
            <a:chOff x="4876560" y="3352680"/>
            <a:chExt cx="2438640" cy="337320"/>
          </a:xfrm>
        </p:grpSpPr>
        <p:sp>
          <p:nvSpPr>
            <p:cNvPr id="162" name=""/>
            <p:cNvSpPr/>
            <p:nvPr/>
          </p:nvSpPr>
          <p:spPr>
            <a:xfrm flipH="1">
              <a:off x="4876560" y="350532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38680" y="3352680"/>
              <a:ext cx="16765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quantity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562360" y="3886200"/>
            <a:ext cx="3429360" cy="580680"/>
            <a:chOff x="5562360" y="3886200"/>
            <a:chExt cx="3429360" cy="580680"/>
          </a:xfrm>
        </p:grpSpPr>
        <p:sp>
          <p:nvSpPr>
            <p:cNvPr id="165" name=""/>
            <p:cNvSpPr/>
            <p:nvPr/>
          </p:nvSpPr>
          <p:spPr>
            <a:xfrm flipH="1">
              <a:off x="5562360" y="403848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324480" y="38862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l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866920" y="4191120"/>
            <a:ext cx="3124800" cy="1310760"/>
            <a:chOff x="5866920" y="4191120"/>
            <a:chExt cx="3124800" cy="1310760"/>
          </a:xfrm>
        </p:grpSpPr>
        <p:sp>
          <p:nvSpPr>
            <p:cNvPr id="168" name=""/>
            <p:cNvSpPr/>
            <p:nvPr/>
          </p:nvSpPr>
          <p:spPr>
            <a:xfrm flipH="1">
              <a:off x="5866920" y="48006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29400" y="4191120"/>
              <a:ext cx="23623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ndByPrimaryKe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oes not fi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given primary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Cart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e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Car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14-13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26-13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35-13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add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Product with given ISBN from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veProduct( String isbn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NotFound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iterator = orderProductModels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next OrderProduct in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ProductModel orderProduct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OrderProductModel ) 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ductModel product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ProductModel.getProduct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move Product with given ISBN from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oductModel.getISBN().equals( isbn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ProductModels.remove( orderProductMod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row exception if Product not found in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NotFoundExce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Produc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th ISBN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isbn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was not found in you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oppingCart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remove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333760" y="1981080"/>
            <a:ext cx="3200760" cy="580680"/>
            <a:chOff x="5333760" y="1981080"/>
            <a:chExt cx="3200760" cy="580680"/>
          </a:xfrm>
        </p:grpSpPr>
        <p:sp>
          <p:nvSpPr>
            <p:cNvPr id="173" name=""/>
            <p:cNvSpPr/>
            <p:nvPr/>
          </p:nvSpPr>
          <p:spPr>
            <a:xfrm flipH="1">
              <a:off x="5333760" y="213372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95880" y="198108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terate throug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43240" y="3886200"/>
            <a:ext cx="2743560" cy="580680"/>
            <a:chOff x="5943240" y="3886200"/>
            <a:chExt cx="2743560" cy="580680"/>
          </a:xfrm>
        </p:grpSpPr>
        <p:sp>
          <p:nvSpPr>
            <p:cNvPr id="176" name=""/>
            <p:cNvSpPr/>
            <p:nvPr/>
          </p:nvSpPr>
          <p:spPr>
            <a:xfrm flipH="1">
              <a:off x="5943240" y="403848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05720" y="388620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und, remo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71840" y="5562720"/>
            <a:ext cx="2438640" cy="580680"/>
            <a:chOff x="6171840" y="5562720"/>
            <a:chExt cx="2438640" cy="580680"/>
          </a:xfrm>
        </p:grpSpPr>
        <p:sp>
          <p:nvSpPr>
            <p:cNvPr id="179" name=""/>
            <p:cNvSpPr/>
            <p:nvPr/>
          </p:nvSpPr>
          <p:spPr>
            <a:xfrm flipH="1">
              <a:off x="6171840" y="571500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34320" y="5562720"/>
              <a:ext cx="1676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rown when product not fou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Cart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e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Car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51-15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68-17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quantity of Product in ShoppingCar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ProductQuantity( String isbn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Quantity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NotFound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row IllegalArgumentException if uantity not val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oductQuantity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uantity cannot be less than zero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 Product if productQuantity less than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oductQuantity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veProduct( isb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iterator = orderProductModels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next OrderProduct in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ProductModel orderProduct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OrderProductModel ) 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ductModel product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ProductModel.getProduct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quantity for Product with given ISB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oductModel.getISBN().equals( isbn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ProductModel.setQuantity( productQuantit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267080" y="2209680"/>
            <a:ext cx="4496040" cy="337320"/>
            <a:chOff x="4267080" y="2209680"/>
            <a:chExt cx="4496040" cy="337320"/>
          </a:xfrm>
        </p:grpSpPr>
        <p:sp>
          <p:nvSpPr>
            <p:cNvPr id="184" name=""/>
            <p:cNvSpPr/>
            <p:nvPr/>
          </p:nvSpPr>
          <p:spPr>
            <a:xfrm flipH="1">
              <a:off x="4267080" y="236232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29200" y="2209680"/>
              <a:ext cx="3733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ves product if product quantity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171840" y="5181480"/>
            <a:ext cx="2438640" cy="824040"/>
            <a:chOff x="6171840" y="5181480"/>
            <a:chExt cx="2438640" cy="824040"/>
          </a:xfrm>
        </p:grpSpPr>
        <p:sp>
          <p:nvSpPr>
            <p:cNvPr id="187" name=""/>
            <p:cNvSpPr/>
            <p:nvPr/>
          </p:nvSpPr>
          <p:spPr>
            <a:xfrm flipH="1">
              <a:off x="6171840" y="533412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34320" y="5181480"/>
              <a:ext cx="1676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pdates product quantity if product fou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Cart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e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Car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76-17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92-20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row exception if Product not found in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NotFoundExce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Produc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th ISBN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isbn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was not found in you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oppingCart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etProductQuanti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heckout of store (i.e., create new Order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 checkout( String userI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NotFoundException,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row exception if ShoppingCart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orderProductModels.isEmpty(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NotFoundExce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re were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 Products found in your ShoppingCart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OrderModel for Order detai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Model orderMod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OrderModel's date to today's 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Model.setOrderD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list of OrderProduct in Ord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Model.setOrderProductModels( orderProductModel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OrderModel's shipped flag to fa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Model.setShipp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 OrderHome interface to create new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ok up Ord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object = context.lookup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Ord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638320" y="838080"/>
            <a:ext cx="2667600" cy="1342800"/>
            <a:chOff x="5638320" y="838080"/>
            <a:chExt cx="2667600" cy="1342800"/>
          </a:xfrm>
        </p:grpSpPr>
        <p:sp>
          <p:nvSpPr>
            <p:cNvPr id="192" name=""/>
            <p:cNvSpPr/>
            <p:nvPr/>
          </p:nvSpPr>
          <p:spPr>
            <a:xfrm flipH="1" flipV="1">
              <a:off x="5638320" y="838080"/>
              <a:ext cx="9860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29400" y="1600200"/>
              <a:ext cx="1676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rown if product not fou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114440" y="3504960"/>
            <a:ext cx="4877280" cy="1524240"/>
            <a:chOff x="4114440" y="3504960"/>
            <a:chExt cx="4877280" cy="1524240"/>
          </a:xfrm>
        </p:grpSpPr>
        <p:sp>
          <p:nvSpPr>
            <p:cNvPr id="195" name=""/>
            <p:cNvSpPr/>
            <p:nvPr/>
          </p:nvSpPr>
          <p:spPr>
            <a:xfrm flipH="1">
              <a:off x="4723920" y="4038480"/>
              <a:ext cx="182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53080" y="373392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pres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tai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5028840" y="3504960"/>
              <a:ext cx="15238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5105160" y="4038480"/>
              <a:ext cx="14475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14440" y="4038480"/>
              <a:ext cx="24382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Cart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e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Car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1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2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2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Home orderHome = ( OrderHo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ortableRemoteObject.narrow( objec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rderHom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new Order using OrderModel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ustomer's user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 order = orderHome.create( orderModel, user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empty ShoppingCart for further shopp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ProductModel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turn Order EJB that was crea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looking up Ord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exception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hecko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total cost for Products in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Total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iterator = orderProductModels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lculate Order's total co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6400440" y="1447920"/>
            <a:ext cx="2591280" cy="337320"/>
            <a:chOff x="6400440" y="1447920"/>
            <a:chExt cx="2591280" cy="337320"/>
          </a:xfrm>
        </p:grpSpPr>
        <p:sp>
          <p:nvSpPr>
            <p:cNvPr id="203" name=""/>
            <p:cNvSpPr/>
            <p:nvPr/>
          </p:nvSpPr>
          <p:spPr>
            <a:xfrm flipH="1">
              <a:off x="6400440" y="160020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62920" y="1447920"/>
              <a:ext cx="1828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952880" y="2057400"/>
            <a:ext cx="4038840" cy="824040"/>
            <a:chOff x="4952880" y="2057400"/>
            <a:chExt cx="4038840" cy="824040"/>
          </a:xfrm>
        </p:grpSpPr>
        <p:sp>
          <p:nvSpPr>
            <p:cNvPr id="206" name=""/>
            <p:cNvSpPr/>
            <p:nvPr/>
          </p:nvSpPr>
          <p:spPr>
            <a:xfrm flipH="1">
              <a:off x="4952880" y="220968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2057400"/>
              <a:ext cx="3276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mpt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hoppingC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y creating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l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160" y="2590920"/>
            <a:ext cx="3200760" cy="580680"/>
            <a:chOff x="2819160" y="2590920"/>
            <a:chExt cx="3200760" cy="580680"/>
          </a:xfrm>
        </p:grpSpPr>
        <p:sp>
          <p:nvSpPr>
            <p:cNvPr id="209" name=""/>
            <p:cNvSpPr/>
            <p:nvPr/>
          </p:nvSpPr>
          <p:spPr>
            <a:xfrm flipH="1">
              <a:off x="2819160" y="274320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81280" y="259092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remote reference to newly crea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Cart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e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Car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51-25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next OrderProduct in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ProductModel orderProduct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OrderProductModel ) 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ductModel product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ProductModel.getProduct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OrderProduct extended price to tot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tal += ( productModel.getPrice() *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ProductModel.getQuantity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Tot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ession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essionContext( SessionContext contex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ssionContext = contex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vate ShoppingCart EJB instance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Activat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ssivate ShoppingCart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assivate() {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ShoppingCart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Remov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105160" y="1752480"/>
            <a:ext cx="2438640" cy="824040"/>
            <a:chOff x="5105160" y="1752480"/>
            <a:chExt cx="2438640" cy="824040"/>
          </a:xfrm>
        </p:grpSpPr>
        <p:sp>
          <p:nvSpPr>
            <p:cNvPr id="214" name=""/>
            <p:cNvSpPr/>
            <p:nvPr/>
          </p:nvSpPr>
          <p:spPr>
            <a:xfrm flipH="1">
              <a:off x="5105160" y="190512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867280" y="1752480"/>
              <a:ext cx="1676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culate total cost of items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hoppingC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3.3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ShoppingCartHom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hoppingCart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s single create meth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ne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oppingCa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JB inst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B container provides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de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settings in following figure t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1" lang="en-US" sz="2200" spc="-1" strike="noStrike">
                <a:solidFill>
                  <a:srgbClr val="000000"/>
                </a:solidFill>
                <a:latin typeface="AvantGarde"/>
              </a:rPr>
              <a:t>Transa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vantGarde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quir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business metho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9 Enterprise Java Case Study: Business Logic Part 1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14300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OrderProduc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6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OrderProduc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Remote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6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OrderProductEJB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6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OrderProductHom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6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OrderProductPK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Primary-Key Clas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9.6.5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OrderProduct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4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CartHom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interface for crea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pingCar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EJB instance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5-1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276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oppingCartHom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oppingCartHome is the home interface for stateful sess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JB ShoppingCar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ppingCartHom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Ho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new ShoppingCart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ppingCart creat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Crea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876560" y="2819520"/>
            <a:ext cx="2438640" cy="824040"/>
            <a:chOff x="4876560" y="2819520"/>
            <a:chExt cx="2438640" cy="824040"/>
          </a:xfrm>
        </p:grpSpPr>
        <p:sp>
          <p:nvSpPr>
            <p:cNvPr id="221" name=""/>
            <p:cNvSpPr/>
            <p:nvPr/>
          </p:nvSpPr>
          <p:spPr>
            <a:xfrm flipH="1">
              <a:off x="4876560" y="297180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2819520"/>
              <a:ext cx="1676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ation provided by EJB 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3.3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ShoppingCartHom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nterfac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3.3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ShoppingCartHom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nterfac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4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Produc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y EJB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s container-managed persist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s methods that select, insert, update and delete database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loyer provides information o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JB mapping to database t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4.1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Produc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Remote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es metho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etProduct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ductMode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ntain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’s detai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 for modifying details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EJB instance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7-1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657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duc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duct is the remote interface for entity EJB Produc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Objec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roduct details as Produc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Model getProductModel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4343040" y="3276720"/>
            <a:ext cx="3962880" cy="337320"/>
            <a:chOff x="4343040" y="3276720"/>
            <a:chExt cx="3962880" cy="337320"/>
          </a:xfrm>
        </p:grpSpPr>
        <p:sp>
          <p:nvSpPr>
            <p:cNvPr id="236" name=""/>
            <p:cNvSpPr/>
            <p:nvPr/>
          </p:nvSpPr>
          <p:spPr>
            <a:xfrm flipH="1">
              <a:off x="4343040" y="342900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05520" y="3276720"/>
              <a:ext cx="3200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abl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riev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4.2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ProductEJB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oductEJ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mote interface imple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s container-managed persist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8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8-2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7-4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33-39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ductEJB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tity EJB Product represents a Product, including th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BN, publisher, author, title, price number of pag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cover imag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EJB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ityBea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ityContext entity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tainer-managed fiel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ISB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publish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auth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tit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g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im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roduct details as Produc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Model getProductModel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struct new Produc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Model productMod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ProductModel with data from 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Model.setISBN( ISB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Model.setPublisher( publish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Model.setAuthor( auth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733560" y="3886200"/>
            <a:ext cx="4038840" cy="580680"/>
            <a:chOff x="3733560" y="3886200"/>
            <a:chExt cx="4038840" cy="580680"/>
          </a:xfrm>
        </p:grpSpPr>
        <p:sp>
          <p:nvSpPr>
            <p:cNvPr id="243" name=""/>
            <p:cNvSpPr/>
            <p:nvPr/>
          </p:nvSpPr>
          <p:spPr>
            <a:xfrm flipH="1">
              <a:off x="3733560" y="403848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95680" y="3886200"/>
              <a:ext cx="3276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ainer synchronizes access to database-mapp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mb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419360" y="4952880"/>
            <a:ext cx="3505320" cy="580680"/>
            <a:chOff x="4419360" y="4952880"/>
            <a:chExt cx="3505320" cy="580680"/>
          </a:xfrm>
        </p:grpSpPr>
        <p:sp>
          <p:nvSpPr>
            <p:cNvPr id="246" name=""/>
            <p:cNvSpPr/>
            <p:nvPr/>
          </p:nvSpPr>
          <p:spPr>
            <a:xfrm flipH="1">
              <a:off x="4419360" y="510552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81480" y="495288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detai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5562360" y="5486400"/>
            <a:ext cx="3048120" cy="337320"/>
            <a:chOff x="5562360" y="5486400"/>
            <a:chExt cx="3048120" cy="337320"/>
          </a:xfrm>
        </p:grpSpPr>
        <p:sp>
          <p:nvSpPr>
            <p:cNvPr id="249" name=""/>
            <p:cNvSpPr/>
            <p:nvPr/>
          </p:nvSpPr>
          <p:spPr>
            <a:xfrm flipH="1">
              <a:off x="5562360" y="563868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24480" y="548640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952880" y="6248520"/>
            <a:ext cx="3276720" cy="337320"/>
            <a:chOff x="4952880" y="6248520"/>
            <a:chExt cx="3276720" cy="337320"/>
          </a:xfrm>
        </p:grpSpPr>
        <p:sp>
          <p:nvSpPr>
            <p:cNvPr id="252" name=""/>
            <p:cNvSpPr/>
            <p:nvPr/>
          </p:nvSpPr>
          <p:spPr>
            <a:xfrm flipH="1">
              <a:off x="4952880" y="640080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15000" y="6248520"/>
              <a:ext cx="2514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pul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8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50-5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6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Model.setTitle( tit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Model.setPrice( pric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Model.setPages( pag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Model.setImage( im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Produc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roduct details using Produc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ProductModel( ProductModel productModel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opulate Product's data members with data i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vided Produc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SBN = productModel.getISB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ublisher = productModel.getPublish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uthor = productModel.getAuth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tle = productModel.getTitl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ce = productModel.getPri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ges = productModel.getPage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 = productModel.getImag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etProductMode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instance of Product EJB using given Produc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ejbCreate( ProductModel productModel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ProductModel( productModel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erform any necessary post-creation task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ostCreate( ProductModel productmodel 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5333760" y="3276720"/>
            <a:ext cx="2972160" cy="337320"/>
            <a:chOff x="5333760" y="3276720"/>
            <a:chExt cx="2972160" cy="337320"/>
          </a:xfrm>
        </p:grpSpPr>
        <p:sp>
          <p:nvSpPr>
            <p:cNvPr id="257" name=""/>
            <p:cNvSpPr/>
            <p:nvPr/>
          </p:nvSpPr>
          <p:spPr>
            <a:xfrm flipH="1">
              <a:off x="5333760" y="342900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95880" y="3276720"/>
              <a:ext cx="22100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detai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495680" y="5181480"/>
            <a:ext cx="2438640" cy="824040"/>
            <a:chOff x="4495680" y="5181480"/>
            <a:chExt cx="2438640" cy="824040"/>
          </a:xfrm>
        </p:grpSpPr>
        <p:sp>
          <p:nvSpPr>
            <p:cNvPr id="260" name=""/>
            <p:cNvSpPr/>
            <p:nvPr/>
          </p:nvSpPr>
          <p:spPr>
            <a:xfrm flipH="1">
              <a:off x="4495680" y="533412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5181480"/>
              <a:ext cx="1676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ialize EJB with provid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8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Entity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EntityContext( EntityContext contex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ityContext = contex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nset Entity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setEntityContex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ity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vate Product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Activat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SBN = ( String ) entityContext.getPrimaryKe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ssivate Product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assivat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SB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Product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Remov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ore Product EJB data in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Stor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ad Product EJB data from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Load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1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 pres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JB business logic for shopping-cart e-commerce mod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tity EJBs that provide object-based interface to catalo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ill underst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of EJBs in e-commerce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e advanced EJB top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 primary-key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-to-many 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4.3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ProductHom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oduct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new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ductEJ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stan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ind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thods for finding exist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9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Hom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interface for finding and crea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EJB instance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8-1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2-2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6-2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30-3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ductHom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ductHome is the home interface for entity EJB Produc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Colle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Hom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Ho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Product EJB using given Produc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 create( ProductModel productModel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Crea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nd Product with given ISB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 findByPrimaryKey( String isbn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Finder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nd all Produc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lection findAllProducts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Finder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nd Products with given tit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lection findByTitle( String titl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Finder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5562360" y="3429000"/>
            <a:ext cx="2972160" cy="580680"/>
            <a:chOff x="5562360" y="3429000"/>
            <a:chExt cx="2972160" cy="580680"/>
          </a:xfrm>
        </p:grpSpPr>
        <p:sp>
          <p:nvSpPr>
            <p:cNvPr id="269" name=""/>
            <p:cNvSpPr/>
            <p:nvPr/>
          </p:nvSpPr>
          <p:spPr>
            <a:xfrm flipH="1">
              <a:off x="5562360" y="358128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24480" y="3429000"/>
              <a:ext cx="2210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face for crea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EJB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5181480" y="4191120"/>
            <a:ext cx="2743200" cy="1554120"/>
            <a:chOff x="5181480" y="4191120"/>
            <a:chExt cx="2743200" cy="1554120"/>
          </a:xfrm>
        </p:grpSpPr>
        <p:sp>
          <p:nvSpPr>
            <p:cNvPr id="272" name=""/>
            <p:cNvSpPr/>
            <p:nvPr/>
          </p:nvSpPr>
          <p:spPr>
            <a:xfrm flipH="1">
              <a:off x="5181480" y="434340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943600" y="4191120"/>
              <a:ext cx="198108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k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SB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gument. Container implements method using deployment SQL que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952520" y="4876920"/>
            <a:ext cx="3200760" cy="1310760"/>
            <a:chOff x="4952520" y="4876920"/>
            <a:chExt cx="3200760" cy="1310760"/>
          </a:xfrm>
        </p:grpSpPr>
        <p:sp>
          <p:nvSpPr>
            <p:cNvPr id="275" name=""/>
            <p:cNvSpPr/>
            <p:nvPr/>
          </p:nvSpPr>
          <p:spPr>
            <a:xfrm flipH="1">
              <a:off x="4952520" y="502920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14640" y="4876920"/>
              <a:ext cx="24386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l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in database. Container implements method using deployment SQL queri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5105160" y="5105520"/>
            <a:ext cx="3657960" cy="1067400"/>
            <a:chOff x="5105160" y="5105520"/>
            <a:chExt cx="3657960" cy="1067400"/>
          </a:xfrm>
        </p:grpSpPr>
        <p:sp>
          <p:nvSpPr>
            <p:cNvPr id="278" name=""/>
            <p:cNvSpPr/>
            <p:nvPr/>
          </p:nvSpPr>
          <p:spPr>
            <a:xfrm flipH="1">
              <a:off x="5105160" y="579132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67280" y="5105520"/>
              <a:ext cx="28958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l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match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. Container implements method using deployment SQL queri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4.4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ProductModel</a:t>
            </a:r>
            <a:endParaRPr b="1" lang="en-US" sz="30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s interfac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rializ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tances may be serialized over RMI-IIOP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10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Model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ata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8-25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ductMode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ductModel represents a Product in the Deitel Bookstor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ing ISBN, author, title and a picture of the cov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tex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Mode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izabl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MLGenerato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ductModel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ISB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publish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auth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tit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g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im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antit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ISB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ISBN( String productISBN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SBN = productISBN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885840" y="3962520"/>
            <a:ext cx="2972160" cy="824040"/>
            <a:chOff x="3885840" y="3962520"/>
            <a:chExt cx="2972160" cy="824040"/>
          </a:xfrm>
        </p:grpSpPr>
        <p:sp>
          <p:nvSpPr>
            <p:cNvPr id="285" name=""/>
            <p:cNvSpPr/>
            <p:nvPr/>
          </p:nvSpPr>
          <p:spPr>
            <a:xfrm flipH="1">
              <a:off x="3885840" y="411480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48320" y="396252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mbers accessible through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333760" y="2743200"/>
            <a:ext cx="2514960" cy="580680"/>
            <a:chOff x="5333760" y="2743200"/>
            <a:chExt cx="2514960" cy="580680"/>
          </a:xfrm>
        </p:grpSpPr>
        <p:sp>
          <p:nvSpPr>
            <p:cNvPr id="288" name=""/>
            <p:cNvSpPr/>
            <p:nvPr/>
          </p:nvSpPr>
          <p:spPr>
            <a:xfrm flipH="1">
              <a:off x="5333760" y="289548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95880" y="2743200"/>
              <a:ext cx="1752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XMLGen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10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Model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ata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ISB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ISBN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N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ublish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Publisher( String productPublish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ublisher = productPublishe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ublish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Publish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ublishe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auth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Author( String productAutho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uthor = productAutho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auth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Autho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utho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tit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Title( String productTitl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tle = productTitl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10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Model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ata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tit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Titl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tl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r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Pri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Pric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productPric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r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ric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c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number of p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Page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geCou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ges = pageCoun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number of p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ages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ges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URL of cover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Image( String productImag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 = productImag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10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Model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ata.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12-16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URL of cover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Imag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XML representation of 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lement getXML( Document docum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product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product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ISBN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B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createTextNode( getISBN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publisher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ublish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createTextNode( getPublisher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uthor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uth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createTextNode( getAuthor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410080" y="1828800"/>
            <a:ext cx="3200400" cy="1067400"/>
            <a:chOff x="5410080" y="1828800"/>
            <a:chExt cx="3200400" cy="1067400"/>
          </a:xfrm>
        </p:grpSpPr>
        <p:sp>
          <p:nvSpPr>
            <p:cNvPr id="297" name=""/>
            <p:cNvSpPr/>
            <p:nvPr/>
          </p:nvSpPr>
          <p:spPr>
            <a:xfrm flipH="1">
              <a:off x="5410080" y="198108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72200" y="1828800"/>
              <a:ext cx="24382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s XM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data contained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Does not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cu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10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Model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ata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6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title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itl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createTextNode( getTitl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umberFormat priceFormatter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umberFormat.getCurrencyInstance( Locale.U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price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ceFormatter.format( getPrice()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pages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ges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getPages()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image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createTextNode( getImag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XM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742840" y="5105520"/>
            <a:ext cx="3734280" cy="337320"/>
            <a:chOff x="2742840" y="5105520"/>
            <a:chExt cx="3734280" cy="337320"/>
          </a:xfrm>
        </p:grpSpPr>
        <p:sp>
          <p:nvSpPr>
            <p:cNvPr id="302" name=""/>
            <p:cNvSpPr/>
            <p:nvPr/>
          </p:nvSpPr>
          <p:spPr>
            <a:xfrm flipH="1">
              <a:off x="2742840" y="525780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505320" y="5105520"/>
              <a:ext cx="2971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s newly crea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11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MLGenerato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interface for generating XM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eme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propertie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2819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XMLGenerato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XMLGenerator is an interface for classes that can gener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XML Elements. The XML element returned by method getXM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ould contain Elements for each public propert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Generato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uild an XML element for this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lement getXML( Document docum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4.4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ProductModel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2   EJB Archite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Bs implement business logic of case stu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 controller lo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unicates with EJB business logic 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 data from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y EJBs alleviate network congestion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transmit EJB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s ar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rializa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lasses containing all data for given EJ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entity bean provi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thod that returns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4.4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ProductModel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1609920" y="5867280"/>
            <a:ext cx="58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9.1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duct Entit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art 1 of 2)and deployment setting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4.4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ProductModel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5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Order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y EJB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resents an order placed at Deitel Bookst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ists 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s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and associated quant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ustomer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14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 for modifying details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EJB instance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0-2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724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 is the remote interface for entity EJB Ord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Objec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Order details as Ord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Model getOrderMode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hipped fla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hipp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lag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hipped fla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Shipped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876560" y="1905120"/>
            <a:ext cx="4115160" cy="1218960"/>
            <a:chOff x="4876560" y="1905120"/>
            <a:chExt cx="4115160" cy="1218960"/>
          </a:xfrm>
        </p:grpSpPr>
        <p:sp>
          <p:nvSpPr>
            <p:cNvPr id="321" name=""/>
            <p:cNvSpPr/>
            <p:nvPr/>
          </p:nvSpPr>
          <p:spPr>
            <a:xfrm flipH="1">
              <a:off x="4876560" y="2209680"/>
              <a:ext cx="15238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00800" y="190512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tai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714640" y="3886200"/>
            <a:ext cx="2972160" cy="580680"/>
            <a:chOff x="5714640" y="3886200"/>
            <a:chExt cx="2972160" cy="580680"/>
          </a:xfrm>
        </p:grpSpPr>
        <p:sp>
          <p:nvSpPr>
            <p:cNvPr id="324" name=""/>
            <p:cNvSpPr/>
            <p:nvPr/>
          </p:nvSpPr>
          <p:spPr>
            <a:xfrm flipH="1">
              <a:off x="5714640" y="403848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77120" y="388620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rk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been shipped from wareho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638680" y="4419720"/>
            <a:ext cx="2667240" cy="580680"/>
            <a:chOff x="5638680" y="4419720"/>
            <a:chExt cx="2667240" cy="580680"/>
          </a:xfrm>
        </p:grpSpPr>
        <p:sp>
          <p:nvSpPr>
            <p:cNvPr id="327" name=""/>
            <p:cNvSpPr/>
            <p:nvPr/>
          </p:nvSpPr>
          <p:spPr>
            <a:xfrm flipH="1">
              <a:off x="5638680" y="457200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400800" y="4419720"/>
              <a:ext cx="1905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dicat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has been shipp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5.2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OrderEJB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rderEJ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remote reference implement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declares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members for container-managed persiste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15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6-2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32-9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EJB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tity EJB Order represents an Order, including th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ID, Order date, total cost and whether the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as shipp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text.DateForma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PortableRemoteObje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EJB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ityBean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ityContext entity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 initial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Format dateForma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tainer-managed fiel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order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customer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orderDat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lean shipp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Order details as Ord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Model getOrderMode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struct new Ord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Model orderMod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Model(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581280" y="5029200"/>
            <a:ext cx="3429000" cy="580680"/>
            <a:chOff x="3581280" y="5029200"/>
            <a:chExt cx="3429000" cy="580680"/>
          </a:xfrm>
        </p:grpSpPr>
        <p:sp>
          <p:nvSpPr>
            <p:cNvPr id="334" name=""/>
            <p:cNvSpPr/>
            <p:nvPr/>
          </p:nvSpPr>
          <p:spPr>
            <a:xfrm flipH="1">
              <a:off x="3581280" y="518148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43400" y="50292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blic members for container managed persist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4876560" y="5334120"/>
            <a:ext cx="3810240" cy="824040"/>
            <a:chOff x="4876560" y="5334120"/>
            <a:chExt cx="3810240" cy="824040"/>
          </a:xfrm>
        </p:grpSpPr>
        <p:sp>
          <p:nvSpPr>
            <p:cNvPr id="337" name=""/>
            <p:cNvSpPr/>
            <p:nvPr/>
          </p:nvSpPr>
          <p:spPr>
            <a:xfrm flipH="1">
              <a:off x="4876560" y="5715000"/>
              <a:ext cx="1523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324480" y="5334120"/>
              <a:ext cx="2362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stance contain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tai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15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42-4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56-5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k up OrderProduct EJB to retrieve lis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f Products contained in the Order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opulate OrderModel data members with data from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Model.setOrderID( order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Model.setOrderDate( dateFormat.parse( orderDate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Model.setShipped( shipped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object = initialContext.lookup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OrderProdu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ProductHome orderProductHome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OrderProductHome ) PortableRemoteObject.narrow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bject, OrderProductHom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OrderProduct records for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llection orderProduct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ProductHome.findByOrderID( order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ator iterator = orderProducts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rderProductModels to place in Ord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llection orderProductModel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List(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OrderProductModel for each Product in Ord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Product orderProduct = ( OrderProduc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ortableRemoteObject.narrow( iterator.next(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OrderProduct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6172200" y="1904760"/>
            <a:ext cx="2819520" cy="413640"/>
            <a:chOff x="6172200" y="1904760"/>
            <a:chExt cx="2819520" cy="413640"/>
          </a:xfrm>
        </p:grpSpPr>
        <p:sp>
          <p:nvSpPr>
            <p:cNvPr id="342" name=""/>
            <p:cNvSpPr/>
            <p:nvPr/>
          </p:nvSpPr>
          <p:spPr>
            <a:xfrm flipH="1" flipV="1">
              <a:off x="6172200" y="1904760"/>
              <a:ext cx="604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781680" y="1981080"/>
              <a:ext cx="22100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pul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638680" y="3886200"/>
            <a:ext cx="3353040" cy="337320"/>
            <a:chOff x="5638680" y="3886200"/>
            <a:chExt cx="3353040" cy="337320"/>
          </a:xfrm>
        </p:grpSpPr>
        <p:sp>
          <p:nvSpPr>
            <p:cNvPr id="345" name=""/>
            <p:cNvSpPr/>
            <p:nvPr/>
          </p:nvSpPr>
          <p:spPr>
            <a:xfrm flipH="1">
              <a:off x="5638680" y="403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95880" y="3886200"/>
              <a:ext cx="28958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cor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15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71-7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7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8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OrderProductModel for OrderProduct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ProductModel orderProduct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rderProduct.getOrderProduct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dd OrderProductModel to list o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OrderProductModels in the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ProductModels.add( orderProductMod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Collection of OrderProductModels to Ord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Model.setOrderProductModels( orderProductModel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orking with OrderProduct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exception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Ord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hipped fla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hipp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lag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ipped = flag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hipped fla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Shipped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ipped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5409720" y="762120"/>
            <a:ext cx="3582000" cy="1266480"/>
            <a:chOff x="5409720" y="762120"/>
            <a:chExt cx="3582000" cy="1266480"/>
          </a:xfrm>
        </p:grpSpPr>
        <p:sp>
          <p:nvSpPr>
            <p:cNvPr id="350" name=""/>
            <p:cNvSpPr/>
            <p:nvPr/>
          </p:nvSpPr>
          <p:spPr>
            <a:xfrm flipH="1" flipV="1">
              <a:off x="5409720" y="762120"/>
              <a:ext cx="1366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05720" y="144792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Product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5486400" y="1599840"/>
            <a:ext cx="3505320" cy="1266840"/>
            <a:chOff x="5486400" y="1599840"/>
            <a:chExt cx="3505320" cy="1266840"/>
          </a:xfrm>
        </p:grpSpPr>
        <p:sp>
          <p:nvSpPr>
            <p:cNvPr id="353" name=""/>
            <p:cNvSpPr/>
            <p:nvPr/>
          </p:nvSpPr>
          <p:spPr>
            <a:xfrm flipH="1" flipV="1">
              <a:off x="5486400" y="1599840"/>
              <a:ext cx="22096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324480" y="22860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l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05520" y="2362320"/>
            <a:ext cx="3733560" cy="1190160"/>
            <a:chOff x="5105520" y="2362320"/>
            <a:chExt cx="3733560" cy="1190160"/>
          </a:xfrm>
        </p:grpSpPr>
        <p:sp>
          <p:nvSpPr>
            <p:cNvPr id="356" name=""/>
            <p:cNvSpPr/>
            <p:nvPr/>
          </p:nvSpPr>
          <p:spPr>
            <a:xfrm flipH="1" flipV="1">
              <a:off x="5105520" y="2362320"/>
              <a:ext cx="15192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29400" y="297180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l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15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06-18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2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new Order EJB using given OrderModel and user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ejbCreate( OrderModel order, String userI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rieve unique value for primary key of thi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rder using SequenceFactory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object = initialContext.lookup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SequenceFacto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quenceFactoryHome sequenceFactoryHome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SequenceFactoryHo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ortableRemoteObject.narrow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object, SequenceFactoryHom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ind sequence for CustomerOrder 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quenceFactory sequenceFactor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quenceFactoryHome.findByPrimaryKe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ustomerOrder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next unique order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ID = sequenceFactory.getNextI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date, cost, shipped flag and list o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rderProduct from provided Ord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Date = dateFormat.format( order.getOrderDat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ipped = order.getShippe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OrderProductModels that comprise Ord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llection orderProductModel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.getOrderProductModel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028840" y="4419720"/>
            <a:ext cx="3429360" cy="337320"/>
            <a:chOff x="5028840" y="4419720"/>
            <a:chExt cx="3429360" cy="337320"/>
          </a:xfrm>
        </p:grpSpPr>
        <p:sp>
          <p:nvSpPr>
            <p:cNvPr id="361" name=""/>
            <p:cNvSpPr/>
            <p:nvPr/>
          </p:nvSpPr>
          <p:spPr>
            <a:xfrm flipH="1">
              <a:off x="5028840" y="457200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791320" y="44197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s unique ID for or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333760" y="761760"/>
            <a:ext cx="3505320" cy="1571400"/>
            <a:chOff x="5333760" y="761760"/>
            <a:chExt cx="3505320" cy="1571400"/>
          </a:xfrm>
        </p:grpSpPr>
        <p:sp>
          <p:nvSpPr>
            <p:cNvPr id="364" name=""/>
            <p:cNvSpPr/>
            <p:nvPr/>
          </p:nvSpPr>
          <p:spPr>
            <a:xfrm flipH="1" flipV="1">
              <a:off x="5333760" y="761760"/>
              <a:ext cx="20574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943600" y="175248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using data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ser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15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52-16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OrderProduct EJBs for each Product i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rder to keep track of quantit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= initialContext.lookup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OrderProdu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ProductHome orderProductHo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OrderProductHome ) PortableRemoteObject.narrow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object, OrderProductHom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ator iterator = orderProductModels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an OrderProduct EJB with Product'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SBN, quantity and orderID for this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ProductModel orderProduct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 OrderProductModel ) 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et orderID for OrderProduct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ProductModel.setOrderID( order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reate OrderProduct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ProductHome.create( orderProductMod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customerID for customer placing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= initialContext.lookup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Custom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stomerHome customerHo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CustomerHome ) PortableRemoteObject.narrow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bject, CustomerHom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5866920" y="3657600"/>
            <a:ext cx="3124800" cy="337320"/>
            <a:chOff x="5866920" y="3657600"/>
            <a:chExt cx="3124800" cy="337320"/>
          </a:xfrm>
        </p:grpSpPr>
        <p:sp>
          <p:nvSpPr>
            <p:cNvPr id="369" name=""/>
            <p:cNvSpPr/>
            <p:nvPr/>
          </p:nvSpPr>
          <p:spPr>
            <a:xfrm flipH="1">
              <a:off x="5866920" y="3809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095880" y="3657600"/>
              <a:ext cx="28958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cor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2   EJB Architectur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525760" y="2738520"/>
            <a:ext cx="4092480" cy="1384200"/>
            <a:chOff x="2525760" y="2738520"/>
            <a:chExt cx="4092480" cy="138420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525760" y="2738520"/>
              <a:ext cx="4092480" cy="13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2743200" y="3124080"/>
              <a:ext cx="69696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5638680" y="3124080"/>
              <a:ext cx="75564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4"/>
            <a:stretch/>
          </p:blipFill>
          <p:spPr>
            <a:xfrm>
              <a:off x="5410080" y="2895480"/>
              <a:ext cx="1193760" cy="11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5"/>
            <a:stretch/>
          </p:blipFill>
          <p:spPr>
            <a:xfrm>
              <a:off x="2546280" y="2895480"/>
              <a:ext cx="1187640" cy="118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990720" y="4191120"/>
            <a:ext cx="6705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9.1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between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GetProductServle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duc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JB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15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73-17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7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se provided userID to find Custom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stomer custom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stomerHome.findByUserID( user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stomerID = ( Integer ) customer.getPrimaryKe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looking up EJ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Exception( exception.getMessage(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ejbCre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erform any necessary post-creation task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ostCreate( OrderModel order, String id 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Entity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EntityContext( EntityContext contex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ityContext = contex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eFormat = DateFormat.getDateTimeInstanc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teForma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ateForma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ocal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nset Entity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setEntityContex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ity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5105160" y="685440"/>
            <a:ext cx="3810240" cy="1495440"/>
            <a:chOff x="5105160" y="685440"/>
            <a:chExt cx="3810240" cy="1495440"/>
          </a:xfrm>
        </p:grpSpPr>
        <p:sp>
          <p:nvSpPr>
            <p:cNvPr id="374" name=""/>
            <p:cNvSpPr/>
            <p:nvPr/>
          </p:nvSpPr>
          <p:spPr>
            <a:xfrm flipH="1" flipV="1">
              <a:off x="5105160" y="685440"/>
              <a:ext cx="15951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705720" y="160020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for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ser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648320" y="1295280"/>
            <a:ext cx="4343400" cy="1328040"/>
            <a:chOff x="4648320" y="1295280"/>
            <a:chExt cx="4343400" cy="1328040"/>
          </a:xfrm>
        </p:grpSpPr>
        <p:sp>
          <p:nvSpPr>
            <p:cNvPr id="377" name=""/>
            <p:cNvSpPr/>
            <p:nvPr/>
          </p:nvSpPr>
          <p:spPr>
            <a:xfrm flipH="1" flipV="1">
              <a:off x="4648320" y="1295280"/>
              <a:ext cx="31240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324480" y="228600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15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886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vate Order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Activat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ID = ( Integer ) entityContext.getPrimaryKe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ssivate Order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assivat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I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Order EJB instanceC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Remov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ore Order EJB data in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Stor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ad Order EJB data from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Load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5.3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OrderHom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s exist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16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Hom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interface for finding and crea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EJB instance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8-1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2-2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6-2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Hom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Home is the home interface for entity EJB Ord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Hom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Ho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Order using given OrderModel and user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 create( OrderModel orderModel, String userI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Crea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nd Order using given order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 findByPrimaryKey( Integer orderI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Finder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nd Orders for given customer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lection findByCustomerID( Integer customerI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Finder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943240" y="3429000"/>
            <a:ext cx="2972160" cy="337320"/>
            <a:chOff x="5943240" y="3429000"/>
            <a:chExt cx="2972160" cy="337320"/>
          </a:xfrm>
        </p:grpSpPr>
        <p:sp>
          <p:nvSpPr>
            <p:cNvPr id="386" name=""/>
            <p:cNvSpPr/>
            <p:nvPr/>
          </p:nvSpPr>
          <p:spPr>
            <a:xfrm flipH="1">
              <a:off x="5943240" y="358128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705720" y="3429000"/>
              <a:ext cx="2209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486040" y="4114800"/>
            <a:ext cx="2972160" cy="337320"/>
            <a:chOff x="5486040" y="4114800"/>
            <a:chExt cx="2972160" cy="337320"/>
          </a:xfrm>
        </p:grpSpPr>
        <p:sp>
          <p:nvSpPr>
            <p:cNvPr id="389" name=""/>
            <p:cNvSpPr/>
            <p:nvPr/>
          </p:nvSpPr>
          <p:spPr>
            <a:xfrm flipH="1">
              <a:off x="5486040" y="426708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48520" y="4114800"/>
              <a:ext cx="2209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cates exis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943240" y="4952880"/>
            <a:ext cx="2972160" cy="824040"/>
            <a:chOff x="5943240" y="4952880"/>
            <a:chExt cx="2972160" cy="824040"/>
          </a:xfrm>
        </p:grpSpPr>
        <p:sp>
          <p:nvSpPr>
            <p:cNvPr id="392" name=""/>
            <p:cNvSpPr/>
            <p:nvPr/>
          </p:nvSpPr>
          <p:spPr>
            <a:xfrm flipH="1">
              <a:off x="5943240" y="510552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705720" y="495288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l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for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5.4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OrderModel</a:t>
            </a:r>
            <a:endParaRPr b="1" lang="en-US" sz="30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apsulates details of a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JB 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rializ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1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Model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ata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9-2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Mode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Model represents an Order and contains the order ID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e, total cost and a boolean indicating whether or not t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 has shipp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tex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Mode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izabl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MLGenerato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rderModel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order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orderDat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ipp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lection orderProductModel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 empty Order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Model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ProductModel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order 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OrderID( Integer i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ID = id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3962160" y="3809880"/>
            <a:ext cx="3962520" cy="337320"/>
            <a:chOff x="3962160" y="3809880"/>
            <a:chExt cx="3962520" cy="337320"/>
          </a:xfrm>
        </p:grpSpPr>
        <p:sp>
          <p:nvSpPr>
            <p:cNvPr id="399" name=""/>
            <p:cNvSpPr/>
            <p:nvPr/>
          </p:nvSpPr>
          <p:spPr>
            <a:xfrm flipH="1">
              <a:off x="3962160" y="396252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724280" y="3809880"/>
              <a:ext cx="3200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ve associated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1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Model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ata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order 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getOrderID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ID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order 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OrderDate( Date dat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Date = dat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order 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getOrderDat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Dat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total co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TotalCos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iterator = orderProductModels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lculate Order's total co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next OrderProduct in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ProductModel orderProduct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OrderProductModel ) 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ductModel product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ProductModel.getProduct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1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Model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ata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OrderProduct extended price to tot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tal += ( productModel.getPrice() *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ProductModel.getQuantity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hipped fla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hipp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Shippe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ipped = orderShipped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hipped fla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Shipped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ipped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list of OrderProductMode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OrderProductModels( Collection model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ProductModels = models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OrderProductMode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lection getOrderProductModels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lections.unmodifiableCollec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ProductModel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1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Model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ata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05-16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XML representation of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lement getXML( Document docum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order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order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d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orderID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derI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getOrderID()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DateFormat for writing Date to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eFormat formatter = DateFormat.getDateTimeInstanc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teForma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EFAUL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ateForma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EDIU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ocal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orderDate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derDa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ormatter.format( getOrderDate()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umberFormat costFormatter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umberFormat.getCurrencyInstance( Local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totalCost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otalCo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stFormatter.format( getTotalCost()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hipped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ipp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4952520" y="685800"/>
            <a:ext cx="3657960" cy="1342800"/>
            <a:chOff x="4952520" y="685800"/>
            <a:chExt cx="3657960" cy="1342800"/>
          </a:xfrm>
        </p:grpSpPr>
        <p:sp>
          <p:nvSpPr>
            <p:cNvPr id="408" name=""/>
            <p:cNvSpPr/>
            <p:nvPr/>
          </p:nvSpPr>
          <p:spPr>
            <a:xfrm flipH="1" flipV="1">
              <a:off x="4952520" y="685800"/>
              <a:ext cx="18241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781680" y="144792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rom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XMLGen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1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Model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for serializ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ata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etShipped(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emp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.createTextNod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emp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.createTextNod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orderProducts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orderProduct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derProduct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iterator = getOrderProductModels()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orderProduct element for each Order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ProductModel orderProduct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OrderProductModel ) 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Products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ProductModel.getXML( document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.appendChild( orderProduct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XM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3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ShoppingCar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ful session EJB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hoppingC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by customers to gather products as they browse st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s business logic for managing each shopping c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ists 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te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JB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e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stateful so it will persist throughout user’s ses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5.4 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OrderMode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5.4 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OrderMode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5.4 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OrderMode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6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OrderProduc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B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rder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y-to-many relationship between Orders and 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6.1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OrderProduc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Remote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rder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mote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siness methods for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rderProd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J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9.21 OrderProduct remote interface for modifying details of OrderProduct EJB instanc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8-1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Produc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Product is the remote interface for entity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Produc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Produc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Objec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OrderProduct details as OrderProduc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ProductModel getOrderProductModel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257440" y="3124080"/>
            <a:ext cx="3581280" cy="1067400"/>
            <a:chOff x="5257440" y="3124080"/>
            <a:chExt cx="3581280" cy="1067400"/>
          </a:xfrm>
        </p:grpSpPr>
        <p:sp>
          <p:nvSpPr>
            <p:cNvPr id="428" name=""/>
            <p:cNvSpPr/>
            <p:nvPr/>
          </p:nvSpPr>
          <p:spPr>
            <a:xfrm>
              <a:off x="5865840" y="3124080"/>
              <a:ext cx="2972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Order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contains the details of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cor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257440" y="3504960"/>
              <a:ext cx="60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6.2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OrderProductEJB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rderProductEJ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rderProd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mote inter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9.22 OrderProductEJB implementation of OrderProduct remote interfac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2-2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7-6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ProductEJB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tity EJB OrderProductEJB represents the mapping betw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Product and an Order, including the quantity of th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duct in the Ord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PortableRemoteObje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ProductEJB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ityBea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ityContext entity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tainer-managed fiel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ISB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order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antit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OrderProduct details as OrderProduc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ProductModel getOrderProductModel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ProductModel mod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Product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ProductModel for Product in this Order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text initial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3047760" y="3962520"/>
            <a:ext cx="3581280" cy="580680"/>
            <a:chOff x="3047760" y="3962520"/>
            <a:chExt cx="3581280" cy="580680"/>
          </a:xfrm>
        </p:grpSpPr>
        <p:sp>
          <p:nvSpPr>
            <p:cNvPr id="435" name=""/>
            <p:cNvSpPr/>
            <p:nvPr/>
          </p:nvSpPr>
          <p:spPr>
            <a:xfrm>
              <a:off x="3656160" y="3962520"/>
              <a:ext cx="2972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 container-managed field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B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antit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3047760" y="4343400"/>
              <a:ext cx="60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257440" y="4724280"/>
            <a:ext cx="3581280" cy="1067400"/>
            <a:chOff x="5257440" y="4724280"/>
            <a:chExt cx="3581280" cy="1067400"/>
          </a:xfrm>
        </p:grpSpPr>
        <p:sp>
          <p:nvSpPr>
            <p:cNvPr id="438" name=""/>
            <p:cNvSpPr/>
            <p:nvPr/>
          </p:nvSpPr>
          <p:spPr>
            <a:xfrm>
              <a:off x="5865840" y="4724280"/>
              <a:ext cx="2972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Order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the details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cord a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5257440" y="5105160"/>
              <a:ext cx="60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9.22 OrderProductEJB implementation of OrderProduct remote interface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ok up Product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object = initialContext.lookup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Produ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ProductHome 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ductHome productHome = ( ProductHo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ortableRemoteObject.narrow( objec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roductHom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ind Product using its ISB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duct produ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oductHome.findByPrimaryKey( ISB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Produc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ductModel product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oduct.getProduct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ProductModel in OrderProduc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odel.setProductModel( productMod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looking up Product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exception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orderID and quantity in OrderProduc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odel.setOrderID( order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odel.setQuantity( quantit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OrderProduc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9.22 OrderProductEJB implementation of OrderProduct remote interfac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2-7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0-8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8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OrderProduct details using OrderProduc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OrderProductModel( OrderProductModel model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SBN = model.getProductModel().getISB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ID = model.getOrderI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quantity = model.getQuantit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OrderProduct for given OrderProduc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ProductPK ejbCreate( OrderProductModel model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OrderProductModel( mod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erform any necessary post-creation task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ostCreate( OrderProductModel model 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Entity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EntityContext( EntityContext contex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ityContext = contex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nset Entity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setEntityContex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ity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vate OrderProduct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Activat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ProductPK primaryKe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OrderProductPK ) entityContext.getPrimaryKe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4876560" y="762120"/>
            <a:ext cx="3809880" cy="824040"/>
            <a:chOff x="4876560" y="762120"/>
            <a:chExt cx="3809880" cy="824040"/>
          </a:xfrm>
        </p:grpSpPr>
        <p:sp>
          <p:nvSpPr>
            <p:cNvPr id="445" name=""/>
            <p:cNvSpPr/>
            <p:nvPr/>
          </p:nvSpPr>
          <p:spPr>
            <a:xfrm>
              <a:off x="5523840" y="762120"/>
              <a:ext cx="3162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details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cord, using data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gu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4876560" y="1142640"/>
              <a:ext cx="64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6324480" y="1600200"/>
            <a:ext cx="2666880" cy="1067400"/>
            <a:chOff x="6324480" y="1600200"/>
            <a:chExt cx="2666880" cy="1067400"/>
          </a:xfrm>
        </p:grpSpPr>
        <p:sp>
          <p:nvSpPr>
            <p:cNvPr id="448" name=""/>
            <p:cNvSpPr/>
            <p:nvPr/>
          </p:nvSpPr>
          <p:spPr>
            <a:xfrm>
              <a:off x="6778080" y="1600200"/>
              <a:ext cx="22132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EJB container call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reate new instances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6324480" y="1981080"/>
              <a:ext cx="45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038480" y="1981080"/>
            <a:ext cx="4343040" cy="824040"/>
            <a:chOff x="4038480" y="1981080"/>
            <a:chExt cx="4343040" cy="824040"/>
          </a:xfrm>
        </p:grpSpPr>
        <p:sp>
          <p:nvSpPr>
            <p:cNvPr id="451" name=""/>
            <p:cNvSpPr/>
            <p:nvPr/>
          </p:nvSpPr>
          <p:spPr>
            <a:xfrm>
              <a:off x="4775760" y="1981080"/>
              <a:ext cx="36057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Order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omplete the creation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cor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4038480" y="2361960"/>
              <a:ext cx="73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3.1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ShoppingCar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Remote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te interfac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hoppingC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s business logic methods avail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method must declare exceptions thr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9.22 OrderProductEJB implementation of OrderProduct remote interface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886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SBN = primaryKey.getISB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ID = primaryKey.getOrderI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ssivate OrderProduct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assivat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SB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I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OrderProduct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Remov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ore OrderProduct EJB data in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Stor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ad OrderProduct EJB data from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Load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6.3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OrderProductHom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rderProductH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new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rderProd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JB ins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tes exist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rderProd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co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9.23 OrderProductHome interface for finding and creating OrderProduct EJB instanc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9-2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3-2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7-2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33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ProductHom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ProductHome is the home interface for entity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Produc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Colle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ProductHom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Ho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OrderProduct using given OrderProduc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Product create( OrderProductModel model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Crea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nd OrderProduct for given order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lection findByOrderID( Integer orderI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Finder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nd OrderProduct for given primary k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Product findByPrimaryKey( OrderProductPK pk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Finder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5866920" y="3276720"/>
            <a:ext cx="3048120" cy="1067400"/>
            <a:chOff x="5866920" y="3276720"/>
            <a:chExt cx="3048120" cy="1067400"/>
          </a:xfrm>
        </p:grpSpPr>
        <p:sp>
          <p:nvSpPr>
            <p:cNvPr id="460" name=""/>
            <p:cNvSpPr/>
            <p:nvPr/>
          </p:nvSpPr>
          <p:spPr>
            <a:xfrm>
              <a:off x="6385680" y="3276720"/>
              <a:ext cx="25293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rresponds to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ProductEJB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mplement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5866920" y="3657240"/>
              <a:ext cx="51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5562360" y="3962520"/>
            <a:ext cx="3124080" cy="1310760"/>
            <a:chOff x="5562360" y="3962520"/>
            <a:chExt cx="3124080" cy="1310760"/>
          </a:xfrm>
        </p:grpSpPr>
        <p:sp>
          <p:nvSpPr>
            <p:cNvPr id="463" name=""/>
            <p:cNvSpPr/>
            <p:nvPr/>
          </p:nvSpPr>
          <p:spPr>
            <a:xfrm>
              <a:off x="6093000" y="3962520"/>
              <a:ext cx="25934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cates 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cords with the provide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return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mote referenc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5562360" y="4343040"/>
              <a:ext cx="5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6172200" y="4724280"/>
            <a:ext cx="2590560" cy="1310760"/>
            <a:chOff x="6172200" y="4724280"/>
            <a:chExt cx="2590560" cy="1310760"/>
          </a:xfrm>
        </p:grpSpPr>
        <p:sp>
          <p:nvSpPr>
            <p:cNvPr id="466" name=""/>
            <p:cNvSpPr/>
            <p:nvPr/>
          </p:nvSpPr>
          <p:spPr>
            <a:xfrm>
              <a:off x="6612840" y="4724280"/>
              <a:ext cx="21499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cate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cord, using an instance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ProductP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imary-key 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6172200" y="5105160"/>
              <a:ext cx="4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6.4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OrderProductPK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Primary-Key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rderProductP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mary-key class for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rderProd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J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9.23 OrderProductPK primary-key class for OrderProduct EJB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2-1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ProductPK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ProductPK is a primary-key class for entity EJB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Produc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ProductPK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iz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mary-key fiel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ISB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order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no-argum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ProductPK() {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 OrderProductPK with ISBN and order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ProductPK( String isbn, Integer i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SBN = isb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ID = 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ISB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ISBN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N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order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getOrderID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ID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895120" y="2057400"/>
            <a:ext cx="5943240" cy="580680"/>
            <a:chOff x="2895120" y="2057400"/>
            <a:chExt cx="5943240" cy="580680"/>
          </a:xfrm>
        </p:grpSpPr>
        <p:sp>
          <p:nvSpPr>
            <p:cNvPr id="473" name=""/>
            <p:cNvSpPr/>
            <p:nvPr/>
          </p:nvSpPr>
          <p:spPr>
            <a:xfrm>
              <a:off x="3904560" y="2057400"/>
              <a:ext cx="4933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wo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 member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B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rrespond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ProductEJB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two primary-key field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2895120" y="2438280"/>
              <a:ext cx="100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9.23 OrderProductPK primary-key class for OrderProduct EJB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8-4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4-5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alculate hashCode for this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Cod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ISBN().hashCode() ^ getOrderID().intValu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ustom implementation of Object equals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quals( Object objec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sure object is instance of OrderProductP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objec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stanc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ProductPK ) {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ProductPK otherKe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OrderProductPK ) obje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ompare ISBNs and orderI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etISBN().equals( otherKey.getISBN()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&amp;&amp; getOrderID().equals( otherKey.getOrderID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2895480" y="228600"/>
            <a:ext cx="6096240" cy="1797480"/>
            <a:chOff x="2895480" y="228600"/>
            <a:chExt cx="6096240" cy="1797480"/>
          </a:xfrm>
        </p:grpSpPr>
        <p:sp>
          <p:nvSpPr>
            <p:cNvPr id="478" name=""/>
            <p:cNvSpPr/>
            <p:nvPr/>
          </p:nvSpPr>
          <p:spPr>
            <a:xfrm>
              <a:off x="5638680" y="228600"/>
              <a:ext cx="335304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overridden implementations of method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sCo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qual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nable the EJB container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clients to determine if two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instances are equal by comparing their primary-key class instanc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 flipV="1">
              <a:off x="2895480" y="685800"/>
              <a:ext cx="2743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4495320" y="1143000"/>
              <a:ext cx="1143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6.5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OrderProductModel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rderProduct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resents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rderProd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co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9.25 OrderProductModel class for serializing OrderProduct data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ProductMode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ProductModel represents a Product and its quantity i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 Order or ShoppingCar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tex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ProductMode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izabl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MLGenerato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rderProductModel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Model product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 quantit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order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roduc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ProductModel( ProductModel model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Model = 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roduc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Model getProductModel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9.25 OrderProductModel class for serializing OrderProduct data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quanti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Quanti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Quantit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quantity = productQuantit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quanti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Quantit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antit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order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OrderID( Integer i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ID = 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order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getOrderI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XML representation of Order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lement getXML( Document docum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orderProduct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orderProdu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derProdu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ppend ProductModel product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Product.appendChild 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ProductModel().getXML( document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9.25 OrderProductModel class for serializing OrderProduct data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905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quantity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uantit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 ( getQuantity() ) )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derProduc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Produ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Car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 for adding, removing and upda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s, checking out and calcula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’s total cost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3-2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7-2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32-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oppingCar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oppingCart is the remote interface for stateful se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JB ShoppingCar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Array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EJBObje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xception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ppingCar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Objec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contents of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lection getContent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 Product with given ISBN to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Product( String isbn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ProductNotFound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Product with given ISBN from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veProduct( String isbn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ProductNotFound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hange quantity of Product in ShoppingCart with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iven ISBN to given quanti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ProductQuantity( String isbn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antit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ProductNotFoundException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llegalArgument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19560" y="3657600"/>
            <a:ext cx="2514960" cy="1067400"/>
            <a:chOff x="6019560" y="3657600"/>
            <a:chExt cx="2514960" cy="1067400"/>
          </a:xfrm>
        </p:grpSpPr>
        <p:sp>
          <p:nvSpPr>
            <p:cNvPr id="110" name=""/>
            <p:cNvSpPr/>
            <p:nvPr/>
          </p:nvSpPr>
          <p:spPr>
            <a:xfrm flipH="1">
              <a:off x="6019560" y="380988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81680" y="3657600"/>
              <a:ext cx="17528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l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hoppingC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638680" y="4267080"/>
            <a:ext cx="2438640" cy="824040"/>
            <a:chOff x="5638680" y="4267080"/>
            <a:chExt cx="2438640" cy="824040"/>
          </a:xfrm>
        </p:grpSpPr>
        <p:sp>
          <p:nvSpPr>
            <p:cNvPr id="113" name=""/>
            <p:cNvSpPr/>
            <p:nvPr/>
          </p:nvSpPr>
          <p:spPr>
            <a:xfrm flipH="1">
              <a:off x="5638680" y="441972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00800" y="4267080"/>
              <a:ext cx="1676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SB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product to add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hoopingC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562360" y="5029200"/>
            <a:ext cx="2438640" cy="1067400"/>
            <a:chOff x="5562360" y="5029200"/>
            <a:chExt cx="2438640" cy="1067400"/>
          </a:xfrm>
        </p:grpSpPr>
        <p:sp>
          <p:nvSpPr>
            <p:cNvPr id="116" name=""/>
            <p:cNvSpPr/>
            <p:nvPr/>
          </p:nvSpPr>
          <p:spPr>
            <a:xfrm flipH="1">
              <a:off x="5562360" y="518148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324480" y="5029200"/>
              <a:ext cx="16765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v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SB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hoppingC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943240" y="5486400"/>
            <a:ext cx="2667240" cy="1067400"/>
            <a:chOff x="5943240" y="5486400"/>
            <a:chExt cx="2667240" cy="1067400"/>
          </a:xfrm>
        </p:grpSpPr>
        <p:sp>
          <p:nvSpPr>
            <p:cNvPr id="119" name=""/>
            <p:cNvSpPr/>
            <p:nvPr/>
          </p:nvSpPr>
          <p:spPr>
            <a:xfrm flipH="1">
              <a:off x="5943240" y="624852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05720" y="5486400"/>
              <a:ext cx="19047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pdates quantity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SNB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hoppingC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6.5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OrderProductModel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6.5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OrderProductModel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"/>
          <p:cNvSpPr/>
          <p:nvPr/>
        </p:nvSpPr>
        <p:spPr>
          <a:xfrm>
            <a:off x="990720" y="5791320"/>
            <a:ext cx="6705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9.27 (Part 1 of 2)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OrderProduct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ntity and deployment settings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6.5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OrderProductModel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6.5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OrderProductModel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9.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Car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 for adding, removing and upda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s, checking out and calcula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’s total cost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37-3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4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447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heckout ShoppingCart (i.e., create new Order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 checkout( String userI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ProductNotFound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total cost for Products in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Tota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638680" y="837720"/>
            <a:ext cx="2895840" cy="1434240"/>
            <a:chOff x="5638680" y="837720"/>
            <a:chExt cx="2895840" cy="1434240"/>
          </a:xfrm>
        </p:grpSpPr>
        <p:sp>
          <p:nvSpPr>
            <p:cNvPr id="124" name=""/>
            <p:cNvSpPr/>
            <p:nvPr/>
          </p:nvSpPr>
          <p:spPr>
            <a:xfrm flipH="1" flipV="1">
              <a:off x="5638680" y="837720"/>
              <a:ext cx="12146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58000" y="1447920"/>
              <a:ext cx="1676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ac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hoppingC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209680" y="1447920"/>
            <a:ext cx="1676520" cy="1585800"/>
            <a:chOff x="2209680" y="1447920"/>
            <a:chExt cx="1676520" cy="1585800"/>
          </a:xfrm>
        </p:grpSpPr>
        <p:sp>
          <p:nvSpPr>
            <p:cNvPr id="127" name=""/>
            <p:cNvSpPr/>
            <p:nvPr/>
          </p:nvSpPr>
          <p:spPr>
            <a:xfrm flipV="1">
              <a:off x="2971800" y="14479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09680" y="2209680"/>
              <a:ext cx="1676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s total cost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hoppingC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nick</dc:creator>
  <dc:description/>
  <dc:language>en-US</dc:language>
  <cp:lastModifiedBy>Kyle Lomeli</cp:lastModifiedBy>
  <dcterms:modified xsi:type="dcterms:W3CDTF">2002-02-04T20:10:06Z</dcterms:modified>
  <cp:revision>122</cp:revision>
  <dc:subject/>
  <dc:title>PowerPoint Presentation</dc:title>
</cp:coreProperties>
</file>