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wmf" ContentType="image/x-wmf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4E0D7-98ED-41B8-AC19-0BEBEA6891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03EB8-D395-49DA-81BE-394F94426B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BE3B7-E096-4E88-836C-6AFC4732BF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05ED6-0C6A-4835-8574-68BA0FE32F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86DFB-08AA-4F7F-ACC9-989507D50B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B5590-9478-4660-9D17-2CD67F7D5A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5BF82-EEF1-4AD9-B87A-B5ABCDE85F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9E86B-75E3-4A4D-8725-915B9E77DF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C96D4-7536-435A-BA66-60F2D8CC6C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897E6-5F2D-43D1-8B69-554C9A8A22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1A329-0921-4274-A09D-DABF3BD77E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37CB3-C19F-4EC7-99AA-758239B152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16AA1-E41F-49B3-AF9C-404CD832D0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FBE84-729F-4E1A-B470-C866C6B4E2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DB2FE-6516-40EC-806A-50717FAD9D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623E5-F892-4907-8861-B7410B5523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350C1-2E27-40F3-A034-9CEC6C82B3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6CABE-7AAF-4336-A7BF-03475713B7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C9055-F3FD-42D0-8F7C-61389D884D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C6C9E-CBA9-4698-8545-06B8B0A8DD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29DEA-38AB-4E28-B80D-47D21901E2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BFCC6-3213-4CAC-83E2-8D570E6499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15B30-9E78-4013-85E7-89B573EB5E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E9A06-BEB6-46BF-BE7C-1088A9162A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7339-BAD3-48BE-BB2C-9F51629129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E170-1FB1-4472-9D36-EBC79F7925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14: Session EJBs and Distributed Transaction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143000"/>
            <a:ext cx="7772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4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4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JB Overview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4.2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mote Interfa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4.2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Home Interfa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4.2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JB Implement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4.2.4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JB Container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4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ession Bean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4.3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ateful Session EJB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4.3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ploying Session EJB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4.3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ateless Session EJB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4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JB Transaction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4.4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MoneyTransfer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EJB Home and Remote Interfac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4.4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Bean-Managed Transaction Demarc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4.4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ntainer-Managed Transaction Demarc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4.4.4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MoneyTransfer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EJB Clien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4.4.5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ploying the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MoneyTransfer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EJB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4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ernet and World Wide Web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2.4   EJB Contain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s EJB inte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ent intera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thod invo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s EJB life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ols EJB instances to enhance perform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s new EJB instan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oves existing EJB instan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3   Session Bea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 business logic processing for a particular 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persis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represent database-stor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ces are lost if EJB container cras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tefu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tel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3.1   Stateful Session EJB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state information between business method inv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pping Cart Stateful Session EJ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ould provide business methods for adding and removing items from the ca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JB would store state in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items in the c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ntity of each item in the c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cost of items in the c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3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est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for calculating simple interest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6, 20, 27 and 3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restCalculato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restCalculator is the remote interface for th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restCalculator EJB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ejb.session.stateful.ej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EJBObjec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estCalculato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Objec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principal am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Princip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mou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interest r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InterestRa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t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loan length in yea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Term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ears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loan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Bala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amount of interest earn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InterestEarned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267080" y="1066680"/>
            <a:ext cx="2667240" cy="1143000"/>
            <a:chOff x="4267080" y="1066680"/>
            <a:chExt cx="2667240" cy="1143000"/>
          </a:xfrm>
        </p:grpSpPr>
        <p:sp>
          <p:nvSpPr>
            <p:cNvPr id="116" name=""/>
            <p:cNvSpPr/>
            <p:nvPr/>
          </p:nvSpPr>
          <p:spPr>
            <a:xfrm>
              <a:off x="4267080" y="10666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mote interface must extend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JB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4800600" y="1676520"/>
              <a:ext cx="533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3352680" y="3123720"/>
            <a:ext cx="4572000" cy="2439000"/>
            <a:chOff x="3352680" y="3123720"/>
            <a:chExt cx="4572000" cy="2439000"/>
          </a:xfrm>
        </p:grpSpPr>
        <p:sp>
          <p:nvSpPr>
            <p:cNvPr id="119" name=""/>
            <p:cNvSpPr/>
            <p:nvPr/>
          </p:nvSpPr>
          <p:spPr>
            <a:xfrm>
              <a:off x="5257800" y="35812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hrow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lause for each business method must includ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moteExce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3352680" y="3123720"/>
              <a:ext cx="19051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3352680" y="3886200"/>
              <a:ext cx="19051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3352680" y="3962520"/>
              <a:ext cx="19051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4038120" y="3962520"/>
              <a:ext cx="121932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4647960" y="3962520"/>
              <a:ext cx="6094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terestCalculatorHom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for creating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terest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5-1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200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restCalculatorHom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restCalculatorHome is the home interface for th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restCalculator EJB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ejb.session.stateful.ej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estCalculatorHom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Ho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InterestCalculator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estCalculator creat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a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267080" y="1066680"/>
            <a:ext cx="2667240" cy="1143000"/>
            <a:chOff x="4267080" y="1066680"/>
            <a:chExt cx="2667240" cy="1143000"/>
          </a:xfrm>
        </p:grpSpPr>
        <p:sp>
          <p:nvSpPr>
            <p:cNvPr id="128" name=""/>
            <p:cNvSpPr/>
            <p:nvPr/>
          </p:nvSpPr>
          <p:spPr>
            <a:xfrm>
              <a:off x="4267080" y="10666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ome interface must extend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JBHo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4800600" y="1676520"/>
              <a:ext cx="533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048120" y="3124080"/>
            <a:ext cx="3657600" cy="1037880"/>
            <a:chOff x="3048120" y="3124080"/>
            <a:chExt cx="3657600" cy="1037880"/>
          </a:xfrm>
        </p:grpSpPr>
        <p:sp>
          <p:nvSpPr>
            <p:cNvPr id="131" name=""/>
            <p:cNvSpPr/>
            <p:nvPr/>
          </p:nvSpPr>
          <p:spPr>
            <a:xfrm>
              <a:off x="3048120" y="3581280"/>
              <a:ext cx="3657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re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enables clients to 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restCalcul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stan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3809880" y="31240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066680" y="3048120"/>
            <a:ext cx="4114800" cy="1875960"/>
            <a:chOff x="1066680" y="3048120"/>
            <a:chExt cx="4114800" cy="1875960"/>
          </a:xfrm>
        </p:grpSpPr>
        <p:sp>
          <p:nvSpPr>
            <p:cNvPr id="134" name=""/>
            <p:cNvSpPr/>
            <p:nvPr/>
          </p:nvSpPr>
          <p:spPr>
            <a:xfrm>
              <a:off x="1066680" y="4343400"/>
              <a:ext cx="4114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re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s must return the remote interface type (e.g.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restCalcul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2666880" y="3048120"/>
              <a:ext cx="763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terestCalculatorEJB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ation of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terest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7-1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restCalculatorEJB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restCalculator is a stateful session EJB for calcula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imple interes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ejb.session.stateful.ej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estCalculatorEJB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ssionBea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ssionContext sessionCon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ate variab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cipa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estRat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rm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principal am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Princip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mou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cipal = amou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interest r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InterestRa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t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erestRate = rat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267080" y="1066680"/>
            <a:ext cx="2667240" cy="1143000"/>
            <a:chOff x="4267080" y="1066680"/>
            <a:chExt cx="2667240" cy="1143000"/>
          </a:xfrm>
        </p:grpSpPr>
        <p:sp>
          <p:nvSpPr>
            <p:cNvPr id="139" name=""/>
            <p:cNvSpPr/>
            <p:nvPr/>
          </p:nvSpPr>
          <p:spPr>
            <a:xfrm>
              <a:off x="4267080" y="10666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ssion EJB implementations must implement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ssionBe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5333760" y="1905120"/>
              <a:ext cx="2286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495680" y="2514600"/>
            <a:ext cx="2438640" cy="824040"/>
            <a:chOff x="4495680" y="2514600"/>
            <a:chExt cx="2438640" cy="824040"/>
          </a:xfrm>
        </p:grpSpPr>
        <p:sp>
          <p:nvSpPr>
            <p:cNvPr id="142" name=""/>
            <p:cNvSpPr/>
            <p:nvPr/>
          </p:nvSpPr>
          <p:spPr>
            <a:xfrm>
              <a:off x="5029200" y="2514600"/>
              <a:ext cx="1905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ssion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vides access to the EJB 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4495680" y="2742840"/>
              <a:ext cx="5335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428640" y="3352680"/>
            <a:ext cx="3505680" cy="900360"/>
            <a:chOff x="3428640" y="3352680"/>
            <a:chExt cx="3505680" cy="900360"/>
          </a:xfrm>
        </p:grpSpPr>
        <p:sp>
          <p:nvSpPr>
            <p:cNvPr id="145" name=""/>
            <p:cNvSpPr/>
            <p:nvPr/>
          </p:nvSpPr>
          <p:spPr>
            <a:xfrm>
              <a:off x="5029200" y="3429000"/>
              <a:ext cx="1905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mber variables maintain state infor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3428640" y="3657240"/>
              <a:ext cx="16002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3504960" y="3505320"/>
              <a:ext cx="15238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3504960" y="3352680"/>
              <a:ext cx="1523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terestCalculatorEJB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ation of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terest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53-5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5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6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6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loan length in yea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Term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ear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rm = year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loan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Balanc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lculate simple inter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cipal * Math.po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interestRate, ter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amount of interest earn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InterestEarned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Balance() - principa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Session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essionContext( SessionContext contex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ssionContext = con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InterestCalculator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Create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InterestCalculator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Remove() {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assivate InterestCalculator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Passivate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657600" y="2590920"/>
            <a:ext cx="3276720" cy="1295280"/>
            <a:chOff x="3657600" y="2590920"/>
            <a:chExt cx="3276720" cy="1295280"/>
          </a:xfrm>
        </p:grpSpPr>
        <p:sp>
          <p:nvSpPr>
            <p:cNvPr id="152" name=""/>
            <p:cNvSpPr/>
            <p:nvPr/>
          </p:nvSpPr>
          <p:spPr>
            <a:xfrm>
              <a:off x="4648320" y="2590920"/>
              <a:ext cx="2286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JB container invok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Session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fter creating the EJ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657600" y="3048120"/>
              <a:ext cx="9907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352680" y="4343400"/>
            <a:ext cx="3581640" cy="1554120"/>
            <a:chOff x="3352680" y="4343400"/>
            <a:chExt cx="3581640" cy="1554120"/>
          </a:xfrm>
        </p:grpSpPr>
        <p:sp>
          <p:nvSpPr>
            <p:cNvPr id="155" name=""/>
            <p:cNvSpPr/>
            <p:nvPr/>
          </p:nvSpPr>
          <p:spPr>
            <a:xfrm>
              <a:off x="4800600" y="4343400"/>
              <a:ext cx="213372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JB container invok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jbCre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hen a client invokes home interfac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re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reate a new EJB ins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3352680" y="5029200"/>
              <a:ext cx="1447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3352680" y="4800600"/>
            <a:ext cx="3748320" cy="1554120"/>
            <a:chOff x="3352680" y="4800600"/>
            <a:chExt cx="3748320" cy="1554120"/>
          </a:xfrm>
        </p:grpSpPr>
        <p:sp>
          <p:nvSpPr>
            <p:cNvPr id="158" name=""/>
            <p:cNvSpPr/>
            <p:nvPr/>
          </p:nvSpPr>
          <p:spPr>
            <a:xfrm>
              <a:off x="4876920" y="4800600"/>
              <a:ext cx="222408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JB container invok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jbRemov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hen a client invokes home interfac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mov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destroy an EJB ins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3352680" y="5638680"/>
              <a:ext cx="15242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657600" y="4952880"/>
            <a:ext cx="3519360" cy="1310760"/>
            <a:chOff x="3657600" y="4952880"/>
            <a:chExt cx="3519360" cy="1310760"/>
          </a:xfrm>
        </p:grpSpPr>
        <p:sp>
          <p:nvSpPr>
            <p:cNvPr id="161" name=""/>
            <p:cNvSpPr/>
            <p:nvPr/>
          </p:nvSpPr>
          <p:spPr>
            <a:xfrm>
              <a:off x="4952880" y="4952880"/>
              <a:ext cx="22240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JB container invok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jbPass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onserver resources when an EJB has been ina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3657600" y="6095880"/>
              <a:ext cx="1295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terestCalculatorEJB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ation of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terest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6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85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tivate InterestCalculator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Activate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743200" y="685800"/>
            <a:ext cx="4052880" cy="1691640"/>
            <a:chOff x="2743200" y="685800"/>
            <a:chExt cx="4052880" cy="1691640"/>
          </a:xfrm>
        </p:grpSpPr>
        <p:sp>
          <p:nvSpPr>
            <p:cNvPr id="166" name=""/>
            <p:cNvSpPr/>
            <p:nvPr/>
          </p:nvSpPr>
          <p:spPr>
            <a:xfrm>
              <a:off x="4572000" y="1066680"/>
              <a:ext cx="22240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JB container invok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jbAct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store an EJB instance that the container passivated previous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2743200" y="685800"/>
              <a:ext cx="18288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terestCalculatorClie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interacting  wit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terest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7-3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restCalculatorClien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restCalculatorClient is a GUI for interacting with th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restCalculator EJB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ejb.session.stateful.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tex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ejb.session.stateful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estCalculatorClien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terestCalculator remote re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estCalculator calculat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 principalTextFie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 rateTextFie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 termTextFie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 balanceTextFie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 interestEarnedTextFie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572000" y="4191120"/>
            <a:ext cx="3886200" cy="824040"/>
            <a:chOff x="4572000" y="4191120"/>
            <a:chExt cx="3886200" cy="824040"/>
          </a:xfrm>
        </p:grpSpPr>
        <p:sp>
          <p:nvSpPr>
            <p:cNvPr id="171" name=""/>
            <p:cNvSpPr/>
            <p:nvPr/>
          </p:nvSpPr>
          <p:spPr>
            <a:xfrm>
              <a:off x="5867280" y="4191120"/>
              <a:ext cx="2590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mote reference to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restCalcul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ins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4572000" y="4648320"/>
              <a:ext cx="12952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800600" y="5029200"/>
            <a:ext cx="4038480" cy="580680"/>
            <a:chOff x="4800600" y="5029200"/>
            <a:chExt cx="4038480" cy="580680"/>
          </a:xfrm>
        </p:grpSpPr>
        <p:sp>
          <p:nvSpPr>
            <p:cNvPr id="174" name=""/>
            <p:cNvSpPr/>
            <p:nvPr/>
          </p:nvSpPr>
          <p:spPr>
            <a:xfrm>
              <a:off x="6095880" y="502920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extField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obtaining input values from u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4800600" y="5486400"/>
              <a:ext cx="1295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terestCalculatorClie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interacting  wit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terest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terestCalculatorClie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estCalculatorClien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ateful Session EJB Examp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InterestCalculator for calculating inter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ateInterestCalcul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TextField for entering principal am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atePrincipalTextFiel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TextField for entering interest r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ateRateTextFiel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TextField for entering loan ter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ateTermTextFiel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uneditable JTextFields for displaying balanc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nd interest earn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alanceTextFiel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alanceTextField.setEdit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erestEarnedTextFiel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erestEarnedTextField.setEdit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yout components for GU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ayoutGUI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WindowListener to remove EJB instances when 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loses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WindowListener( getWindowListene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1  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erprise JavaBeans (EJB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onent model for enterprise application business log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ssion EJ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teful and Statel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d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sure data integrity across databases and across application serv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terestCalculatorClie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interacting  wit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terest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7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80-8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84-8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9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95-9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00-10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nterestCalculatorClie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InterestCalculator EJB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InterestCalculato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okup InterestCalculatorHome and creat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terestCalculator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itialContext initial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okup InterestCalculator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 homeObjec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nitialContext.looku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restCalculato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InterestCalculatorHome inter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terestCalculatorHome calculatorHom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InterestCalculatorHo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ortableRemoteObject.narrow( homeObjec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InterestCalculatorHome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InterestCalculator EJB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alculator = calculatorHome.cre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f InterestCalculator EJB not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amingException naming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andle exception when creating InterestCalculator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mote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}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343400" y="457200"/>
            <a:ext cx="2590920" cy="1447920"/>
            <a:chOff x="4343400" y="457200"/>
            <a:chExt cx="2590920" cy="1447920"/>
          </a:xfrm>
        </p:grpSpPr>
        <p:sp>
          <p:nvSpPr>
            <p:cNvPr id="181" name=""/>
            <p:cNvSpPr/>
            <p:nvPr/>
          </p:nvSpPr>
          <p:spPr>
            <a:xfrm>
              <a:off x="4343400" y="457200"/>
              <a:ext cx="25909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itial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vides access to the JNDI directory for locating the EJB home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4647960" y="1523880"/>
              <a:ext cx="6094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885840" y="1450800"/>
            <a:ext cx="3048480" cy="1140120"/>
            <a:chOff x="3885840" y="1450800"/>
            <a:chExt cx="3048480" cy="1140120"/>
          </a:xfrm>
        </p:grpSpPr>
        <p:sp>
          <p:nvSpPr>
            <p:cNvPr id="184" name=""/>
            <p:cNvSpPr/>
            <p:nvPr/>
          </p:nvSpPr>
          <p:spPr>
            <a:xfrm>
              <a:off x="4343400" y="1450800"/>
              <a:ext cx="2590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 a reference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restCalcul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home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885840" y="2286000"/>
              <a:ext cx="1523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57200" y="2060640"/>
            <a:ext cx="3886200" cy="1216080"/>
            <a:chOff x="457200" y="2060640"/>
            <a:chExt cx="3886200" cy="1216080"/>
          </a:xfrm>
        </p:grpSpPr>
        <p:sp>
          <p:nvSpPr>
            <p:cNvPr id="187" name=""/>
            <p:cNvSpPr/>
            <p:nvPr/>
          </p:nvSpPr>
          <p:spPr>
            <a:xfrm>
              <a:off x="457200" y="2060640"/>
              <a:ext cx="3886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st home interface reference using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rtableRemoteObject.narro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ensure RMI-IIOP-compatible cas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14400" y="2895480"/>
              <a:ext cx="4572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343400" y="2714760"/>
            <a:ext cx="2590920" cy="1704960"/>
            <a:chOff x="4343400" y="2714760"/>
            <a:chExt cx="2590920" cy="1704960"/>
          </a:xfrm>
        </p:grpSpPr>
        <p:sp>
          <p:nvSpPr>
            <p:cNvPr id="190" name=""/>
            <p:cNvSpPr/>
            <p:nvPr/>
          </p:nvSpPr>
          <p:spPr>
            <a:xfrm>
              <a:off x="4343400" y="2714760"/>
              <a:ext cx="25909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home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re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to 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restCalcul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stance and store remote reference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alcul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4876560" y="4038480"/>
              <a:ext cx="9903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457200" y="3552840"/>
            <a:ext cx="2590920" cy="1704960"/>
            <a:chOff x="457200" y="3552840"/>
            <a:chExt cx="2590920" cy="1704960"/>
          </a:xfrm>
        </p:grpSpPr>
        <p:sp>
          <p:nvSpPr>
            <p:cNvPr id="193" name=""/>
            <p:cNvSpPr/>
            <p:nvPr/>
          </p:nvSpPr>
          <p:spPr>
            <a:xfrm>
              <a:off x="457200" y="3552840"/>
              <a:ext cx="25909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itial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oku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row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amingExce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f there is an error locating the home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38080" y="48769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57200" y="4467240"/>
            <a:ext cx="2895480" cy="1704960"/>
            <a:chOff x="457200" y="4467240"/>
            <a:chExt cx="2895480" cy="1704960"/>
          </a:xfrm>
        </p:grpSpPr>
        <p:sp>
          <p:nvSpPr>
            <p:cNvPr id="196" name=""/>
            <p:cNvSpPr/>
            <p:nvPr/>
          </p:nvSpPr>
          <p:spPr>
            <a:xfrm>
              <a:off x="457200" y="4467240"/>
              <a:ext cx="28954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restCalculatorHo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re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row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moteExce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f there is an error accessing the remote 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82720" y="5791320"/>
              <a:ext cx="341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terestCalculatorClie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interacting  wit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terest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05-10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22-12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2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andle exception when creating InterestCalculator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reateException crea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reate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InterestCalcul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JTextField for entering principal am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PrincipalTextField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cipalTextFiel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cipalTextField.addAction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set principal amount in InterestCalcul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cipal = Double.parseDoubl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principalTextField.getTex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calculator.setPrincipal( principa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handle exception setting principal am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remote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handle wrong number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umberFormat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numberFormat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numberFormat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09480" y="761760"/>
            <a:ext cx="3048120" cy="1753560"/>
            <a:chOff x="609480" y="761760"/>
            <a:chExt cx="3048120" cy="1753560"/>
          </a:xfrm>
        </p:grpSpPr>
        <p:sp>
          <p:nvSpPr>
            <p:cNvPr id="201" name=""/>
            <p:cNvSpPr/>
            <p:nvPr/>
          </p:nvSpPr>
          <p:spPr>
            <a:xfrm>
              <a:off x="609480" y="1447920"/>
              <a:ext cx="30481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restCalculatorHo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re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row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reateExce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f there is an error creating the EJB ins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762120" y="761760"/>
              <a:ext cx="3808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5715000" y="3962160"/>
            <a:ext cx="3200400" cy="566280"/>
            <a:chOff x="5715000" y="3962160"/>
            <a:chExt cx="3200400" cy="566280"/>
          </a:xfrm>
        </p:grpSpPr>
        <p:sp>
          <p:nvSpPr>
            <p:cNvPr id="204" name=""/>
            <p:cNvSpPr/>
            <p:nvPr/>
          </p:nvSpPr>
          <p:spPr>
            <a:xfrm>
              <a:off x="5867280" y="4191120"/>
              <a:ext cx="30481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se user-entered principal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5715000" y="396216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33520" y="3581280"/>
            <a:ext cx="3047760" cy="762120"/>
            <a:chOff x="533520" y="3581280"/>
            <a:chExt cx="3047760" cy="762120"/>
          </a:xfrm>
        </p:grpSpPr>
        <p:sp>
          <p:nvSpPr>
            <p:cNvPr id="207" name=""/>
            <p:cNvSpPr/>
            <p:nvPr/>
          </p:nvSpPr>
          <p:spPr>
            <a:xfrm>
              <a:off x="533520" y="3581280"/>
              <a:ext cx="3047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principal value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restCalcul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19320" y="4191120"/>
              <a:ext cx="9903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terestCalculatorClie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interacting  wit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terest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55-15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5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ddActionListener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PrincipalTextField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JTextField for entering interest r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RateTextField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ateTextFiel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ateTextField.addAction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set interest rate in InterestCalcul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te = Double.parseDoubl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rateTextField.getTex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convert from percent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calculator.setInterestRate( rate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handle exception when setting interest r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remote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ddActionListener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RateTextField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5105160" y="3429000"/>
            <a:ext cx="3353040" cy="337320"/>
            <a:chOff x="5105160" y="3429000"/>
            <a:chExt cx="3353040" cy="337320"/>
          </a:xfrm>
        </p:grpSpPr>
        <p:sp>
          <p:nvSpPr>
            <p:cNvPr id="212" name=""/>
            <p:cNvSpPr/>
            <p:nvPr/>
          </p:nvSpPr>
          <p:spPr>
            <a:xfrm>
              <a:off x="5638680" y="3429000"/>
              <a:ext cx="28195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se user-entered interest r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5105160" y="36576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533520" y="3276720"/>
            <a:ext cx="3047760" cy="914400"/>
            <a:chOff x="533520" y="3276720"/>
            <a:chExt cx="3047760" cy="914400"/>
          </a:xfrm>
        </p:grpSpPr>
        <p:sp>
          <p:nvSpPr>
            <p:cNvPr id="215" name=""/>
            <p:cNvSpPr/>
            <p:nvPr/>
          </p:nvSpPr>
          <p:spPr>
            <a:xfrm>
              <a:off x="533520" y="3276720"/>
              <a:ext cx="3047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interest rate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restCalcul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19320" y="3886200"/>
              <a:ext cx="10666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terestCalculatorClie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interacting  wit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terest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83-18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8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JTextField for entering loan ter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TermTextField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rmTextFiel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rmTextField.addAction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set loan term in InterestCalcul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rm = Integer.parseIn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termTextField.getTex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calculator.setTerm( ter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handle exception when setting loan ter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remote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ddActionListener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TermTextField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JButton for starting calcul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 getCalculateButto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calculate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lculat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alculateButton.addAction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800600" y="1295280"/>
            <a:ext cx="2178000" cy="1295640"/>
            <a:chOff x="4800600" y="1295280"/>
            <a:chExt cx="2178000" cy="1295640"/>
          </a:xfrm>
        </p:grpSpPr>
        <p:sp>
          <p:nvSpPr>
            <p:cNvPr id="220" name=""/>
            <p:cNvSpPr/>
            <p:nvPr/>
          </p:nvSpPr>
          <p:spPr>
            <a:xfrm>
              <a:off x="4800600" y="1295280"/>
              <a:ext cx="2178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se user-entered te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921200" y="1676520"/>
              <a:ext cx="14032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533520" y="2209680"/>
            <a:ext cx="3809880" cy="838440"/>
            <a:chOff x="533520" y="2209680"/>
            <a:chExt cx="3809880" cy="838440"/>
          </a:xfrm>
        </p:grpSpPr>
        <p:sp>
          <p:nvSpPr>
            <p:cNvPr id="223" name=""/>
            <p:cNvSpPr/>
            <p:nvPr/>
          </p:nvSpPr>
          <p:spPr>
            <a:xfrm>
              <a:off x="533520" y="2209680"/>
              <a:ext cx="3809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number of years interest will accrue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restCalcul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390680" y="2819520"/>
              <a:ext cx="7430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terestCalculatorClie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interacting  wit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terest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1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13-21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use InterestCalculator to calculate inter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get balance and interest earn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double balance = calculator.getBalan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double interes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calculator.getInterestEarne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NumberFormat dollarFormatter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NumberFormat.getCurrencyInstanc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Local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balanceTextField.setTex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dollarFormatter.format( balance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interestEarnedTextField.setTex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dollarFormatter.format( interest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handle exception when calculating inter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remote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actionPerform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addAction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lculateButt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Calculate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57200" y="1447920"/>
            <a:ext cx="2178000" cy="1371960"/>
            <a:chOff x="457200" y="1447920"/>
            <a:chExt cx="2178000" cy="1371960"/>
          </a:xfrm>
        </p:grpSpPr>
        <p:sp>
          <p:nvSpPr>
            <p:cNvPr id="228" name=""/>
            <p:cNvSpPr/>
            <p:nvPr/>
          </p:nvSpPr>
          <p:spPr>
            <a:xfrm>
              <a:off x="457200" y="1752480"/>
              <a:ext cx="21780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Bala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usiness method to calculate balance plus inter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1447920" y="1447920"/>
              <a:ext cx="7617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038480" y="533520"/>
            <a:ext cx="2940120" cy="1143000"/>
            <a:chOff x="4038480" y="533520"/>
            <a:chExt cx="2940120" cy="1143000"/>
          </a:xfrm>
        </p:grpSpPr>
        <p:sp>
          <p:nvSpPr>
            <p:cNvPr id="231" name=""/>
            <p:cNvSpPr/>
            <p:nvPr/>
          </p:nvSpPr>
          <p:spPr>
            <a:xfrm>
              <a:off x="4648320" y="533520"/>
              <a:ext cx="23302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InterestEarn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usiness method to calculate earned inter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4038480" y="990720"/>
              <a:ext cx="6098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terestCalculatorClie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interacting  wit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terest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ay out GUI components in JFr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ayoutGUI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entPane = 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yout user interface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input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idLayo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Panel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cipa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Panel.add( principalTextFiel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Panel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rest Rate (%)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Panel.add( rateTextFiel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Panel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rm (years)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Panel.add( termTextFiel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Panel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lan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Panel.add( balanceTextFiel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Panel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rest Earn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Panel.add( interestEarnedTextField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inputPanel to contentPa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input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Panel for calculate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control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wLayou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rolPanel.add( getCalculateButton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control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OU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terestCalculatorClie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interacting  wit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terest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8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WindowListener for exiting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Listener getWindowListen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Adapt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Closing( Window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heck to see if calculator is nu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alculator.equals( null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remove InterestCalculator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calculator.remov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handle exception removing InterestCalcul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veException remov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remove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handle exception removing InterestCalcul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remote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Window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190760" y="1447920"/>
            <a:ext cx="2667240" cy="1676160"/>
            <a:chOff x="4190760" y="1447920"/>
            <a:chExt cx="2667240" cy="1676160"/>
          </a:xfrm>
        </p:grpSpPr>
        <p:sp>
          <p:nvSpPr>
            <p:cNvPr id="238" name=""/>
            <p:cNvSpPr/>
            <p:nvPr/>
          </p:nvSpPr>
          <p:spPr>
            <a:xfrm>
              <a:off x="4419720" y="1447920"/>
              <a:ext cx="24382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mov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restCalcul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instance when user closes wind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4190760" y="2514600"/>
              <a:ext cx="6858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terestCalculatorClie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interacting  wit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terest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447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ecute the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[] arg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estCalculatorCli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057400" y="2590920"/>
            <a:ext cx="40482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3.2 Deploying Session EJB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5729040" cy="50702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608120" y="6095880"/>
            <a:ext cx="599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4.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New Application in Application Deployment To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3.2 Deploying Session EJB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533680" y="2728800"/>
            <a:ext cx="4076640" cy="14004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2369520" y="4495680"/>
            <a:ext cx="453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4.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AR file for New Applic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2   EJB Overview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te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s publicly available methods of EJ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re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thods for creating new EJB instan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thods for removing EJB instan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ind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thods for locating EJB instan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s implementations for EJB business methods declared in remote interf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s implementations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re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ind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thods declared in home interf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B Co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untime environment for managing EJB lifecy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3.2 Deploying Session EJB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040520" cy="43434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2597400" y="5562720"/>
            <a:ext cx="376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4.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 New Enterprise Be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3.2 Deploying Session EJB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133720" y="1066680"/>
            <a:ext cx="5057640" cy="48117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2445840" y="5943600"/>
            <a:ext cx="42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4.1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InterestCalculator EJB class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3.2 Deploying Session EJB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2666880" y="1047600"/>
            <a:ext cx="3810240" cy="47628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914840" y="5943600"/>
            <a:ext cx="496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4.1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InterestCalculator EJB classes to ad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3.2 Deploying Session EJB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438280" y="1143000"/>
            <a:ext cx="4676760" cy="44481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2295000" y="5791320"/>
            <a:ext cx="49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4.1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of adding InterestCalculator EJB class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3.2 Deploying Session EJB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5058000" cy="48117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536120" y="6019920"/>
            <a:ext cx="60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4.1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nterprise Bean Class for InterestCalculator EJ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3.2 Deploying Session EJB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828800" y="914400"/>
            <a:ext cx="5424480" cy="47991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850320" y="5867280"/>
            <a:ext cx="71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4.1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InterestCalculator EJB classes and Stateful Session Bean Typ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3.2 Deploying Session EJB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752480" y="914400"/>
            <a:ext cx="5424480" cy="47991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079280" y="5867280"/>
            <a:ext cx="695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4.1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Container Managed Transactions for InterestCalculator EJ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3.2 Deploying Session EJB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828800" y="914400"/>
            <a:ext cx="5500800" cy="48657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764000" y="5943600"/>
            <a:ext cx="564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4.1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ML deployment descriptor for InterestCalculator EJ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3.2 Deploying Session EJB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50840" y="1662120"/>
            <a:ext cx="7040520" cy="35337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991880" y="5486400"/>
            <a:ext cx="522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4.1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JNDI Name for InterestCalculator EJ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3.2 Deploying Session EJB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828800" y="914400"/>
            <a:ext cx="5424480" cy="48006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2064960" y="5867280"/>
            <a:ext cx="480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4.1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loying enterprise application to localho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2 EJB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 roles for enterprise-system implemen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terprise Bean Provi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s business logic as EJ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pplication Assemb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s application components from EJ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ploy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loys application components to a J2EE application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JB Server Provi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s a J2EE-compliant application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JB Container Provi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s the application server’s runtime environment for EJ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3.2 Deploying Session EJB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209680" y="990720"/>
            <a:ext cx="4762800" cy="47624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228320" y="5943600"/>
            <a:ext cx="68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4.1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the Application Deployment Tool should Return Client J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3.2 Deploying Session EJB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2209680" y="1371600"/>
            <a:ext cx="4686480" cy="41529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2141640" y="5715000"/>
            <a:ext cx="486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4.2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cessful completion of deployment proce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3.3   Stateless Session EJB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no state information between business method inv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Stateless Session EJB instance of a particular type can respond to any client 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.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athT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for calculating factorias and generating Fibonacci serie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5 and 1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809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thTool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thTool is the remote interface for the MathTool EJB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ejb.session.stateless.ej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EJBObjec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hToo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Fibonacci se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getFibonacciSerie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wMan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IllegalArgument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factorial of given inte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Factori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IllegalArgument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3885840" y="914400"/>
            <a:ext cx="2940480" cy="1066680"/>
            <a:chOff x="3885840" y="914400"/>
            <a:chExt cx="2940480" cy="1066680"/>
          </a:xfrm>
        </p:grpSpPr>
        <p:sp>
          <p:nvSpPr>
            <p:cNvPr id="290" name=""/>
            <p:cNvSpPr/>
            <p:nvPr/>
          </p:nvSpPr>
          <p:spPr>
            <a:xfrm>
              <a:off x="4648320" y="914400"/>
              <a:ext cx="2178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mote interface must extend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JB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3885840" y="1295280"/>
              <a:ext cx="7621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152280" y="3047760"/>
            <a:ext cx="2590920" cy="1967400"/>
            <a:chOff x="152280" y="3047760"/>
            <a:chExt cx="2590920" cy="1967400"/>
          </a:xfrm>
        </p:grpSpPr>
        <p:grpSp>
          <p:nvGrpSpPr>
            <p:cNvPr id="293" name=""/>
            <p:cNvGrpSpPr/>
            <p:nvPr/>
          </p:nvGrpSpPr>
          <p:grpSpPr>
            <a:xfrm>
              <a:off x="152280" y="3047760"/>
              <a:ext cx="2590920" cy="1967400"/>
              <a:chOff x="152280" y="3047760"/>
              <a:chExt cx="2590920" cy="1967400"/>
            </a:xfrm>
          </p:grpSpPr>
          <p:sp>
            <p:nvSpPr>
              <p:cNvPr id="294" name=""/>
              <p:cNvSpPr/>
              <p:nvPr/>
            </p:nvSpPr>
            <p:spPr>
              <a:xfrm>
                <a:off x="152280" y="4191120"/>
                <a:ext cx="2590920" cy="8240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hrows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lauses of business methods must include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RemoteExcep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1066680" y="3047760"/>
                <a:ext cx="91440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 flipV="1">
              <a:off x="1066680" y="3809520"/>
              <a:ext cx="9144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5257440" y="3047760"/>
            <a:ext cx="3048480" cy="1891080"/>
            <a:chOff x="5257440" y="3047760"/>
            <a:chExt cx="3048480" cy="1891080"/>
          </a:xfrm>
        </p:grpSpPr>
        <p:sp>
          <p:nvSpPr>
            <p:cNvPr id="298" name=""/>
            <p:cNvSpPr/>
            <p:nvPr/>
          </p:nvSpPr>
          <p:spPr>
            <a:xfrm>
              <a:off x="5562720" y="4114800"/>
              <a:ext cx="2743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hrow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lauses of business methods can include application-specific excep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flipV="1">
              <a:off x="5257440" y="3047760"/>
              <a:ext cx="121932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>
              <a:off x="5333760" y="3809520"/>
              <a:ext cx="11430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athTool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thT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thToolEJB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thToolEJB is a stateless session EJB with methods f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ing Fibonacci series and factorial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ejb.session.stateless.ej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hToolEJB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ssionBea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ssionContext sessionCon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Fibonacci serie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getFibonacciSerie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wMan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llegalArgument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hrow IllegalArgumentException if series leng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s less than zer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howMany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llegalArgumentExcep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nnot generate Fibonacci series of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ength less than two.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rting poi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Point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Point2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rray to contain Fibonacci sequ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seri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 howMany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base ca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rie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rie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3886200" y="762120"/>
            <a:ext cx="3124080" cy="990360"/>
            <a:chOff x="3886200" y="762120"/>
            <a:chExt cx="3124080" cy="990360"/>
          </a:xfrm>
        </p:grpSpPr>
        <p:sp>
          <p:nvSpPr>
            <p:cNvPr id="304" name=""/>
            <p:cNvSpPr/>
            <p:nvPr/>
          </p:nvSpPr>
          <p:spPr>
            <a:xfrm>
              <a:off x="4419720" y="762120"/>
              <a:ext cx="25905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JB implementation must implement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ssionBe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3886200" y="1219320"/>
              <a:ext cx="533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4191120" y="2285640"/>
            <a:ext cx="2590560" cy="1129320"/>
            <a:chOff x="4191120" y="2285640"/>
            <a:chExt cx="2590560" cy="1129320"/>
          </a:xfrm>
        </p:grpSpPr>
        <p:sp>
          <p:nvSpPr>
            <p:cNvPr id="307" name=""/>
            <p:cNvSpPr/>
            <p:nvPr/>
          </p:nvSpPr>
          <p:spPr>
            <a:xfrm>
              <a:off x="4191120" y="2590920"/>
              <a:ext cx="25905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ssion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vides access to EJB 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flipV="1">
              <a:off x="4419720" y="228564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athTool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thT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nerate Fibonacci se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howMany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alculate next number in se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ries[ i ] = startPoint1 + startPoint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start points for next iter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artPoint1 = startPoint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artPoint2 = series[ i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i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FibonacciSe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factorial of given inte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Factori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llegalArgument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hrow IllegalArgumentException if number less than zer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umber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llegalArgumentExcep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nnot calculate factorial of negative numbers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ase case for recursion, return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umbe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ll getFactorial recursively to calculate factori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 * getFactorial( number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Factori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athTool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thT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352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Session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essionContext( SessionContext contex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ssionContext = con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new MathTool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Create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MathTool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Remove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tivate MathTool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Activate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assivate MathTool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Passivate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athToolHo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face for creating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thT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276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thToolHom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thToolHome is the home interface for the MathTool EJB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ejb.session.stateless.ejb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EJBHo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Crea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hToolHom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Ho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new MathTool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hTool creat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a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4191120" y="1085760"/>
            <a:ext cx="2666880" cy="1143000"/>
            <a:chOff x="4191120" y="1085760"/>
            <a:chExt cx="2666880" cy="1143000"/>
          </a:xfrm>
        </p:grpSpPr>
        <p:sp>
          <p:nvSpPr>
            <p:cNvPr id="316" name=""/>
            <p:cNvSpPr/>
            <p:nvPr/>
          </p:nvSpPr>
          <p:spPr>
            <a:xfrm>
              <a:off x="4191120" y="108576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ome interface must extend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JBHo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4723920" y="1695600"/>
              <a:ext cx="5331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2895120" y="3048120"/>
            <a:ext cx="3734280" cy="1132920"/>
            <a:chOff x="2895120" y="3048120"/>
            <a:chExt cx="3734280" cy="1132920"/>
          </a:xfrm>
        </p:grpSpPr>
        <p:sp>
          <p:nvSpPr>
            <p:cNvPr id="319" name=""/>
            <p:cNvSpPr/>
            <p:nvPr/>
          </p:nvSpPr>
          <p:spPr>
            <a:xfrm>
              <a:off x="2971800" y="3600360"/>
              <a:ext cx="3657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re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enables clients to 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thToo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stan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 flipV="1">
              <a:off x="2895120" y="3048120"/>
              <a:ext cx="1295640" cy="55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04920" y="1847880"/>
            <a:ext cx="4114800" cy="971640"/>
            <a:chOff x="304920" y="1847880"/>
            <a:chExt cx="4114800" cy="971640"/>
          </a:xfrm>
        </p:grpSpPr>
        <p:sp>
          <p:nvSpPr>
            <p:cNvPr id="322" name=""/>
            <p:cNvSpPr/>
            <p:nvPr/>
          </p:nvSpPr>
          <p:spPr>
            <a:xfrm>
              <a:off x="304920" y="1847880"/>
              <a:ext cx="4114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re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s must return the remote interface type (e.g.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thToo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5248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athTool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interacting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thT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3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thToolClien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thToolClient is a GUI for calculating factorials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bonacci series using the MathTool EJB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ejb.session.stateless.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ejb.session.stateless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hToolClient extends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hToolHome mathToolHo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hTool mathToo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 resultsTextAre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 numberTextFie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athToolClie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hToolClien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ateless Session EJB Examp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MathTool for calculating factoria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nd Fibonacci se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ateMathToo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3581280" y="3048120"/>
            <a:ext cx="2667240" cy="1143000"/>
            <a:chOff x="3581280" y="3048120"/>
            <a:chExt cx="2667240" cy="1143000"/>
          </a:xfrm>
        </p:grpSpPr>
        <p:sp>
          <p:nvSpPr>
            <p:cNvPr id="327" name=""/>
            <p:cNvSpPr/>
            <p:nvPr/>
          </p:nvSpPr>
          <p:spPr>
            <a:xfrm>
              <a:off x="3581280" y="30481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ference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thToolHo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4114800" y="3657960"/>
              <a:ext cx="533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352680" y="4419720"/>
            <a:ext cx="3581640" cy="580680"/>
            <a:chOff x="3352680" y="4419720"/>
            <a:chExt cx="3581640" cy="580680"/>
          </a:xfrm>
        </p:grpSpPr>
        <p:sp>
          <p:nvSpPr>
            <p:cNvPr id="330" name=""/>
            <p:cNvSpPr/>
            <p:nvPr/>
          </p:nvSpPr>
          <p:spPr>
            <a:xfrm>
              <a:off x="4267080" y="44197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mote reference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thToo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3352680" y="441972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athTool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interacting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thT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5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56-5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60-6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6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nd lay out GUI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ateGUI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WindowListener( getWindowListene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thToolClie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MathTool EJB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MathTool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okup MathToolHome and create MathTool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itialContext initial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okup MathTool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 homeObjec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nitialContext.looku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athToo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MathToolHome inter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athToolHome = ( MathToolHo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ortableRemoteObject.narrow( homeObjec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MathToolHome.class 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MathTool EJB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athTool = mathToolHome.cre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4191120" y="2133720"/>
            <a:ext cx="2666880" cy="1143000"/>
            <a:chOff x="4191120" y="2133720"/>
            <a:chExt cx="2666880" cy="1143000"/>
          </a:xfrm>
        </p:grpSpPr>
        <p:sp>
          <p:nvSpPr>
            <p:cNvPr id="335" name=""/>
            <p:cNvSpPr/>
            <p:nvPr/>
          </p:nvSpPr>
          <p:spPr>
            <a:xfrm>
              <a:off x="4191120" y="21337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itial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looking up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thToolHo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4495320" y="297180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380880" y="2971800"/>
            <a:ext cx="2667240" cy="914400"/>
            <a:chOff x="380880" y="2971800"/>
            <a:chExt cx="2667240" cy="914400"/>
          </a:xfrm>
        </p:grpSpPr>
        <p:sp>
          <p:nvSpPr>
            <p:cNvPr id="338" name=""/>
            <p:cNvSpPr/>
            <p:nvPr/>
          </p:nvSpPr>
          <p:spPr>
            <a:xfrm>
              <a:off x="380880" y="29718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ok up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thToolHo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terface in JND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62120" y="35812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4191120" y="3886200"/>
            <a:ext cx="2666880" cy="914400"/>
            <a:chOff x="4191120" y="3886200"/>
            <a:chExt cx="2666880" cy="914400"/>
          </a:xfrm>
        </p:grpSpPr>
        <p:sp>
          <p:nvSpPr>
            <p:cNvPr id="341" name=""/>
            <p:cNvSpPr/>
            <p:nvPr/>
          </p:nvSpPr>
          <p:spPr>
            <a:xfrm>
              <a:off x="4191120" y="38862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s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thToolHo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ference to proper 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4495320" y="4495680"/>
              <a:ext cx="8384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57200" y="4422600"/>
            <a:ext cx="2666880" cy="1140120"/>
            <a:chOff x="457200" y="4422600"/>
            <a:chExt cx="2666880" cy="1140120"/>
          </a:xfrm>
        </p:grpSpPr>
        <p:sp>
          <p:nvSpPr>
            <p:cNvPr id="344" name=""/>
            <p:cNvSpPr/>
            <p:nvPr/>
          </p:nvSpPr>
          <p:spPr>
            <a:xfrm>
              <a:off x="457200" y="44226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thToo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instance for use throughout this 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80" y="52578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2.1   Remote Interfa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es business methods that EJB clients can invoke to perform business-logic t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extend interfac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javax.ejb.EJB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w clause for each method must includ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moteEx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w clause for each method may include application-specific exceptions (e.g.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llegalArgumentExce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athTool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interacting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thT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f MathTool EJB is not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amingException naming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creating MathTool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mote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creating MathTool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reateException crea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reate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MathToo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JButton for calculating factori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 getFactorialButto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factorialButt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lculate Factoria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ActionListener for factorial 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actorialButton.addAction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use MathTool EJB to calculate factori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 = Integer.parseIn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numberTextField.getTex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athTool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interacting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thT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0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get Factorial of number input by 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 = mathTool.getFactorial( numb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display results in resultsText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resultsTextArea.setText( number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!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resul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handle exception calculating factori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remote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actionPerform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ddActionListener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actorialButt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Factorial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JButton for generating Fibonacci se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 getFibonacciButto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fibonacciButton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bonacci Seri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ActionListener for generating Fibonacci se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bonacciButton.addAction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62120" y="609480"/>
            <a:ext cx="2666880" cy="1600920"/>
            <a:chOff x="762120" y="609480"/>
            <a:chExt cx="2666880" cy="1600920"/>
          </a:xfrm>
        </p:grpSpPr>
        <p:sp>
          <p:nvSpPr>
            <p:cNvPr id="351" name=""/>
            <p:cNvSpPr/>
            <p:nvPr/>
          </p:nvSpPr>
          <p:spPr>
            <a:xfrm>
              <a:off x="762120" y="114300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Factori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usiness method in statele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thToo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to calculate facto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1600200" y="609480"/>
              <a:ext cx="6094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athTool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interacting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thT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44-14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56-16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generate Fibonacci series using MathTool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get number entered by 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 = Integer.parseIn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numberTextField.getTex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get Fibonacci se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series = mathTool.getFibonacciSeries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numb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create StringBuffer to store se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StringBuffer buff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Buff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firs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buffer.append( numb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buffer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Fibonacci number(s): 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append each number in series to buff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series.length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   // do not add comma before first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buffer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,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   // append next number in series to buff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buffer.append( String.valueOf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series[ i ]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display series in resultsText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resultsTextArea.setText( buffer.toString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762120" y="1981080"/>
            <a:ext cx="3276360" cy="1600920"/>
            <a:chOff x="762120" y="1981080"/>
            <a:chExt cx="3276360" cy="1600920"/>
          </a:xfrm>
        </p:grpSpPr>
        <p:sp>
          <p:nvSpPr>
            <p:cNvPr id="356" name=""/>
            <p:cNvSpPr/>
            <p:nvPr/>
          </p:nvSpPr>
          <p:spPr>
            <a:xfrm>
              <a:off x="762120" y="2514600"/>
              <a:ext cx="32763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FibonacciSeri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usiness method in statele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thToo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to calculate Fibonacci sequ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1600200" y="1981080"/>
              <a:ext cx="6094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5334120" y="4191120"/>
            <a:ext cx="3504960" cy="1066680"/>
            <a:chOff x="5334120" y="4191120"/>
            <a:chExt cx="3504960" cy="1066680"/>
          </a:xfrm>
        </p:grpSpPr>
        <p:sp>
          <p:nvSpPr>
            <p:cNvPr id="359" name=""/>
            <p:cNvSpPr/>
            <p:nvPr/>
          </p:nvSpPr>
          <p:spPr>
            <a:xfrm>
              <a:off x="6172200" y="41911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pend each value in Fibonacci sequence to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ingBuff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displ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5334120" y="449568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athTool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interacting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thT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handle exception calculating se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remote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actionPerform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ddActionListener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bonacciButt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Fibonacci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lay out GUI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GUI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TextArea to show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sultsTextArea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sultsTextArea.setLineWrap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sultsTextArea.setWrapStyleWor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sultsTextArea.setEdit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TextField for user in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umberTextFiel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Button for calculating factori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factorialButton = getFactorialButt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Button for generating Fibonacci se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fibonacciButton = getFibonacciButt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entPane = 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athTool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interacting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thT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ut resultsTextArea in a JScrollPa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ScrollPane resultsScrollPan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ew JScrollPane( resultsTextArea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resultsScrollPan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input components to new J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input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wLayou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Panel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an intege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Panel.add( numberTextFiel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JButton components to new J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button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wLayou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ttonPanel.add( factorialButt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ttonPanel.add( fibonacciButton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inputPanel and buttonPanel to new J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controlPane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idLayo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rolPanel.add( inputPan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rolPanel.add( buttonPan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control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R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GU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WindowListener for exiting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Listener getWindowListen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Adapt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Closing( Window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athTool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interacting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thT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4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remove MathTool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mathTool.remov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handle exception when removing MathTool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veException remov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remove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handle exception when removing MathTool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remote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windowClo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Window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ecute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[] arg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thToolClient clie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hToolCli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609480" y="837720"/>
            <a:ext cx="2667240" cy="1132560"/>
            <a:chOff x="609480" y="837720"/>
            <a:chExt cx="2667240" cy="1132560"/>
          </a:xfrm>
        </p:grpSpPr>
        <p:sp>
          <p:nvSpPr>
            <p:cNvPr id="368" name=""/>
            <p:cNvSpPr/>
            <p:nvPr/>
          </p:nvSpPr>
          <p:spPr>
            <a:xfrm>
              <a:off x="609480" y="114624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mov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thToo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instance when user closes wind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1828800" y="837720"/>
              <a:ext cx="380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athTool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interacting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thT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4048200" cy="190476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1981080" y="3124080"/>
            <a:ext cx="4048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4.4   EJB Transa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d transactions include multiple databases and/or multiple application ser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.g., a transfer of funds from one bank to ano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ch a transfer must occur in the context of an atomic transaction, otherwise there is the potential for data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n-managed transaction demarcation enables bean developers to specify transaction boundaries using the Java Transaction 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er-managed transaction demarcation enables EJB deployers to specify transaction boundaries declaratively when deploying EJ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5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for transferring money and getting account balance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5, 18 and 2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4191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oneyTransf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oneyTransfer is the remote interface for the MoneyTransf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JB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ejb.transaction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EJBObjec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neyTransf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Objec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ransfer amount from BankABC to BankXYZ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er( double amount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 BankABC account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BankABCBala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BankXYZ account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BankXYZBala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5943600" y="3123720"/>
            <a:ext cx="2666880" cy="2366280"/>
            <a:chOff x="5943600" y="3123720"/>
            <a:chExt cx="2666880" cy="2366280"/>
          </a:xfrm>
        </p:grpSpPr>
        <p:sp>
          <p:nvSpPr>
            <p:cNvPr id="378" name=""/>
            <p:cNvSpPr/>
            <p:nvPr/>
          </p:nvSpPr>
          <p:spPr>
            <a:xfrm>
              <a:off x="5943600" y="442260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siness methods whose implementations include programmer-defined transaction bounda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6172200" y="4114440"/>
              <a:ext cx="9907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 flipV="1">
              <a:off x="6248520" y="3580920"/>
              <a:ext cx="9144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 flipV="1">
              <a:off x="6476760" y="3123720"/>
              <a:ext cx="68580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6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Ho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for creat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200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oneyTransferHom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oneyTransferHome is the home interface for th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oneyTransferHome EJB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ejb.transaction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neyTransferHom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Ho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MoneyTransfer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neyTransfer creat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a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2.1 Remote Interfac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7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bean-managed transaction demarcatio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0-2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2-2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9-3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oneyTransferEJB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oneyTransferEJB is a stateless session EJB for transfer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ds from an Account at BankABC to an Account at BankXYZ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bean-managed transaction demarca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ejb.transactions.beanmanag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sq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transaction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q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neyTransferEJB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ssionBea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ssionContext sessionCon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nection bankOneConne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nection bankTwoConne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eparedStatement withdrawalStatem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eparedStatement depositStatem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ransfer funds from BankABC to BankXYZ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mount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transaction for transferring fu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serTransaction transacti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ssionContext.getUserTransac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egin bean-managed transaction demar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action.begi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4038480" y="2514600"/>
            <a:ext cx="2667240" cy="1447920"/>
            <a:chOff x="4038480" y="2514600"/>
            <a:chExt cx="2667240" cy="1447920"/>
          </a:xfrm>
        </p:grpSpPr>
        <p:sp>
          <p:nvSpPr>
            <p:cNvPr id="387" name=""/>
            <p:cNvSpPr/>
            <p:nvPr/>
          </p:nvSpPr>
          <p:spPr>
            <a:xfrm>
              <a:off x="4038480" y="25146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nn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for bank databa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4343040" y="3124080"/>
              <a:ext cx="7621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4343040" y="3124080"/>
              <a:ext cx="7621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4952520" y="4038480"/>
            <a:ext cx="3505680" cy="824040"/>
            <a:chOff x="4952520" y="4038480"/>
            <a:chExt cx="3505680" cy="824040"/>
          </a:xfrm>
        </p:grpSpPr>
        <p:sp>
          <p:nvSpPr>
            <p:cNvPr id="391" name=""/>
            <p:cNvSpPr/>
            <p:nvPr/>
          </p:nvSpPr>
          <p:spPr>
            <a:xfrm>
              <a:off x="5791320" y="40384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epared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for withdrawing from, and depositing to, bank accou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 flipV="1">
              <a:off x="5181480" y="4191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>
              <a:off x="4952520" y="4419360"/>
              <a:ext cx="8384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4952880" y="5181480"/>
            <a:ext cx="3581640" cy="824040"/>
            <a:chOff x="4952880" y="5181480"/>
            <a:chExt cx="3581640" cy="824040"/>
          </a:xfrm>
        </p:grpSpPr>
        <p:sp>
          <p:nvSpPr>
            <p:cNvPr id="395" name=""/>
            <p:cNvSpPr/>
            <p:nvPr/>
          </p:nvSpPr>
          <p:spPr>
            <a:xfrm>
              <a:off x="5867280" y="51814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UserTransaction for transferring money between accou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4952880" y="55627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352320" y="6172200"/>
            <a:ext cx="2972160" cy="337320"/>
            <a:chOff x="3352320" y="6172200"/>
            <a:chExt cx="2972160" cy="337320"/>
          </a:xfrm>
        </p:grpSpPr>
        <p:sp>
          <p:nvSpPr>
            <p:cNvPr id="398" name=""/>
            <p:cNvSpPr/>
            <p:nvPr/>
          </p:nvSpPr>
          <p:spPr>
            <a:xfrm>
              <a:off x="4648320" y="6172200"/>
              <a:ext cx="16761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egin trans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3352320" y="6324480"/>
              <a:ext cx="12956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7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bean-managed transaction demarcatio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8-4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48-5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5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6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tch exception if method begin fai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throw EJBException indicating transaction fail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ransfer funds from account in BankABC to ac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 BankXYZ using bean-managed transaction demar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ithdrawalStatement.setDoub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amou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withdraw funds from account at BankABC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ithdrawalStatement.executeUpd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positStatement.setDoub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amou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eposit funds in account at BankXYZ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positStatement.executeUpd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ommit trans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action.commi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s when withdrawing, depositing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mmitting trans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ttempt rollback of trans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ransaction.rollback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4190760" y="1447560"/>
            <a:ext cx="2743560" cy="1143720"/>
            <a:chOff x="4190760" y="1447560"/>
            <a:chExt cx="2743560" cy="1143720"/>
          </a:xfrm>
        </p:grpSpPr>
        <p:sp>
          <p:nvSpPr>
            <p:cNvPr id="403" name=""/>
            <p:cNvSpPr/>
            <p:nvPr/>
          </p:nvSpPr>
          <p:spPr>
            <a:xfrm>
              <a:off x="5257800" y="1523880"/>
              <a:ext cx="16765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transaction cannot be started, throw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JBExce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 flipV="1">
              <a:off x="4190760" y="1447560"/>
              <a:ext cx="10666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4572000" y="3124080"/>
            <a:ext cx="2286000" cy="1666800"/>
            <a:chOff x="4572000" y="3124080"/>
            <a:chExt cx="2286000" cy="1666800"/>
          </a:xfrm>
        </p:grpSpPr>
        <p:sp>
          <p:nvSpPr>
            <p:cNvPr id="406" name=""/>
            <p:cNvSpPr/>
            <p:nvPr/>
          </p:nvSpPr>
          <p:spPr>
            <a:xfrm>
              <a:off x="5181480" y="4210200"/>
              <a:ext cx="1676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nsfer funds between accou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flipV="1">
              <a:off x="5029200" y="3124080"/>
              <a:ext cx="99072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4572000" y="3962160"/>
              <a:ext cx="1447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3429000" y="3962520"/>
            <a:ext cx="3581280" cy="824040"/>
            <a:chOff x="3429000" y="3962520"/>
            <a:chExt cx="3581280" cy="824040"/>
          </a:xfrm>
        </p:grpSpPr>
        <p:sp>
          <p:nvSpPr>
            <p:cNvPr id="410" name=""/>
            <p:cNvSpPr/>
            <p:nvPr/>
          </p:nvSpPr>
          <p:spPr>
            <a:xfrm>
              <a:off x="4724280" y="3962520"/>
              <a:ext cx="2286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database updates are successful,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commi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ans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3429000" y="4419720"/>
              <a:ext cx="1295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3886200" y="5105520"/>
            <a:ext cx="3124080" cy="1310760"/>
            <a:chOff x="3886200" y="5105520"/>
            <a:chExt cx="3124080" cy="1310760"/>
          </a:xfrm>
        </p:grpSpPr>
        <p:sp>
          <p:nvSpPr>
            <p:cNvPr id="413" name=""/>
            <p:cNvSpPr/>
            <p:nvPr/>
          </p:nvSpPr>
          <p:spPr>
            <a:xfrm>
              <a:off x="4724280" y="5105520"/>
              <a:ext cx="228600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there are problems with any of the database updates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ollbac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ans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store the original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3886200" y="609588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7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bean-managed transaction demarcatio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84-11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andle exception when rolling back trans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ystemException system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system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throw EJBException indicating transaction fail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transf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balance of Account at BankABC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BankABCBala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balance of Account at BankABC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lect balance for Account # 1234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LECT balance FROM Accoun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HERE accountID = 12345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eparedStatement selectStatem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bankOneConnection.prepareStatement( selec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Set resultSet = selectStatement.executeQuer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first record in ResultSet and return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Set.next(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Set.getDoub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lan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count not foun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5867280" y="2362320"/>
            <a:ext cx="2819160" cy="1067400"/>
            <a:chOff x="5867280" y="2362320"/>
            <a:chExt cx="2819160" cy="1067400"/>
          </a:xfrm>
        </p:grpSpPr>
        <p:sp>
          <p:nvSpPr>
            <p:cNvPr id="418" name=""/>
            <p:cNvSpPr/>
            <p:nvPr/>
          </p:nvSpPr>
          <p:spPr>
            <a:xfrm>
              <a:off x="6344640" y="2362320"/>
              <a:ext cx="23418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ecute simple SQL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LE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tatement to retrieve the balances of the accounts at each bank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5867280" y="2742840"/>
              <a:ext cx="47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7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bean-managed transaction demarcatio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14-14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getting Account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sql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getBankABC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balance of Account at BankXYZ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BankXYZBala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balance of Account at BankXYZ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lect balance for Account # 5432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LECT balance FROM Accoun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HERE accountID = 54321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eparedStatement selectStatem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bankTwoConnection.prepareStatement( selec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Set resultSet = selectStatement.executeQuer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first record in ResultSet and return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Set.next(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Set.getDoub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lan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count not foun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getting Account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sql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5867280" y="1447920"/>
            <a:ext cx="2819160" cy="1067400"/>
            <a:chOff x="5867280" y="1447920"/>
            <a:chExt cx="2819160" cy="1067400"/>
          </a:xfrm>
        </p:grpSpPr>
        <p:sp>
          <p:nvSpPr>
            <p:cNvPr id="423" name=""/>
            <p:cNvSpPr/>
            <p:nvPr/>
          </p:nvSpPr>
          <p:spPr>
            <a:xfrm>
              <a:off x="6344640" y="1447920"/>
              <a:ext cx="23418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ecute simple SQL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LE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tatement to retrieve the balances of the accounts at each bank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5867280" y="1828440"/>
              <a:ext cx="47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7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bean-managed transaction demarcatio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49 and 170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58 and 16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BankXYZBalance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Session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essionContext( SessionContext contex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ssionContext = context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penDatabaseResource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MoneyTransfer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Create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MoneyTransfer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Remov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oseDatabaseResource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assivate MoneyTransfer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Passivat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oseDatabaseResource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tivate MoneyTransfer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Activat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penDatabaseResource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3429000" y="1828800"/>
            <a:ext cx="5029200" cy="3809880"/>
            <a:chOff x="3429000" y="1828800"/>
            <a:chExt cx="5029200" cy="3809880"/>
          </a:xfrm>
        </p:grpSpPr>
        <p:sp>
          <p:nvSpPr>
            <p:cNvPr id="428" name=""/>
            <p:cNvSpPr/>
            <p:nvPr/>
          </p:nvSpPr>
          <p:spPr>
            <a:xfrm>
              <a:off x="6172200" y="4191120"/>
              <a:ext cx="228600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llocate databa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nn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when the EJB container provide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ssion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r activates the EJ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 flipV="1">
              <a:off x="3429000" y="1828800"/>
              <a:ext cx="2743200" cy="327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3580920" y="5105520"/>
              <a:ext cx="25909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3504960" y="2971800"/>
            <a:ext cx="3733920" cy="1600200"/>
            <a:chOff x="3504960" y="2971800"/>
            <a:chExt cx="3733920" cy="1600200"/>
          </a:xfrm>
        </p:grpSpPr>
        <p:sp>
          <p:nvSpPr>
            <p:cNvPr id="432" name=""/>
            <p:cNvSpPr/>
            <p:nvPr/>
          </p:nvSpPr>
          <p:spPr>
            <a:xfrm>
              <a:off x="4952880" y="2971800"/>
              <a:ext cx="22860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ose databa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nn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when the container removes or passiavates the EJ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 flipV="1">
              <a:off x="3581280" y="3504960"/>
              <a:ext cx="1371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3504960" y="3657600"/>
              <a:ext cx="14475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7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bean-managed transaction demarcatio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74-19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02-25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lose database Connections and PreparedStat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oseDatabaseResource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lose database resour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lose PreparedStat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positStatement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positStateme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ithdrawalStatement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ithdrawalStateme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lose database Conne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ankOneConnection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ankOneConne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ankTwoConnection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ankTwoConne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losing database conne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sql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loseDatabaseResour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pen database Connections and create PreparedStat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nDatabaseResource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ok up the BankABC and BankXYZ DataSources and creat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nections for ea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text initial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6095880" y="5257800"/>
            <a:ext cx="2742840" cy="1554120"/>
            <a:chOff x="6095880" y="5257800"/>
            <a:chExt cx="2742840" cy="1554120"/>
          </a:xfrm>
        </p:grpSpPr>
        <p:sp>
          <p:nvSpPr>
            <p:cNvPr id="438" name=""/>
            <p:cNvSpPr/>
            <p:nvPr/>
          </p:nvSpPr>
          <p:spPr>
            <a:xfrm>
              <a:off x="6560280" y="5257800"/>
              <a:ext cx="227844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n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ared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for each database for use throughout the lifetime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neyTransf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insta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6095880" y="5638680"/>
              <a:ext cx="46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6248160" y="152280"/>
            <a:ext cx="2819160" cy="824040"/>
            <a:chOff x="6248160" y="152280"/>
            <a:chExt cx="2819160" cy="824040"/>
          </a:xfrm>
        </p:grpSpPr>
        <p:sp>
          <p:nvSpPr>
            <p:cNvPr id="441" name=""/>
            <p:cNvSpPr/>
            <p:nvPr/>
          </p:nvSpPr>
          <p:spPr>
            <a:xfrm>
              <a:off x="6725880" y="152280"/>
              <a:ext cx="23414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os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n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ared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6248160" y="533160"/>
              <a:ext cx="47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7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bean-managed transaction demarca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DataSource reference from JNDI direc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ataSource dataSource = ( DataSourc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nitialContext.lookup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:comp/env/jdbc/BankABC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Connection from DataSour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ankOneConnection = dataSource.getConnec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ataSource = ( DataSource) initialContext.lookup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:comp/env/jdbc/BankXYZ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ankTwoConnection = dataSource.getConnec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repare withdraw statement for account #12345 a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BankABC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withdrawa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PDATE Account SET balance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lance - ? WHERE accountID = 12345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ithdrawalStatem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bankOneConnection.prepareStatement( withdrawa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repare deposit statment for account #54321 a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BankXYZ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deposi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PDATE Account SET balance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lance + ? WHERE accountID = 54321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positStatement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bankTwoConnection.prepareStatement( deposit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f DataSource not found in direc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amingException naming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naming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7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bean-managed transaction demarca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828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getting Connection to DataSour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sql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openDatabaseResour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8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container-managed transaction demarca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oneyTransferEJB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oneyTransferEJB is a stateless session EJB for transfer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ds from an Account at BankABC to an Account at BankXYZ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container-managed transaction demarca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ejb.transactions.containermanag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sq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q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neyTransferEJB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ssionBea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ssionContext sessionCon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nection bankOneConne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nection bankTwoConne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eparedStatement withdrawalStatem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eparedStatement depositStatem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ransfer funds from BankABC to BankXYZ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mount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ransfer funds from account in BankABC to account 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ankXYZ using container-managed transaction demar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ithdrawalStatement.setDoub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amou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withdraw funds from account at BankABC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ithdrawalStatement.executeUpd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8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container-managed transaction demarcation.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48</a:t>
            </a:r>
            <a:br>
              <a:rPr sz="1600"/>
            </a:b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positStatement.setDoub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amou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eposit funds in account at BankXYZ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positStatement.executeUpd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ithdrawing and deposi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throw EJBException to indicate transfer faile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nd roll back container-managed transaction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sql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transf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balance of Account at BankABC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BankABCBala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balance of Account at BankABC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lect balance for Account # 1234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LECT balance FROM Accoun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HERE accountID = 12345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eparedStatement selectStatem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bankOneConnection.prepareStatement( selec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Set resultSet = selectStatement.executeQuer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5257440" y="2133720"/>
            <a:ext cx="3429000" cy="824040"/>
            <a:chOff x="5257440" y="2133720"/>
            <a:chExt cx="3429000" cy="824040"/>
          </a:xfrm>
        </p:grpSpPr>
        <p:sp>
          <p:nvSpPr>
            <p:cNvPr id="452" name=""/>
            <p:cNvSpPr/>
            <p:nvPr/>
          </p:nvSpPr>
          <p:spPr>
            <a:xfrm>
              <a:off x="5838480" y="2133720"/>
              <a:ext cx="2847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row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JBExce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response to any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QLExce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rown from lines 29-41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257440" y="2514240"/>
              <a:ext cx="58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2.2   Home Interfa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es methods for creating, removing and finding EJB inst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exte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javax.ejb.EJB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n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s enable clients to locate particular EJB inst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8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container-managed transaction demarca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first record in ResultSet and return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Set.next(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Set.getDoub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lan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count not foun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getting Account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sql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BankABC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balance of Account at BankXYZ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BankXYZBala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balance of Account at BankXYZ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lect balance for Account # 5432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LECT balance FROM Accoun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HERE accountID = 54321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eparedStatement selectStatem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bankTwoConnection.prepareStatement( selec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Set resultSet = selectStatement.executeQuer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first record in ResultSet and return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Set.next(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Set.getDoub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lan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8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container-managed transaction demarca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count not found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getting Account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sql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getBankXYZBalance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Session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essionContext( SessionContext contex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ssionContext = context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penDatabaseResource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MoneyTransfer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Create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MoneyTransfer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Remov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oseDatabaseResource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assivate MoneyTransfer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Passivat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oseDatabaseResource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8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container-managed transaction demarca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tivate MoneyTransfer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Activat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penDatabaseResource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lose database Connections and PreparedStat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oseDatabaseResource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lose database resour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lose PreparedStat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positStatement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positStateme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ithdrawalStatement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ithdrawalStateme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lose database Conne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ankOneConnection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ankOneConne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ankTwoConnection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ankTwoConne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losing database conne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sql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loseDatabaseConne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8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container-managed transaction demarca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pen database Connections and create PreparedStat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nDatabaseResource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ok up the BankABC and BankXYZ DataSources and creat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nections for ea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text initial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DataSource reference from JNDI direc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ataSource dataSource = ( DataSourc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nitialContext.lookup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:comp/env/jdbc/BankABC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Connection from DataSour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ankOneConnection = dataSource.getConnec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ataSource = ( DataSource) initialContext.lookup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:comp/env/jdbc/BankXYZ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ankTwoConnection = dataSource.getConnec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repare withdraw statement for account #12345 a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BankABC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withdrawa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PDATE Account SET balance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lance - ? WHERE accountID = 12345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ithdrawalStatem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bankOneConnection.prepareStatement( withdrawa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repare deposit statment for account #54321 a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BankXYZ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deposi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PDATE Account SET balance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lance + ? WHERE accountID = 54321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28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EJ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lem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mote interface using container-managed transaction demarca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200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positStatement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bankTwoConnection.prepareStatement( deposit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f DataSource not found in direc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amingException naming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naming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getting Connection to DataSour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JBException( sql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openDatabaseConne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4.3 Container-Managed Transaction Demarc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30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EJB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interacting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4-2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oneyTransferEJBClien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oneyTransferEJBClient is a client for interacting wi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MoneyTransfer EJB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ejb.transactions.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standard ext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ejb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ejb.transaction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neyTransferEJBClien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neyTransfer moneyTransf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 bankABCBalanceTextFie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 bankXYZBalanceTextFie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 transferAmountTextFie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oneyTransferEJBClie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neyTransferEJBClient( String JNDI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oneyTransferEJBClie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MoneyTransfer EJB for transferring mone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ateMoneyTransfer( JNDI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4952520" y="4191120"/>
            <a:ext cx="3429000" cy="824040"/>
            <a:chOff x="4952520" y="4191120"/>
            <a:chExt cx="3429000" cy="824040"/>
          </a:xfrm>
        </p:grpSpPr>
        <p:sp>
          <p:nvSpPr>
            <p:cNvPr id="470" name=""/>
            <p:cNvSpPr/>
            <p:nvPr/>
          </p:nvSpPr>
          <p:spPr>
            <a:xfrm>
              <a:off x="5533560" y="4191120"/>
              <a:ext cx="2847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cl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TextFiel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to display the account balances and accept a user-input transfer amou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4952520" y="4571640"/>
              <a:ext cx="58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4267080" y="6019920"/>
            <a:ext cx="4571280" cy="580680"/>
            <a:chOff x="4267080" y="6019920"/>
            <a:chExt cx="4571280" cy="580680"/>
          </a:xfrm>
        </p:grpSpPr>
        <p:sp>
          <p:nvSpPr>
            <p:cNvPr id="473" name=""/>
            <p:cNvSpPr/>
            <p:nvPr/>
          </p:nvSpPr>
          <p:spPr>
            <a:xfrm>
              <a:off x="5041080" y="6019920"/>
              <a:ext cx="3797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MoneyTransf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reate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neyTransf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insta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4267080" y="6400800"/>
              <a:ext cx="7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30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EJB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interacting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4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47-8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5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54-5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6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nd lay out GUI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ateGUI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play current balances at BankABC and BankXYZ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playBalance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MoneyTransferEJB for transferring mone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MoneyTransfer( String JNDI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ok up MoneyTransfer EJB using given JNDI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itialContext con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okup MoneyTransfer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 homeObject = context.lookup( JNDI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MoneyTransfer inter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oneyTransferHome moneyTransferHom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MoneyTransferHome ) PortableRemoteObject.narrow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homeObject, MoneyTransferHome.class 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MathTool EJB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oneyTransfer = moneyTransferHome.cre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looking up MoneyTransfer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amingException naming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2438280" y="152280"/>
            <a:ext cx="4571280" cy="580680"/>
            <a:chOff x="2438280" y="152280"/>
            <a:chExt cx="4571280" cy="580680"/>
          </a:xfrm>
        </p:grpSpPr>
        <p:sp>
          <p:nvSpPr>
            <p:cNvPr id="478" name=""/>
            <p:cNvSpPr/>
            <p:nvPr/>
          </p:nvSpPr>
          <p:spPr>
            <a:xfrm>
              <a:off x="3212280" y="152280"/>
              <a:ext cx="3797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GU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reate and lay out GUI components for the applic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2438280" y="533160"/>
              <a:ext cx="7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2971440" y="685800"/>
            <a:ext cx="5714640" cy="580680"/>
            <a:chOff x="2971440" y="685800"/>
            <a:chExt cx="5714640" cy="580680"/>
          </a:xfrm>
        </p:grpSpPr>
        <p:sp>
          <p:nvSpPr>
            <p:cNvPr id="481" name=""/>
            <p:cNvSpPr/>
            <p:nvPr/>
          </p:nvSpPr>
          <p:spPr>
            <a:xfrm>
              <a:off x="3939480" y="685800"/>
              <a:ext cx="4746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Balanc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display the current account balances at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nkAB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nkXYZ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2971440" y="1066680"/>
              <a:ext cx="97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5714640" y="1981080"/>
            <a:ext cx="3352680" cy="1067400"/>
            <a:chOff x="5714640" y="1981080"/>
            <a:chExt cx="3352680" cy="1067400"/>
          </a:xfrm>
        </p:grpSpPr>
        <p:sp>
          <p:nvSpPr>
            <p:cNvPr id="484" name=""/>
            <p:cNvSpPr/>
            <p:nvPr/>
          </p:nvSpPr>
          <p:spPr>
            <a:xfrm>
              <a:off x="6282720" y="1981080"/>
              <a:ext cx="27846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MoneyTransf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us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neyTransferHo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terface to 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neyTransf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insta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5714640" y="2361960"/>
              <a:ext cx="56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5714640" y="2743200"/>
            <a:ext cx="3200400" cy="824040"/>
            <a:chOff x="5714640" y="2743200"/>
            <a:chExt cx="3200400" cy="824040"/>
          </a:xfrm>
        </p:grpSpPr>
        <p:sp>
          <p:nvSpPr>
            <p:cNvPr id="487" name=""/>
            <p:cNvSpPr/>
            <p:nvPr/>
          </p:nvSpPr>
          <p:spPr>
            <a:xfrm>
              <a:off x="6256800" y="2743200"/>
              <a:ext cx="2658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ial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locat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neyTransf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in the JNDI director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5714640" y="3124080"/>
              <a:ext cx="54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5867280" y="3276720"/>
            <a:ext cx="2666880" cy="1310760"/>
            <a:chOff x="5867280" y="3276720"/>
            <a:chExt cx="2666880" cy="1310760"/>
          </a:xfrm>
        </p:grpSpPr>
        <p:sp>
          <p:nvSpPr>
            <p:cNvPr id="490" name=""/>
            <p:cNvSpPr/>
            <p:nvPr/>
          </p:nvSpPr>
          <p:spPr>
            <a:xfrm>
              <a:off x="6318720" y="3276720"/>
              <a:ext cx="22154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ial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oku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get a remote reference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neyTransferHo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terfa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5867280" y="3657240"/>
              <a:ext cx="45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5486040" y="4724280"/>
            <a:ext cx="3429000" cy="1067400"/>
            <a:chOff x="5486040" y="4724280"/>
            <a:chExt cx="3429000" cy="1067400"/>
          </a:xfrm>
        </p:grpSpPr>
        <p:sp>
          <p:nvSpPr>
            <p:cNvPr id="493" name=""/>
            <p:cNvSpPr/>
            <p:nvPr/>
          </p:nvSpPr>
          <p:spPr>
            <a:xfrm>
              <a:off x="6067080" y="4724280"/>
              <a:ext cx="28479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neyTransf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JB instance by invok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neyTransferHo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5486040" y="5105160"/>
              <a:ext cx="58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30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EJB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interacting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.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looking up MoneyTransfer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reateException crea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reate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looking up MoneyTransfer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mote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MoneyTransf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balance in account at BankABC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playBalance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and display BankABC Account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ance = moneyTransfer.getBankABCBalan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ankABCBalanceTextField.setTex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tring.valueOf( balance ) 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and display BankXYZ Account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alance = moneyTransfer.getBankXYZBalan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ankXYZBalanceTextField.setTex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tring.valueOf( balance ) );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invoke MoneyTransfer EJB metho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ptionPane.showMessage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moteException.getMessag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displayBalan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30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EJB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interacting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08-14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20-12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2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button to transfer funds between accou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 getTransferButto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transfer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ansf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erButton.addAction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get transfer amount from JTextFiel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double amount = Double.parseDoubl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transferAmountTextField.getTex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transfer mone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moneyTransfer.transfer( amou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display new balan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displayBalance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handle exception when transferring mone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JOptionPane.showMessageDialog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MoneyTransferEJBClient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remoteException.getMessag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actionPerform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ddActionListener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erButt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4190760" y="304920"/>
            <a:ext cx="3657600" cy="824040"/>
            <a:chOff x="4190760" y="304920"/>
            <a:chExt cx="3657600" cy="824040"/>
          </a:xfrm>
        </p:grpSpPr>
        <p:sp>
          <p:nvSpPr>
            <p:cNvPr id="500" name=""/>
            <p:cNvSpPr/>
            <p:nvPr/>
          </p:nvSpPr>
          <p:spPr>
            <a:xfrm>
              <a:off x="4810320" y="304920"/>
              <a:ext cx="30380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Transfer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reates a JButton to transfer fund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nkAB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nkXYZ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4190760" y="685440"/>
              <a:ext cx="62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5790960" y="2514600"/>
            <a:ext cx="2895480" cy="1067400"/>
            <a:chOff x="5790960" y="2514600"/>
            <a:chExt cx="2895480" cy="1067400"/>
          </a:xfrm>
        </p:grpSpPr>
        <p:sp>
          <p:nvSpPr>
            <p:cNvPr id="503" name=""/>
            <p:cNvSpPr/>
            <p:nvPr/>
          </p:nvSpPr>
          <p:spPr>
            <a:xfrm>
              <a:off x="6280560" y="2514600"/>
              <a:ext cx="2405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ad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nsf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m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rom the user and invok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neyTransf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transf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5790960" y="2895480"/>
              <a:ext cx="49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4114800" y="3809880"/>
            <a:ext cx="4571280" cy="580680"/>
            <a:chOff x="4114800" y="3809880"/>
            <a:chExt cx="4571280" cy="580680"/>
          </a:xfrm>
        </p:grpSpPr>
        <p:sp>
          <p:nvSpPr>
            <p:cNvPr id="506" name=""/>
            <p:cNvSpPr/>
            <p:nvPr/>
          </p:nvSpPr>
          <p:spPr>
            <a:xfrm>
              <a:off x="4888800" y="3809880"/>
              <a:ext cx="3797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Balanc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update the display with the new account balanc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4114800" y="4190760"/>
              <a:ext cx="7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2.2   Home Interfac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30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EJB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interacting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Transfer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and lay out GUI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GUI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TextFields for user input and displ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ankABCBalanceTextFiel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ankABCBalanceTextField.setEdit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ankXYZBalanceTextFiel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ankXYZBalanceTextField.setEdit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erAmountTextFiel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button to transfer between accou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transferButton = getTransferButt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yout user inter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entPane = 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idLayo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transferButt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transferAmountTextFiel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nk ABC Balanc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bankABCBalanceTextFiel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nk XYZ Balanc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bankXYZBalanceTextField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GU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30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EJB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interacting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WindowListener for exiting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Listener getWindowListen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move MoneyTransfer EJB when user exits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Adapt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Closing( WindowEvent event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remove MoneyTransfer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moneyTransfer.remov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handle exception removing MoneyTransfer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veException remov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remove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handle exception removing MoneyTransfer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remote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windowClo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Window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4.30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EJBCl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interacting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JB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2438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ecute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[] args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sure user provided JNDI name for MoneyTransfer EJ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gs.length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rr.printl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age: java MoneyTransferEJBClient &lt;JNDI Name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rt application using provided JNDI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neyTransferEJBClient( arg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TransferEJBClient.java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3581280" y="53352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3"/>
          <a:stretch/>
        </p:blipFill>
        <p:spPr>
          <a:xfrm>
            <a:off x="2057400" y="35812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4.5 Deploying 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MoneyTransfer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EJB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resource references to the 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4.5 Deploying 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MoneyTransfer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EJB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00840" cy="497052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534680" y="6172200"/>
            <a:ext cx="60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4.3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References dialog of New Enterprise Bean Wizar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4.5 Deploying 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MoneyTransfer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EJB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1752480" y="1143000"/>
            <a:ext cx="5850000" cy="48466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2442600" y="6019920"/>
            <a:ext cx="435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4.3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Resource Reference for BankAB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4.5 Deploying 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MoneyTransfer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EJB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621400" cy="465588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2367720" y="6019920"/>
            <a:ext cx="43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4.3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Resource Reference for BankXY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4.5 Deploying 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MoneyTransfer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EJB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4848120" cy="295272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2445120" y="4724280"/>
            <a:ext cx="428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4.3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Bean-Managed Transac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4.5 Deploying 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MoneyTransfer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EJB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33" name=""/>
          <p:cNvSpPr/>
          <p:nvPr/>
        </p:nvSpPr>
        <p:spPr>
          <a:xfrm>
            <a:off x="2217600" y="4952880"/>
            <a:ext cx="466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4.3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Container-Managed Transac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8481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2.3   EJB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s business methods declared in the remote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re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finder methods declared in the home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ssion EJBs must implement interfac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javax.ejb.SessionB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5:53:05Z</dcterms:created>
  <dc:creator>nick</dc:creator>
  <dc:description/>
  <dc:language>en-US</dc:language>
  <cp:lastModifiedBy>zhang</cp:lastModifiedBy>
  <dcterms:modified xsi:type="dcterms:W3CDTF">2002-02-04T18:05:22Z</dcterms:modified>
  <cp:revision>99</cp:revision>
  <dc:subject/>
  <dc:title>PowerPoint Presentation</dc:title>
</cp:coreProperties>
</file>