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4FCD89-2A7D-4734-A0AA-A314287AFD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5960" y="228600"/>
            <a:ext cx="693396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5960" y="3572280"/>
            <a:ext cx="693396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2CFE4D-2EB5-4202-B197-BD902432F8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5960" y="228600"/>
            <a:ext cx="338364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629160" y="228600"/>
            <a:ext cx="338364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5960" y="3572280"/>
            <a:ext cx="338364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629160" y="3572280"/>
            <a:ext cx="338364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C5FB1F-0B02-45DC-9DF9-0628663A6A5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5960" y="228600"/>
            <a:ext cx="223236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420280" y="228600"/>
            <a:ext cx="223236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764600" y="228600"/>
            <a:ext cx="223236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5960" y="3572280"/>
            <a:ext cx="223236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420280" y="3572280"/>
            <a:ext cx="223236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4764600" y="3572280"/>
            <a:ext cx="223236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F5A298-B0A9-462C-BBA8-52BD80B3666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934CEF-0496-48A0-AA34-11E6E78120C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A7A70E-008C-432A-B3A7-50D23FC4B5C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A55B50-2797-472D-A532-D5B00AD8924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5960" y="228600"/>
            <a:ext cx="3383640" cy="64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629160" y="228600"/>
            <a:ext cx="3383640" cy="64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95D484-9FF3-4F09-9949-AA06967BF39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85006D-C815-4DF9-9A02-183BC2B7F5F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7086240" y="838080"/>
            <a:ext cx="2057400" cy="254329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08299D-49A2-4B43-9C94-9F7B4AC9379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5960" y="228600"/>
            <a:ext cx="338364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3629160" y="228600"/>
            <a:ext cx="3383640" cy="64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75960" y="3572280"/>
            <a:ext cx="338364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CC7E51-4F28-4EE3-B2C1-135BB7F327D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D64D15-0BB7-43C0-9DE8-F6D3779457D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5960" y="228600"/>
            <a:ext cx="3383640" cy="64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3629160" y="228600"/>
            <a:ext cx="338364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629160" y="3572280"/>
            <a:ext cx="338364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37E5EC-041C-465C-BC45-9797BE3994B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5960" y="228600"/>
            <a:ext cx="338364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629160" y="228600"/>
            <a:ext cx="338364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75960" y="3572280"/>
            <a:ext cx="693396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95E558-1B8B-497F-BC38-BE9E536907E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5960" y="228600"/>
            <a:ext cx="693396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75960" y="3572280"/>
            <a:ext cx="693396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E349C2-5D66-4946-9739-28DC3F8A1CC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5960" y="228600"/>
            <a:ext cx="338364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29160" y="228600"/>
            <a:ext cx="338364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5960" y="3572280"/>
            <a:ext cx="338364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629160" y="3572280"/>
            <a:ext cx="338364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8496BF-4794-46A5-85A9-8B2CA75DA7E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75960" y="228600"/>
            <a:ext cx="223236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2420280" y="228600"/>
            <a:ext cx="223236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764600" y="228600"/>
            <a:ext cx="223236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75960" y="3572280"/>
            <a:ext cx="223236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2420280" y="3572280"/>
            <a:ext cx="223236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4764600" y="3572280"/>
            <a:ext cx="223236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93E965-4B0F-4EC7-B0AA-F5E54E6CEF1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650670-A8C2-44FA-9643-D40BB7DF41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5960" y="228600"/>
            <a:ext cx="3383640" cy="64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3629160" y="228600"/>
            <a:ext cx="3383640" cy="64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D105A4-90DB-4309-AE3F-2F2E6142ED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6E0AB2-64FB-482D-A090-E3001B883F7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086240" y="838080"/>
            <a:ext cx="2057400" cy="254329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25825E-0DBE-4E90-B00C-568F2FF3CF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5960" y="228600"/>
            <a:ext cx="338364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629160" y="228600"/>
            <a:ext cx="3383640" cy="64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5960" y="3572280"/>
            <a:ext cx="338364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12FC3A-4C61-4DB9-ACCC-B77F1BD73C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5960" y="228600"/>
            <a:ext cx="3383640" cy="64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629160" y="228600"/>
            <a:ext cx="338364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629160" y="3572280"/>
            <a:ext cx="338364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90C040-25DB-4AE7-9CE8-4C2310FF520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5960" y="228600"/>
            <a:ext cx="338364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629160" y="228600"/>
            <a:ext cx="338364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5960" y="3572280"/>
            <a:ext cx="693396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B93160-B82F-4E85-B3E8-C1CC3E2320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Click to edit the title text format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6553080"/>
            <a:ext cx="358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2 Prentice Hall. 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nextslide"/>
          </p:cNvPr>
          <p:cNvSpPr/>
          <p:nvPr/>
        </p:nvSpPr>
        <p:spPr>
          <a:xfrm>
            <a:off x="3886200" y="655308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previousslide"/>
          </p:cNvPr>
          <p:cNvSpPr/>
          <p:nvPr/>
        </p:nvSpPr>
        <p:spPr>
          <a:xfrm rot="10800000">
            <a:off x="3505320" y="655272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6" h="21600">
                <a:moveTo>
                  <a:pt x="7377" y="3794"/>
                </a:moveTo>
                <a:lnTo>
                  <a:pt x="21390" y="10800"/>
                </a:lnTo>
                <a:lnTo>
                  <a:pt x="7377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4C3E0-D75A-410F-A736-2807C01C277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7086600" y="6324480"/>
            <a:ext cx="198108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2 Prentice Hall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162920" y="15228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vantGarde"/>
                <a:ea typeface="Times New Roman"/>
              </a:rPr>
              <a:t>Out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7086240" y="76320"/>
            <a:ext cx="305280" cy="685800"/>
            <a:chOff x="7086240" y="76320"/>
            <a:chExt cx="305280" cy="685800"/>
          </a:xfrm>
        </p:grpSpPr>
        <p:sp>
          <p:nvSpPr>
            <p:cNvPr id="45" name="">
              <a:hlinkClick r:id="" action="ppaction://hlinkshowjump?jump=previousslide"/>
            </p:cNvPr>
            <p:cNvSpPr/>
            <p:nvPr/>
          </p:nvSpPr>
          <p:spPr>
            <a:xfrm rot="5400000">
              <a:off x="7086240" y="75960"/>
              <a:ext cx="304920" cy="304920"/>
            </a:xfrm>
            <a:custGeom>
              <a:avLst/>
              <a:gdLst>
                <a:gd name="textAreaLeft" fmla="*/ 19440 w 304920"/>
                <a:gd name="textAreaRight" fmla="*/ 285480 w 30492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1600" h="21600">
                  <a:moveTo>
                    <a:pt x="3794" y="10800"/>
                  </a:moveTo>
                  <a:lnTo>
                    <a:pt x="17806" y="3794"/>
                  </a:lnTo>
                  <a:lnTo>
                    <a:pt x="17806" y="17806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>
              <a:hlinkClick r:id="" action="ppaction://hlinkshowjump?jump=nextslide"/>
            </p:cNvPr>
            <p:cNvSpPr/>
            <p:nvPr/>
          </p:nvSpPr>
          <p:spPr>
            <a:xfrm rot="16200000">
              <a:off x="7086600" y="457200"/>
              <a:ext cx="304560" cy="304920"/>
            </a:xfrm>
            <a:custGeom>
              <a:avLst/>
              <a:gdLst>
                <a:gd name="textAreaLeft" fmla="*/ 19440 w 304560"/>
                <a:gd name="textAreaRight" fmla="*/ 285120 w 30456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26">
                  <a:moveTo>
                    <a:pt x="0" y="0"/>
                  </a:moveTo>
                  <a:lnTo>
                    <a:pt x="21600" y="0"/>
                  </a:lnTo>
                  <a:lnTo>
                    <a:pt x="21600" y="21626"/>
                  </a:lnTo>
                  <a:lnTo>
                    <a:pt x="0" y="21626"/>
                  </a:lnTo>
                  <a:close/>
                </a:path>
                <a:path fill="lightenLess" w="21600" h="21626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26">
                  <a:moveTo>
                    <a:pt x="21600" y="0"/>
                  </a:moveTo>
                  <a:lnTo>
                    <a:pt x="21600" y="21626"/>
                  </a:lnTo>
                  <a:lnTo>
                    <a:pt x="20200" y="20226"/>
                  </a:lnTo>
                  <a:lnTo>
                    <a:pt x="20200" y="1400"/>
                  </a:lnTo>
                  <a:close/>
                </a:path>
                <a:path fill="darkenLess" w="21600" h="21626">
                  <a:moveTo>
                    <a:pt x="21600" y="21626"/>
                  </a:moveTo>
                  <a:lnTo>
                    <a:pt x="0" y="21626"/>
                  </a:lnTo>
                  <a:lnTo>
                    <a:pt x="1400" y="20226"/>
                  </a:lnTo>
                  <a:lnTo>
                    <a:pt x="20200" y="20226"/>
                  </a:lnTo>
                  <a:close/>
                </a:path>
                <a:path fill="lighten" w="21600" h="21626">
                  <a:moveTo>
                    <a:pt x="0" y="21626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26"/>
                  </a:lnTo>
                  <a:close/>
                </a:path>
                <a:path fill="darken" w="21600" h="21626">
                  <a:moveTo>
                    <a:pt x="3794" y="10813"/>
                  </a:moveTo>
                  <a:lnTo>
                    <a:pt x="17806" y="3806"/>
                  </a:lnTo>
                  <a:lnTo>
                    <a:pt x="17806" y="17819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6705720" y="838080"/>
            <a:ext cx="2438280" cy="60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sldNum" idx="2"/>
          </p:nvPr>
        </p:nvSpPr>
        <p:spPr>
          <a:xfrm>
            <a:off x="8686800" y="0"/>
            <a:ext cx="457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4C53F-5D8E-4675-9D4F-A7B30E75D2B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4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hapter 15: Entity EJBs</a:t>
            </a:r>
            <a:endParaRPr b="1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1143000"/>
            <a:ext cx="77724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0000"/>
                </a:solidFill>
                <a:uFillTx/>
                <a:latin typeface="AvantGarde"/>
                <a:ea typeface="Times New Roman"/>
              </a:rPr>
              <a:t>Outline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5.1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Introduction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5.2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Entity EJB Overview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5.3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Employee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 Entity EJB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5.4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Employee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 EJB Home and Remote Interfaces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5.5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Employee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 EJB with Bean-Managed Persistence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5.5.1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Employee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 EJB Implementation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5.5.2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Employee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 EJB Deployment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5.6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Employee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 EJB with Container-Managed Persistence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5.7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Employee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 EJB Cl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5.5.1   </a:t>
            </a:r>
            <a:r>
              <a:rPr b="1" lang="en-US" sz="3000" spc="-1" strike="noStrike">
                <a:solidFill>
                  <a:srgbClr val="ff3300"/>
                </a:solidFill>
                <a:latin typeface="Courier New"/>
              </a:rPr>
              <a:t>Employee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 EJB Implementation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Employe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EJB implem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Bean-managed persisten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15.3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mployeeEJB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mplementation of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mploye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emote interface using bean-managed persistence (part 1)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 15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 17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20-25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59436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mployeeEJB.jav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mployeeEJB is an entity EJB that uses bean-manage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ersistence to persist Employee data in a database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ejb.entity.bmp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core librari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sql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rmi.RemoteExceptio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standard extension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ejb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sql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naming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mployeeEJB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lemen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ntityBean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ntityContext entityContex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nection connectio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nteger employeeID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socialSecurityNumbe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firstNam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lastNam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titl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ouble salary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get Employee I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nteger getEmployeeID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mployeeID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4800600" y="1676520"/>
            <a:ext cx="3124080" cy="1143000"/>
            <a:chOff x="4800600" y="1676520"/>
            <a:chExt cx="3124080" cy="1143000"/>
          </a:xfrm>
        </p:grpSpPr>
        <p:sp>
          <p:nvSpPr>
            <p:cNvPr id="135" name=""/>
            <p:cNvSpPr/>
            <p:nvPr/>
          </p:nvSpPr>
          <p:spPr>
            <a:xfrm flipH="1">
              <a:off x="4876920" y="2209680"/>
              <a:ext cx="1676160" cy="60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800600" y="1676520"/>
              <a:ext cx="31240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ll EJB implementations must implement interfac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EntityBea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4266720" y="2895480"/>
            <a:ext cx="4496400" cy="824040"/>
            <a:chOff x="4266720" y="2895480"/>
            <a:chExt cx="4496400" cy="824040"/>
          </a:xfrm>
        </p:grpSpPr>
        <p:sp>
          <p:nvSpPr>
            <p:cNvPr id="138" name=""/>
            <p:cNvSpPr/>
            <p:nvPr/>
          </p:nvSpPr>
          <p:spPr>
            <a:xfrm>
              <a:off x="6019920" y="2895480"/>
              <a:ext cx="274320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EntityContex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provides EJB with information about container that deploys the EJ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 flipH="1">
              <a:off x="4266720" y="3276720"/>
              <a:ext cx="175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3885840" y="4038480"/>
            <a:ext cx="4724640" cy="824040"/>
            <a:chOff x="3885840" y="4038480"/>
            <a:chExt cx="4724640" cy="824040"/>
          </a:xfrm>
        </p:grpSpPr>
        <p:sp>
          <p:nvSpPr>
            <p:cNvPr id="141" name=""/>
            <p:cNvSpPr/>
            <p:nvPr/>
          </p:nvSpPr>
          <p:spPr>
            <a:xfrm>
              <a:off x="5867280" y="4038480"/>
              <a:ext cx="274320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ember variables to store data retrieved from the database and updates from the cli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 flipH="1" flipV="1">
              <a:off x="3885840" y="4267080"/>
              <a:ext cx="198108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15.3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mployeeEJB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mplementation of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mploye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emote interface using bean-managed persistence (part 2).</a:t>
            </a: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et social security numb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tSocialSecurityNumber( String number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ocialSecurityNumber = numbe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get social security numb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getSocialSecurityNumber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ocialSecurityNumbe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et first nam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tFirstName( String name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firstName = nam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get first nam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getFirstName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firstNam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et last nam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tLastName( String name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lastName = nam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get last nam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getLastName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lastNam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15.3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mployeeEJB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mplementation of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mploye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emote interface using bean-managed persistence (part 3)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 94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75960" y="228240"/>
            <a:ext cx="6933960" cy="57913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et titl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tTitle( String jobTitle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itle = jobTitl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get titl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getTitle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itl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et salar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tSalary( Double amount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alary = amoun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get salar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ouble getSalary(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alary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create Employe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nteger ejbCreate( Integer primaryKey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reateExcep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employeeID = primaryKey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4876920" y="3733920"/>
            <a:ext cx="3962160" cy="1295280"/>
            <a:chOff x="4876920" y="3733920"/>
            <a:chExt cx="3962160" cy="1295280"/>
          </a:xfrm>
        </p:grpSpPr>
        <p:sp>
          <p:nvSpPr>
            <p:cNvPr id="148" name=""/>
            <p:cNvSpPr/>
            <p:nvPr/>
          </p:nvSpPr>
          <p:spPr>
            <a:xfrm>
              <a:off x="4876920" y="3733920"/>
              <a:ext cx="396216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n a client invokes interfac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EmployeeHom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creat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the EJB container invokes 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ejbCre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flipH="1">
              <a:off x="5181120" y="4572000"/>
              <a:ext cx="167652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15.3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mployeeEJB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mplementation of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mploye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emote interface using bean-managed persistence (part 4)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103-111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 114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 127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 130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75960" y="228240"/>
            <a:ext cx="6933960" cy="61722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INSERT new Employee in databas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2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create INSERT statem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tring insert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INSERT INTO Employee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+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( employeeID ) VALUES ( ? )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5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6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create PreparedStatement to perform INSER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PreparedStatement insertStatement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connection.prepareStatement( insert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9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0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set values for PreparedStatem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insertStatement.setIn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employeeID.intValue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2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3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execute INSERT and close PreparedStatem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insertStatement.executeUpdat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insertStatement.clos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6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mployeeID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0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throw EJBException if INSERT fail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SQLException sql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reateException( sqlException.getMessage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ethod ejbCreat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6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do post-creation tasks when creating Employe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jbPostCreate( Integer primaryKey ) {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9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remove Employee information from databas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jbRemove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emoveExcep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4800240" y="533520"/>
            <a:ext cx="4115160" cy="1295280"/>
            <a:chOff x="4800240" y="533520"/>
            <a:chExt cx="4115160" cy="1295280"/>
          </a:xfrm>
        </p:grpSpPr>
        <p:sp>
          <p:nvSpPr>
            <p:cNvPr id="153" name=""/>
            <p:cNvSpPr/>
            <p:nvPr/>
          </p:nvSpPr>
          <p:spPr>
            <a:xfrm>
              <a:off x="5867280" y="533520"/>
              <a:ext cx="304812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reate a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reparedStateme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INSER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he new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Employe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n the databas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 flipH="1">
              <a:off x="4800240" y="990720"/>
              <a:ext cx="106668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4419360" y="1752480"/>
            <a:ext cx="4191120" cy="1371600"/>
            <a:chOff x="4419360" y="1752480"/>
            <a:chExt cx="4191120" cy="1371600"/>
          </a:xfrm>
        </p:grpSpPr>
        <p:sp>
          <p:nvSpPr>
            <p:cNvPr id="156" name=""/>
            <p:cNvSpPr/>
            <p:nvPr/>
          </p:nvSpPr>
          <p:spPr>
            <a:xfrm>
              <a:off x="6324480" y="1752480"/>
              <a:ext cx="22860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INSER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Employe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n the databas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H="1">
              <a:off x="4419360" y="2057400"/>
              <a:ext cx="1904760" cy="10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8" name=""/>
          <p:cNvGrpSpPr/>
          <p:nvPr/>
        </p:nvGrpSpPr>
        <p:grpSpPr>
          <a:xfrm>
            <a:off x="5486040" y="2971800"/>
            <a:ext cx="3353040" cy="2514600"/>
            <a:chOff x="5486040" y="2971800"/>
            <a:chExt cx="3353040" cy="2514600"/>
          </a:xfrm>
        </p:grpSpPr>
        <p:sp>
          <p:nvSpPr>
            <p:cNvPr id="159" name=""/>
            <p:cNvSpPr/>
            <p:nvPr/>
          </p:nvSpPr>
          <p:spPr>
            <a:xfrm flipH="1">
              <a:off x="5486040" y="3962520"/>
              <a:ext cx="213372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019920" y="2971800"/>
              <a:ext cx="281916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JB container invokes 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ejbPostCreat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fter invoking 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ejbCreat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perform required task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1" name=""/>
          <p:cNvGrpSpPr/>
          <p:nvPr/>
        </p:nvGrpSpPr>
        <p:grpSpPr>
          <a:xfrm>
            <a:off x="4876920" y="4495680"/>
            <a:ext cx="3962160" cy="1524240"/>
            <a:chOff x="4876920" y="4495680"/>
            <a:chExt cx="3962160" cy="1524240"/>
          </a:xfrm>
        </p:grpSpPr>
        <p:sp>
          <p:nvSpPr>
            <p:cNvPr id="162" name=""/>
            <p:cNvSpPr/>
            <p:nvPr/>
          </p:nvSpPr>
          <p:spPr>
            <a:xfrm>
              <a:off x="4876920" y="4495680"/>
              <a:ext cx="396216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n a client invokes interfac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EmployeeHom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remov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the EJB container invokes 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ejbRemov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 flipH="1">
              <a:off x="5181120" y="5334120"/>
              <a:ext cx="16765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15.3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mployeeEJB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mplementation of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mploye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emote interface using bean-managed persistence (part 5)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144-145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 151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 162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59436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2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DELETE Employee recor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5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get primary key of Employee to be remove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Integer primaryKey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( Integer ) entityContext.getPrimaryKey()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9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create DELETE statem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tring delete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DELETE FROM Employee WHERE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+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employeeID = ?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2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3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create PreparedStatement to perform DELET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PreparedStatement deleteStatement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connection.prepareStatement( delet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7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set values for PreparedStatem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deleteStatement.setIn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primaryKey.intValue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9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0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execute DELETE and close PreparedStatem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deleteStatement.executeUpdat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deleteStatement.clos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5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throw new EJBException if DELETE fail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SQLException sql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emoveException( sqlException.getMessage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ethod ejbRemov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1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tore Employee information in databas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jbStore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JBException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4723920" y="1981080"/>
            <a:ext cx="4039200" cy="1067400"/>
            <a:chOff x="4723920" y="1981080"/>
            <a:chExt cx="4039200" cy="1067400"/>
          </a:xfrm>
        </p:grpSpPr>
        <p:sp>
          <p:nvSpPr>
            <p:cNvPr id="167" name=""/>
            <p:cNvSpPr/>
            <p:nvPr/>
          </p:nvSpPr>
          <p:spPr>
            <a:xfrm>
              <a:off x="6477120" y="1981080"/>
              <a:ext cx="228600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reate a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repared-Stateme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DELET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Employe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from the databas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4723920" y="2514600"/>
              <a:ext cx="175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9" name=""/>
          <p:cNvGrpSpPr/>
          <p:nvPr/>
        </p:nvGrpSpPr>
        <p:grpSpPr>
          <a:xfrm>
            <a:off x="4419360" y="3505320"/>
            <a:ext cx="4267440" cy="580680"/>
            <a:chOff x="4419360" y="3505320"/>
            <a:chExt cx="4267440" cy="580680"/>
          </a:xfrm>
        </p:grpSpPr>
        <p:sp>
          <p:nvSpPr>
            <p:cNvPr id="170" name=""/>
            <p:cNvSpPr/>
            <p:nvPr/>
          </p:nvSpPr>
          <p:spPr>
            <a:xfrm>
              <a:off x="6400800" y="3505320"/>
              <a:ext cx="22860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DELET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Employe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from the databas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4419360" y="3809880"/>
              <a:ext cx="1981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2" name=""/>
          <p:cNvGrpSpPr/>
          <p:nvPr/>
        </p:nvGrpSpPr>
        <p:grpSpPr>
          <a:xfrm>
            <a:off x="4876920" y="5334120"/>
            <a:ext cx="3886200" cy="1067400"/>
            <a:chOff x="4876920" y="5334120"/>
            <a:chExt cx="3886200" cy="1067400"/>
          </a:xfrm>
        </p:grpSpPr>
        <p:sp>
          <p:nvSpPr>
            <p:cNvPr id="173" name=""/>
            <p:cNvSpPr/>
            <p:nvPr/>
          </p:nvSpPr>
          <p:spPr>
            <a:xfrm>
              <a:off x="6629400" y="5334120"/>
              <a:ext cx="213372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JB container invoke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ejbStor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sav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Employe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data in the databas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>
              <a:off x="4876920" y="5867280"/>
              <a:ext cx="175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15.3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mployeeEJB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mplementation of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mploye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emote interface using bean-managed persistence (part 6)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178-179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 190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4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UPDATE Employee recor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7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get primary key for Employee to be update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Integer primaryKey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( Integer ) entityContext.getPrimaryKey();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1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create UPDATE statem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tring update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UPDATE Employee SET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+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ocialSecurityNumber = ?, firstName = ?,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+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lastName = ?, title = ?, salary = ?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+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WHERE employeeID = ?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6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7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create PreparedStatement to perform UPDAT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PreparedStatement updateStatement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connection.prepareStatement( updat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1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set values in PreparedStatem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updateStatement.setString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socialSecurityNumber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updateStatement.setString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firstNam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updateStatement.setString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lastNam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updateStatement.setString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4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titl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updateStatement.setDoubl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salary.doubleValue()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updateStatement.setIn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6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primaryKey.intValue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8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9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execute UPDATE and close PreparedStatem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updateStatement.executeUpdat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updateStatement.clos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4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throw EJBException if UPDATE fail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SQLException sql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JBException( sqlException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ethod ejbStor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4723920" y="2438280"/>
            <a:ext cx="4191480" cy="1067400"/>
            <a:chOff x="4723920" y="2438280"/>
            <a:chExt cx="4191480" cy="1067400"/>
          </a:xfrm>
        </p:grpSpPr>
        <p:sp>
          <p:nvSpPr>
            <p:cNvPr id="178" name=""/>
            <p:cNvSpPr/>
            <p:nvPr/>
          </p:nvSpPr>
          <p:spPr>
            <a:xfrm>
              <a:off x="6477120" y="2438280"/>
              <a:ext cx="243828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reate a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repared-Stateme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UPDAT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Employe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nformation in the databas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flipH="1">
              <a:off x="4723920" y="2971800"/>
              <a:ext cx="175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4495320" y="4800600"/>
            <a:ext cx="4267800" cy="580680"/>
            <a:chOff x="4495320" y="4800600"/>
            <a:chExt cx="4267800" cy="580680"/>
          </a:xfrm>
        </p:grpSpPr>
        <p:sp>
          <p:nvSpPr>
            <p:cNvPr id="181" name=""/>
            <p:cNvSpPr/>
            <p:nvPr/>
          </p:nvSpPr>
          <p:spPr>
            <a:xfrm>
              <a:off x="6172200" y="4800600"/>
              <a:ext cx="259092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UPDAT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Employe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nformation in the databas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>
              <a:off x="4495320" y="5105520"/>
              <a:ext cx="1676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15.3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mployeeEJB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mplementation of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mploye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emote interface using bean-managed persistence (part 7)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 201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215-216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 222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75960" y="228240"/>
            <a:ext cx="6933960" cy="60958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0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load Employee information from databas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jbLoad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JBException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3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get Employee record from Employee database tabl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6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get primary key for Employee to be loade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Integer primaryKey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( Integer ) entityContext.getPrimaryKey();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9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0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create SELECT statem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tring select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ELECT * FROM Employee WHERE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+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employeeID = ?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4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create PreparedStatement for SELEC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PreparedStatement selectStatement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connection.prepareStatement( select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7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8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set employeeID value in PreparedStatem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electStatement.setIn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primaryKey.intValue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0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1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execute selectStatem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ResultSet resultSet = selectStatement.executeQuery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3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4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get Employee information from ResultSet and updat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5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local member variables to cache dat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resultSet.next()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7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8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// get employeeI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employeeID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nteger( resultSet.getInt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employeeID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1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4724280" y="228600"/>
            <a:ext cx="4191120" cy="1067400"/>
            <a:chOff x="4724280" y="228600"/>
            <a:chExt cx="4191120" cy="1067400"/>
          </a:xfrm>
        </p:grpSpPr>
        <p:sp>
          <p:nvSpPr>
            <p:cNvPr id="186" name=""/>
            <p:cNvSpPr/>
            <p:nvPr/>
          </p:nvSpPr>
          <p:spPr>
            <a:xfrm>
              <a:off x="6172200" y="228600"/>
              <a:ext cx="274320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JB container invoke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ejbLoad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copy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Employe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data from the database to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Employe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member variables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4724280" y="762120"/>
              <a:ext cx="1447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4723920" y="2209680"/>
            <a:ext cx="4191480" cy="1067400"/>
            <a:chOff x="4723920" y="2209680"/>
            <a:chExt cx="4191480" cy="1067400"/>
          </a:xfrm>
        </p:grpSpPr>
        <p:sp>
          <p:nvSpPr>
            <p:cNvPr id="189" name=""/>
            <p:cNvSpPr/>
            <p:nvPr/>
          </p:nvSpPr>
          <p:spPr>
            <a:xfrm>
              <a:off x="6477120" y="2209680"/>
              <a:ext cx="243828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reate a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repared-Stateme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SELEC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Employe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nformation in the databas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 flipH="1">
              <a:off x="4723920" y="2743200"/>
              <a:ext cx="175284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6400440" y="3581280"/>
            <a:ext cx="2591280" cy="914400"/>
            <a:chOff x="6400440" y="3581280"/>
            <a:chExt cx="2591280" cy="914400"/>
          </a:xfrm>
        </p:grpSpPr>
        <p:sp>
          <p:nvSpPr>
            <p:cNvPr id="192" name=""/>
            <p:cNvSpPr/>
            <p:nvPr/>
          </p:nvSpPr>
          <p:spPr>
            <a:xfrm flipH="1">
              <a:off x="6400440" y="4114800"/>
              <a:ext cx="16765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477120" y="3581280"/>
              <a:ext cx="25146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SELEC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Employe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nformation in the databas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15.3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mployeeEJB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mplementation of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mploye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emote interface using bean-managed persistence (part 8)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233-247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75960" y="228240"/>
            <a:ext cx="6933960" cy="61722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2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// get social-security numb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socialSecurityNumber = resultSet.getString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ocialSecurityNumber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5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6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// get first nam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firstName = resultSet.getString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firstNam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8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9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// get last nam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lastName = resultSet.getString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lastNam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1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2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// get job titl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title = resultSet.getString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itl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4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5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// get salar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salary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ouble( resultSet.getDouble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alary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if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0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ls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JBExceptio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No such employee.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4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close PreparedStatem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electStatement.clos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tr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9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throw EJBException if SELECT fail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SQLException sql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JBException( sqlException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ethod ejbLoa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96" name=""/>
          <p:cNvGrpSpPr/>
          <p:nvPr/>
        </p:nvGrpSpPr>
        <p:grpSpPr>
          <a:xfrm>
            <a:off x="5334120" y="609120"/>
            <a:ext cx="3581280" cy="2210400"/>
            <a:chOff x="5334120" y="609120"/>
            <a:chExt cx="3581280" cy="2210400"/>
          </a:xfrm>
        </p:grpSpPr>
        <p:sp>
          <p:nvSpPr>
            <p:cNvPr id="197" name=""/>
            <p:cNvSpPr/>
            <p:nvPr/>
          </p:nvSpPr>
          <p:spPr>
            <a:xfrm>
              <a:off x="7086600" y="990720"/>
              <a:ext cx="182880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tore database data i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Employe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member variabl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H="1" flipV="1">
              <a:off x="5715000" y="609120"/>
              <a:ext cx="137160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 flipV="1">
              <a:off x="6095880" y="1295280"/>
              <a:ext cx="99072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5334120" y="1371600"/>
              <a:ext cx="175248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>
              <a:off x="5866920" y="1371600"/>
              <a:ext cx="12193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H="1">
              <a:off x="5486040" y="1371600"/>
              <a:ext cx="1600200" cy="1447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15.3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mployeeEJB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mplementation of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mploye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emote interface using bean-managed persistence (part 9)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 266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273-284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5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find Employee using its primary ke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nteger ejbFindByPrimaryKey( Integer primaryKey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FinderException, EJBExcep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9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find Employee in databas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2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create SELECT statem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tring select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ELECT employeeID FROM Employee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+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WHERE employeeID = ?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6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create PreparedStatement for SELEC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PreparedStatement selectStatement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connection.prepareStatement( select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0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set employeeID value in PreparedStatem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electStatement.setIn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primaryKey.intValue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2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3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execute selectStatem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ResultSet resultSet = selectStatement.executeQuery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5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6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return primary key if SELECT returns a recor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resultSet.next()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9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// close resultSet and selectStatem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resultSet.clos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selectStatement.clos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imaryKey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6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throw ObjectNotFoundException if SELECT produc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7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no record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l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ObjectNotFoundException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4571640" y="228600"/>
            <a:ext cx="4420080" cy="1310760"/>
            <a:chOff x="4571640" y="228600"/>
            <a:chExt cx="4420080" cy="1310760"/>
          </a:xfrm>
        </p:grpSpPr>
        <p:sp>
          <p:nvSpPr>
            <p:cNvPr id="206" name=""/>
            <p:cNvSpPr/>
            <p:nvPr/>
          </p:nvSpPr>
          <p:spPr>
            <a:xfrm>
              <a:off x="6172200" y="228600"/>
              <a:ext cx="2819520" cy="1310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n a client invokes interfac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EmployeeHom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findByPrimaryKey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the EJB container invokes 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ejbFindByPrimaryKe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 flipH="1" flipV="1">
              <a:off x="4571640" y="685440"/>
              <a:ext cx="16002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8" name=""/>
          <p:cNvGrpSpPr/>
          <p:nvPr/>
        </p:nvGrpSpPr>
        <p:grpSpPr>
          <a:xfrm>
            <a:off x="4800600" y="1981080"/>
            <a:ext cx="4114800" cy="1676520"/>
            <a:chOff x="4800600" y="1981080"/>
            <a:chExt cx="4114800" cy="1676520"/>
          </a:xfrm>
        </p:grpSpPr>
        <p:sp>
          <p:nvSpPr>
            <p:cNvPr id="209" name=""/>
            <p:cNvSpPr/>
            <p:nvPr/>
          </p:nvSpPr>
          <p:spPr>
            <a:xfrm>
              <a:off x="6629400" y="2133720"/>
              <a:ext cx="228600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btain record from database via primary key an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SELEC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statem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 flipH="1" flipV="1">
              <a:off x="5791320" y="1981080"/>
              <a:ext cx="83808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 flipH="1">
              <a:off x="4800600" y="2514600"/>
              <a:ext cx="1828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flipH="1">
              <a:off x="6019560" y="2514600"/>
              <a:ext cx="60948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 flipH="1">
              <a:off x="6172200" y="2514600"/>
              <a:ext cx="45720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5.1   Introduction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tity EJB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bject-based representations of information-tier dat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.g., data stored in relational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We present two versions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monstrate entity EJB that uses JDBC to persis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monstrate how container manages data storage and retriev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15.3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mployeeEJB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mplementation of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mploye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emote interface using bean-managed persistence (part 10)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 309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317-322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75960" y="228240"/>
            <a:ext cx="6933960" cy="60958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2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throw EJBException if SELECT fail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SQLException sql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JBException( sqlException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ethod ejbFindByPrimaryKe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8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et EntityContext and create DataSource Connec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tEntityContext( EntityContext context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JBException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2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set entityContex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entityContext = contex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5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look up the Employee DataSource and create Connec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InitialContext initialContext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nitialContext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8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9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get DataSource reference from JNDI director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DataSource dataSource = ( DataSource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initialContext.lookup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java:comp/env/jdbc/Employe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3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4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get Connection from DataSour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onnection = dataSource.getConnection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8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handle exception if DataSource not found in director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NamingException naming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JBException( namingException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5181480" y="228600"/>
            <a:ext cx="3505320" cy="1676520"/>
            <a:chOff x="5181480" y="228600"/>
            <a:chExt cx="3505320" cy="1676520"/>
          </a:xfrm>
        </p:grpSpPr>
        <p:sp>
          <p:nvSpPr>
            <p:cNvPr id="217" name=""/>
            <p:cNvSpPr/>
            <p:nvPr/>
          </p:nvSpPr>
          <p:spPr>
            <a:xfrm flipH="1">
              <a:off x="5790960" y="1295280"/>
              <a:ext cx="1143000" cy="60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181480" y="228600"/>
              <a:ext cx="350532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JB container invokes 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set-EntityContex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fter the EJB is first created, but before the EJB is associated with a particular database record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5029200" y="3581280"/>
            <a:ext cx="3886200" cy="1143720"/>
            <a:chOff x="5029200" y="3581280"/>
            <a:chExt cx="3886200" cy="1143720"/>
          </a:xfrm>
        </p:grpSpPr>
        <p:sp>
          <p:nvSpPr>
            <p:cNvPr id="220" name=""/>
            <p:cNvSpPr/>
            <p:nvPr/>
          </p:nvSpPr>
          <p:spPr>
            <a:xfrm flipH="1">
              <a:off x="5029200" y="4191120"/>
              <a:ext cx="1447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477120" y="3657600"/>
              <a:ext cx="243828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Use JNDI name an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InitialContex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locat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Employe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database in JNDI director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 flipV="1">
              <a:off x="5867280" y="3581280"/>
              <a:ext cx="609840" cy="60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15.3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mployeeEJB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mplementation of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mploye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emote interface using bean-managed persistence (part 11)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 340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361-364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75960" y="228240"/>
            <a:ext cx="6933960" cy="60958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3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handle exception when getting Connection to DataSour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SQLException sql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JBException( sqlException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ethod setEntityContex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9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unset EntityContex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unsetEntityContext() throws EJBException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entityContext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4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lose DataSource Connec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onnection.clos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8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9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throw EJBException if closing Connection fail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SQLException sql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JBException( sqlException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3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4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prepare connection for reus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inall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onnection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0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et employeeID to null when container passivates EJB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jbPassivate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employeeID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5</a:t>
            </a:r>
            <a:r>
              <a:rPr b="0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5181120" y="533520"/>
            <a:ext cx="3734280" cy="990360"/>
            <a:chOff x="5181120" y="533520"/>
            <a:chExt cx="3734280" cy="990360"/>
          </a:xfrm>
        </p:grpSpPr>
        <p:sp>
          <p:nvSpPr>
            <p:cNvPr id="226" name=""/>
            <p:cNvSpPr/>
            <p:nvPr/>
          </p:nvSpPr>
          <p:spPr>
            <a:xfrm flipH="1">
              <a:off x="5181120" y="990720"/>
              <a:ext cx="83844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019920" y="533520"/>
              <a:ext cx="28954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JB container invokes 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unsetEntityContex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when EJB is no longer need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3276360" y="5486400"/>
            <a:ext cx="5410440" cy="824040"/>
            <a:chOff x="3276360" y="5486400"/>
            <a:chExt cx="5410440" cy="824040"/>
          </a:xfrm>
        </p:grpSpPr>
        <p:sp>
          <p:nvSpPr>
            <p:cNvPr id="229" name=""/>
            <p:cNvSpPr/>
            <p:nvPr/>
          </p:nvSpPr>
          <p:spPr>
            <a:xfrm flipH="1" flipV="1">
              <a:off x="3276360" y="5562720"/>
              <a:ext cx="251460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791320" y="5486400"/>
              <a:ext cx="28954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JB container invokes 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ejbPassivat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place active EJB back in inactive poo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15.3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mployeeEJB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mplementation of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mploye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emote interface using bean-managed persistence (part 12)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367-370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75960" y="228240"/>
            <a:ext cx="6933960" cy="11430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6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get primary key value when container activates EJB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jbActivate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employeeID = ( Integer ) entityContext.getPrimaryKey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3428640" y="1066320"/>
            <a:ext cx="4800960" cy="1129320"/>
            <a:chOff x="3428640" y="1066320"/>
            <a:chExt cx="4800960" cy="1129320"/>
          </a:xfrm>
        </p:grpSpPr>
        <p:sp>
          <p:nvSpPr>
            <p:cNvPr id="234" name=""/>
            <p:cNvSpPr/>
            <p:nvPr/>
          </p:nvSpPr>
          <p:spPr>
            <a:xfrm flipH="1" flipV="1">
              <a:off x="3428640" y="1066320"/>
              <a:ext cx="205740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486400" y="1371600"/>
              <a:ext cx="274320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JB container invokes 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ejbActivat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activate EJB from inactive poo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5.5.2   </a:t>
            </a:r>
            <a:r>
              <a:rPr b="1" lang="en-US" sz="3000" spc="-1" strike="noStrike">
                <a:solidFill>
                  <a:srgbClr val="ff3300"/>
                </a:solidFill>
                <a:latin typeface="Courier New"/>
              </a:rPr>
              <a:t>Employee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 EJB Deployment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ploying entity EJB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imilar to deploying session EJB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5.5.2   </a:t>
            </a:r>
            <a:r>
              <a:rPr b="1" lang="en-US" sz="3000" spc="-1" strike="noStrike">
                <a:solidFill>
                  <a:srgbClr val="ff3300"/>
                </a:solidFill>
                <a:latin typeface="Courier New"/>
              </a:rPr>
              <a:t>Employee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 EJB Deployment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pic>
        <p:nvPicPr>
          <p:cNvPr id="239" name="employee_deploy1" descr=""/>
          <p:cNvPicPr/>
          <p:nvPr/>
        </p:nvPicPr>
        <p:blipFill>
          <a:blip r:embed="rId1"/>
          <a:stretch/>
        </p:blipFill>
        <p:spPr>
          <a:xfrm>
            <a:off x="1523880" y="914400"/>
            <a:ext cx="6077160" cy="503388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/>
          <p:nvPr/>
        </p:nvSpPr>
        <p:spPr>
          <a:xfrm>
            <a:off x="1531800" y="6005520"/>
            <a:ext cx="5478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. 15.4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General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ialog of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New Enterprise Bean Wizar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5.5.2   </a:t>
            </a:r>
            <a:r>
              <a:rPr b="1" lang="en-US" sz="3000" spc="-1" strike="noStrike">
                <a:solidFill>
                  <a:srgbClr val="ff3300"/>
                </a:solidFill>
                <a:latin typeface="Courier New"/>
              </a:rPr>
              <a:t>Employee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 EJB Deployment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pic>
        <p:nvPicPr>
          <p:cNvPr id="242" name="employee_deploy2" descr=""/>
          <p:cNvPicPr/>
          <p:nvPr/>
        </p:nvPicPr>
        <p:blipFill>
          <a:blip r:embed="rId1"/>
          <a:stretch/>
        </p:blipFill>
        <p:spPr>
          <a:xfrm>
            <a:off x="1828800" y="1066680"/>
            <a:ext cx="5468760" cy="453096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>
            <a:off x="2595240" y="5700600"/>
            <a:ext cx="3780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. 15.5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Bean-Managed Persistenc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ed in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Entity Settings dialo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5.5.2   </a:t>
            </a:r>
            <a:r>
              <a:rPr b="1" lang="en-US" sz="3000" spc="-1" strike="noStrike">
                <a:solidFill>
                  <a:srgbClr val="ff3300"/>
                </a:solidFill>
                <a:latin typeface="Courier New"/>
              </a:rPr>
              <a:t>Employee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 EJB Deployment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pic>
        <p:nvPicPr>
          <p:cNvPr id="245" name="employee_deploy3" descr=""/>
          <p:cNvPicPr/>
          <p:nvPr/>
        </p:nvPicPr>
        <p:blipFill>
          <a:blip r:embed="rId1"/>
          <a:stretch/>
        </p:blipFill>
        <p:spPr>
          <a:xfrm>
            <a:off x="1828800" y="1143000"/>
            <a:ext cx="5543640" cy="45925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2903040" y="5853240"/>
            <a:ext cx="362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. 15.6   Resource Referen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dialog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New Enterprise Bean Wizar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5.6   </a:t>
            </a:r>
            <a:r>
              <a:rPr b="1" lang="en-US" sz="3000" spc="-1" strike="noStrike">
                <a:solidFill>
                  <a:srgbClr val="ff3300"/>
                </a:solidFill>
                <a:latin typeface="Courier New"/>
              </a:rPr>
              <a:t>Employee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 EJB with Container-Managed Persistence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Employe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EJ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e container-managed persisten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ify EJB implem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15.7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mployeeEJB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mplementation of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mploye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emote interface using container-managed persistence (part 1)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17-22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25-34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mployeeEJB.jav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mployeeEJB is an entity EJB that uses container-manage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ersistence to persist Employee data in a database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ejb.entity.cmp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core librari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rmi.RemoteExceptio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standard extension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ejb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mployeeEJB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lemen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ntityBean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ntityContext entityContex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container-managed field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nteger employeeID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socialSecurityNumbe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firstNam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lastNam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titl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ouble salary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get Employee I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nteger getEmployeeID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mployeeID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et social security numb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tSocialSecurityNumber( String number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ocialSecurityNumber = numbe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4266720" y="3124080"/>
            <a:ext cx="4191480" cy="1067400"/>
            <a:chOff x="4266720" y="3124080"/>
            <a:chExt cx="4191480" cy="1067400"/>
          </a:xfrm>
        </p:grpSpPr>
        <p:sp>
          <p:nvSpPr>
            <p:cNvPr id="252" name=""/>
            <p:cNvSpPr/>
            <p:nvPr/>
          </p:nvSpPr>
          <p:spPr>
            <a:xfrm flipH="1">
              <a:off x="4266720" y="3657600"/>
              <a:ext cx="1295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562720" y="3124080"/>
              <a:ext cx="289548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eclare container-managed fields (variables that container-managed persistence EJB uses to store data) for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Employe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EJB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2971800" y="4876920"/>
            <a:ext cx="5715000" cy="838080"/>
            <a:chOff x="2971800" y="4876920"/>
            <a:chExt cx="5715000" cy="838080"/>
          </a:xfrm>
        </p:grpSpPr>
        <p:sp>
          <p:nvSpPr>
            <p:cNvPr id="255" name=""/>
            <p:cNvSpPr/>
            <p:nvPr/>
          </p:nvSpPr>
          <p:spPr>
            <a:xfrm flipH="1">
              <a:off x="2971800" y="5181480"/>
              <a:ext cx="3581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6553080" y="4876920"/>
              <a:ext cx="213372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mplement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Employe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remote interfa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 flipH="1">
              <a:off x="5638680" y="5181480"/>
              <a:ext cx="91440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15.7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mployeeEJB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mplementation of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mploye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emote interface using container-managed persistence (part 2)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37-70</a:t>
            </a: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get social security numb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getSocialSecurityNumber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ocialSecurityNumbe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et first nam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tFirstName( String name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firstName = nam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get first nam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getFirstName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firstNam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et last nam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tLastName( String name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lastName = nam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get last nam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getLastName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lastNam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et titl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tTitle( String jobTitle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itle = jobTitl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3352680" y="685800"/>
            <a:ext cx="5486400" cy="5257800"/>
            <a:chOff x="3352680" y="685800"/>
            <a:chExt cx="5486400" cy="5257800"/>
          </a:xfrm>
        </p:grpSpPr>
        <p:sp>
          <p:nvSpPr>
            <p:cNvPr id="261" name=""/>
            <p:cNvSpPr/>
            <p:nvPr/>
          </p:nvSpPr>
          <p:spPr>
            <a:xfrm>
              <a:off x="6705720" y="3505320"/>
              <a:ext cx="213336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mplement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Employe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remote interfa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H="1">
              <a:off x="4419720" y="3809880"/>
              <a:ext cx="228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 flipH="1" flipV="1">
              <a:off x="4343400" y="685800"/>
              <a:ext cx="2362320" cy="3124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 flipH="1" flipV="1">
              <a:off x="4267080" y="1752120"/>
              <a:ext cx="243864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H="1" flipV="1">
              <a:off x="3505320" y="2819160"/>
              <a:ext cx="3200400" cy="99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>
              <a:off x="3352680" y="3809880"/>
              <a:ext cx="3353040" cy="106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flipH="1">
              <a:off x="4419720" y="3809880"/>
              <a:ext cx="2286000" cy="213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5.2   Entity EJB Overview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tity EJ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presents a particular unit of dat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.g., record in a database t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wo types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an-managed persist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ainer-managed persist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15.7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mployeeEJB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mplementation of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mploye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emote interface using container-managed persistence (part 3)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73-88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91-96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102-105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get titl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getTitle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itl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et salar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tSalary( Double amount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alary = amoun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get salar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ouble getSalary(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alary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create Employee instan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nteger ejbCreate( Integer primaryKey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employeeID = primaryKey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do post-creation tasks when creating Employe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jbPostCreate( Integer primaryKey ) {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1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et EntityContex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tEntityContext( EntityContext context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entityContext = contex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70" name=""/>
          <p:cNvGrpSpPr/>
          <p:nvPr/>
        </p:nvGrpSpPr>
        <p:grpSpPr>
          <a:xfrm>
            <a:off x="3123720" y="761760"/>
            <a:ext cx="5715360" cy="2133720"/>
            <a:chOff x="3123720" y="761760"/>
            <a:chExt cx="5715360" cy="2133720"/>
          </a:xfrm>
        </p:grpSpPr>
        <p:sp>
          <p:nvSpPr>
            <p:cNvPr id="271" name=""/>
            <p:cNvSpPr/>
            <p:nvPr/>
          </p:nvSpPr>
          <p:spPr>
            <a:xfrm>
              <a:off x="6705720" y="1523880"/>
              <a:ext cx="213336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mplement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Employe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remote interfa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H="1">
              <a:off x="4419720" y="1828800"/>
              <a:ext cx="228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>
              <a:off x="3200040" y="1828800"/>
              <a:ext cx="3505320" cy="10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3123720" y="761760"/>
              <a:ext cx="3581640" cy="10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5790960" y="5715000"/>
            <a:ext cx="3124440" cy="580680"/>
            <a:chOff x="5790960" y="5715000"/>
            <a:chExt cx="3124440" cy="580680"/>
          </a:xfrm>
        </p:grpSpPr>
        <p:sp>
          <p:nvSpPr>
            <p:cNvPr id="276" name=""/>
            <p:cNvSpPr/>
            <p:nvPr/>
          </p:nvSpPr>
          <p:spPr>
            <a:xfrm>
              <a:off x="6400800" y="5715000"/>
              <a:ext cx="25146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anag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EntityContex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member variab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 flipH="1">
              <a:off x="5790960" y="601992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"/>
          <p:cNvGrpSpPr/>
          <p:nvPr/>
        </p:nvGrpSpPr>
        <p:grpSpPr>
          <a:xfrm>
            <a:off x="4876560" y="3200400"/>
            <a:ext cx="3962520" cy="824040"/>
            <a:chOff x="4876560" y="3200400"/>
            <a:chExt cx="3962520" cy="824040"/>
          </a:xfrm>
        </p:grpSpPr>
        <p:sp>
          <p:nvSpPr>
            <p:cNvPr id="279" name=""/>
            <p:cNvSpPr/>
            <p:nvPr/>
          </p:nvSpPr>
          <p:spPr>
            <a:xfrm>
              <a:off x="5486400" y="3200400"/>
              <a:ext cx="33526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JB container execute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SQL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INSER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statement (supplied by deployer) after 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ejbCreat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omplet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 flipH="1">
              <a:off x="4876560" y="35812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15.7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mployeeEJB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mplementation of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mploye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emote interface using container-managed persistence (part 4)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108-111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114-123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75960" y="228240"/>
            <a:ext cx="6933960" cy="5257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7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unset EntityContex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unsetEntityContext(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entityContext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3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activate Employee instan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jbActivate(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employeeID = ( Integer ) entityContext.getPrimaryKey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9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passivate Employee instan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jbPassivate(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employeeID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5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load Employee instance in databas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void ejbLoad() {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8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tore Employee instance in databas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void ejbStore() {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1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remove Employee instance from databas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void ejbRemove() {}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83" name=""/>
          <p:cNvGrpSpPr/>
          <p:nvPr/>
        </p:nvGrpSpPr>
        <p:grpSpPr>
          <a:xfrm>
            <a:off x="3886200" y="380880"/>
            <a:ext cx="4267080" cy="580680"/>
            <a:chOff x="3886200" y="380880"/>
            <a:chExt cx="4267080" cy="580680"/>
          </a:xfrm>
        </p:grpSpPr>
        <p:sp>
          <p:nvSpPr>
            <p:cNvPr id="284" name=""/>
            <p:cNvSpPr/>
            <p:nvPr/>
          </p:nvSpPr>
          <p:spPr>
            <a:xfrm>
              <a:off x="5638680" y="380880"/>
              <a:ext cx="25146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anag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EntityContex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member variab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H="1">
              <a:off x="3886200" y="685800"/>
              <a:ext cx="175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6" name=""/>
          <p:cNvGrpSpPr/>
          <p:nvPr/>
        </p:nvGrpSpPr>
        <p:grpSpPr>
          <a:xfrm>
            <a:off x="3200400" y="1447920"/>
            <a:ext cx="5638680" cy="1447560"/>
            <a:chOff x="3200400" y="1447920"/>
            <a:chExt cx="5638680" cy="1447560"/>
          </a:xfrm>
        </p:grpSpPr>
        <p:sp>
          <p:nvSpPr>
            <p:cNvPr id="287" name=""/>
            <p:cNvSpPr/>
            <p:nvPr/>
          </p:nvSpPr>
          <p:spPr>
            <a:xfrm>
              <a:off x="6477120" y="1447920"/>
              <a:ext cx="236196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erform same functions as those in bean-managed persistence vers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flipH="1">
              <a:off x="3200400" y="1828800"/>
              <a:ext cx="3276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 flipH="1">
              <a:off x="3276720" y="1828800"/>
              <a:ext cx="3200400" cy="10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5.6   </a:t>
            </a:r>
            <a:r>
              <a:rPr b="1" lang="en-US" sz="3000" spc="-1" strike="noStrike">
                <a:solidFill>
                  <a:srgbClr val="ff3300"/>
                </a:solidFill>
                <a:latin typeface="Courier New"/>
              </a:rPr>
              <a:t>Employee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 EJB with Container-Managed Persistence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pic>
        <p:nvPicPr>
          <p:cNvPr id="291" name="employee_deploy4" descr=""/>
          <p:cNvPicPr/>
          <p:nvPr/>
        </p:nvPicPr>
        <p:blipFill>
          <a:blip r:embed="rId1"/>
          <a:stretch/>
        </p:blipFill>
        <p:spPr>
          <a:xfrm>
            <a:off x="1676520" y="1143000"/>
            <a:ext cx="5771880" cy="4780080"/>
          </a:xfrm>
          <a:prstGeom prst="rect">
            <a:avLst/>
          </a:prstGeom>
          <a:ln w="0">
            <a:noFill/>
          </a:ln>
        </p:spPr>
      </p:pic>
      <p:sp>
        <p:nvSpPr>
          <p:cNvPr id="292" name=""/>
          <p:cNvSpPr/>
          <p:nvPr/>
        </p:nvSpPr>
        <p:spPr>
          <a:xfrm>
            <a:off x="1080360" y="6019920"/>
            <a:ext cx="7262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. 15.8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ontainer-Managed Persistenc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lected in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Entity Settings dialo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5.7   </a:t>
            </a:r>
            <a:r>
              <a:rPr b="1" lang="en-US" sz="3000" spc="-1" strike="noStrike">
                <a:solidFill>
                  <a:srgbClr val="ff3300"/>
                </a:solidFill>
                <a:latin typeface="Courier New"/>
              </a:rPr>
              <a:t>Employee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 EJB Client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ass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EmployeeEJBCli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teracts with entity EJB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mploye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GUI provide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JButton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nding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mploye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EJB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ding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mploye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EJB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dating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mploye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EJB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leting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mploye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EJB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GUI provide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JTextField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ing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mploye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form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15.9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mployeeEJB-Clien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or interacting with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mploye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JB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part 1)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 22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mployeeEJBClient.jav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mployeeEJBClient is a user interface for interacting wit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bean- and container-managed persistence Employee EJBs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ejb.entity.clien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core librari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awt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awt.event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text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util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rmi.RemoteExceptio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standard extension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swing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ejb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naming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rmi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itel librari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ejb.entity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mployeeEJBClient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xtend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Frame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variables for accessing EJB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nitialContext initialContex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mployeeHome employeeHom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mployee currentEmploye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JTextFields for user inpu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TextField employeeIDTextField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TextField socialSecurityTextField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TextField firstNameTextField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TextField lastNameTextField;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TextField titleTextField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TextField salaryTextField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97" name=""/>
          <p:cNvGrpSpPr/>
          <p:nvPr/>
        </p:nvGrpSpPr>
        <p:grpSpPr>
          <a:xfrm>
            <a:off x="4800600" y="2895480"/>
            <a:ext cx="3581280" cy="1143000"/>
            <a:chOff x="4800600" y="2895480"/>
            <a:chExt cx="3581280" cy="1143000"/>
          </a:xfrm>
        </p:grpSpPr>
        <p:sp>
          <p:nvSpPr>
            <p:cNvPr id="298" name=""/>
            <p:cNvSpPr/>
            <p:nvPr/>
          </p:nvSpPr>
          <p:spPr>
            <a:xfrm>
              <a:off x="6095880" y="2895480"/>
              <a:ext cx="228600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GUI for finding, adding, updating and removing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Employe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EJB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H="1">
              <a:off x="4800600" y="3276720"/>
              <a:ext cx="1295280" cy="76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15.9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mployeeEJB-Clien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or interacting with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mploye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JB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part 2)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47-56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BMPEmployeeEJBClient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mployeeEJBClient( String JNDIName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up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Employee EJB Clien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user interfa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reateGUI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get EmployeeHome reference for Employee EJB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initialContext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nitialContext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look up Employee EJB using given JNDI nam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Object homeObject =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initialContext.lookup( JNDINam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get EmployeeHome interfa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employeeHome = ( EmployeeHome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PortableRemoteObject.narrow(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homeObject, EmployeeHome.class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handle exception when looking up Employee EJB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NamingException naming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namingException.printStackTrace( System.err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3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lose application when user closes window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etDefaultCloseOperation( EXIT_ON_CLOS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set size of application window and make it visibl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etSiz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6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etVisibl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u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4343040" y="2362320"/>
            <a:ext cx="4572360" cy="1447560"/>
            <a:chOff x="4343040" y="2362320"/>
            <a:chExt cx="4572360" cy="1447560"/>
          </a:xfrm>
        </p:grpSpPr>
        <p:sp>
          <p:nvSpPr>
            <p:cNvPr id="303" name=""/>
            <p:cNvSpPr/>
            <p:nvPr/>
          </p:nvSpPr>
          <p:spPr>
            <a:xfrm>
              <a:off x="6400800" y="2362320"/>
              <a:ext cx="251460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Us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InitialContex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look up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Employe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EJB using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JNDINam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rgum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flipH="1">
              <a:off x="4876560" y="2743200"/>
              <a:ext cx="15238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H="1" flipV="1">
              <a:off x="4952880" y="2362320"/>
              <a:ext cx="14479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4343040" y="2743200"/>
              <a:ext cx="2057400" cy="10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15.9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mployeeEJB-Clien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or interacting with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mploye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JB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part 3)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76-77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99-100</a:t>
            </a: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end EmployeeEJBClient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prompt user for employeeI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nteger getEmployeeID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tring primaryKeyString = JOptionPane.showInputDialog(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i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Please enter an employeeID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8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heck if primaryKeyString is null, else retur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Integ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primaryKeyString =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l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nteger( primaryKeyString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get Employee reference for user-supplied employeeI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etEmployee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prompt user for employeeID and get Employee referen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Integer employeeID = getEmployeeID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2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return if employeeID is nul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employeeID =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6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find Employee with given employeeI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Employee employee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employeeHome.findByPrimaryKey( employeeID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1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2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update display with current Employe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etCurrentEmployee( employee );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5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5181480" y="380880"/>
            <a:ext cx="3657600" cy="762120"/>
            <a:chOff x="5181480" y="380880"/>
            <a:chExt cx="3657600" cy="762120"/>
          </a:xfrm>
        </p:grpSpPr>
        <p:sp>
          <p:nvSpPr>
            <p:cNvPr id="310" name=""/>
            <p:cNvSpPr/>
            <p:nvPr/>
          </p:nvSpPr>
          <p:spPr>
            <a:xfrm>
              <a:off x="6095880" y="380880"/>
              <a:ext cx="27432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isplay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JOptionPan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prompt user for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employeeI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5181480" y="685800"/>
              <a:ext cx="9144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2" name=""/>
          <p:cNvGrpSpPr/>
          <p:nvPr/>
        </p:nvGrpSpPr>
        <p:grpSpPr>
          <a:xfrm>
            <a:off x="4952880" y="4495680"/>
            <a:ext cx="3886200" cy="1067400"/>
            <a:chOff x="4952880" y="4495680"/>
            <a:chExt cx="3886200" cy="1067400"/>
          </a:xfrm>
        </p:grpSpPr>
        <p:sp>
          <p:nvSpPr>
            <p:cNvPr id="313" name=""/>
            <p:cNvSpPr/>
            <p:nvPr/>
          </p:nvSpPr>
          <p:spPr>
            <a:xfrm>
              <a:off x="5867280" y="4495680"/>
              <a:ext cx="297180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Us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EmployeeHom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findByPrimaryKey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locat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Employe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EJB for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Employe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with give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employeeI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4952880" y="5029200"/>
              <a:ext cx="91440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15.9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mployeeEJB-Clien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or interacting with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mploye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JB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part 4)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 133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75960" y="228240"/>
            <a:ext cx="6933960" cy="60958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6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handle exception when finding Employe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RemoteException remote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JOptionPane.showMessageDialog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EmployeeEJBClient.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i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remoteException.getMessage() )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2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3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handle exception when finding Employe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FinderException finder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JOptionPane.showMessageDialog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EmployeeEJBClient.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i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Employee not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+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found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+ finderException.getMessage() )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ethod getEmploye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1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add new Employee by creating Employee EJB instan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ddEmployee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4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prompt user for employeeID and create Employe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Integer employeeID = getEmployeeID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7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8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return if employeeID nul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employeeID =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1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2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create new Employe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Employee employee = employeeHome.create( employeeID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4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5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update display with new Employe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etCurrentEmployee( employe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8</a:t>
            </a:r>
            <a:r>
              <a:rPr b="0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17" name=""/>
          <p:cNvGrpSpPr/>
          <p:nvPr/>
        </p:nvGrpSpPr>
        <p:grpSpPr>
          <a:xfrm>
            <a:off x="4952880" y="4114800"/>
            <a:ext cx="3962520" cy="1066680"/>
            <a:chOff x="4952880" y="4114800"/>
            <a:chExt cx="3962520" cy="1066680"/>
          </a:xfrm>
        </p:grpSpPr>
        <p:sp>
          <p:nvSpPr>
            <p:cNvPr id="318" name=""/>
            <p:cNvSpPr/>
            <p:nvPr/>
          </p:nvSpPr>
          <p:spPr>
            <a:xfrm>
              <a:off x="5486400" y="4114800"/>
              <a:ext cx="342900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Us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EmployeeHom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creat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creat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Employe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EJB for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Employe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with give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employeeI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flipH="1">
              <a:off x="4952880" y="4572000"/>
              <a:ext cx="53352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15.9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mployeeEJB-Clien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or interacting with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mploye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JB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part 5)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159-171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9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handle exception when creating Employe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CreateException create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JOptionPane.showMessageDialog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i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createException.getMessage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4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5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handle exception when creating Employe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RemoteException remote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JOptionPane.showMessageDialog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i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remoteException.getMessage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ethod addEmploye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2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update current Employee with user-supplied inform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updateEmployee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5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get information from JTextFields and update Employe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8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set Employee socialSecurityNumb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urrentEmployee.setSocialSecurityNumber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socialSecurityTextField.getText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2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set Employee firstNam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urrentEmployee.setFirstName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firstNameTextField.getText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6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set Employee lastNam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urrentEmployee.setLastName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lastNameTextField.getText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0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set Employee titl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urrentEmployee.setTitle( titleTextField.getText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2</a:t>
            </a:r>
            <a:r>
              <a:rPr b="0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22" name=""/>
          <p:cNvGrpSpPr/>
          <p:nvPr/>
        </p:nvGrpSpPr>
        <p:grpSpPr>
          <a:xfrm>
            <a:off x="4343040" y="4190760"/>
            <a:ext cx="4496040" cy="1905120"/>
            <a:chOff x="4343040" y="4190760"/>
            <a:chExt cx="4496040" cy="1905120"/>
          </a:xfrm>
        </p:grpSpPr>
        <p:sp>
          <p:nvSpPr>
            <p:cNvPr id="323" name=""/>
            <p:cNvSpPr/>
            <p:nvPr/>
          </p:nvSpPr>
          <p:spPr>
            <a:xfrm>
              <a:off x="5867280" y="4419720"/>
              <a:ext cx="297180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Use values provided i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JTextField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 to update current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Employe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’s inform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H="1">
              <a:off x="5029200" y="4800600"/>
              <a:ext cx="83808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 flipH="1" flipV="1">
              <a:off x="5105520" y="4190760"/>
              <a:ext cx="76176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H="1">
              <a:off x="4495680" y="4800600"/>
              <a:ext cx="137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>
              <a:off x="4343040" y="4800600"/>
              <a:ext cx="152388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15.9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mployeeEJB-Clien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or interacting with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mploye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JB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part 6)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187-191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3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set Employee salar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Double salary = new Double( salaryTextField.getText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urrentEmployee.setSalary( salary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tr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9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handle exception invoking Employee business method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RemoteException remote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JOptionPane.showMessageDialog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i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remoteException.getMessage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ethod updateEmploye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6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delete current Employe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eleteEmployee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9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remove current Employee EJB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urrentEmployee.remov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3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clear JTextField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employeeIDTextField.setTex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ocialSecurityTextField.setTex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firstNameTextField.setTex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lastNameTextField.setTex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titleTextField.setTex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alaryTextField.setTex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tr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3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handle exception when removing Employe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RemoteException remote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JOptionPane.showMessageDialog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i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remoteException.getMessage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30" name=""/>
          <p:cNvGrpSpPr/>
          <p:nvPr/>
        </p:nvGrpSpPr>
        <p:grpSpPr>
          <a:xfrm>
            <a:off x="3657600" y="2514600"/>
            <a:ext cx="4876920" cy="1143000"/>
            <a:chOff x="3657600" y="2514600"/>
            <a:chExt cx="4876920" cy="1143000"/>
          </a:xfrm>
        </p:grpSpPr>
        <p:sp>
          <p:nvSpPr>
            <p:cNvPr id="331" name=""/>
            <p:cNvSpPr/>
            <p:nvPr/>
          </p:nvSpPr>
          <p:spPr>
            <a:xfrm>
              <a:off x="5562720" y="2514600"/>
              <a:ext cx="297180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elete current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Employe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from data by invoking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Employe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EJB 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remov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 flipH="1">
              <a:off x="3657600" y="2895480"/>
              <a:ext cx="1905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>
              <a:off x="3809520" y="2895480"/>
              <a:ext cx="175284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5.3   </a:t>
            </a:r>
            <a:r>
              <a:rPr b="1" lang="en-US" sz="3000" spc="-1" strike="noStrike">
                <a:solidFill>
                  <a:srgbClr val="ff3300"/>
                </a:solidFill>
                <a:latin typeface="Courier New"/>
              </a:rPr>
              <a:t>Employee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 Entity EJB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ild EJB that represents and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Employ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wo implementa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an-managed persist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ainer-managed persist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15.9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mployeeEJB-Clien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or interacting with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mploye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JB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part 7)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 217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224-240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9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handle exception when removing Employe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RemoveException remove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JOptionPane.showMessageDialog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i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removeException.getMessage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ethod deleteEmploye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6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update display with current Employee inform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tCurrentEmployee( Employee employee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9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get information for currentEmployee and update displa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urrentEmployee = employe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3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get the employeeI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Integer employeeID = ( Integer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currentEmployee.getEmployeeID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7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update displa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employeeIDTextField.setText( employeeID.toString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0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set socialSecurityNumber in displa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ocialSecurityTextField.setText(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currentEmployee.getSocialSecurityNumber() );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4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set firstName in displa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firstNameTextField.setText(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currentEmployee.getFirstName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8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set lastName in displa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lastNameTextField.setText(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currentEmployee.getLastName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36" name=""/>
          <p:cNvGrpSpPr/>
          <p:nvPr/>
        </p:nvGrpSpPr>
        <p:grpSpPr>
          <a:xfrm>
            <a:off x="5638680" y="762120"/>
            <a:ext cx="3048120" cy="1143000"/>
            <a:chOff x="5638680" y="762120"/>
            <a:chExt cx="3048120" cy="1143000"/>
          </a:xfrm>
        </p:grpSpPr>
        <p:sp>
          <p:nvSpPr>
            <p:cNvPr id="337" name=""/>
            <p:cNvSpPr/>
            <p:nvPr/>
          </p:nvSpPr>
          <p:spPr>
            <a:xfrm flipH="1">
              <a:off x="5714640" y="1295280"/>
              <a:ext cx="1219320" cy="60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5638680" y="762120"/>
              <a:ext cx="304812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Utility method to update GUI information from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Employe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EJ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9" name=""/>
          <p:cNvGrpSpPr/>
          <p:nvPr/>
        </p:nvGrpSpPr>
        <p:grpSpPr>
          <a:xfrm>
            <a:off x="4724280" y="3505320"/>
            <a:ext cx="4191120" cy="2590560"/>
            <a:chOff x="4724280" y="3505320"/>
            <a:chExt cx="4191120" cy="2590560"/>
          </a:xfrm>
        </p:grpSpPr>
        <p:sp>
          <p:nvSpPr>
            <p:cNvPr id="340" name=""/>
            <p:cNvSpPr/>
            <p:nvPr/>
          </p:nvSpPr>
          <p:spPr>
            <a:xfrm flipH="1">
              <a:off x="4724280" y="3962520"/>
              <a:ext cx="2362320" cy="213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H="1">
              <a:off x="4800600" y="3962520"/>
              <a:ext cx="2286000" cy="1447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 flipH="1" flipV="1">
              <a:off x="4724280" y="3505320"/>
              <a:ext cx="236232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H="1">
              <a:off x="6324120" y="3962520"/>
              <a:ext cx="76212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H="1">
              <a:off x="5715000" y="3962520"/>
              <a:ext cx="137160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7086600" y="3505320"/>
              <a:ext cx="182880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trieve values for each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Employe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property and updat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JTextField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15.9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mployeeEJB-Clien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or interacting with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mploye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JB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part 8)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243-258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 269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59436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2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set title in displa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titleTextField.setText( currentEmployee.getTitle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5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get Employee salar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Double salary = (Double) currentEmployee.getSalary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8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ensure salary is not null and update displa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salary !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NumberFormat dollarFormatter =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NumberFormat.getCurrencyInstance(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Locale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U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3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salaryTextField.setText( dollarFormatter.format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salary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ls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salaryTextField.setTex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tr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1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handle exception invoking Employee business method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RemoteException remote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JOptionPane.showMessageDialog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i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remoteException.getMessage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ethod setCurrentEmploye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8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create the application GUI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reateGUI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1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JPanel for Employee form componen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JPanel formPanel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Panel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ridLayou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6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48" name=""/>
          <p:cNvGrpSpPr/>
          <p:nvPr/>
        </p:nvGrpSpPr>
        <p:grpSpPr>
          <a:xfrm>
            <a:off x="5105160" y="685440"/>
            <a:ext cx="3886560" cy="1753560"/>
            <a:chOff x="5105160" y="685440"/>
            <a:chExt cx="3886560" cy="1753560"/>
          </a:xfrm>
        </p:grpSpPr>
        <p:sp>
          <p:nvSpPr>
            <p:cNvPr id="349" name=""/>
            <p:cNvSpPr/>
            <p:nvPr/>
          </p:nvSpPr>
          <p:spPr>
            <a:xfrm>
              <a:off x="7162920" y="1371600"/>
              <a:ext cx="182880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trieve values for each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Employe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property and updat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JTextField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 flipH="1" flipV="1">
              <a:off x="6248520" y="685440"/>
              <a:ext cx="91440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 flipH="1" flipV="1">
              <a:off x="6172200" y="1218960"/>
              <a:ext cx="9907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 flipH="1">
              <a:off x="5105160" y="1905120"/>
              <a:ext cx="2057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 flipH="1">
              <a:off x="5791320" y="1905120"/>
              <a:ext cx="137160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4" name=""/>
          <p:cNvGrpSpPr/>
          <p:nvPr/>
        </p:nvGrpSpPr>
        <p:grpSpPr>
          <a:xfrm>
            <a:off x="3200040" y="4952880"/>
            <a:ext cx="5639040" cy="580680"/>
            <a:chOff x="3200040" y="4952880"/>
            <a:chExt cx="5639040" cy="580680"/>
          </a:xfrm>
        </p:grpSpPr>
        <p:sp>
          <p:nvSpPr>
            <p:cNvPr id="355" name=""/>
            <p:cNvSpPr/>
            <p:nvPr/>
          </p:nvSpPr>
          <p:spPr>
            <a:xfrm>
              <a:off x="6553080" y="4952880"/>
              <a:ext cx="22860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uild user interface for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EmployeeEJBCli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 flipH="1">
              <a:off x="3200040" y="5257800"/>
              <a:ext cx="3352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15.9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mployeeEJB-Clien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or interacting with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mploye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JB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part 9)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275-303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4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read-only JTextField for employeeID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employeeIDTextField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TextField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employeeIDTextField.setEditabl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al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formPanel.add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Label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Employee ID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formPanel.add( employeeIDTextField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0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JTextField and JLabel for social security #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ocialSecurityTextField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TextField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formPanel.add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Label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ocial Security #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formPanel.add( socialSecurityTextField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5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JTextField and JLabel for first nam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firstNameTextField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TextField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formPanel.add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Label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First Nam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formPanel.add( firstNameTextField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9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0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JTextField and JLabel for last nam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lastNameTextField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TextField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formPanel.add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Label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Last Nam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formPanel.add( lastNameTextField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4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5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JTextField and JLabel for job titl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itleTextField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TextField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formPanel.add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Label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itl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formPanel.add( titleTextField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0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JTextField and JLabel for salar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alaryTextField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TextField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formPanel.add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Label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alary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formPanel.add( salaryTextField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5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add formPanel to the JFrame's contentPan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ntainer contentPane = getContentPan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ntentPane.add( formPanel, BorderLayout.CENTER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59" name=""/>
          <p:cNvGrpSpPr/>
          <p:nvPr/>
        </p:nvGrpSpPr>
        <p:grpSpPr>
          <a:xfrm>
            <a:off x="4723920" y="990720"/>
            <a:ext cx="4191480" cy="4419360"/>
            <a:chOff x="4723920" y="990720"/>
            <a:chExt cx="4191480" cy="4419360"/>
          </a:xfrm>
        </p:grpSpPr>
        <p:sp>
          <p:nvSpPr>
            <p:cNvPr id="360" name=""/>
            <p:cNvSpPr/>
            <p:nvPr/>
          </p:nvSpPr>
          <p:spPr>
            <a:xfrm>
              <a:off x="6781680" y="2286000"/>
              <a:ext cx="213372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reat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JTextField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 an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JLabel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 for each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Employe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H="1">
              <a:off x="5257440" y="274320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 flipH="1" flipV="1">
              <a:off x="5562720" y="1980720"/>
              <a:ext cx="121896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H="1" flipV="1">
              <a:off x="5333760" y="990720"/>
              <a:ext cx="144756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H="1">
              <a:off x="4876560" y="2743200"/>
              <a:ext cx="1904760" cy="2666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>
              <a:off x="5181120" y="2743200"/>
              <a:ext cx="160020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>
              <a:off x="4723920" y="2743200"/>
              <a:ext cx="205740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15.9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mployeeEJB-Clien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or interacting with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mploye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JB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part 10)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313-324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327-337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340-350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9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JPanel for JButton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JPanel employeeButtonPanel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Panel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FlowLayout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3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JButton for adding Employe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JButton addButton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Butto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Add Employe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addButton.addActionListener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ctionListener(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ctionPerformed( ActionEvent event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addEmploye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);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employeeButtonPanel.add( addButton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6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JButton for saving Employee inform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JButton saveButton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Butto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ave Changes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aveButton.addActionListener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ctionListener(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ctionPerformed( ActionEvent event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updateEmploye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employeeButtonPanel.add( saveButton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9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JButton for deleting Employe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JButton deleteButton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Butto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Delete Employe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deleteButton.addActionListener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ctionListener(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5790960" y="990720"/>
            <a:ext cx="3124440" cy="580680"/>
            <a:chOff x="5790960" y="990720"/>
            <a:chExt cx="3124440" cy="580680"/>
          </a:xfrm>
        </p:grpSpPr>
        <p:sp>
          <p:nvSpPr>
            <p:cNvPr id="370" name=""/>
            <p:cNvSpPr/>
            <p:nvPr/>
          </p:nvSpPr>
          <p:spPr>
            <a:xfrm>
              <a:off x="6324480" y="990720"/>
              <a:ext cx="259092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reat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JButto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for adding new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Employe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EJB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>
              <a:off x="5790960" y="1295280"/>
              <a:ext cx="533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2" name=""/>
          <p:cNvGrpSpPr/>
          <p:nvPr/>
        </p:nvGrpSpPr>
        <p:grpSpPr>
          <a:xfrm>
            <a:off x="5866920" y="3276720"/>
            <a:ext cx="3048480" cy="580680"/>
            <a:chOff x="5866920" y="3276720"/>
            <a:chExt cx="3048480" cy="580680"/>
          </a:xfrm>
        </p:grpSpPr>
        <p:sp>
          <p:nvSpPr>
            <p:cNvPr id="373" name=""/>
            <p:cNvSpPr/>
            <p:nvPr/>
          </p:nvSpPr>
          <p:spPr>
            <a:xfrm>
              <a:off x="6553080" y="3276720"/>
              <a:ext cx="236232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reat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JButto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for updating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Employe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EJB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 flipH="1">
              <a:off x="5866920" y="358128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"/>
          <p:cNvGrpSpPr/>
          <p:nvPr/>
        </p:nvGrpSpPr>
        <p:grpSpPr>
          <a:xfrm>
            <a:off x="5943240" y="5181480"/>
            <a:ext cx="3048480" cy="685800"/>
            <a:chOff x="5943240" y="5181480"/>
            <a:chExt cx="3048480" cy="685800"/>
          </a:xfrm>
        </p:grpSpPr>
        <p:sp>
          <p:nvSpPr>
            <p:cNvPr id="376" name=""/>
            <p:cNvSpPr/>
            <p:nvPr/>
          </p:nvSpPr>
          <p:spPr>
            <a:xfrm>
              <a:off x="6553080" y="5181480"/>
              <a:ext cx="24386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reat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JButto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for removing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Employe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EJB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 flipH="1">
              <a:off x="5943240" y="5486400"/>
              <a:ext cx="60948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15.9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mployeeEJB-Clien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or interacting with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mploye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JB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part 11)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353-363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ctionPerformed( ActionEvent event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deleteEmploye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employeeButtonPanel.add( deleteButton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2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JButton for finding existing Employe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JButton findButton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Butto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Find Employe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findButton.addActionListener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ctionListener(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ctionPerformed( ActionEvent event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getEmploye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employeeButtonPanel.add( findButton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5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add employeeButtonPanel to JFrame's contentPan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ntentPane.add( employeeButtonPanel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BorderLayout.NORTH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ethod createGUI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0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1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execute applic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tat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 String[] args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4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ensure user provided JNDI name for Employee EJB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args.length !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ystem.err.println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Usage: java EmployeeEJBClient &lt;JNDI Name&gt;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ystem.exi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80" name=""/>
          <p:cNvGrpSpPr/>
          <p:nvPr/>
        </p:nvGrpSpPr>
        <p:grpSpPr>
          <a:xfrm>
            <a:off x="6019560" y="1676520"/>
            <a:ext cx="2895840" cy="580680"/>
            <a:chOff x="6019560" y="1676520"/>
            <a:chExt cx="2895840" cy="580680"/>
          </a:xfrm>
        </p:grpSpPr>
        <p:sp>
          <p:nvSpPr>
            <p:cNvPr id="381" name=""/>
            <p:cNvSpPr/>
            <p:nvPr/>
          </p:nvSpPr>
          <p:spPr>
            <a:xfrm>
              <a:off x="6629400" y="1676520"/>
              <a:ext cx="22860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reat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JButto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for finding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Employe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EJB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 flipH="1">
              <a:off x="6019560" y="198108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15.9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mployeeEJB-Clien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or interacting with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mploye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JB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part 12).</a:t>
            </a: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13716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0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1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start application using provided JNDI nam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ls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mployeeEJBClient( args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385" name="employeeclient_a" descr=""/>
          <p:cNvPicPr/>
          <p:nvPr/>
        </p:nvPicPr>
        <p:blipFill>
          <a:blip r:embed="rId1"/>
          <a:stretch/>
        </p:blipFill>
        <p:spPr>
          <a:xfrm>
            <a:off x="1981080" y="1905120"/>
            <a:ext cx="2810160" cy="1199880"/>
          </a:xfrm>
          <a:prstGeom prst="rect">
            <a:avLst/>
          </a:prstGeom>
          <a:ln w="0">
            <a:noFill/>
          </a:ln>
        </p:spPr>
      </p:pic>
      <p:pic>
        <p:nvPicPr>
          <p:cNvPr id="386" name="employeeclient_b" descr=""/>
          <p:cNvPicPr/>
          <p:nvPr/>
        </p:nvPicPr>
        <p:blipFill>
          <a:blip r:embed="rId2"/>
          <a:stretch/>
        </p:blipFill>
        <p:spPr>
          <a:xfrm>
            <a:off x="685800" y="3276720"/>
            <a:ext cx="571644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15.9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mployeeEJB-Clien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or interacting with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mploye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JB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part 13).</a:t>
            </a: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8" name="employeeclient_c" descr=""/>
          <p:cNvPicPr/>
          <p:nvPr/>
        </p:nvPicPr>
        <p:blipFill>
          <a:blip r:embed="rId1"/>
          <a:stretch/>
        </p:blipFill>
        <p:spPr>
          <a:xfrm>
            <a:off x="1981080" y="1066680"/>
            <a:ext cx="2810160" cy="1200240"/>
          </a:xfrm>
          <a:prstGeom prst="rect">
            <a:avLst/>
          </a:prstGeom>
          <a:ln w="0">
            <a:noFill/>
          </a:ln>
        </p:spPr>
      </p:pic>
      <p:pic>
        <p:nvPicPr>
          <p:cNvPr id="389" name="employeeclient_d" descr=""/>
          <p:cNvPicPr/>
          <p:nvPr/>
        </p:nvPicPr>
        <p:blipFill>
          <a:blip r:embed="rId2"/>
          <a:stretch/>
        </p:blipFill>
        <p:spPr>
          <a:xfrm>
            <a:off x="762120" y="2895480"/>
            <a:ext cx="571644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5.4   </a:t>
            </a:r>
            <a:r>
              <a:rPr b="1" lang="en-US" sz="3000" spc="-1" strike="noStrike">
                <a:solidFill>
                  <a:srgbClr val="ff3300"/>
                </a:solidFill>
                <a:latin typeface="Courier New"/>
              </a:rPr>
              <a:t>Employee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 EJB Home and Remote Interface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JB home inte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cludes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create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ethods and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finder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ethod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JB remote inte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cludes methods, such as for setting and getting inform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15.1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mploye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emote interface for setting and getting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mploye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nformation (part 1)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 11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14-33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mployee.jav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mployee is the remote interface for the Address EJB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ejb.entity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core librari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rmi.RemoteExceptio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standard extension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ejb.EJBObjec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erfac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mployee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xtend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JBObject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get Employee I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nteger getEmployeeID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emoteExceptio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et social security numb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tSocialSecurityNumber( String number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emoteExceptio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get social security numb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getSocialSecurityNumber(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emoteExceptio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et first nam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tFirstName( String name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emoteExceptio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get first nam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getFirstName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emoteExceptio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et last nam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tLastName( String name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emoteExceptio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4495680" y="990720"/>
            <a:ext cx="3505320" cy="1066680"/>
            <a:chOff x="4495680" y="990720"/>
            <a:chExt cx="3505320" cy="1066680"/>
          </a:xfrm>
        </p:grpSpPr>
        <p:sp>
          <p:nvSpPr>
            <p:cNvPr id="100" name=""/>
            <p:cNvSpPr/>
            <p:nvPr/>
          </p:nvSpPr>
          <p:spPr>
            <a:xfrm>
              <a:off x="5867280" y="990720"/>
              <a:ext cx="213372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ll EJB remote interfaces must extend interfac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EJBObjec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>
              <a:off x="4495680" y="1371600"/>
              <a:ext cx="137160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4419360" y="2819520"/>
            <a:ext cx="4419720" cy="3124080"/>
            <a:chOff x="4419360" y="2819520"/>
            <a:chExt cx="4419720" cy="3124080"/>
          </a:xfrm>
        </p:grpSpPr>
        <p:sp>
          <p:nvSpPr>
            <p:cNvPr id="103" name=""/>
            <p:cNvSpPr/>
            <p:nvPr/>
          </p:nvSpPr>
          <p:spPr>
            <a:xfrm>
              <a:off x="6324480" y="3733920"/>
              <a:ext cx="251460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terfac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Employe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provides access methods for each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Employe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proper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 flipH="1">
              <a:off x="4419360" y="4191120"/>
              <a:ext cx="190476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flipH="1">
              <a:off x="4495680" y="4191120"/>
              <a:ext cx="182880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 flipH="1">
              <a:off x="4495680" y="4191120"/>
              <a:ext cx="182880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 flipH="1" flipV="1">
              <a:off x="4495680" y="4038480"/>
              <a:ext cx="182880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 flipV="1">
              <a:off x="5105520" y="3352320"/>
              <a:ext cx="1218960" cy="83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 flipH="1" flipV="1">
              <a:off x="5790960" y="2819520"/>
              <a:ext cx="533160" cy="137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15.1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mploye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emote interface for setting and getting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mploye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nformation (part 2)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36-49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75960" y="228240"/>
            <a:ext cx="6933960" cy="30481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get last nam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getLastName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emoteExceptio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et titl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tTitle( String title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emoteExceptio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get titl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getTitle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emoteExceptio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et salar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tSalary( Double salary 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emoteExceptio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get salar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ouble getSalary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emoteExceptio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91120" y="609480"/>
            <a:ext cx="4724280" cy="2210040"/>
            <a:chOff x="4191120" y="609480"/>
            <a:chExt cx="4724280" cy="2210040"/>
          </a:xfrm>
        </p:grpSpPr>
        <p:sp>
          <p:nvSpPr>
            <p:cNvPr id="113" name=""/>
            <p:cNvSpPr/>
            <p:nvPr/>
          </p:nvSpPr>
          <p:spPr>
            <a:xfrm>
              <a:off x="6400800" y="1143000"/>
              <a:ext cx="251460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terfac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Employe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provides access methods for each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Employe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proper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4876560" y="1600200"/>
              <a:ext cx="152388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 flipH="1">
              <a:off x="4876560" y="1600200"/>
              <a:ext cx="152388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flipH="1">
              <a:off x="5333760" y="1600200"/>
              <a:ext cx="10666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 flipV="1">
              <a:off x="4191120" y="1143000"/>
              <a:ext cx="220968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 flipV="1">
              <a:off x="5257440" y="609480"/>
              <a:ext cx="114300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15.2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mployeeHom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interface for finding and creating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mploye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JBs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 12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15-20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75960" y="228240"/>
            <a:ext cx="6933960" cy="39625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mployeeHome.jav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mployeeHome is the home interface for the Employee EJB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ejb.entity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core librari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rmi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util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standard extension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ejb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erfac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mployeeHome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xtend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JBHome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find Employee with given primary ke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mployee findByPrimaryKey( Integer primaryKey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emoteException, FinderExceptio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create Employee EJB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mployee create( Integer primaryKey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emoteException, CreateExceptio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4495680" y="1219320"/>
            <a:ext cx="3505320" cy="1066680"/>
            <a:chOff x="4495680" y="1219320"/>
            <a:chExt cx="3505320" cy="1066680"/>
          </a:xfrm>
        </p:grpSpPr>
        <p:sp>
          <p:nvSpPr>
            <p:cNvPr id="122" name=""/>
            <p:cNvSpPr/>
            <p:nvPr/>
          </p:nvSpPr>
          <p:spPr>
            <a:xfrm>
              <a:off x="5867280" y="1219320"/>
              <a:ext cx="213372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ll EJB home interfaces must extend interfac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EJBHom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flipH="1">
              <a:off x="4495680" y="1600200"/>
              <a:ext cx="137160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" name=""/>
          <p:cNvGrpSpPr/>
          <p:nvPr/>
        </p:nvGrpSpPr>
        <p:grpSpPr>
          <a:xfrm>
            <a:off x="4876920" y="3047760"/>
            <a:ext cx="3962160" cy="885600"/>
            <a:chOff x="4876920" y="3047760"/>
            <a:chExt cx="3962160" cy="885600"/>
          </a:xfrm>
        </p:grpSpPr>
        <p:sp>
          <p:nvSpPr>
            <p:cNvPr id="125" name=""/>
            <p:cNvSpPr/>
            <p:nvPr/>
          </p:nvSpPr>
          <p:spPr>
            <a:xfrm>
              <a:off x="5638680" y="3352680"/>
              <a:ext cx="32004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terfac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EmployeeHom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provides finder and create method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 flipH="1">
              <a:off x="4952520" y="365760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 flipH="1" flipV="1">
              <a:off x="4876920" y="3047760"/>
              <a:ext cx="76176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5.5   </a:t>
            </a:r>
            <a:r>
              <a:rPr b="1" lang="en-US" sz="3000" spc="-1" strike="noStrike">
                <a:solidFill>
                  <a:srgbClr val="ff3300"/>
                </a:solidFill>
                <a:latin typeface="Courier New"/>
              </a:rPr>
              <a:t>Employee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 EJB with Bean-Managed Persistence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Employe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EJ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Bean-managed persisten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JDBC to stor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mploye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data in an underlying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ploying the EJ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09T15:53:05Z</dcterms:created>
  <dc:creator>Jonathan Gadzik</dc:creator>
  <dc:description/>
  <dc:language>en-US</dc:language>
  <cp:lastModifiedBy>gadzik</cp:lastModifiedBy>
  <dcterms:modified xsi:type="dcterms:W3CDTF">2002-01-30T15:13:50Z</dcterms:modified>
  <cp:revision>88</cp:revision>
  <dc:subject/>
  <dc:title>Chapter 15: Entity EJBs</dc:title>
</cp:coreProperties>
</file>