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5E79D-C1E1-44C1-8B3F-B592112C5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F5E28-05F0-47C8-AA3E-A38A82FE0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B073-A724-4AB5-BCA1-27E4002C4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CE8EA-1DEE-4381-83E1-F22DC25052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D5203-2B2C-4A29-B609-54E526A877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B40C5-658E-4245-9F7B-1A8FB87DEF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4DA10-EBBC-4A13-AF01-A2773A070F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C3107-99F6-4FDD-8D1C-4F982F731F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2DAF5-B50C-4FD3-B6B9-F653D20338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5773E-80D2-4008-BC58-B99CE0CF63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AD6FA-2A46-4738-B5B2-21A429615B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FAA0-943E-400D-82D4-B8B1DFE7D8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8C2EE-1962-4D10-8175-3B7A53E251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EA518-2175-41C6-A25E-BD18DEAFCA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F91F8-4D7F-4644-8910-D42AA03EBD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12FED-58BC-40DA-BD36-C95082B8CF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93053-7CD2-4A7C-A384-87FA0387F7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C26D6-5343-4151-ADD4-EDDD3D31F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B9C8E-2F78-4D39-A091-522847214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1593D-429A-417E-A649-7CDDE30E4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81613-BE15-4546-AB05-EF5D97909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D6BD2-A64E-4C8D-85B9-01BEF50A6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78ECB-AF0A-4375-801A-159A74C60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A4A6B-C88A-4DFD-93F3-4439F2EAD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2C45-0BA9-4E4B-921E-6541AC50E1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02F8-1834-41F8-B18F-71DBD11F2E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3: Remote Method Invocation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Creating a Distributed System with RMI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fining the Remote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mplementing the Remote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mpiling and Executing the Server and the Cli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Deitel Messenger with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ctivatabl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Serve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6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ctivatabl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Deitel Messenger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hatServe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6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itel Messenger Client Architecture and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6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unning the Deitel Messenger Server and Client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pplica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et and World Wide Web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 WeatherServiceImpl class implements remote interface WeatherServic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7-11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2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2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other exce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plementation for WeatherService interface remote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 getWeatherInformation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Informa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WeatherService remot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itializing WeatherService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remot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atherService servic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erviceImp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pecify remote objec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serverObject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mi://localhost/Weather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ind WeatherService remote object in RMI regis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ing.rebind( serverObjectName, servi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atherService running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657600" y="1905120"/>
            <a:ext cx="3047760" cy="824040"/>
            <a:chOff x="3657600" y="1905120"/>
            <a:chExt cx="3047760" cy="824040"/>
          </a:xfrm>
        </p:grpSpPr>
        <p:sp>
          <p:nvSpPr>
            <p:cNvPr id="141" name=""/>
            <p:cNvSpPr/>
            <p:nvPr/>
          </p:nvSpPr>
          <p:spPr>
            <a:xfrm>
              <a:off x="4309200" y="1905120"/>
              <a:ext cx="2396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ing method defined in interface to respond to remote reque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657600" y="2209680"/>
              <a:ext cx="65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629400" y="4038480"/>
            <a:ext cx="2286000" cy="1310760"/>
            <a:chOff x="6629400" y="4038480"/>
            <a:chExt cx="2286000" cy="1310760"/>
          </a:xfrm>
        </p:grpSpPr>
        <p:sp>
          <p:nvSpPr>
            <p:cNvPr id="144" name=""/>
            <p:cNvSpPr/>
            <p:nvPr/>
          </p:nvSpPr>
          <p:spPr>
            <a:xfrm>
              <a:off x="7117560" y="4038480"/>
              <a:ext cx="17978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R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a client can use to obtain a remote reference to the server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6629400" y="434340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181120" y="4648320"/>
            <a:ext cx="3657600" cy="1310760"/>
            <a:chOff x="5181120" y="4648320"/>
            <a:chExt cx="3657600" cy="1310760"/>
          </a:xfrm>
        </p:grpSpPr>
        <p:sp>
          <p:nvSpPr>
            <p:cNvPr id="147" name=""/>
            <p:cNvSpPr/>
            <p:nvPr/>
          </p:nvSpPr>
          <p:spPr>
            <a:xfrm>
              <a:off x="5963400" y="4648320"/>
              <a:ext cx="28753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bi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bind the remot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therServiceImp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service to the RMI registry with the specified UR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181120" y="4952880"/>
              <a:ext cx="78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3 WeatherBean stores weather forecast for one cit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5-4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Bean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Bean maintains weather information for one cit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rmi.weath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Bea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ityName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ame of c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emperature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ity's temperatu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description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 image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ies imageNames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imageNames when class WeatherBea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 loaded into mem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Nam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ies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properties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ad weather descriptions and image names from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perties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btain URL for properties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RL url = WeatherBean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Resourc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names.properti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257800" y="5867280"/>
            <a:ext cx="3733560" cy="824040"/>
            <a:chOff x="5257800" y="5867280"/>
            <a:chExt cx="3733560" cy="824040"/>
          </a:xfrm>
        </p:grpSpPr>
        <p:sp>
          <p:nvSpPr>
            <p:cNvPr id="152" name=""/>
            <p:cNvSpPr/>
            <p:nvPr/>
          </p:nvSpPr>
          <p:spPr>
            <a:xfrm>
              <a:off x="6055920" y="5867280"/>
              <a:ext cx="2935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ad a property file that contains image names for displaying the weather inform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5257800" y="6172200"/>
              <a:ext cx="80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3 WeatherBean stores weather forecast for one cit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ad properties file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Names.loa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InputStream( url.getFil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exceptions from opening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static blo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atherBean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Bean( String city, String weatherDescriptio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cityTemperatur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tyName = cit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erature = cityTemperatur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scription = weatherDescription.tri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RL url = WeatherBean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Names.getProperty( description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info.jp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weather image name or noinfo.jpg if weath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scription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ity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CityNam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tyNam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3 WeatherBean stores weather forecast for one cit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emperatu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Temperatur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mperatur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weather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Descriptio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scription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weather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 getImag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4 WeatherServiceClient client for WeatherService remote objec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7-2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1-3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ServiceClient.jav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ServiceClient uses the WeatherService remot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retrieve weather inform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rmi.weath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erviceClien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atherServiceCli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erviceClient( String serv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MI WeatherService Cli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server and get weather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name of remote server object bound to rmi regis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remote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mi:/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server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WeatherServ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okup WeatherServiceImpl remot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eatherService weatherServic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WeatherService ) Naming.lookup( remote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weather information from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 weatherInforma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eatherService.getWeatherInformation(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781680" y="4267080"/>
            <a:ext cx="1981440" cy="1067400"/>
            <a:chOff x="6781680" y="4267080"/>
            <a:chExt cx="1981440" cy="1067400"/>
          </a:xfrm>
        </p:grpSpPr>
        <p:sp>
          <p:nvSpPr>
            <p:cNvPr id="161" name=""/>
            <p:cNvSpPr/>
            <p:nvPr/>
          </p:nvSpPr>
          <p:spPr>
            <a:xfrm>
              <a:off x="7205400" y="4267080"/>
              <a:ext cx="15577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contains the URL for this remote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781680" y="4572000"/>
              <a:ext cx="42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486400" y="4800600"/>
            <a:ext cx="3200040" cy="1310760"/>
            <a:chOff x="5486400" y="4800600"/>
            <a:chExt cx="3200040" cy="1310760"/>
          </a:xfrm>
        </p:grpSpPr>
        <p:sp>
          <p:nvSpPr>
            <p:cNvPr id="164" name=""/>
            <p:cNvSpPr/>
            <p:nvPr/>
          </p:nvSpPr>
          <p:spPr>
            <a:xfrm>
              <a:off x="6170400" y="4800600"/>
              <a:ext cx="25160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a remote referenc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therServi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te object at the specified UR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486400" y="510552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647960" y="5562720"/>
            <a:ext cx="3886560" cy="824040"/>
            <a:chOff x="4647960" y="5562720"/>
            <a:chExt cx="3886560" cy="824040"/>
          </a:xfrm>
        </p:grpSpPr>
        <p:sp>
          <p:nvSpPr>
            <p:cNvPr id="167" name=""/>
            <p:cNvSpPr/>
            <p:nvPr/>
          </p:nvSpPr>
          <p:spPr>
            <a:xfrm>
              <a:off x="5480640" y="5562720"/>
              <a:ext cx="3053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remot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WeatherInform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therServi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te refere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647960" y="586728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4 WeatherServiceClient client for WeatherService remote objec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5-3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WeatherListModel for weather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Model weatherList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ListModel( weatherInform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List, set ListCellRenderer and add to layo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List weatherJLis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ist( weatherList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eatherJList.setCellRender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CellRenderer()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ontentPane()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weatherJLis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onnecting to remote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nnectException connection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nection to server failed.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 may be temporarily unavailabl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s communicating with remot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eatherServiceCli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WeatherService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atherServiceClient cli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no sever IP address or host name specified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 "localhost"; otherwise use specified ho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erviceCli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ho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028840" y="228600"/>
            <a:ext cx="3581280" cy="824040"/>
            <a:chOff x="5028840" y="228600"/>
            <a:chExt cx="3581280" cy="824040"/>
          </a:xfrm>
        </p:grpSpPr>
        <p:sp>
          <p:nvSpPr>
            <p:cNvPr id="172" name=""/>
            <p:cNvSpPr/>
            <p:nvPr/>
          </p:nvSpPr>
          <p:spPr>
            <a:xfrm>
              <a:off x="5796000" y="228600"/>
              <a:ext cx="2814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therLis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facilitate displaying the weather information in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5028840" y="53352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705720" y="1143000"/>
            <a:ext cx="2285640" cy="824040"/>
            <a:chOff x="6705720" y="1143000"/>
            <a:chExt cx="2285640" cy="824040"/>
          </a:xfrm>
        </p:grpSpPr>
        <p:sp>
          <p:nvSpPr>
            <p:cNvPr id="175" name=""/>
            <p:cNvSpPr/>
            <p:nvPr/>
          </p:nvSpPr>
          <p:spPr>
            <a:xfrm>
              <a:off x="7194240" y="1143000"/>
              <a:ext cx="1797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stCellRender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705720" y="14479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638320" y="5105520"/>
            <a:ext cx="3353400" cy="1295280"/>
            <a:chOff x="5638320" y="5105520"/>
            <a:chExt cx="3353400" cy="1295280"/>
          </a:xfrm>
        </p:grpSpPr>
        <p:sp>
          <p:nvSpPr>
            <p:cNvPr id="178" name=""/>
            <p:cNvSpPr/>
            <p:nvPr/>
          </p:nvSpPr>
          <p:spPr>
            <a:xfrm>
              <a:off x="6477120" y="5105520"/>
              <a:ext cx="251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therService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connects to an RMI registry running on localho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638320" y="5715000"/>
              <a:ext cx="8384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4 WeatherServiceClient client for WeatherService remote objec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981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erviceClient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figure and display application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DefaultCloseOperation( JFram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pack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Resiz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5 WeatherListModel is a ListModel implementation for storing weather inform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ListMode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ListModel extends AbstractListModel to provide 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Model for storing a List of WeatherBea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rmi.weath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AbstractList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ListMod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ListModel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ist of elements in Lis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 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o-argument WeatherListMode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ListMode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List for WeatherBea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atherListMode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ListModel( List elementLis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 = element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ize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iz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.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5 WeatherListModel is a ListModel implementation for storing weather inform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Object reference to element at given inde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 getElementA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dex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.get( inde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element to WeatherLis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( Object elem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.add( ele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eIntervalAdd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ist.size(), list.siz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element from WeatherLis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( Object elem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dex = list.indexOf( ele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dex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.remove( ele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reIntervalRemov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index, inde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remov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all elements from WeatherLis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ea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original size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= list.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lear all elements from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.cle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5 WeatherListModel is a ListModel implementation for storing weather inform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838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otify listeners that content chang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eContentsChang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iz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te Procedure Calls (RP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 functions residing on another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unicate over a net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rshal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mited data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an interface definition language (ID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te Method Invocation (RM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’s implementation of RP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ndle the marshaling of data across the net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fer Java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IDL is requi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6 WeatherCellRenderer is a custom ListCellRenderer for displaying WeatherBeans in a JLis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CellRender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CellRenderer is a custom ListCellRenderer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Beans in a JLis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rmi.weath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CellRender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ListCellRender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s a WeatherItem object that displays city's weat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ponent getListCellRendererComponent( JList lis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 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de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Selected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cu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Item( ( WeatherBean )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7 WeatherItem displays weather information for one cit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2-2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Item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Item displays a city's weather information in a JPanel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rmi.weath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Item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Bean weatherBean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weather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ackground ImageIc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 backgroundIm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tic initializer block loads background image when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atherItem is loaded into mem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URL for background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RL url = WeatherItem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back.jpg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ackground image for each city's weather inf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ckgroundIma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a WeatherIte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Item( WeatherBean bea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atherBean = bea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495680" y="3886200"/>
            <a:ext cx="4038480" cy="1067400"/>
            <a:chOff x="4495680" y="3886200"/>
            <a:chExt cx="4038480" cy="1067400"/>
          </a:xfrm>
        </p:grpSpPr>
        <p:sp>
          <p:nvSpPr>
            <p:cNvPr id="193" name=""/>
            <p:cNvSpPr/>
            <p:nvPr/>
          </p:nvSpPr>
          <p:spPr>
            <a:xfrm>
              <a:off x="5358960" y="3886200"/>
              <a:ext cx="3175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static block load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ageIc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ckground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o memory when the virtual machine load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therIte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lass itself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4495680" y="4191120"/>
              <a:ext cx="86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7 WeatherItem displays weather information for one cit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8-5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information for city's weat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intComponent( Graphics 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paintComponent( 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backgr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ckgroundImage.paintIc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g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font and drawing color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en display city name and temperatu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nt fo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nsSer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Fon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OL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.setFont( fo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.setColor( Colo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h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.drawString( weatherBean.getCityName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.drawString( weatherBean.getTemperature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weather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atherBean.getImage().paintIc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g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aintCompon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ake WeatherItem's preferred size the width and height o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background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Preferred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backgroundImage.getIconWidth(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ackgroundImage.getIconHeigh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647960" y="457200"/>
            <a:ext cx="3886560" cy="824040"/>
            <a:chOff x="4647960" y="457200"/>
            <a:chExt cx="3886560" cy="824040"/>
          </a:xfrm>
        </p:grpSpPr>
        <p:sp>
          <p:nvSpPr>
            <p:cNvPr id="198" name=""/>
            <p:cNvSpPr/>
            <p:nvPr/>
          </p:nvSpPr>
          <p:spPr>
            <a:xfrm>
              <a:off x="5480640" y="457200"/>
              <a:ext cx="3053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w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ckground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the city name, the temperature and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ther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ageIc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647960" y="76212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5 Compiling and Executing the Server and the Cli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 the remote object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te a stub class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m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mpi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he RMI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atherServiceImp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atherServiceCli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20_06" descr=""/>
          <p:cNvPicPr/>
          <p:nvPr/>
        </p:nvPicPr>
        <p:blipFill>
          <a:blip r:embed="rId1"/>
          <a:stretch/>
        </p:blipFill>
        <p:spPr>
          <a:xfrm>
            <a:off x="1371600" y="2743200"/>
            <a:ext cx="6364440" cy="762120"/>
          </a:xfrm>
          <a:prstGeom prst="rect">
            <a:avLst/>
          </a:prstGeom>
          <a:ln w="0">
            <a:noFill/>
          </a:ln>
        </p:spPr>
      </p:pic>
      <p:pic>
        <p:nvPicPr>
          <p:cNvPr id="203" name="20_07" descr=""/>
          <p:cNvPicPr/>
          <p:nvPr/>
        </p:nvPicPr>
        <p:blipFill>
          <a:blip r:embed="rId2"/>
          <a:stretch/>
        </p:blipFill>
        <p:spPr>
          <a:xfrm>
            <a:off x="1295280" y="4343400"/>
            <a:ext cx="63644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5 Compiling and Executing the Server Client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05" name="20_08" descr=""/>
          <p:cNvPicPr/>
          <p:nvPr/>
        </p:nvPicPr>
        <p:blipFill>
          <a:blip r:embed="rId1"/>
          <a:stretch/>
        </p:blipFill>
        <p:spPr>
          <a:xfrm>
            <a:off x="3019320" y="2138400"/>
            <a:ext cx="3105360" cy="2581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139840" y="5257800"/>
            <a:ext cx="52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3.1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atherServiceCli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plication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6 Case Study: Deitel Messenger with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ctivatabl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Serv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RM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 continuously on the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able RM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voked by cli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sist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MI activation daemon (rmi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6 Case Study: Deitel Messenger with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ctivatabl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Sever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6.1 Activatable Deitel Messenger ChatServ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te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able remote object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ty program for registering and unregistering remot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2 ChatServer remote interface for Deitel Messenger chat server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6-1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0-2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4-2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Serv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Server is a remote interface that defines how a clie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gisters for a chat, leaves a chat and posts chat messag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Chat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client.Chat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gister new ChatClient with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gisterClient( ChatClient cli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nregister ChatClient with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registerClient( ChatClient cli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ost new message to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tMessage( ChatMessage mess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724280" y="2209680"/>
            <a:ext cx="4190760" cy="824040"/>
            <a:chOff x="4724280" y="2209680"/>
            <a:chExt cx="4190760" cy="824040"/>
          </a:xfrm>
        </p:grpSpPr>
        <p:sp>
          <p:nvSpPr>
            <p:cNvPr id="217" name=""/>
            <p:cNvSpPr/>
            <p:nvPr/>
          </p:nvSpPr>
          <p:spPr>
            <a:xfrm>
              <a:off x="5621760" y="2209680"/>
              <a:ext cx="3293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s that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xtends interface Remote, which RMI requires for all remote interf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4724280" y="2514600"/>
              <a:ext cx="8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257800" y="2743200"/>
            <a:ext cx="3733560" cy="824040"/>
            <a:chOff x="5257800" y="2743200"/>
            <a:chExt cx="3733560" cy="824040"/>
          </a:xfrm>
        </p:grpSpPr>
        <p:sp>
          <p:nvSpPr>
            <p:cNvPr id="220" name=""/>
            <p:cNvSpPr/>
            <p:nvPr/>
          </p:nvSpPr>
          <p:spPr>
            <a:xfrm>
              <a:off x="6055920" y="2743200"/>
              <a:ext cx="2935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rt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gister with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take part in the chat sess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257800" y="3048120"/>
              <a:ext cx="80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410080" y="3505320"/>
            <a:ext cx="3200040" cy="824040"/>
            <a:chOff x="5410080" y="3505320"/>
            <a:chExt cx="3200040" cy="824040"/>
          </a:xfrm>
        </p:grpSpPr>
        <p:sp>
          <p:nvSpPr>
            <p:cNvPr id="223" name=""/>
            <p:cNvSpPr/>
            <p:nvPr/>
          </p:nvSpPr>
          <p:spPr>
            <a:xfrm>
              <a:off x="6094080" y="3505320"/>
              <a:ext cx="2516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s clients to remove themselves from the chat sess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410080" y="380988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181480" y="4267080"/>
            <a:ext cx="3276360" cy="580680"/>
            <a:chOff x="5181480" y="4267080"/>
            <a:chExt cx="3276360" cy="580680"/>
          </a:xfrm>
        </p:grpSpPr>
        <p:sp>
          <p:nvSpPr>
            <p:cNvPr id="226" name=""/>
            <p:cNvSpPr/>
            <p:nvPr/>
          </p:nvSpPr>
          <p:spPr>
            <a:xfrm>
              <a:off x="5880960" y="4267080"/>
              <a:ext cx="257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s clients to post new messages to the chat sess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5181480" y="4572000"/>
              <a:ext cx="70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3 StoppableChatServer remote interface for stopping a ChatServer remote objec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oppableChatServ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oppableChatServer is a remote interface that provides 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chansim to terminate the chat serv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pableChatServ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op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Serv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2 Case Study: Creating a Distributed System with RMI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 distributed system with R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a remote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the remove object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the client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 and execute the remove object and the cli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4 ChatServerImpl implementation of remote interfaces ChatServer and StoppableChatServer as Activatable remote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ServerImp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ServerImpl implements the ChatServer remote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provide an RMI-based chat serv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activation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serv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egist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Chat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client.Chat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Imp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vatabl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, StoppableChatServ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of ChatClient refere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 client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Se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rver object's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erverObjec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hatServerImp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Impl( ActivationID id, MarshalledObject data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// register activatable object and export on anonymous po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id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267080" y="4038480"/>
            <a:ext cx="4190760" cy="580680"/>
            <a:chOff x="4267080" y="4038480"/>
            <a:chExt cx="4190760" cy="580680"/>
          </a:xfrm>
        </p:grpSpPr>
        <p:sp>
          <p:nvSpPr>
            <p:cNvPr id="233" name=""/>
            <p:cNvSpPr/>
            <p:nvPr/>
          </p:nvSpPr>
          <p:spPr>
            <a:xfrm>
              <a:off x="5164560" y="4038480"/>
              <a:ext cx="3293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Set for maintaining remote references to registere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267080" y="4343400"/>
              <a:ext cx="8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742840" y="5867280"/>
            <a:ext cx="3809880" cy="580680"/>
            <a:chOff x="2742840" y="5867280"/>
            <a:chExt cx="3809880" cy="580680"/>
          </a:xfrm>
        </p:grpSpPr>
        <p:sp>
          <p:nvSpPr>
            <p:cNvPr id="236" name=""/>
            <p:cNvSpPr/>
            <p:nvPr/>
          </p:nvSpPr>
          <p:spPr>
            <a:xfrm>
              <a:off x="3557520" y="5867280"/>
              <a:ext cx="2995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the superclass constructor to complete activ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742840" y="6172200"/>
              <a:ext cx="81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4 ChatServerImpl implementation of remote interfaces ChatServer and StoppableChatServer as Activatable remote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2-4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2-5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gister ChatServerImpl object with RMI registr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gister( String rmiName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llegalArgumentException, MalformedURL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sure registration name was provid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miName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gistration name cannot be nul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erObjectName = rmi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ind ChatServerImpl object to RMI regis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RMI regis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ating registry 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gistry registry 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cateRegistry.createRegistr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bind RMI object to default RMI regis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nding server to registry 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gistry.rebind( serverObjectNam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registry already exists, bind to existing regis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moteException remote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gistry already exists.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nding to existing registry 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.rebind( serverObjectNam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 bound to regist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regis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724280" y="1143000"/>
            <a:ext cx="4267080" cy="824040"/>
            <a:chOff x="4724280" y="1143000"/>
            <a:chExt cx="4267080" cy="824040"/>
          </a:xfrm>
        </p:grpSpPr>
        <p:sp>
          <p:nvSpPr>
            <p:cNvPr id="241" name=""/>
            <p:cNvSpPr/>
            <p:nvPr/>
          </p:nvSpPr>
          <p:spPr>
            <a:xfrm>
              <a:off x="5636520" y="1143000"/>
              <a:ext cx="33548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row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llegalArgument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the provided name for the remote object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ul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724280" y="1447920"/>
              <a:ext cx="91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571640" y="2971800"/>
            <a:ext cx="4496040" cy="824040"/>
            <a:chOff x="4571640" y="2971800"/>
            <a:chExt cx="4496040" cy="824040"/>
          </a:xfrm>
        </p:grpSpPr>
        <p:sp>
          <p:nvSpPr>
            <p:cNvPr id="244" name=""/>
            <p:cNvSpPr/>
            <p:nvPr/>
          </p:nvSpPr>
          <p:spPr>
            <a:xfrm>
              <a:off x="5334120" y="2971800"/>
              <a:ext cx="3733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Regist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cateRegist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 the local machine at port 1099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571640" y="32767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333760" y="3886200"/>
            <a:ext cx="3581640" cy="824040"/>
            <a:chOff x="5333760" y="3886200"/>
            <a:chExt cx="3581640" cy="824040"/>
          </a:xfrm>
        </p:grpSpPr>
        <p:sp>
          <p:nvSpPr>
            <p:cNvPr id="247" name=""/>
            <p:cNvSpPr/>
            <p:nvPr/>
          </p:nvSpPr>
          <p:spPr>
            <a:xfrm>
              <a:off x="6099840" y="3886200"/>
              <a:ext cx="2815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bi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bind the activatable object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333760" y="419112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181120" y="5181480"/>
            <a:ext cx="3810600" cy="824040"/>
            <a:chOff x="5181120" y="5181480"/>
            <a:chExt cx="3810600" cy="824040"/>
          </a:xfrm>
        </p:grpSpPr>
        <p:sp>
          <p:nvSpPr>
            <p:cNvPr id="250" name=""/>
            <p:cNvSpPr/>
            <p:nvPr/>
          </p:nvSpPr>
          <p:spPr>
            <a:xfrm>
              <a:off x="5867280" y="5181480"/>
              <a:ext cx="3124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bi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bind the remote object to the existing RMI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181120" y="5486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4 ChatServerImpl implementation of remote interfaces ChatServer and StoppableChatServer as Activatable remote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2-8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5-9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gister new ChatClient with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gisterClient( ChatClient cli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client to Set of registered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ients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s.add(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gistered Clie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register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nregister client with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registerClient( ChatClient cli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client from Set of registered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s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s.remove(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registered Clie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unregister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ost new message to chat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tMessage( ChatMessage mess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Iterator for Set of registered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s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Set( clients )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257440" y="228600"/>
            <a:ext cx="3581640" cy="1067400"/>
            <a:chOff x="5257440" y="228600"/>
            <a:chExt cx="3581640" cy="1067400"/>
          </a:xfrm>
        </p:grpSpPr>
        <p:sp>
          <p:nvSpPr>
            <p:cNvPr id="255" name=""/>
            <p:cNvSpPr/>
            <p:nvPr/>
          </p:nvSpPr>
          <p:spPr>
            <a:xfrm>
              <a:off x="6023520" y="228600"/>
              <a:ext cx="28155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nabl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te objects to register with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articipate in the chat sess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257440" y="53352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504960" y="1143000"/>
            <a:ext cx="5333760" cy="580680"/>
            <a:chOff x="3504960" y="1143000"/>
            <a:chExt cx="5333760" cy="580680"/>
          </a:xfrm>
        </p:grpSpPr>
        <p:sp>
          <p:nvSpPr>
            <p:cNvPr id="258" name=""/>
            <p:cNvSpPr/>
            <p:nvPr/>
          </p:nvSpPr>
          <p:spPr>
            <a:xfrm>
              <a:off x="4645800" y="1143000"/>
              <a:ext cx="4192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te reference to the Set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Client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articipating in the chat sess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504960" y="1447920"/>
              <a:ext cx="11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409720" y="2590920"/>
            <a:ext cx="2819520" cy="580680"/>
            <a:chOff x="5409720" y="2590920"/>
            <a:chExt cx="2819520" cy="580680"/>
          </a:xfrm>
        </p:grpSpPr>
        <p:sp>
          <p:nvSpPr>
            <p:cNvPr id="261" name=""/>
            <p:cNvSpPr/>
            <p:nvPr/>
          </p:nvSpPr>
          <p:spPr>
            <a:xfrm>
              <a:off x="6012720" y="2590920"/>
              <a:ext cx="2216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o leave the chat sess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409720" y="289584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809520" y="3505320"/>
            <a:ext cx="3581640" cy="824040"/>
            <a:chOff x="3809520" y="3505320"/>
            <a:chExt cx="3581640" cy="824040"/>
          </a:xfrm>
        </p:grpSpPr>
        <p:sp>
          <p:nvSpPr>
            <p:cNvPr id="264" name=""/>
            <p:cNvSpPr/>
            <p:nvPr/>
          </p:nvSpPr>
          <p:spPr>
            <a:xfrm>
              <a:off x="4574520" y="3505320"/>
              <a:ext cx="2816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ves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te reference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ferenc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3809520" y="380988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4 ChatServerImpl implementation of remote interfaces ChatServer and StoppableChatServer as Activatable remote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9-12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28-17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message to every Chat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ttempt to send message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atClient client = ( ChatClient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.deliverMessage(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nregister client if exception is throw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registering absent client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nregisterClient(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 lo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ost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otify each client that server is shutting down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rminate server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Serv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rminating server 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Iterator for Set of registered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s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Set( clients )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038480" y="609480"/>
            <a:ext cx="4952880" cy="1067400"/>
            <a:chOff x="4038480" y="609480"/>
            <a:chExt cx="4952880" cy="1067400"/>
          </a:xfrm>
        </p:grpSpPr>
        <p:sp>
          <p:nvSpPr>
            <p:cNvPr id="269" name=""/>
            <p:cNvSpPr/>
            <p:nvPr/>
          </p:nvSpPr>
          <p:spPr>
            <a:xfrm>
              <a:off x="5097600" y="609480"/>
              <a:ext cx="38937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erate through the Set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ferences and invoke remot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liver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eliver the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each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038480" y="914400"/>
              <a:ext cx="10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333760" y="4419720"/>
            <a:ext cx="3657600" cy="824040"/>
            <a:chOff x="5333760" y="4419720"/>
            <a:chExt cx="3657600" cy="824040"/>
          </a:xfrm>
        </p:grpSpPr>
        <p:sp>
          <p:nvSpPr>
            <p:cNvPr id="272" name=""/>
            <p:cNvSpPr/>
            <p:nvPr/>
          </p:nvSpPr>
          <p:spPr>
            <a:xfrm>
              <a:off x="6116040" y="4419720"/>
              <a:ext cx="2875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p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ired by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ppable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333760" y="4724280"/>
              <a:ext cx="78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4 ChatServerImpl implementation of remote interfaces ChatServer and StoppableChatServer as Activatable remote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2-14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9-17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message to every Chat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atClient client = ( ChatClient ) iterator.next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.serverStopp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hread to terminate application aft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opServer method returns to cal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hread termin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hread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nable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leep for 5 seconds, print message and term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slee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Thread.slee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ignore InterruptedExce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rruptedException 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 terminat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rminator.start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termination thre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top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4191120" y="228600"/>
            <a:ext cx="4267080" cy="1310760"/>
            <a:chOff x="4191120" y="228600"/>
            <a:chExt cx="4267080" cy="1310760"/>
          </a:xfrm>
        </p:grpSpPr>
        <p:sp>
          <p:nvSpPr>
            <p:cNvPr id="277" name=""/>
            <p:cNvSpPr/>
            <p:nvPr/>
          </p:nvSpPr>
          <p:spPr>
            <a:xfrm>
              <a:off x="5105520" y="228600"/>
              <a:ext cx="33526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erate through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ferences and 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Stopp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notify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the server is shutting dow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4191120" y="533520"/>
              <a:ext cx="91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4114440" y="1523880"/>
            <a:ext cx="4876920" cy="1067400"/>
            <a:chOff x="4114440" y="1523880"/>
            <a:chExt cx="4876920" cy="1067400"/>
          </a:xfrm>
        </p:grpSpPr>
        <p:sp>
          <p:nvSpPr>
            <p:cNvPr id="280" name=""/>
            <p:cNvSpPr/>
            <p:nvPr/>
          </p:nvSpPr>
          <p:spPr>
            <a:xfrm>
              <a:off x="5157360" y="1523880"/>
              <a:ext cx="3834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d start a new Thread to ensure tha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Administr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n unbind the remote object from the RMI Registry before the remote object termina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4114440" y="1828800"/>
              <a:ext cx="10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5 ChatServerAdministrator application for starting and stopping the ChatServer remote objec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-5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1-2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5-2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9-3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ServerAdministrato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ServerAdministrator is a utility program for launch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terminating the Activatable ChatServ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activation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Administrato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up activatable server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Server( String policy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codebase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RMI security 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setSecurit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ecurity policy for ActivatableGroup JV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perties properti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ies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perties.p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.security.polic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olic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ctivationGroupDesc for activatab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tivationGroupDesc groupDesc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vationGroupDesc( propertie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activation group with RMI activation system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tivationGroupID groupID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ctivationGroup.getSystem().registerGroup( groupDesc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ctivation 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tivationGroup.createGroup( groupID, groupDesc 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257800" y="2438280"/>
            <a:ext cx="3428640" cy="580680"/>
            <a:chOff x="5257800" y="2438280"/>
            <a:chExt cx="3428640" cy="580680"/>
          </a:xfrm>
        </p:grpSpPr>
        <p:sp>
          <p:nvSpPr>
            <p:cNvPr id="285" name=""/>
            <p:cNvSpPr/>
            <p:nvPr/>
          </p:nvSpPr>
          <p:spPr>
            <a:xfrm>
              <a:off x="5989680" y="2438280"/>
              <a:ext cx="2696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r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launches the activat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257800" y="274320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105160" y="3733920"/>
            <a:ext cx="3962520" cy="1067400"/>
            <a:chOff x="5105160" y="3733920"/>
            <a:chExt cx="3962520" cy="1067400"/>
          </a:xfrm>
        </p:grpSpPr>
        <p:sp>
          <p:nvSpPr>
            <p:cNvPr id="288" name=""/>
            <p:cNvSpPr/>
            <p:nvPr/>
          </p:nvSpPr>
          <p:spPr>
            <a:xfrm>
              <a:off x="5791320" y="3733920"/>
              <a:ext cx="32763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perti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and add a property that specifies the policy file under which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vation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JVM should ru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5105160" y="4038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876560" y="4419720"/>
            <a:ext cx="4191120" cy="580680"/>
            <a:chOff x="4876560" y="4419720"/>
            <a:chExt cx="4191120" cy="580680"/>
          </a:xfrm>
        </p:grpSpPr>
        <p:sp>
          <p:nvSpPr>
            <p:cNvPr id="291" name=""/>
            <p:cNvSpPr/>
            <p:nvPr/>
          </p:nvSpPr>
          <p:spPr>
            <a:xfrm>
              <a:off x="5486400" y="4419720"/>
              <a:ext cx="3581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vationGroupDes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, which is an activation group descrip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876560" y="47242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867280" y="5181480"/>
            <a:ext cx="3200040" cy="1067400"/>
            <a:chOff x="5867280" y="5181480"/>
            <a:chExt cx="3200040" cy="1067400"/>
          </a:xfrm>
        </p:grpSpPr>
        <p:sp>
          <p:nvSpPr>
            <p:cNvPr id="294" name=""/>
            <p:cNvSpPr/>
            <p:nvPr/>
          </p:nvSpPr>
          <p:spPr>
            <a:xfrm>
              <a:off x="6551280" y="5181480"/>
              <a:ext cx="25160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an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vationSyste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y invok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Syste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vation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867280" y="548640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791320" y="5029200"/>
            <a:ext cx="3200400" cy="1143000"/>
            <a:chOff x="5791320" y="5029200"/>
            <a:chExt cx="3200400" cy="1143000"/>
          </a:xfrm>
        </p:grpSpPr>
        <p:sp>
          <p:nvSpPr>
            <p:cNvPr id="297" name=""/>
            <p:cNvSpPr/>
            <p:nvPr/>
          </p:nvSpPr>
          <p:spPr>
            <a:xfrm>
              <a:off x="5791320" y="5029200"/>
              <a:ext cx="3200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static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vation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vation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6171840" y="5867280"/>
              <a:ext cx="1066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5 ChatServerAdministrator application for starting and stopping the ChatServer remote objec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6-3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1-4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ctivation description for ChatServerImp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tivationDesc descrip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vationDesc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deitel.messenger.rmi.server.ChatServerImp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debas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description with rm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 serv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ChatServer ) Activatable.register( description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btained ChatServerImpl stub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ind ChatServer in regis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ing.reb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atSer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erver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und object to regist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erminate setup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tar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rminate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rminateServer( String hostna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kup ChatServer in RMI regis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ting server 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oppableChatServer server = ( StoppableChatServ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.look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mi:/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hostnam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ChatSer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erminate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opping server 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er.stopServ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ChatServer from RMI regis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 stopped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ing.unb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mi:/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hostnam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ChatSer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638680" y="228600"/>
            <a:ext cx="2971800" cy="824040"/>
            <a:chOff x="5638680" y="228600"/>
            <a:chExt cx="2971800" cy="824040"/>
          </a:xfrm>
        </p:grpSpPr>
        <p:sp>
          <p:nvSpPr>
            <p:cNvPr id="302" name=""/>
            <p:cNvSpPr/>
            <p:nvPr/>
          </p:nvSpPr>
          <p:spPr>
            <a:xfrm>
              <a:off x="6274080" y="228600"/>
              <a:ext cx="2336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vationDes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te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638680" y="53352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486400" y="1219320"/>
            <a:ext cx="3505320" cy="824040"/>
            <a:chOff x="5486400" y="1219320"/>
            <a:chExt cx="3505320" cy="824040"/>
          </a:xfrm>
        </p:grpSpPr>
        <p:sp>
          <p:nvSpPr>
            <p:cNvPr id="305" name=""/>
            <p:cNvSpPr/>
            <p:nvPr/>
          </p:nvSpPr>
          <p:spPr>
            <a:xfrm>
              <a:off x="6235920" y="1219320"/>
              <a:ext cx="2755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register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vat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giste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vat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te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5486400" y="1523880"/>
              <a:ext cx="75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028840" y="2057400"/>
            <a:ext cx="3809880" cy="824040"/>
            <a:chOff x="5028840" y="2057400"/>
            <a:chExt cx="3809880" cy="824040"/>
          </a:xfrm>
        </p:grpSpPr>
        <p:sp>
          <p:nvSpPr>
            <p:cNvPr id="308" name=""/>
            <p:cNvSpPr/>
            <p:nvPr/>
          </p:nvSpPr>
          <p:spPr>
            <a:xfrm>
              <a:off x="5843520" y="2057400"/>
              <a:ext cx="2995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bi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bind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the RMI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5028840" y="2362320"/>
              <a:ext cx="81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248520" y="3886200"/>
            <a:ext cx="2895480" cy="1219320"/>
            <a:chOff x="6248520" y="3886200"/>
            <a:chExt cx="2895480" cy="1219320"/>
          </a:xfrm>
        </p:grpSpPr>
        <p:sp>
          <p:nvSpPr>
            <p:cNvPr id="311" name=""/>
            <p:cNvSpPr/>
            <p:nvPr/>
          </p:nvSpPr>
          <p:spPr>
            <a:xfrm>
              <a:off x="6248520" y="388620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a remote referenc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6400440" y="4724280"/>
              <a:ext cx="12193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124080" y="5486400"/>
            <a:ext cx="4952880" cy="580680"/>
            <a:chOff x="3124080" y="5486400"/>
            <a:chExt cx="4952880" cy="580680"/>
          </a:xfrm>
        </p:grpSpPr>
        <p:sp>
          <p:nvSpPr>
            <p:cNvPr id="314" name=""/>
            <p:cNvSpPr/>
            <p:nvPr/>
          </p:nvSpPr>
          <p:spPr>
            <a:xfrm>
              <a:off x="4183200" y="5486400"/>
              <a:ext cx="3893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p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notify clients tha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shutting dow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3124080" y="5791320"/>
              <a:ext cx="10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5562720" y="5334120"/>
            <a:ext cx="3429000" cy="1218960"/>
            <a:chOff x="5562720" y="5334120"/>
            <a:chExt cx="3429000" cy="1218960"/>
          </a:xfrm>
        </p:grpSpPr>
        <p:sp>
          <p:nvSpPr>
            <p:cNvPr id="317" name=""/>
            <p:cNvSpPr/>
            <p:nvPr/>
          </p:nvSpPr>
          <p:spPr>
            <a:xfrm>
              <a:off x="5562720" y="5334120"/>
              <a:ext cx="3429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bi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mov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te object from the RMI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6019920" y="6172200"/>
              <a:ext cx="12189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5 ChatServerAdministrator application for starting and stopping the ChatServer remote objec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8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9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terminate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ChatServerAdministrator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heck for stop server arg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o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erminateServer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UsageInstruction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heck for start server arg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tart server with user-provided policy, code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nd Registry ho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artServer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UsageInstruction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rong number of arguments provided, so print instru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UsageInstruction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4419360" y="1905120"/>
            <a:ext cx="4572000" cy="824040"/>
            <a:chOff x="4419360" y="1905120"/>
            <a:chExt cx="4572000" cy="824040"/>
          </a:xfrm>
        </p:grpSpPr>
        <p:sp>
          <p:nvSpPr>
            <p:cNvPr id="322" name=""/>
            <p:cNvSpPr/>
            <p:nvPr/>
          </p:nvSpPr>
          <p:spPr>
            <a:xfrm>
              <a:off x="5395680" y="1905120"/>
              <a:ext cx="3595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rminate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hut dow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 the specified host if the user passes argu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419360" y="2209680"/>
              <a:ext cx="98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105160" y="3886200"/>
            <a:ext cx="3962520" cy="824040"/>
            <a:chOff x="5105160" y="3886200"/>
            <a:chExt cx="3962520" cy="824040"/>
          </a:xfrm>
        </p:grpSpPr>
        <p:sp>
          <p:nvSpPr>
            <p:cNvPr id="325" name=""/>
            <p:cNvSpPr/>
            <p:nvPr/>
          </p:nvSpPr>
          <p:spPr>
            <a:xfrm>
              <a:off x="5638680" y="3886200"/>
              <a:ext cx="3429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r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the given policy file location and codebase if the user passes argu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105160" y="41911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5 ChatServerAdministrator application for starting and stopping the ChatServer remote objec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981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 instructions for running ChatServerAdminist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UsageInstruction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Usage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tjava com.deitel.messenger.rmi.server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atServerAdministrator start &lt;policy&gt; &lt;codebase&gt;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tjava com.deitel.messenger.rmi.server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atServerAdministrator stop &lt;registry hostname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6 Policy file for ChatServer’s ActivationGroup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914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low ActivationGroup to terminate the virtual mach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ra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er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lang.RuntimePermissio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V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3 Defining the Remote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te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cribes the remote 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nds interfac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va.rmi.Remo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6.2 Deitel Messenger Client Architecture and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Interfaces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 GUI Interfaces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7 ChatClient remote interface to enable RMI callback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6-1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Cli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Client is a remote interface that defines methods for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 client to receive messages and status information fro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ChatServ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Chat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Clien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called by server to deliver message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iverMessage( ChatMessage messag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called when server shuting dow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erStopping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409720" y="2819520"/>
            <a:ext cx="3581640" cy="824040"/>
            <a:chOff x="5409720" y="2819520"/>
            <a:chExt cx="3581640" cy="824040"/>
          </a:xfrm>
        </p:grpSpPr>
        <p:sp>
          <p:nvSpPr>
            <p:cNvPr id="336" name=""/>
            <p:cNvSpPr/>
            <p:nvPr/>
          </p:nvSpPr>
          <p:spPr>
            <a:xfrm>
              <a:off x="6174720" y="2819520"/>
              <a:ext cx="2816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end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Messag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5409720" y="312408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790960" y="3505320"/>
            <a:ext cx="2819160" cy="1067400"/>
            <a:chOff x="5790960" y="3505320"/>
            <a:chExt cx="2819160" cy="1067400"/>
          </a:xfrm>
        </p:grpSpPr>
        <p:sp>
          <p:nvSpPr>
            <p:cNvPr id="339" name=""/>
            <p:cNvSpPr/>
            <p:nvPr/>
          </p:nvSpPr>
          <p:spPr>
            <a:xfrm>
              <a:off x="6392160" y="3505320"/>
              <a:ext cx="22179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notify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shutting dow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790960" y="380988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8 ChatMessage is a serializable class for transmitting messages over RMI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Messag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Message is a Serializable object for messages in the RM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Client and ChatServ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Messag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ende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erson sending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messag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ssage being s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empty Chat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Messag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ChatMessage with sender and messag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Message( String sender, String messag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ender( send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Message(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name of person sending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ender( String na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nder = nam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8 ChatMessage is a serializable class for transmitting messages over RMI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name of person sending messag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Sende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e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essage being s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Message( String messageBod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 = messageBody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essage being s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Messag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ring representation of Chat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oString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ender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gt;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getMessag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9 MessageManager interface for classes that implement communication logic for a ChatCli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-1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s 15-1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9-2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3-2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724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ssageManag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ssageManger is an interface for objects capable of manag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munications with a message serv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Manager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nect to message server and route incoming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o given Message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( MessageListener listen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connect from message server and stop rou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coming messages to given Message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nnect( MessageListener listen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message to message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Message( String from, String messag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listener for disconnect notific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Disconnect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connectListener 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571640" y="1828800"/>
            <a:ext cx="4343400" cy="1067400"/>
            <a:chOff x="4571640" y="1828800"/>
            <a:chExt cx="4343400" cy="1067400"/>
          </a:xfrm>
        </p:grpSpPr>
        <p:sp>
          <p:nvSpPr>
            <p:cNvPr id="348" name=""/>
            <p:cNvSpPr/>
            <p:nvPr/>
          </p:nvSpPr>
          <p:spPr>
            <a:xfrm>
              <a:off x="5500440" y="1828800"/>
              <a:ext cx="341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nects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takes as an argumen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which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hould deliver new incoming messag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571640" y="2133720"/>
              <a:ext cx="93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800600" y="2743200"/>
            <a:ext cx="3962160" cy="1067400"/>
            <a:chOff x="4800600" y="2743200"/>
            <a:chExt cx="3962160" cy="1067400"/>
          </a:xfrm>
        </p:grpSpPr>
        <p:sp>
          <p:nvSpPr>
            <p:cNvPr id="351" name=""/>
            <p:cNvSpPr/>
            <p:nvPr/>
          </p:nvSpPr>
          <p:spPr>
            <a:xfrm>
              <a:off x="5647680" y="2743200"/>
              <a:ext cx="3115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onnect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stops routing messages to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4800600" y="3048120"/>
              <a:ext cx="84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410080" y="3505320"/>
            <a:ext cx="2285640" cy="580680"/>
            <a:chOff x="5410080" y="3505320"/>
            <a:chExt cx="2285640" cy="580680"/>
          </a:xfrm>
        </p:grpSpPr>
        <p:sp>
          <p:nvSpPr>
            <p:cNvPr id="354" name=""/>
            <p:cNvSpPr/>
            <p:nvPr/>
          </p:nvSpPr>
          <p:spPr>
            <a:xfrm>
              <a:off x="5898600" y="3505320"/>
              <a:ext cx="1797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s a messag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5410080" y="381024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114800" y="4038480"/>
            <a:ext cx="4952880" cy="580680"/>
            <a:chOff x="4114800" y="4038480"/>
            <a:chExt cx="4952880" cy="580680"/>
          </a:xfrm>
        </p:grpSpPr>
        <p:sp>
          <p:nvSpPr>
            <p:cNvPr id="357" name=""/>
            <p:cNvSpPr/>
            <p:nvPr/>
          </p:nvSpPr>
          <p:spPr>
            <a:xfrm>
              <a:off x="5105520" y="4038480"/>
              <a:ext cx="3962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onnect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be notified whe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sconnects the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4114800" y="4343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0 RMIMessageManager remote object and MessageManager implementation for managing Chatclient communic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MIMessageManag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MIMessageManager implements the ChatClient remote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manages incoming and outgoing chat messages using RMI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serv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server.Chat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MessageManag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icastRemoteObjec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Client, MessageManag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isteners for incoming messages and disconnect notific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Listener message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nnectListener disconnect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erver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Server chat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MIMessageManag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MessageManager( String server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erAddress = serv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0 RMIMessageManager remote object and MessageManager implementation for managing Chatclient communication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9-4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nect to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( MessageListener listen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k up ChatServer remot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 = ( ChatServer ) Naming.lookup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serverAddress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ChatSer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with ChatServer to receive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.registerCli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listener for incoming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Listener = 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conn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connect from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nnect( MessageListener listen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hatServer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nregister with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.unregisterCli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references to ChatServer and Message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Listen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isconn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105160" y="990720"/>
            <a:ext cx="3809880" cy="824040"/>
            <a:chOff x="5105160" y="990720"/>
            <a:chExt cx="3809880" cy="824040"/>
          </a:xfrm>
        </p:grpSpPr>
        <p:sp>
          <p:nvSpPr>
            <p:cNvPr id="364" name=""/>
            <p:cNvSpPr/>
            <p:nvPr/>
          </p:nvSpPr>
          <p:spPr>
            <a:xfrm>
              <a:off x="5921280" y="990720"/>
              <a:ext cx="2993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trieve a remote referenc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5105160" y="1295280"/>
              <a:ext cx="81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343400" y="1676520"/>
            <a:ext cx="3047760" cy="824040"/>
            <a:chOff x="4343400" y="1676520"/>
            <a:chExt cx="3047760" cy="824040"/>
          </a:xfrm>
        </p:grpSpPr>
        <p:sp>
          <p:nvSpPr>
            <p:cNvPr id="367" name=""/>
            <p:cNvSpPr/>
            <p:nvPr/>
          </p:nvSpPr>
          <p:spPr>
            <a:xfrm>
              <a:off x="4996080" y="1676520"/>
              <a:ext cx="2395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ss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ference as the argument to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4343400" y="1981080"/>
              <a:ext cx="65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4572000" y="4419720"/>
            <a:ext cx="4266720" cy="1067400"/>
            <a:chOff x="4572000" y="4419720"/>
            <a:chExt cx="4266720" cy="1067400"/>
          </a:xfrm>
        </p:grpSpPr>
        <p:sp>
          <p:nvSpPr>
            <p:cNvPr id="370" name=""/>
            <p:cNvSpPr/>
            <p:nvPr/>
          </p:nvSpPr>
          <p:spPr>
            <a:xfrm>
              <a:off x="5485680" y="4419720"/>
              <a:ext cx="33530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register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remote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unregiste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MIMessage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4572000" y="4724280"/>
              <a:ext cx="91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0 RMIMessageManager remote object and MessageManager implementation for managing Chatclient communication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4-7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7-8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9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ChatMessage to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Message( String fromUser, String mess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hatServer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hatMessage with message text and user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Message chatMessag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tMessage( fromUser,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ost message to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.postMessage( chat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ndMessag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delivery of ChatMessage from Chat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iverMessage( ChatMessage mess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essageListener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ssageListener.messageReceived( message.getSender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called when server shutting dow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erStopping() throws Remote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tServ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eServerDisconnecte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 shut down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114800" y="1523880"/>
            <a:ext cx="3429000" cy="1067400"/>
            <a:chOff x="4114800" y="1523880"/>
            <a:chExt cx="3429000" cy="1067400"/>
          </a:xfrm>
        </p:grpSpPr>
        <p:sp>
          <p:nvSpPr>
            <p:cNvPr id="375" name=""/>
            <p:cNvSpPr/>
            <p:nvPr/>
          </p:nvSpPr>
          <p:spPr>
            <a:xfrm>
              <a:off x="4849200" y="1523880"/>
              <a:ext cx="269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o obtain the user name from whom the message came and the message bod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4114800" y="182880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723920" y="2209680"/>
            <a:ext cx="3582000" cy="1067400"/>
            <a:chOff x="4723920" y="2209680"/>
            <a:chExt cx="3582000" cy="1067400"/>
          </a:xfrm>
        </p:grpSpPr>
        <p:sp>
          <p:nvSpPr>
            <p:cNvPr id="378" name=""/>
            <p:cNvSpPr/>
            <p:nvPr/>
          </p:nvSpPr>
          <p:spPr>
            <a:xfrm>
              <a:off x="5491440" y="2209680"/>
              <a:ext cx="28144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t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remote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ost the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4723920" y="251460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562720" y="4038480"/>
            <a:ext cx="3428640" cy="1310760"/>
            <a:chOff x="5562720" y="4038480"/>
            <a:chExt cx="3428640" cy="1310760"/>
          </a:xfrm>
        </p:grpSpPr>
        <p:sp>
          <p:nvSpPr>
            <p:cNvPr id="381" name=""/>
            <p:cNvSpPr/>
            <p:nvPr/>
          </p:nvSpPr>
          <p:spPr>
            <a:xfrm>
              <a:off x="6297840" y="4038480"/>
              <a:ext cx="26935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Receiv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notify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the incom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5562720" y="434340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5334120" y="4038480"/>
            <a:ext cx="3657600" cy="1600200"/>
            <a:chOff x="5334120" y="4038480"/>
            <a:chExt cx="3657600" cy="1600200"/>
          </a:xfrm>
        </p:grpSpPr>
        <p:sp>
          <p:nvSpPr>
            <p:cNvPr id="384" name=""/>
            <p:cNvSpPr/>
            <p:nvPr/>
          </p:nvSpPr>
          <p:spPr>
            <a:xfrm>
              <a:off x="5334120" y="4038480"/>
              <a:ext cx="36576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reServerDisconn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MIMessage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notify the registere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onnect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as disconnected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5486040" y="5334120"/>
              <a:ext cx="1676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0 RMIMessageManager remote object and MessageManager implementation for managing Chatclient communication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9-10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6-110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666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gister listener for disconnect notific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Disconnect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connectListener listen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connectListener = 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disconnect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eServerDisconnected( String messag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isconnectListener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connectListener.serverDisconnected(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114800" y="228600"/>
            <a:ext cx="3505320" cy="1067400"/>
            <a:chOff x="4114800" y="228600"/>
            <a:chExt cx="3505320" cy="1067400"/>
          </a:xfrm>
        </p:grpSpPr>
        <p:sp>
          <p:nvSpPr>
            <p:cNvPr id="389" name=""/>
            <p:cNvSpPr/>
            <p:nvPr/>
          </p:nvSpPr>
          <p:spPr>
            <a:xfrm>
              <a:off x="4864320" y="228600"/>
              <a:ext cx="2755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onnect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gister for notifications whe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sconnects the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4114800" y="533520"/>
              <a:ext cx="75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790960" y="1523880"/>
            <a:ext cx="3124440" cy="824040"/>
            <a:chOff x="5790960" y="1523880"/>
            <a:chExt cx="3124440" cy="824040"/>
          </a:xfrm>
        </p:grpSpPr>
        <p:sp>
          <p:nvSpPr>
            <p:cNvPr id="392" name=""/>
            <p:cNvSpPr/>
            <p:nvPr/>
          </p:nvSpPr>
          <p:spPr>
            <a:xfrm>
              <a:off x="6458400" y="1523880"/>
              <a:ext cx="2457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Disconn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ssages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onnect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5790960" y="182880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1 MessageListener interface for receiving new message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905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ssageListen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ssageListener is an interface for classes that wish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eive new chat messag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new chat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Received( String from, String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1 WeatherService interfac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819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Servic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Service interface declares a method for obtain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ther inform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rmi.weath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ervic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tain List of WeatherBean objects from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 getWeatherInformation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105160" y="1676520"/>
            <a:ext cx="3048120" cy="580680"/>
            <a:chOff x="5105160" y="1676520"/>
            <a:chExt cx="3048120" cy="580680"/>
          </a:xfrm>
        </p:grpSpPr>
        <p:sp>
          <p:nvSpPr>
            <p:cNvPr id="98" name=""/>
            <p:cNvSpPr/>
            <p:nvPr/>
          </p:nvSpPr>
          <p:spPr>
            <a:xfrm>
              <a:off x="5757120" y="1676520"/>
              <a:ext cx="2396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therServi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xtends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5105160" y="1981440"/>
              <a:ext cx="65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038480" y="2666520"/>
            <a:ext cx="4343400" cy="1129320"/>
            <a:chOff x="4038480" y="2666520"/>
            <a:chExt cx="4343400" cy="1129320"/>
          </a:xfrm>
        </p:grpSpPr>
        <p:sp>
          <p:nvSpPr>
            <p:cNvPr id="101" name=""/>
            <p:cNvSpPr/>
            <p:nvPr/>
          </p:nvSpPr>
          <p:spPr>
            <a:xfrm>
              <a:off x="4572000" y="2971800"/>
              <a:ext cx="3809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WeatherInform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clients can invoke to retrieve weather information from the remote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4038480" y="2666520"/>
              <a:ext cx="533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2 DisconnectListener interface for receiving server disconnect notification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133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connectListen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connectListener defines method serverDisconnected, whi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that the server has disconnected the client.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nnect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notification that server disconnec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erDisconnected( String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3 ClientGUI provides a graphical user interface for the Deitel Messenger clien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ientGUI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ientGUI provides a GUI for sending and receiv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t messages using a MessageManag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bord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tex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GUI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Label for displaying connection stat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 statusB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TextAreas for displaying and inputting messages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messageAre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inputArea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ons for connecting and disconnecting MessageManag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nd sending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 connectA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 disconnectA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 sendA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rName to add to outgoing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user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ssageManager for communicating with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essageManager message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3 ClientGUI provides a graphical user interface for the Deitel Messenger cli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1-14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ssageListener for receiving new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essageListener message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ientGUI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GUI( MessageManager manag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 Messeng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Manager = 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Listen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MessageListen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nect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A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connect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nnectA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connect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nd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A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nd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File men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 fileMenu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 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setMnemoni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F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connect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disconnect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JMenuBar and attach File men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Bar menu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B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nuBar.add ( fileMenu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JMenuBar( menuBar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JTool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ToolBar tool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oolB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( connect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( disconnectAction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4876560" y="990720"/>
            <a:ext cx="3124440" cy="824040"/>
            <a:chOff x="4876560" y="990720"/>
            <a:chExt cx="3124440" cy="824040"/>
          </a:xfrm>
        </p:grpSpPr>
        <p:sp>
          <p:nvSpPr>
            <p:cNvPr id="403" name=""/>
            <p:cNvSpPr/>
            <p:nvPr/>
          </p:nvSpPr>
          <p:spPr>
            <a:xfrm>
              <a:off x="5544000" y="990720"/>
              <a:ext cx="2457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constructor creates and lays out the various user interface compon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4876560" y="129528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3 ClientGUI provides a graphical user interface for the Deitel Messenger clien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Area for displaying messages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able editing and wrap words at end of 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Area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Area.setLineWrap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Area.setWrapStyleWor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nel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rder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messageArea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Area for entering new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Area.setLineWrap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Area.setWrapStyleWor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Area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p Enter key in inputArea to send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Keymap keyMap = inputArea.getKeyma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KeyStroke enterKey = KeyStroke.getKeyStrok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KeyEven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K_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keyMap.addActionForKeyStroke( enterKey, send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inputArea and sendAction JButton in BoxLayou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d add Box to message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x box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( Box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X_AX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x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inputArea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x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sendAction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nel.add( box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OU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3 ClientGUI provides a graphical user interface for the Deitel Messenger cli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19-13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tatusBar JLabel with recessed b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tus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t Connect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tusBar.setBor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evelBorder( BevelBord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WER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toolBar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statusBar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OU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connect and exit if user closes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Window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Adapt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isconnect MessageManager when window clo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Closing( Window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disconnect from chat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messageManager.disconnect( message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andle exception disconnecting from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windowClo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indowAdapter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048120" y="2286000"/>
            <a:ext cx="5790600" cy="824040"/>
            <a:chOff x="3048120" y="2286000"/>
            <a:chExt cx="5790600" cy="824040"/>
          </a:xfrm>
        </p:grpSpPr>
        <p:sp>
          <p:nvSpPr>
            <p:cNvPr id="410" name=""/>
            <p:cNvSpPr/>
            <p:nvPr/>
          </p:nvSpPr>
          <p:spPr>
            <a:xfrm>
              <a:off x="4282560" y="2286000"/>
              <a:ext cx="4556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ndowAdap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ner class ensures tha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sconnects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the user closes the application window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3048120" y="2590920"/>
              <a:ext cx="124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3 ClientGUI provides a graphical user interface for the Deitel Messenger cli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4-20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70-17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ientGUI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on for connecting to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Ac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figure ConnectAc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Actio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Conne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MALL_IC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GUI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Resourc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   "images/Connect.gif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nect to Ser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NG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nect to server to send Instant Messag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NEMONIC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C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onnect MessageManager to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lear message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Area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onnect MessageManager and register Message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Manager.connect( message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listen for disconnect notific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Manager.setDisconnect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nnectHandl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791320" y="762120"/>
            <a:ext cx="3276000" cy="824040"/>
            <a:chOff x="5791320" y="762120"/>
            <a:chExt cx="3276000" cy="824040"/>
          </a:xfrm>
        </p:grpSpPr>
        <p:sp>
          <p:nvSpPr>
            <p:cNvPr id="415" name=""/>
            <p:cNvSpPr/>
            <p:nvPr/>
          </p:nvSpPr>
          <p:spPr>
            <a:xfrm>
              <a:off x="6490800" y="762120"/>
              <a:ext cx="257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ner class implement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connecting to the Deitel Messenger serv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5791320" y="1066680"/>
              <a:ext cx="70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790960" y="1523880"/>
            <a:ext cx="3124440" cy="824040"/>
            <a:chOff x="5790960" y="1523880"/>
            <a:chExt cx="3124440" cy="824040"/>
          </a:xfrm>
        </p:grpSpPr>
        <p:sp>
          <p:nvSpPr>
            <p:cNvPr id="418" name=""/>
            <p:cNvSpPr/>
            <p:nvPr/>
          </p:nvSpPr>
          <p:spPr>
            <a:xfrm>
              <a:off x="6458400" y="1523880"/>
              <a:ext cx="2457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Disconn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ssages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onnect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5790960" y="182880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181120" y="5334120"/>
            <a:ext cx="3810600" cy="1310760"/>
            <a:chOff x="5181120" y="5334120"/>
            <a:chExt cx="3810600" cy="1310760"/>
          </a:xfrm>
        </p:grpSpPr>
        <p:sp>
          <p:nvSpPr>
            <p:cNvPr id="421" name=""/>
            <p:cNvSpPr/>
            <p:nvPr/>
          </p:nvSpPr>
          <p:spPr>
            <a:xfrm>
              <a:off x="6019920" y="5334120"/>
              <a:ext cx="29718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connect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register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onnect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receiv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Disconn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otifica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5562720" y="5867280"/>
              <a:ext cx="4572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5181120" y="6019920"/>
              <a:ext cx="8384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3 ClientGUI provides a graphical user interface for the Deitel Messenger cli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77-18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88-18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desired user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serName = JOptionPane.showInputDialo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lientGUI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enter your na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update Actions, inputArea and status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isconnect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nd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putArea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putArea.requestFocus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atusBar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necte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userName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nd message indicating user connec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Manager.sendMessage( userName, userName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joined cha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connecting to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showMessageDialog( ClientGUI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able to connect to server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rror Connect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RROR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actionPerforme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nnectAction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on for disconnecting from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nnectAc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5181480" y="1295280"/>
            <a:ext cx="3810240" cy="1310760"/>
            <a:chOff x="5181480" y="1295280"/>
            <a:chExt cx="3810240" cy="1310760"/>
          </a:xfrm>
        </p:grpSpPr>
        <p:sp>
          <p:nvSpPr>
            <p:cNvPr id="427" name=""/>
            <p:cNvSpPr/>
            <p:nvPr/>
          </p:nvSpPr>
          <p:spPr>
            <a:xfrm>
              <a:off x="5715000" y="1295280"/>
              <a:ext cx="32767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mpt the user for a name to use in the chat session and update the user-interface components to allow the user to send messages and disconnect from the Deitel Messenger serv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5181480" y="1600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248520" y="2590920"/>
            <a:ext cx="2819160" cy="1554120"/>
            <a:chOff x="6248520" y="2590920"/>
            <a:chExt cx="2819160" cy="1554120"/>
          </a:xfrm>
        </p:grpSpPr>
        <p:sp>
          <p:nvSpPr>
            <p:cNvPr id="430" name=""/>
            <p:cNvSpPr/>
            <p:nvPr/>
          </p:nvSpPr>
          <p:spPr>
            <a:xfrm>
              <a:off x="6705720" y="2590920"/>
              <a:ext cx="236196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end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announces the user’s arrival in the chat sess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248520" y="2895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3 ClientGUI provides a graphical user interface for the Deitel Messenger cli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11-25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31-23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3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39-24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figure Disconnect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nnectActi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sconne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MALL_IC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GUI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Resourc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   "images/Disconnect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sconnect from Ser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NG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sconnect to end Instant Messaging sess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NEMONIC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D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connect from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isconnect MessageManager from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nd message indicating user disconnec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Manager.sendMessage( userName, userName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exited cha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isconnect from server and unregist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Message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Manager.disconnect( messageListener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update Actions, inputArea and status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nd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isconnect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putArea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atusBar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t Connect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3657240" y="228600"/>
            <a:ext cx="4114800" cy="824040"/>
            <a:chOff x="3657240" y="228600"/>
            <a:chExt cx="4114800" cy="824040"/>
          </a:xfrm>
        </p:grpSpPr>
        <p:sp>
          <p:nvSpPr>
            <p:cNvPr id="435" name=""/>
            <p:cNvSpPr/>
            <p:nvPr/>
          </p:nvSpPr>
          <p:spPr>
            <a:xfrm>
              <a:off x="4534560" y="228600"/>
              <a:ext cx="3237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ner class implement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disconnect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Deitel Messenger serv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3657240" y="533520"/>
              <a:ext cx="88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6248520" y="3886200"/>
            <a:ext cx="2743200" cy="1067400"/>
            <a:chOff x="6248520" y="3886200"/>
            <a:chExt cx="2743200" cy="1067400"/>
          </a:xfrm>
        </p:grpSpPr>
        <p:sp>
          <p:nvSpPr>
            <p:cNvPr id="438" name=""/>
            <p:cNvSpPr/>
            <p:nvPr/>
          </p:nvSpPr>
          <p:spPr>
            <a:xfrm>
              <a:off x="6834240" y="3886200"/>
              <a:ext cx="21574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nnounce the user’s departure from the chat sess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6248520" y="4191120"/>
              <a:ext cx="58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5943240" y="4800600"/>
            <a:ext cx="3124440" cy="1067400"/>
            <a:chOff x="5943240" y="4800600"/>
            <a:chExt cx="3124440" cy="1067400"/>
          </a:xfrm>
        </p:grpSpPr>
        <p:sp>
          <p:nvSpPr>
            <p:cNvPr id="441" name=""/>
            <p:cNvSpPr/>
            <p:nvPr/>
          </p:nvSpPr>
          <p:spPr>
            <a:xfrm>
              <a:off x="6610680" y="4800600"/>
              <a:ext cx="2457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disconnect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isconnect from the serv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5943240" y="510552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647960" y="5334120"/>
            <a:ext cx="3581280" cy="1067400"/>
            <a:chOff x="4647960" y="5334120"/>
            <a:chExt cx="3581280" cy="1067400"/>
          </a:xfrm>
        </p:grpSpPr>
        <p:sp>
          <p:nvSpPr>
            <p:cNvPr id="444" name=""/>
            <p:cNvSpPr/>
            <p:nvPr/>
          </p:nvSpPr>
          <p:spPr>
            <a:xfrm>
              <a:off x="5412960" y="5334120"/>
              <a:ext cx="28162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date the user-interface components to disable the messag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put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display a message in the status ba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4647960" y="563868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3 ClientGUI provides a graphical user interface for the Deitel Messenger cli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61-299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disconnecting from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showMessageDialog( ClientGUI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able to disconnect from server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rror Disconnect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RROR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ctionPerfor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isconnectAction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on for sending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Ac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figure Send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Acti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MALL_IC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GUI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Send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nd Mess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NG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nd an Instant Mess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NEMONIC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S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5410080" y="2971800"/>
            <a:ext cx="2971440" cy="824040"/>
            <a:chOff x="5410080" y="2971800"/>
            <a:chExt cx="2971440" cy="824040"/>
          </a:xfrm>
        </p:grpSpPr>
        <p:sp>
          <p:nvSpPr>
            <p:cNvPr id="449" name=""/>
            <p:cNvSpPr/>
            <p:nvPr/>
          </p:nvSpPr>
          <p:spPr>
            <a:xfrm>
              <a:off x="6044400" y="2971800"/>
              <a:ext cx="2337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ner class implement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sending messages to the serv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5410080" y="327672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3 ClientGUI provides a graphical user interface for the Deitel Messenger cli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82-28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04-31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message and clear inpu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nd message to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nd userName and text in inpu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Manager.sendMessage( userNam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nputArea.getT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putArea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sending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showMessageDialog( ClientGUI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able to send messag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rror Sending Mess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RROR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actionPerfor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endAction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yMessageListener listens for new messages from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ssageManager and displays the messages in message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ing a MessageDisplay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MessageListen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hen new message received, display in message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Received( String from, String mess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5181480" y="1371600"/>
            <a:ext cx="3886200" cy="1067400"/>
            <a:chOff x="5181480" y="1371600"/>
            <a:chExt cx="3886200" cy="1067400"/>
          </a:xfrm>
        </p:grpSpPr>
        <p:sp>
          <p:nvSpPr>
            <p:cNvPr id="454" name=""/>
            <p:cNvSpPr/>
            <p:nvPr/>
          </p:nvSpPr>
          <p:spPr>
            <a:xfrm>
              <a:off x="5791320" y="1371600"/>
              <a:ext cx="32763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pass the content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put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the user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rgu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5181480" y="16765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6400440" y="5334120"/>
            <a:ext cx="2133720" cy="824040"/>
            <a:chOff x="6400440" y="5334120"/>
            <a:chExt cx="2133720" cy="824040"/>
          </a:xfrm>
        </p:grpSpPr>
        <p:sp>
          <p:nvSpPr>
            <p:cNvPr id="457" name=""/>
            <p:cNvSpPr/>
            <p:nvPr/>
          </p:nvSpPr>
          <p:spPr>
            <a:xfrm>
              <a:off x="6856200" y="5334120"/>
              <a:ext cx="1677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ner class listens for incom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tMess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6400440" y="563868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4 Implementing the Remote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te object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eatherServiceImp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3 ClientGUI provides a graphical user interface for the Deitel Messenger cli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11-31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21-34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37-33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42-34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message using MessageDisplayer and invokeLat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o ensure thread-safe access to message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Utilities.invokeLa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Displayer( from, message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yMessageListener inner clas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ssageDisplayer displays a new messaage by appe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message to the messageArea JTextArea. This Runnabl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ject should be executed only on the event-dispatc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read, as it modifies a live Swing compon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Display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n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romUs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messageBod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essageDisplay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ssageDisplayer( String from, String bod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romUser = fro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ssageBody = bod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new message in message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new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ssageArea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fromUser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gt;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Body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move caret to end of messageArea to ensure new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message is visible on 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ssageArea.setCaretPosi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ssageArea.getText().length() )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4800240" y="380880"/>
            <a:ext cx="3886560" cy="1067400"/>
            <a:chOff x="4800240" y="380880"/>
            <a:chExt cx="3886560" cy="1067400"/>
          </a:xfrm>
        </p:grpSpPr>
        <p:sp>
          <p:nvSpPr>
            <p:cNvPr id="462" name=""/>
            <p:cNvSpPr/>
            <p:nvPr/>
          </p:nvSpPr>
          <p:spPr>
            <a:xfrm>
              <a:off x="5630400" y="380880"/>
              <a:ext cx="3056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static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La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wingUtiliti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Display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gument to display the new messa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4800240" y="68580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5715000" y="2209680"/>
            <a:ext cx="3200040" cy="1797480"/>
            <a:chOff x="5715000" y="2209680"/>
            <a:chExt cx="3200040" cy="1797480"/>
          </a:xfrm>
        </p:grpSpPr>
        <p:sp>
          <p:nvSpPr>
            <p:cNvPr id="465" name=""/>
            <p:cNvSpPr/>
            <p:nvPr/>
          </p:nvSpPr>
          <p:spPr>
            <a:xfrm>
              <a:off x="6398280" y="2209680"/>
              <a:ext cx="251676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ner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Display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nn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mplementation that appends a new messag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Text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isplay that message to the us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5715000" y="251460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5638320" y="5105520"/>
            <a:ext cx="2667600" cy="824040"/>
            <a:chOff x="5638320" y="5105520"/>
            <a:chExt cx="2667600" cy="824040"/>
          </a:xfrm>
        </p:grpSpPr>
        <p:sp>
          <p:nvSpPr>
            <p:cNvPr id="468" name=""/>
            <p:cNvSpPr/>
            <p:nvPr/>
          </p:nvSpPr>
          <p:spPr>
            <a:xfrm>
              <a:off x="6208200" y="5105520"/>
              <a:ext cx="2097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end the message text and sender’s user nam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5638320" y="5410080"/>
              <a:ext cx="57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266720" y="6022800"/>
            <a:ext cx="2590920" cy="580680"/>
            <a:chOff x="4266720" y="6022800"/>
            <a:chExt cx="2590920" cy="580680"/>
          </a:xfrm>
        </p:grpSpPr>
        <p:sp>
          <p:nvSpPr>
            <p:cNvPr id="471" name=""/>
            <p:cNvSpPr/>
            <p:nvPr/>
          </p:nvSpPr>
          <p:spPr>
            <a:xfrm>
              <a:off x="4820040" y="6022800"/>
              <a:ext cx="2037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ve the cursor to the end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4266720" y="6327720"/>
              <a:ext cx="5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3 ClientGUI provides a graphical user interface for the Deitel Messenger cli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50-37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56-37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ssageDisplayer inner class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connectHandler listens for serverDisconnected mess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rom the MessageManager and updates the user interfa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nnectHandl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connect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ceive disconnect notif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erDisconnect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mess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pdate GUI in thread-safe man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Utilities.invokeLa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nable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update Actions, inputs and status 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{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end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disconnect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nputArea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connect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tatusBar.setText(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Runnable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rverDisconnected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isconnectHandler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5410080" y="152280"/>
            <a:ext cx="3581640" cy="1295640"/>
            <a:chOff x="5410080" y="152280"/>
            <a:chExt cx="3581640" cy="1295640"/>
          </a:xfrm>
        </p:grpSpPr>
        <p:sp>
          <p:nvSpPr>
            <p:cNvPr id="476" name=""/>
            <p:cNvSpPr/>
            <p:nvPr/>
          </p:nvSpPr>
          <p:spPr>
            <a:xfrm>
              <a:off x="5410080" y="152280"/>
              <a:ext cx="3581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ner class receiv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Disconn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otifications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the server disconn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6781680" y="9907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3962160" y="2209680"/>
            <a:ext cx="3124440" cy="824040"/>
            <a:chOff x="3962160" y="2209680"/>
            <a:chExt cx="3124440" cy="824040"/>
          </a:xfrm>
        </p:grpSpPr>
        <p:sp>
          <p:nvSpPr>
            <p:cNvPr id="479" name=""/>
            <p:cNvSpPr/>
            <p:nvPr/>
          </p:nvSpPr>
          <p:spPr>
            <a:xfrm>
              <a:off x="4629600" y="2209680"/>
              <a:ext cx="2457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date the user-interface components to indicate that the server dis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3962160" y="251460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6.3 Running the Deitel Messenger Server and Client Applic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he Deitel Messenger cas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MI regist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miregi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MI activation daem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mid –J-Djava.security.policy=rmid.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4 DeitelMessenger launches a chat client using classes ClientGUI and RMIMessageManager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Messeng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Messenger uses a ClientGUI and RMIMessageManager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lement an RMI-based chat cli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rmi.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RMISecurity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messeng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itelMesseng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DeitelMessenger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 ( String args[]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stall RMISecurity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setSecurit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SecurityManag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ssageManager messageMana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DeitelMessen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ssageManag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MessageMana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ho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ssageManag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MIMessageManager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ish configuring window and display 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GUI clientGUI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GUI( messageManag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GUI.p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GUI.setResiz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GUI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. 13.25 Policy file for the RMI activation daemon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295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low ActivationGroup to specify C:\activationGroup.polic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 its VM’s security poli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ra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er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rmi.rmid.ExecOptionPermi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Djava.security.policy=file:///C:/activationGroup.polic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6.3 Running the Deitel Messenger and Client Application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7 Policy file for ChatServerAdministrator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523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low ChatServerAdministrator to connect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tivation daem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ra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er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SocketPermissio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ostname:1024-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nect, accept, resolv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er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lang.RuntimePermissio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tFacto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8 Policy file for the DeitelMessenger clien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371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low client to connect to network resources on ho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 ports above 102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ra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er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SocketPermissio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ostname:1024-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nect, accept, resolv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6.3 Running the Deitel Messenger Server and Client Application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95" name="messenger_1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2543400" cy="4172040"/>
          </a:xfrm>
          <a:prstGeom prst="rect">
            <a:avLst/>
          </a:prstGeom>
          <a:ln w="0">
            <a:noFill/>
          </a:ln>
        </p:spPr>
      </p:pic>
      <p:pic>
        <p:nvPicPr>
          <p:cNvPr id="496" name="messenger_2" descr=""/>
          <p:cNvPicPr/>
          <p:nvPr/>
        </p:nvPicPr>
        <p:blipFill>
          <a:blip r:embed="rId2"/>
          <a:stretch/>
        </p:blipFill>
        <p:spPr>
          <a:xfrm>
            <a:off x="2971800" y="1295280"/>
            <a:ext cx="2543040" cy="4172040"/>
          </a:xfrm>
          <a:prstGeom prst="rect">
            <a:avLst/>
          </a:prstGeom>
          <a:ln w="0">
            <a:noFill/>
          </a:ln>
        </p:spPr>
      </p:pic>
      <p:pic>
        <p:nvPicPr>
          <p:cNvPr id="497" name="messenger_3" descr=""/>
          <p:cNvPicPr/>
          <p:nvPr/>
        </p:nvPicPr>
        <p:blipFill>
          <a:blip r:embed="rId3"/>
          <a:stretch/>
        </p:blipFill>
        <p:spPr>
          <a:xfrm>
            <a:off x="5867280" y="2666880"/>
            <a:ext cx="2810160" cy="141948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2370600" y="5562720"/>
            <a:ext cx="488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3.2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onversation using Deitel Messeng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6.3 Running the Deitel Messenger Server and Client Applic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0" name=""/>
          <p:cNvSpPr/>
          <p:nvPr/>
        </p:nvSpPr>
        <p:spPr>
          <a:xfrm>
            <a:off x="2370600" y="5562720"/>
            <a:ext cx="488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3.2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onversation using Deitel Messeng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messenger_4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2543040" cy="4172040"/>
          </a:xfrm>
          <a:prstGeom prst="rect">
            <a:avLst/>
          </a:prstGeom>
          <a:ln w="0">
            <a:noFill/>
          </a:ln>
        </p:spPr>
      </p:pic>
      <p:pic>
        <p:nvPicPr>
          <p:cNvPr id="502" name="messenger_5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254340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 WeatherServiceImpl class implements remote interface WeatherServic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3-1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2-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ServiceImp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ServiceImpl implements the WeatherService remo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face to provide a WeatherService remote obje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rmi.weath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UR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rmi.serv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erviceImp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icastRemote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ervic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 weatherInformation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atherBean object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ServiceImp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t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pdateWeatherCondition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weather information from NW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WeatherCondition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 weather information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National Weather Service Traveler’s Forecast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RL ur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RL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iwin.nws.noaa.gov/iwin/us/traveler.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943600" y="457200"/>
            <a:ext cx="3048120" cy="2057400"/>
            <a:chOff x="5943600" y="457200"/>
            <a:chExt cx="3048120" cy="2057400"/>
          </a:xfrm>
        </p:grpSpPr>
        <p:sp>
          <p:nvSpPr>
            <p:cNvPr id="108" name=""/>
            <p:cNvSpPr/>
            <p:nvPr/>
          </p:nvSpPr>
          <p:spPr>
            <a:xfrm>
              <a:off x="5943600" y="457200"/>
              <a:ext cx="30481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tends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icastRemoteObj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basic functionality required for all remote objects and implements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therServi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172200" y="1752480"/>
              <a:ext cx="9907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971800" y="3733920"/>
            <a:ext cx="3733560" cy="580680"/>
            <a:chOff x="2971800" y="3733920"/>
            <a:chExt cx="3733560" cy="580680"/>
          </a:xfrm>
        </p:grpSpPr>
        <p:sp>
          <p:nvSpPr>
            <p:cNvPr id="111" name=""/>
            <p:cNvSpPr/>
            <p:nvPr/>
          </p:nvSpPr>
          <p:spPr>
            <a:xfrm>
              <a:off x="3769920" y="3733920"/>
              <a:ext cx="2935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the default constructor for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icastRemoteObj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971800" y="4038840"/>
              <a:ext cx="80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400800" y="5715000"/>
            <a:ext cx="2438280" cy="824040"/>
            <a:chOff x="6400800" y="5715000"/>
            <a:chExt cx="2438280" cy="824040"/>
          </a:xfrm>
        </p:grpSpPr>
        <p:sp>
          <p:nvSpPr>
            <p:cNvPr id="114" name=""/>
            <p:cNvSpPr/>
            <p:nvPr/>
          </p:nvSpPr>
          <p:spPr>
            <a:xfrm>
              <a:off x="6922080" y="5715000"/>
              <a:ext cx="1917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R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the Traveler’s Forecast Web pa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6400800" y="6019920"/>
              <a:ext cx="52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6.3 Running the Deitel Messenger Server and Client Applic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4" name=""/>
          <p:cNvSpPr/>
          <p:nvPr/>
        </p:nvSpPr>
        <p:spPr>
          <a:xfrm>
            <a:off x="2370600" y="5562720"/>
            <a:ext cx="488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3.2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onversation using Deitel Messeng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messenger_6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2543040" cy="4172040"/>
          </a:xfrm>
          <a:prstGeom prst="rect">
            <a:avLst/>
          </a:prstGeom>
          <a:ln w="0">
            <a:noFill/>
          </a:ln>
        </p:spPr>
      </p:pic>
      <p:pic>
        <p:nvPicPr>
          <p:cNvPr id="506" name="messenger_7" descr=""/>
          <p:cNvPicPr/>
          <p:nvPr/>
        </p:nvPicPr>
        <p:blipFill>
          <a:blip r:embed="rId2"/>
          <a:stretch/>
        </p:blipFill>
        <p:spPr>
          <a:xfrm>
            <a:off x="3276720" y="1295280"/>
            <a:ext cx="2543040" cy="4172040"/>
          </a:xfrm>
          <a:prstGeom prst="rect">
            <a:avLst/>
          </a:prstGeom>
          <a:ln w="0">
            <a:noFill/>
          </a:ln>
        </p:spPr>
      </p:pic>
      <p:pic>
        <p:nvPicPr>
          <p:cNvPr id="507" name="messenger_8" descr=""/>
          <p:cNvPicPr/>
          <p:nvPr/>
        </p:nvPicPr>
        <p:blipFill>
          <a:blip r:embed="rId3"/>
          <a:stretch/>
        </p:blipFill>
        <p:spPr>
          <a:xfrm>
            <a:off x="6324480" y="1295280"/>
            <a:ext cx="254340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 WeatherServiceImpl class implements remote interface WeatherServic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2-4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BufferedReader for reading Web page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edReader i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Read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StreamReader( url.openStream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parator for starting point of data on Web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separat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AV1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cate separator string in Web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.readLine().startsWith( separator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o noth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trings representing headers on Traveler’s Foreca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eb page for daytime and nighttime weat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dayHead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TY            WEA     HI/LO   WEA     HI/L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nightHead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TY            WEA     LO/HI   WEA     LO/HI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inputLin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cate header that begins weather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putLine = in.readLi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putLine.equals( dayHeader ) &amp;&am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!inputLine.equals( nightHeade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eatherInforma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WeatherBeans containing weather data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tore in weatherInformation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Line = in.readLin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first city's inf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943240" y="1523880"/>
            <a:ext cx="3124440" cy="824040"/>
            <a:chOff x="5943240" y="1523880"/>
            <a:chExt cx="3124440" cy="824040"/>
          </a:xfrm>
        </p:grpSpPr>
        <p:sp>
          <p:nvSpPr>
            <p:cNvPr id="119" name=""/>
            <p:cNvSpPr/>
            <p:nvPr/>
          </p:nvSpPr>
          <p:spPr>
            <a:xfrm>
              <a:off x="6553080" y="152388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ad through the Traveler’s Forecast Web page until reaching the sentine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5943240" y="18288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800240" y="4038480"/>
            <a:ext cx="2362680" cy="580680"/>
            <a:chOff x="4800240" y="4038480"/>
            <a:chExt cx="2362680" cy="580680"/>
          </a:xfrm>
        </p:grpSpPr>
        <p:sp>
          <p:nvSpPr>
            <p:cNvPr id="122" name=""/>
            <p:cNvSpPr/>
            <p:nvPr/>
          </p:nvSpPr>
          <p:spPr>
            <a:xfrm>
              <a:off x="5305680" y="4038480"/>
              <a:ext cx="185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ad next line from the Web pa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800240" y="4343400"/>
              <a:ext cx="50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3.2 WeatherServiceImpl class implements remote interface WeatherServic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0-8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6-7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8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87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he portion of inputLine containing relevant data 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28 characters long. If the line length is not 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east 28 characters long, done processing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putLine.length()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reate WeatherBean object for city. First 16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haracters are city name. Next, six 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re weather description. Next six 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re HI/LO or LO/HI temperatur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eatherBean weath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atherBea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nputLine.sub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nputLine.sub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nputLine.sub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dd WeatherBean to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eatherInformation.add( weather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putLine = in.readLin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next city's inf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.clos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ose connection to NWS Web server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ather information updat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updateWeatherCond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onnecting to National Weather Ser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java.net.ConnectException connect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24280" y="609480"/>
            <a:ext cx="4190760" cy="824040"/>
            <a:chOff x="4724280" y="609480"/>
            <a:chExt cx="4190760" cy="824040"/>
          </a:xfrm>
        </p:grpSpPr>
        <p:sp>
          <p:nvSpPr>
            <p:cNvPr id="127" name=""/>
            <p:cNvSpPr/>
            <p:nvPr/>
          </p:nvSpPr>
          <p:spPr>
            <a:xfrm>
              <a:off x="5621760" y="609480"/>
              <a:ext cx="3293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ad each city’s weather information and place this information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ther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724280" y="914400"/>
              <a:ext cx="8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257800" y="1676520"/>
            <a:ext cx="3200040" cy="580680"/>
            <a:chOff x="5257800" y="1676520"/>
            <a:chExt cx="3200040" cy="580680"/>
          </a:xfrm>
        </p:grpSpPr>
        <p:sp>
          <p:nvSpPr>
            <p:cNvPr id="130" name=""/>
            <p:cNvSpPr/>
            <p:nvPr/>
          </p:nvSpPr>
          <p:spPr>
            <a:xfrm>
              <a:off x="5941800" y="1676520"/>
              <a:ext cx="2516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ther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the current cit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257800" y="198144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876560" y="2743200"/>
            <a:ext cx="2819160" cy="580680"/>
            <a:chOff x="4876560" y="2743200"/>
            <a:chExt cx="2819160" cy="580680"/>
          </a:xfrm>
        </p:grpSpPr>
        <p:sp>
          <p:nvSpPr>
            <p:cNvPr id="133" name=""/>
            <p:cNvSpPr/>
            <p:nvPr/>
          </p:nvSpPr>
          <p:spPr>
            <a:xfrm>
              <a:off x="5479560" y="2743200"/>
              <a:ext cx="2216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ther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o the Li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4876560" y="304812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095520" y="3733920"/>
            <a:ext cx="2896200" cy="824040"/>
            <a:chOff x="6095520" y="3733920"/>
            <a:chExt cx="2896200" cy="824040"/>
          </a:xfrm>
        </p:grpSpPr>
        <p:sp>
          <p:nvSpPr>
            <p:cNvPr id="136" name=""/>
            <p:cNvSpPr/>
            <p:nvPr/>
          </p:nvSpPr>
          <p:spPr>
            <a:xfrm>
              <a:off x="6715080" y="3733920"/>
              <a:ext cx="2276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s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fferedRea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its associa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put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6095520" y="403848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nick</dc:creator>
  <dc:description/>
  <dc:language>en-US</dc:language>
  <cp:lastModifiedBy>gadzik</cp:lastModifiedBy>
  <dcterms:modified xsi:type="dcterms:W3CDTF">2002-02-01T14:08:40Z</dcterms:modified>
  <cp:revision>77</cp:revision>
  <dc:subject/>
  <dc:title>PowerPoint Presentation</dc:title>
</cp:coreProperties>
</file>