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34.png" ContentType="image/png"/>
  <Override PartName="/ppt/media/image17.wmf" ContentType="image/x-wmf"/>
  <Override PartName="/ppt/media/image11.png" ContentType="image/png"/>
  <Override PartName="/ppt/media/image35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EDBB-3052-4A17-BBED-B5B12029D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7135-5573-4070-BCD3-D890B6A44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E525-629C-4C14-86B5-E2769F803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F593-A6BF-40EF-B89A-ECE38BCB2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AD94-FED1-4D88-BA08-B6BB42BD6F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1B7B-947E-4445-A872-33D700EF68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9E84-7E65-453A-94FE-A563D250F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8E8B-8AF4-4EF6-B253-5D57108EE3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EBBA-1384-47F9-9E7B-B0007834C7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1D2C-AAFE-4D71-B8DD-552FE8ACC3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7530-5BED-4057-B551-24C9236F02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981D-D36F-43FC-8ADD-8ECF52440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B87E-F7EA-499C-BEBC-0868ABBE12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BB6A-2A43-4702-95CA-F711A6F335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69E4-E4FB-43D7-83AF-89F875C454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F7FD-9FEF-41C0-8B5F-E0CD0F0164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C4CE-B661-412D-B736-40C24B8850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E0F8-F55F-4A9E-A549-A21C461DE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E3B6-679B-46B2-99BB-F752B068F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32EE-4519-4E94-B2E2-A8C37BDE0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E46D-DC3A-45F2-A4A2-24ECE2BDC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5CEA-8443-427C-8975-B3D32B5DC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6CE7-05D0-4931-8916-A7C1F1851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13E5-165F-496F-90A9-AB8AF7FC1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551B-3189-4412-8FC5-EC330A3BB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4A1B-031E-4DA4-81F2-D4D5588D2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0: JavaServer Pag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Server Pages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First JavaServer Page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icit Objec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ript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ripting Compon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ripting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A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&lt;jsp:include&gt;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&lt;jsp:forward&gt;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&lt;jsp:plugin&gt;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&lt;jsp:useBean&gt;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irectiv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ag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irectiv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nclud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irectiv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rvlets do not produce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 other servlets and J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s execute as part of a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firs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 container translates a JSP into a 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the current and future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that represents the 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d in 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_jspServ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-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-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A tag that iterates over an ArrayList of GuestBea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objects, so they can be output in a JSP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jsp.taglibrary.GuestBookT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ei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jsp.taglibrary.GuestBookTagExtra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ei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cont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S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cont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es over a list of GuestBean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828440" y="1447920"/>
            <a:ext cx="6858360" cy="580680"/>
            <a:chOff x="1828440" y="1447920"/>
            <a:chExt cx="6858360" cy="580680"/>
          </a:xfrm>
        </p:grpSpPr>
        <p:sp>
          <p:nvSpPr>
            <p:cNvPr id="518" name=""/>
            <p:cNvSpPr/>
            <p:nvPr/>
          </p:nvSpPr>
          <p:spPr>
            <a:xfrm>
              <a:off x="6705720" y="14479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custom tag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traInf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828440" y="1752480"/>
              <a:ext cx="4876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err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lation-time err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when JSPs are translated into servl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est-tim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during request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spIn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spDestr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r invokes when initializing and terminating a 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are defined in JSP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the JSP scripting mecha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 A First JavaServer Page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JSP example (Fig. 10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-template data (XHTML mark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 Java objec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.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conversion of JSP expression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to refresh Web page at specified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invoca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ock.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e delay wh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container translates the JSP into a 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container compiles the 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container executes the 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nvocations should not experience the same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JSP expression to insert the date and time in a Web pag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1: clock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meta http-equiv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fres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en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6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Simple JSP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.big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font-size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mple JSP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rder: 6px outse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ground-color: black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 cyan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&lt;!-- JSP expression to insert date/tim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Dat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00240" y="5105520"/>
            <a:ext cx="4115160" cy="1067400"/>
            <a:chOff x="4800240" y="5105520"/>
            <a:chExt cx="4115160" cy="1067400"/>
          </a:xfrm>
        </p:grpSpPr>
        <p:sp>
          <p:nvSpPr>
            <p:cNvPr id="114" name=""/>
            <p:cNvSpPr/>
            <p:nvPr/>
          </p:nvSpPr>
          <p:spPr>
            <a:xfrm>
              <a:off x="6400800" y="51055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is converted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icitly and displayed in paragraph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00240" y="5638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86400" y="2057040"/>
            <a:ext cx="3276360" cy="1038240"/>
            <a:chOff x="5486400" y="2057040"/>
            <a:chExt cx="3276360" cy="1038240"/>
          </a:xfrm>
        </p:grpSpPr>
        <p:sp>
          <p:nvSpPr>
            <p:cNvPr id="117" name=""/>
            <p:cNvSpPr/>
            <p:nvPr/>
          </p:nvSpPr>
          <p:spPr>
            <a:xfrm>
              <a:off x="6198480" y="2514600"/>
              <a:ext cx="2564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refreshes the Web page ever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co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5486400" y="2057040"/>
              <a:ext cx="712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JSP expression to insert the date and time in a Web pag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6360840" cy="2752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636084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4800240" y="2743200"/>
            <a:ext cx="4038840" cy="2971800"/>
            <a:chOff x="4800240" y="2743200"/>
            <a:chExt cx="4038840" cy="2971800"/>
          </a:xfrm>
        </p:grpSpPr>
        <p:sp>
          <p:nvSpPr>
            <p:cNvPr id="124" name=""/>
            <p:cNvSpPr/>
            <p:nvPr/>
          </p:nvSpPr>
          <p:spPr>
            <a:xfrm>
              <a:off x="6400800" y="27432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ppears he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029200" y="3048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800240" y="3048120"/>
              <a:ext cx="16002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Implicit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ccess to many servlet capabilities within a 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 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owned by the container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servlet or JSP can manipulate thes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that exist only in page in which they ar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page has its own instance of thes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exist for duration of clien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go out of scope when response sent 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sion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exist for duration of client’s browsing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go out of scope when client terminates session or when session timeout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Implicit Objec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implici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 classes or implement 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Chapt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h objects can invoke public aspects of classes/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Implicit Objec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4360" y="993600"/>
          <a:ext cx="7711920" cy="952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93600"/>
                    <a:ext cx="7711920" cy="95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Implicit Objec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92280" y="1366920"/>
          <a:ext cx="7616520" cy="94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366920"/>
                    <a:ext cx="7616520" cy="94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 Scrip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JSP programmers can insert Java code and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rrently, JSP support scripting only with 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10: JavaServer Pag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14520" y="1143000"/>
            <a:ext cx="620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 Tag Librar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imple Custom Ta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 Tag with Attribu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aluating the Body of a Custom 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.1   Scripting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scripting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iptlets (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nts (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%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%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(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%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cape sequ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.1   Scripting Compon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.2   Scripting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e basic scripting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ding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ing a JavaServer Page -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23, 30-3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4: welcome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JSP that processes a "get" request containing data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head section of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"get" requests with dat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body section of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Hello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elcome to JavaServer Pages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200040" y="2895480"/>
            <a:ext cx="5563080" cy="2667240"/>
            <a:chOff x="3200040" y="2895480"/>
            <a:chExt cx="5563080" cy="2667240"/>
          </a:xfrm>
        </p:grpSpPr>
        <p:sp>
          <p:nvSpPr>
            <p:cNvPr id="149" name=""/>
            <p:cNvSpPr/>
            <p:nvPr/>
          </p:nvSpPr>
          <p:spPr>
            <a:xfrm>
              <a:off x="7162920" y="289548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riptlets used to insert Java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200040" y="3200400"/>
              <a:ext cx="3962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352680" y="3200400"/>
              <a:ext cx="381024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580920" y="4267080"/>
            <a:ext cx="5105880" cy="609840"/>
            <a:chOff x="3580920" y="4267080"/>
            <a:chExt cx="5105880" cy="609840"/>
          </a:xfrm>
        </p:grpSpPr>
        <p:sp>
          <p:nvSpPr>
            <p:cNvPr id="153" name=""/>
            <p:cNvSpPr/>
            <p:nvPr/>
          </p:nvSpPr>
          <p:spPr>
            <a:xfrm>
              <a:off x="7086600" y="426708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SP 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80920" y="4419720"/>
              <a:ext cx="3505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095880" y="3581280"/>
            <a:ext cx="2819520" cy="580680"/>
            <a:chOff x="6095880" y="3581280"/>
            <a:chExt cx="2819520" cy="580680"/>
          </a:xfrm>
        </p:grpSpPr>
        <p:sp>
          <p:nvSpPr>
            <p:cNvPr id="156" name=""/>
            <p:cNvSpPr/>
            <p:nvPr/>
          </p:nvSpPr>
          <p:spPr>
            <a:xfrm>
              <a:off x="6705720" y="35812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icit object to get para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6095880" y="373356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ing a JavaServer Page -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5-4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.j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your first name and press Submi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irstName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XHT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28640" y="2286000"/>
            <a:ext cx="5105880" cy="580680"/>
            <a:chOff x="3428640" y="2286000"/>
            <a:chExt cx="5105880" cy="580680"/>
          </a:xfrm>
        </p:grpSpPr>
        <p:sp>
          <p:nvSpPr>
            <p:cNvPr id="161" name=""/>
            <p:cNvSpPr/>
            <p:nvPr/>
          </p:nvSpPr>
          <p:spPr>
            <a:xfrm>
              <a:off x="6934320" y="228600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riptlets used to insert Java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428640" y="259092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ing a JavaServer Page -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5572080" cy="2362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5572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 Standard A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standard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ccess to common tasks performed in a 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ing content from oth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ing requests to oth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ng with JavaB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 containers process actions at request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jsp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jsp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 Standard A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1366920"/>
          <a:ext cx="774360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6920"/>
                    <a:ext cx="774360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 Standard Ac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1366920"/>
          <a:ext cx="774360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6920"/>
                    <a:ext cx="774360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include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include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dynamic content to be included in a 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flexible th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more overhead when page contents change 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Server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of Servlet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content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e existing Java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programming 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ustom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 complex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nd interfaces specific to 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x.servlet.j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x.servlet.jsp.tag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include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08120" y="2224080"/>
          <a:ext cx="7769160" cy="219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224080"/>
                    <a:ext cx="77691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ner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nner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o include across the top of the XHTML document created by Fig. 10.10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7: banner.html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anner to include in another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div sty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580px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(TM), C, C++, Visual Basic(R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Technology, an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et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orld Wide Web Programming Training&amp;nbs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n-Site Seminars Delivered Worldwi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ilto:deitel@deitel.co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@deitel.co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978.579.991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490B Boston Post Road, Suite 200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dbury, MA 0177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iv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of contents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c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o include down the left side of the XHTML document created by Fig.10.10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8: toc.html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ontents to include in another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books/index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ublications/BookSt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whatsnew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hat's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books/downloads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wnloads/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faq/index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AQ (Frequently Asked Question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intro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ho w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/index.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m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 questions or comments about this site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ilto:deitel@deitel.co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itel@deitel.co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/a&gt;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pyright 1995-2002 by Deitel &amp;amp; Associates, Inc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ll Rights Reserv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9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ck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include as the main content in the XHTML document created by Fig.10.10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-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9: clock2.jsp         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date and time to include in another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ground-color: black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 cyan; font-size: 3em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nt-weight: bold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&lt;%-- script to determine client local and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&lt;%-- format date accordingly             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client lo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ava.util.Locale locale = request.getLoca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DateFormat for client's Lo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ava.text.DateFormat dateForma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ava.text.DateFormat.getDateTimeInstanc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ava.text.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ava.text.DateForma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&lt;%-- output date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Format.forma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Date() 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324120" y="2819520"/>
            <a:ext cx="2362680" cy="1067400"/>
            <a:chOff x="6324120" y="2819520"/>
            <a:chExt cx="2362680" cy="1067400"/>
          </a:xfrm>
        </p:grpSpPr>
        <p:sp>
          <p:nvSpPr>
            <p:cNvPr id="186" name=""/>
            <p:cNvSpPr/>
            <p:nvPr/>
          </p:nvSpPr>
          <p:spPr>
            <a:xfrm>
              <a:off x="7162920" y="2819520"/>
              <a:ext cx="1523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form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specifi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324120" y="3352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ludes resource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 include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7: include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jsp:includ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60px; text-align: cent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sr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logotiny.png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idt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4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3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&amp; Associates, Inc. Log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ludes resource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 include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-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5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banner.html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include 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nner.html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us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60px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toc.html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jsp:include p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c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us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rtical-align: to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clock2.jsp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include 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ck2.j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flus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05520" y="685800"/>
            <a:ext cx="3581280" cy="580680"/>
            <a:chOff x="5105520" y="685800"/>
            <a:chExt cx="3581280" cy="580680"/>
          </a:xfrm>
        </p:grpSpPr>
        <p:sp>
          <p:nvSpPr>
            <p:cNvPr id="193" name=""/>
            <p:cNvSpPr/>
            <p:nvPr/>
          </p:nvSpPr>
          <p:spPr>
            <a:xfrm>
              <a:off x="6477120" y="6858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SP action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nner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105520" y="9907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867280" y="1676520"/>
            <a:ext cx="2819520" cy="914400"/>
            <a:chOff x="5867280" y="1676520"/>
            <a:chExt cx="2819520" cy="914400"/>
          </a:xfrm>
        </p:grpSpPr>
        <p:sp>
          <p:nvSpPr>
            <p:cNvPr id="196" name=""/>
            <p:cNvSpPr/>
            <p:nvPr/>
          </p:nvSpPr>
          <p:spPr>
            <a:xfrm>
              <a:off x="6781680" y="16765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SP action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c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867280" y="19810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028840" y="3809880"/>
            <a:ext cx="3734280" cy="580680"/>
            <a:chOff x="5028840" y="3809880"/>
            <a:chExt cx="3734280" cy="580680"/>
          </a:xfrm>
        </p:grpSpPr>
        <p:sp>
          <p:nvSpPr>
            <p:cNvPr id="199" name=""/>
            <p:cNvSpPr/>
            <p:nvPr/>
          </p:nvSpPr>
          <p:spPr>
            <a:xfrm>
              <a:off x="6629400" y="380988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JSP action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ock2.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028840" y="4114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ludes resource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 include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231920"/>
            <a:ext cx="640080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forward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forward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JSP to forward request to different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forwarded requests only resources in same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param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name/value pairs of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/Value pairs are passed to other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1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meter, adds a date to the request parameters and forwards the reques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further processing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11: forward1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 request to another JSP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forward 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rward2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aram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Dat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sp:forwar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66920" y="4114800"/>
            <a:ext cx="2896200" cy="580680"/>
            <a:chOff x="5866920" y="4114800"/>
            <a:chExt cx="2896200" cy="580680"/>
          </a:xfrm>
        </p:grpSpPr>
        <p:sp>
          <p:nvSpPr>
            <p:cNvPr id="208" name=""/>
            <p:cNvSpPr/>
            <p:nvPr/>
          </p:nvSpPr>
          <p:spPr>
            <a:xfrm>
              <a:off x="7010280" y="4114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reque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2.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866920" y="4419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1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meter, adds a date to the request parameters and forwards the reques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further processing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rward1.j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your first name and press Submi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end XHTML docum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52480" y="3657600"/>
            <a:ext cx="3753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ipt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request (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1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is example) and uses the request parameters as part of the response to the cli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orward2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 forwarded requ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bi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lo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our request was receive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d forwarded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able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rder: 6px outse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ground-color: black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 cyan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38680" y="3124080"/>
            <a:ext cx="3048120" cy="1219320"/>
            <a:chOff x="5638680" y="3124080"/>
            <a:chExt cx="3048120" cy="1219320"/>
          </a:xfrm>
        </p:grpSpPr>
        <p:sp>
          <p:nvSpPr>
            <p:cNvPr id="216" name=""/>
            <p:cNvSpPr/>
            <p:nvPr/>
          </p:nvSpPr>
          <p:spPr>
            <a:xfrm>
              <a:off x="6553080" y="312408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reques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1.js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n 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 from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638680" y="365760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486040" y="5486400"/>
            <a:ext cx="3124440" cy="580680"/>
            <a:chOff x="5486040" y="5486400"/>
            <a:chExt cx="3124440" cy="580680"/>
          </a:xfrm>
        </p:grpSpPr>
        <p:sp>
          <p:nvSpPr>
            <p:cNvPr id="219" name=""/>
            <p:cNvSpPr/>
            <p:nvPr/>
          </p:nvSpPr>
          <p:spPr>
            <a:xfrm>
              <a:off x="6705720" y="5486400"/>
              <a:ext cx="1904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 from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86040" y="5791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2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request (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1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is example) and uses the request parameters as part of the response to the client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762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286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plugi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s an applet or JavaBean to a Web p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enables client to download and install Java Plug-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plugi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5800" y="914400"/>
          <a:ext cx="776916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769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pplet to demonstr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Fig. 10.15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14: ShapesApp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let that demonstrates a Java2D GeneralPat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appl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pp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App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pp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the app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color parameters from XHTML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 = Integer.parseInt( 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en = Integer.parseInt( 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e = Integer.parseInt( 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 backgroundCol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, green, b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Background( background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there is an exception while processing the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ameters, catch it and ignore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477120" y="2971800"/>
            <a:ext cx="2514600" cy="1752480"/>
            <a:chOff x="6477120" y="2971800"/>
            <a:chExt cx="2514600" cy="1752480"/>
          </a:xfrm>
        </p:grpSpPr>
        <p:sp>
          <p:nvSpPr>
            <p:cNvPr id="232" name=""/>
            <p:cNvSpPr/>
            <p:nvPr/>
          </p:nvSpPr>
          <p:spPr>
            <a:xfrm>
              <a:off x="6781680" y="297180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pp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ckground color based on parameter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477120" y="380988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629040" y="380988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114440" y="1752480"/>
            <a:ext cx="2438640" cy="838440"/>
            <a:chOff x="4114440" y="1752480"/>
            <a:chExt cx="2438640" cy="838440"/>
          </a:xfrm>
        </p:grpSpPr>
        <p:sp>
          <p:nvSpPr>
            <p:cNvPr id="236" name=""/>
            <p:cNvSpPr/>
            <p:nvPr/>
          </p:nvSpPr>
          <p:spPr>
            <a:xfrm>
              <a:off x="4876920" y="175248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pp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mbed in 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114440" y="2057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pplet to demonstr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Fig. 10.15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s of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Point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Point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reference to a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star from a series of po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neralPath st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initial coordinate of the General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.moveTo( xPoint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yPoint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e star--this does not draw the 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xPoints.length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.lineTo( xPoints[ k ], yPoints[ k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the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.close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late the origin to (200, 20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transla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otate around origin and draw stars in random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rotate( Math.P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343400" y="1676520"/>
            <a:ext cx="4343400" cy="3733560"/>
            <a:chOff x="4343400" y="1676520"/>
            <a:chExt cx="4343400" cy="3733560"/>
          </a:xfrm>
        </p:grpSpPr>
        <p:sp>
          <p:nvSpPr>
            <p:cNvPr id="241" name=""/>
            <p:cNvSpPr/>
            <p:nvPr/>
          </p:nvSpPr>
          <p:spPr>
            <a:xfrm>
              <a:off x="6705720" y="289548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neral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several colored st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1676520"/>
              <a:ext cx="129564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4647960" y="2742840"/>
              <a:ext cx="2057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562360" y="335268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343400" y="3352680"/>
              <a:ext cx="23623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3352680"/>
              <a:ext cx="221004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pplet to demonstr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Fig. 10.15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8-7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setColo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fill( star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draw a filled 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333760" y="533520"/>
            <a:ext cx="3581640" cy="824040"/>
            <a:chOff x="5333760" y="533520"/>
            <a:chExt cx="3581640" cy="824040"/>
          </a:xfrm>
        </p:grpSpPr>
        <p:sp>
          <p:nvSpPr>
            <p:cNvPr id="250" name=""/>
            <p:cNvSpPr/>
            <p:nvPr/>
          </p:nvSpPr>
          <p:spPr>
            <a:xfrm>
              <a:off x="6934320" y="53352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neral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several colored st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5790960" y="68544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333760" y="99072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embed a Java 2 applet in a JS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15: plugin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jsp:plugin to load an apple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lugin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applet.ShapesApplet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odebas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jsp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idth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height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40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jsp: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aram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aram 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green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param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jsp:param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jsp:plugi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715000" y="990720"/>
            <a:ext cx="2819520" cy="1066680"/>
            <a:chOff x="5715000" y="990720"/>
            <a:chExt cx="2819520" cy="1066680"/>
          </a:xfrm>
        </p:grpSpPr>
        <p:sp>
          <p:nvSpPr>
            <p:cNvPr id="256" name=""/>
            <p:cNvSpPr/>
            <p:nvPr/>
          </p:nvSpPr>
          <p:spPr>
            <a:xfrm>
              <a:off x="6705720" y="99072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plug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to 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pp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715000" y="14479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562720" y="2514600"/>
            <a:ext cx="3047760" cy="838080"/>
            <a:chOff x="5562720" y="2514600"/>
            <a:chExt cx="3047760" cy="838080"/>
          </a:xfrm>
        </p:grpSpPr>
        <p:sp>
          <p:nvSpPr>
            <p:cNvPr id="259" name=""/>
            <p:cNvSpPr/>
            <p:nvPr/>
          </p:nvSpPr>
          <p:spPr>
            <a:xfrm>
              <a:off x="6400800" y="251460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par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to spec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pp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ckground 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562720" y="297180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jsp:plugi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embed a Java 2 applet in a JS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5639040" cy="4438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3717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jsp:useBean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JSP to manipulate Java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Java object or locates an existing object for use in 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to JSP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program that compiles/executes J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programmers to spec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to include from oth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 tag libraries used in the 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1295280"/>
          <a:ext cx="77439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7439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t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 that maintains a set of advertisement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17: Rot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JavaBean that rotates advertise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s[] = {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mages/jhtp3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"images/xmlhtp1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ebechtp1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iw3htp1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cpphtp3.jp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inks[]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amazon.com/exec/obidos/ASIN/0130125075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amazon.com/exec/obidos/ASIN/0130284173/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amazon.com/exec/obidos/ASIN/013028419X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http://www.amazon.com/exec/obidos/ASIN/0130161438/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http://www.amazon.com/exec/obidos/ASIN/0130895717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itelassociat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lectedIndex =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image file name for current a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mag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s[ selectedInde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s the URL for ad's corresponding Web si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ink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ks[ selectedInde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24080" y="4419720"/>
            <a:ext cx="5105520" cy="580680"/>
            <a:chOff x="3124080" y="4419720"/>
            <a:chExt cx="5105520" cy="580680"/>
          </a:xfrm>
        </p:grpSpPr>
        <p:sp>
          <p:nvSpPr>
            <p:cNvPr id="272" name=""/>
            <p:cNvSpPr/>
            <p:nvPr/>
          </p:nvSpPr>
          <p:spPr>
            <a:xfrm>
              <a:off x="6019920" y="44197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image file name for book cover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124080" y="47242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047760" y="5562720"/>
            <a:ext cx="5029560" cy="580680"/>
            <a:chOff x="3047760" y="5562720"/>
            <a:chExt cx="5029560" cy="580680"/>
          </a:xfrm>
        </p:grpSpPr>
        <p:sp>
          <p:nvSpPr>
            <p:cNvPr id="275" name=""/>
            <p:cNvSpPr/>
            <p:nvPr/>
          </p:nvSpPr>
          <p:spPr>
            <a:xfrm>
              <a:off x="5943600" y="556272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hyperlink to book 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azon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047760" y="58672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t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 that maintains a set of advertisement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8-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selectedIndex so next calls to getImage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Link return a different advertis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A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lectedIndex = ( selectedIndex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images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743200" y="228600"/>
            <a:ext cx="6172200" cy="1310760"/>
            <a:chOff x="2743200" y="228600"/>
            <a:chExt cx="6172200" cy="1310760"/>
          </a:xfrm>
        </p:grpSpPr>
        <p:sp>
          <p:nvSpPr>
            <p:cNvPr id="280" name=""/>
            <p:cNvSpPr/>
            <p:nvPr/>
          </p:nvSpPr>
          <p:spPr>
            <a:xfrm>
              <a:off x="6477120" y="228600"/>
              <a:ext cx="24382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t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o subsequent call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in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information for different advertis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743200" y="761760"/>
              <a:ext cx="3733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rotator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t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 to display a different advertisement on each request to the pag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-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-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18: adrotator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useBean i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otat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co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icatio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beans.Rotat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Rotator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bi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sans-serif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update advertisemen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or.nextAd();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Rotator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getProperty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otat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pert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n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src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getProperty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otato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perty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ertisemen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638680" y="1143000"/>
            <a:ext cx="3276720" cy="824040"/>
            <a:chOff x="5638680" y="1143000"/>
            <a:chExt cx="3276720" cy="824040"/>
          </a:xfrm>
        </p:grpSpPr>
        <p:sp>
          <p:nvSpPr>
            <p:cNvPr id="285" name=""/>
            <p:cNvSpPr/>
            <p:nvPr/>
          </p:nvSpPr>
          <p:spPr>
            <a:xfrm>
              <a:off x="6629400" y="11430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use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to obtai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t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638680" y="1523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352320" y="3886200"/>
            <a:ext cx="4953600" cy="580680"/>
            <a:chOff x="3352320" y="3886200"/>
            <a:chExt cx="4953600" cy="580680"/>
          </a:xfrm>
        </p:grpSpPr>
        <p:sp>
          <p:nvSpPr>
            <p:cNvPr id="288" name=""/>
            <p:cNvSpPr/>
            <p:nvPr/>
          </p:nvSpPr>
          <p:spPr>
            <a:xfrm>
              <a:off x="6477120" y="38862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t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xtA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352320" y="41911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4800600"/>
            <a:ext cx="3124080" cy="1219320"/>
            <a:chOff x="5562720" y="4800600"/>
            <a:chExt cx="3124080" cy="1219320"/>
          </a:xfrm>
        </p:grpSpPr>
        <p:sp>
          <p:nvSpPr>
            <p:cNvPr id="291" name=""/>
            <p:cNvSpPr/>
            <p:nvPr/>
          </p:nvSpPr>
          <p:spPr>
            <a:xfrm>
              <a:off x="6858000" y="48006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hyperlink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azon.co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62720" y="5105520"/>
              <a:ext cx="1295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943600" y="510552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1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rotator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t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 to display a different advertisement on each request to the page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3390840" cy="40384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581280" y="1143000"/>
            <a:ext cx="3391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5800" y="914400"/>
          <a:ext cx="776916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7691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ores information for one gues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20: Guest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Bean to store data for a guest in the guest boo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, lastName, 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guest'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guest'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guest's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guest's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572000" y="1371240"/>
            <a:ext cx="4267080" cy="1967400"/>
            <a:chOff x="4572000" y="1371240"/>
            <a:chExt cx="4267080" cy="1967400"/>
          </a:xfrm>
        </p:grpSpPr>
        <p:sp>
          <p:nvSpPr>
            <p:cNvPr id="304" name=""/>
            <p:cNvSpPr/>
            <p:nvPr/>
          </p:nvSpPr>
          <p:spPr>
            <a:xfrm>
              <a:off x="6019920" y="251460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es three guest properties: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a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572000" y="1371240"/>
              <a:ext cx="14479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0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ores information for one guest 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guest's e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mail( String addre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ail = 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he guest's e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Emai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Data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forms database access on behalf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21: GuestDataBea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GuestDataBean makes a database connection and suppor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ing and retrieving data from the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DataBea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addRecord, getRecord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TitlesBean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DataBean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the Cloudscape dr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.for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the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ion = DriverManager.getConnec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:rmi:jdbc:cloudscape:guestboo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Records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firstName, lastName, email FROM gues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 INTO guests (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, lastName, email )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( ?, ?, ? 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105520" y="3962520"/>
            <a:ext cx="3504960" cy="580680"/>
            <a:chOff x="5105520" y="3962520"/>
            <a:chExt cx="3504960" cy="580680"/>
          </a:xfrm>
        </p:grpSpPr>
        <p:sp>
          <p:nvSpPr>
            <p:cNvPr id="311" name=""/>
            <p:cNvSpPr/>
            <p:nvPr/>
          </p:nvSpPr>
          <p:spPr>
            <a:xfrm>
              <a:off x="6019920" y="396252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Data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nec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105520" y="426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Data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forms database access on behalf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9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n ArrayList of GuestBea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 getGuestLis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List guest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list of tit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 results = getRecords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ow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Bean gue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ea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.setFirstName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.setLastName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.setEmail( result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List.add( gues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a guest in guestbook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Guest( GuestBean gues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Emai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cord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724280" y="990720"/>
            <a:ext cx="4114800" cy="3809880"/>
            <a:chOff x="4724280" y="990720"/>
            <a:chExt cx="4114800" cy="3809880"/>
          </a:xfrm>
        </p:grpSpPr>
        <p:sp>
          <p:nvSpPr>
            <p:cNvPr id="316" name=""/>
            <p:cNvSpPr/>
            <p:nvPr/>
          </p:nvSpPr>
          <p:spPr>
            <a:xfrm>
              <a:off x="6248520" y="2209680"/>
              <a:ext cx="2590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Data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Guest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G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anipulate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5028840" y="990720"/>
              <a:ext cx="1219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724280" y="2743200"/>
              <a:ext cx="152424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defined JSP tags that encapsulate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performed based on information from client re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to create Java objects for use in script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DataB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forms database access on behalf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statements and terminat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Record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cord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SQLException on close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ables the user to submit a first name, a last name and an e-mail address to be placed in the guest book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-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22: guestBookLogin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error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BookErrorPage.jsp"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beans used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useBean i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co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m.deitel.advjhtp1.jsp.beans.GuestBea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useBean i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Data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co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beans.GuestDataBea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Book Logi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style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029200" y="762120"/>
            <a:ext cx="3352680" cy="824040"/>
            <a:chOff x="5029200" y="762120"/>
            <a:chExt cx="3352680" cy="824040"/>
          </a:xfrm>
        </p:grpSpPr>
        <p:sp>
          <p:nvSpPr>
            <p:cNvPr id="324" name=""/>
            <p:cNvSpPr/>
            <p:nvPr/>
          </p:nvSpPr>
          <p:spPr>
            <a:xfrm>
              <a:off x="6019920" y="7621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defines information that is globally available in 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029200" y="11430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714640" y="1905120"/>
            <a:ext cx="3124440" cy="1067400"/>
            <a:chOff x="5714640" y="1905120"/>
            <a:chExt cx="3124440" cy="1067400"/>
          </a:xfrm>
        </p:grpSpPr>
        <p:sp>
          <p:nvSpPr>
            <p:cNvPr id="327" name=""/>
            <p:cNvSpPr/>
            <p:nvPr/>
          </p:nvSpPr>
          <p:spPr>
            <a:xfrm>
              <a:off x="6400800" y="190512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use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s to obtain referenc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Data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71464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ables the user to submit a first name, a last name and an e-mail address to be placed in the guest book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jsp:setProperty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pert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uest.getFirstName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guest.getLastName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guest.getEmail()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BookLogin.js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your first name, last name and emai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ress to register in our guest book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333760" y="685800"/>
            <a:ext cx="3505320" cy="824040"/>
            <a:chOff x="5333760" y="685800"/>
            <a:chExt cx="3505320" cy="824040"/>
          </a:xfrm>
        </p:grpSpPr>
        <p:sp>
          <p:nvSpPr>
            <p:cNvPr id="332" name=""/>
            <p:cNvSpPr/>
            <p:nvPr/>
          </p:nvSpPr>
          <p:spPr>
            <a:xfrm>
              <a:off x="6477120" y="68580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properti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request parameter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5333760" y="6858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ables the user to submit a first name, a last name and an e-mail address to be placed in the guest book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colspa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Data.addGuest( gue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to insert jsp:forward action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forward to display guest book content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forward 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BookView.js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4648320"/>
            <a:ext cx="3200400" cy="656640"/>
            <a:chOff x="5334120" y="4648320"/>
            <a:chExt cx="3200400" cy="656640"/>
          </a:xfrm>
        </p:grpSpPr>
        <p:sp>
          <p:nvSpPr>
            <p:cNvPr id="337" name=""/>
            <p:cNvSpPr/>
            <p:nvPr/>
          </p:nvSpPr>
          <p:spPr>
            <a:xfrm>
              <a:off x="6172200" y="47242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ward reque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ookView.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5334120" y="46483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plays the contents of the guest book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-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-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23: guestBookView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errorPag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BookErrorPage.jsp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util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 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beans.*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GuestDataBean to obtain guest lis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:useBean i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uestDat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co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jsp.beans.GuestDataBean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yle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xt-alig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028840" y="838080"/>
            <a:ext cx="3353040" cy="1067400"/>
            <a:chOff x="5028840" y="838080"/>
            <a:chExt cx="3353040" cy="1067400"/>
          </a:xfrm>
        </p:grpSpPr>
        <p:sp>
          <p:nvSpPr>
            <p:cNvPr id="342" name=""/>
            <p:cNvSpPr/>
            <p:nvPr/>
          </p:nvSpPr>
          <p:spPr>
            <a:xfrm>
              <a:off x="6095880" y="83808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pecify Java classes and packages that are used in JSP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028840" y="13716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5880" y="2286000"/>
            <a:ext cx="2819520" cy="824040"/>
            <a:chOff x="6095880" y="2286000"/>
            <a:chExt cx="2819520" cy="824040"/>
          </a:xfrm>
        </p:grpSpPr>
        <p:sp>
          <p:nvSpPr>
            <p:cNvPr id="345" name=""/>
            <p:cNvSpPr/>
            <p:nvPr/>
          </p:nvSpPr>
          <p:spPr>
            <a:xfrm>
              <a:off x="6629400" y="22860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:useB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to obtai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Data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095880" y="2743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plays the contents of the guest book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0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-size: 2em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px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px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200px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 guestList = guestData.getGuest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terator guestListIterator = guest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uestBean g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uestList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guest = ( GuestBean ) guestList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;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.getLastNam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.getFirstNam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ilto: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.getEmail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.getEmail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486040" y="2362320"/>
            <a:ext cx="3353040" cy="3581280"/>
            <a:chOff x="5486040" y="2362320"/>
            <a:chExt cx="3353040" cy="3581280"/>
          </a:xfrm>
        </p:grpSpPr>
        <p:sp>
          <p:nvSpPr>
            <p:cNvPr id="350" name=""/>
            <p:cNvSpPr/>
            <p:nvPr/>
          </p:nvSpPr>
          <p:spPr>
            <a:xfrm>
              <a:off x="6400800" y="23623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riptlet displays last name, first name and email address for all g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400440" y="320040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866920" y="3200400"/>
              <a:ext cx="175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486040" y="3200400"/>
              <a:ext cx="21337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866920" y="3200400"/>
              <a:ext cx="1752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plays the contents of the guest book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362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script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end scriptle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Error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ponds to exceptions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24: guestBookErrorPage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page settings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sErrorP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util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.sql.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!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yle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.big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Re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criptlet to determine exception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output beginning of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n SQ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580920" y="838080"/>
            <a:ext cx="5029560" cy="1067400"/>
            <a:chOff x="3580920" y="838080"/>
            <a:chExt cx="5029560" cy="1067400"/>
          </a:xfrm>
        </p:grpSpPr>
        <p:sp>
          <p:nvSpPr>
            <p:cNvPr id="360" name=""/>
            <p:cNvSpPr/>
            <p:nvPr/>
          </p:nvSpPr>
          <p:spPr>
            <a:xfrm>
              <a:off x="6095880" y="83808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Error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BookError-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error p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580920" y="1371600"/>
              <a:ext cx="251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181120" y="5410080"/>
            <a:ext cx="3277080" cy="824040"/>
            <a:chOff x="5181120" y="5410080"/>
            <a:chExt cx="3277080" cy="824040"/>
          </a:xfrm>
        </p:grpSpPr>
        <p:sp>
          <p:nvSpPr>
            <p:cNvPr id="363" name=""/>
            <p:cNvSpPr/>
            <p:nvPr/>
          </p:nvSpPr>
          <p:spPr>
            <a:xfrm>
              <a:off x="6019920" y="5410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implicit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error to be disp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181120" y="57913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Server p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Error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ponds to exceptions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Login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-View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NotFound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 ClassNotFound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n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&lt;%-- end scriptlet to insert fixed template data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continue error message output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ccurred while interacting with the guestbook database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Re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he error message was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.getMessage()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clas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gRe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try again lat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114440" y="685440"/>
            <a:ext cx="3962880" cy="1053000"/>
            <a:chOff x="4114440" y="685440"/>
            <a:chExt cx="3962880" cy="1053000"/>
          </a:xfrm>
        </p:grpSpPr>
        <p:sp>
          <p:nvSpPr>
            <p:cNvPr id="368" name=""/>
            <p:cNvSpPr/>
            <p:nvPr/>
          </p:nvSpPr>
          <p:spPr>
            <a:xfrm>
              <a:off x="5638680" y="914400"/>
              <a:ext cx="2438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implicit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error to be disp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4114440" y="68544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3352680" cy="24274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2743200" cy="26589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4572000" y="3619440"/>
            <a:ext cx="3352680" cy="2689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28576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pt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“Scripting Element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programmers to insert Java code in J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request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s with page elements and other components to implement dynamic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.4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&lt;jsp:useBean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04920" y="1081080"/>
            <a:ext cx="2971800" cy="28814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438360" y="2354400"/>
            <a:ext cx="524844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Directiv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s to JSP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programmer 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pag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content from oth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custom-tag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imi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%@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Directiv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84360" y="1366920"/>
          <a:ext cx="7743600" cy="27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6920"/>
                    <a:ext cx="77436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ag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JSP’s global settings in JSP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ag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84360" y="914400"/>
          <a:ext cx="7704000" cy="1019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14400"/>
                    <a:ext cx="7704000" cy="10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ag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219320"/>
          <a:ext cx="7659720" cy="50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5972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ag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684360" y="914400"/>
          <a:ext cx="7664400" cy="1012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14400"/>
                    <a:ext cx="7664400" cy="1012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content of another resource at JSP transla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s flexibl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jsp:includ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irectiv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monstrates including content at translation-time with directive inclu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28: includeDirective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include directiv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style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ans-ser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60px; text-align: cent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mg src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mages/logotiny.png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4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igh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3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lt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&amp; Associates, Inc. Log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495320" y="762120"/>
            <a:ext cx="4343760" cy="580680"/>
            <a:chOff x="4495320" y="762120"/>
            <a:chExt cx="4343760" cy="580680"/>
          </a:xfrm>
        </p:grpSpPr>
        <p:sp>
          <p:nvSpPr>
            <p:cNvPr id="399" name=""/>
            <p:cNvSpPr/>
            <p:nvPr/>
          </p:nvSpPr>
          <p:spPr>
            <a:xfrm>
              <a:off x="6095880" y="7621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.js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495320" y="1066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irectiv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monstrates including content at translation-time with directive inclu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banner.html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clude fi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nner.html"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d styl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idth: 160px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toc.html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clude fi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c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d sty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rtical-align: top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&lt;%-- include clock2.jsp in this JSP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clude fi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ck2.jsp"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257440" y="609480"/>
            <a:ext cx="3581640" cy="580680"/>
            <a:chOff x="5257440" y="609480"/>
            <a:chExt cx="3581640" cy="580680"/>
          </a:xfrm>
        </p:grpSpPr>
        <p:sp>
          <p:nvSpPr>
            <p:cNvPr id="404" name=""/>
            <p:cNvSpPr/>
            <p:nvPr/>
          </p:nvSpPr>
          <p:spPr>
            <a:xfrm>
              <a:off x="6400800" y="6094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nner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257440" y="914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028840" y="2209680"/>
            <a:ext cx="3734280" cy="580680"/>
            <a:chOff x="5028840" y="2209680"/>
            <a:chExt cx="3734280" cy="580680"/>
          </a:xfrm>
        </p:grpSpPr>
        <p:sp>
          <p:nvSpPr>
            <p:cNvPr id="407" name=""/>
            <p:cNvSpPr/>
            <p:nvPr/>
          </p:nvSpPr>
          <p:spPr>
            <a:xfrm>
              <a:off x="6553080" y="220968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c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028840" y="2514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181480" y="3505320"/>
            <a:ext cx="3733920" cy="580680"/>
            <a:chOff x="5181480" y="3505320"/>
            <a:chExt cx="3733920" cy="580680"/>
          </a:xfrm>
        </p:grpSpPr>
        <p:sp>
          <p:nvSpPr>
            <p:cNvPr id="410" name=""/>
            <p:cNvSpPr/>
            <p:nvPr/>
          </p:nvSpPr>
          <p:spPr>
            <a:xfrm>
              <a:off x="6629400" y="3505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to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ock2.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181480" y="38098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Ta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’s tag extension mecha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programmers to define new ta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 encapsulate complex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s can manipulate JSP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irectiv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monstrates including content at translation-time with directive inclu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626580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Custom Tag Libra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-tag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complex functionality for use in J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custom ta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creating dynamic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that implement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ak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.jsp.tag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Custom Tag Librar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84360" y="1752480"/>
          <a:ext cx="7767360" cy="188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52480"/>
                    <a:ext cx="7767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Tag-Welcome.j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s a simple custom tag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495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30: customTagWelcome.jsp  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JSP that uses a custom tag to output content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taglib directive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glib uri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-taglib.t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efi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mple Custom Tag Exampl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ollowing text demonstrates a custom tag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advjhtp1:welcome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752480" y="4191120"/>
            <a:ext cx="4953240" cy="258444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5409720" y="685800"/>
            <a:ext cx="3505680" cy="990720"/>
            <a:chOff x="5409720" y="685800"/>
            <a:chExt cx="3505680" cy="990720"/>
          </a:xfrm>
        </p:grpSpPr>
        <p:sp>
          <p:nvSpPr>
            <p:cNvPr id="423" name=""/>
            <p:cNvSpPr/>
            <p:nvPr/>
          </p:nvSpPr>
          <p:spPr>
            <a:xfrm>
              <a:off x="624852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gli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rective to include use tags in tag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409720" y="990720"/>
              <a:ext cx="838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352320" y="3505320"/>
            <a:ext cx="5486760" cy="580680"/>
            <a:chOff x="3352320" y="3505320"/>
            <a:chExt cx="5486760" cy="580680"/>
          </a:xfrm>
        </p:grpSpPr>
        <p:sp>
          <p:nvSpPr>
            <p:cNvPr id="426" name=""/>
            <p:cNvSpPr/>
            <p:nvPr/>
          </p:nvSpPr>
          <p:spPr>
            <a:xfrm>
              <a:off x="6477120" y="35053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custom ta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sert text in the 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352320" y="38098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Tag-Hand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31: WelcomeTagHand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 tag handler that handles a simple ta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taglibr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tag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Tag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g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to begin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StartTa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JspWriter to output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pWriter out = pageContext.get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utput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JSP Tag Libraries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hrow IOException to JSP container as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( io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gnore the tag's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038480" y="1143000"/>
            <a:ext cx="4343400" cy="1066680"/>
            <a:chOff x="4038480" y="1143000"/>
            <a:chExt cx="4343400" cy="1066680"/>
          </a:xfrm>
        </p:grpSpPr>
        <p:sp>
          <p:nvSpPr>
            <p:cNvPr id="431" name=""/>
            <p:cNvSpPr/>
            <p:nvPr/>
          </p:nvSpPr>
          <p:spPr>
            <a:xfrm>
              <a:off x="5562720" y="114300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Tag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extending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g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038480" y="1523880"/>
              <a:ext cx="1524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952520" y="2514600"/>
            <a:ext cx="3734280" cy="824040"/>
            <a:chOff x="4952520" y="2514600"/>
            <a:chExt cx="3734280" cy="824040"/>
          </a:xfrm>
        </p:grpSpPr>
        <p:sp>
          <p:nvSpPr>
            <p:cNvPr id="434" name=""/>
            <p:cNvSpPr/>
            <p:nvPr/>
          </p:nvSpPr>
          <p:spPr>
            <a:xfrm>
              <a:off x="5638680" y="251460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SP contain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StartT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it encounters the starting custom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952520" y="2895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876560" y="3581280"/>
            <a:ext cx="3886560" cy="1067400"/>
            <a:chOff x="4876560" y="3581280"/>
            <a:chExt cx="3886560" cy="1067400"/>
          </a:xfrm>
        </p:grpSpPr>
        <p:sp>
          <p:nvSpPr>
            <p:cNvPr id="437" name=""/>
            <p:cNvSpPr/>
            <p:nvPr/>
          </p:nvSpPr>
          <p:spPr>
            <a:xfrm>
              <a:off x="6400800" y="3581280"/>
              <a:ext cx="2362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custom tag handl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JSP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outputting 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4876560" y="388584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tag library descriptor fi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vjhtp1-taglib.t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9-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cod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O-8859-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taglib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Sun Microsystems, Inc.//DTD JSP Tag Library 1.1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java.sun.com/j2ee/dtds/web-jsptaglibrary_1_1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a tag library descriptor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lib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lib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jspversio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jspvers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ort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vjhtp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ort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 simple tab library for the examp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A simple tag that outputs conten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m.deitel.advjhtp1.jsp.taglibrary.WelcomeTag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odycont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cont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s content welcoming user to tag libra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g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447560" y="1295280"/>
            <a:ext cx="7086960" cy="580680"/>
            <a:chOff x="1447560" y="1295280"/>
            <a:chExt cx="7086960" cy="580680"/>
          </a:xfrm>
        </p:grpSpPr>
        <p:sp>
          <p:nvSpPr>
            <p:cNvPr id="442" name=""/>
            <p:cNvSpPr/>
            <p:nvPr/>
          </p:nvSpPr>
          <p:spPr>
            <a:xfrm>
              <a:off x="6553080" y="12952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custom-tag library descripto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447560" y="160020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371600" y="2514600"/>
            <a:ext cx="6781680" cy="914400"/>
            <a:chOff x="1371600" y="2514600"/>
            <a:chExt cx="6781680" cy="914400"/>
          </a:xfrm>
        </p:grpSpPr>
        <p:sp>
          <p:nvSpPr>
            <p:cNvPr id="445" name=""/>
            <p:cNvSpPr/>
            <p:nvPr/>
          </p:nvSpPr>
          <p:spPr>
            <a:xfrm>
              <a:off x="6019920" y="251460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 describ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ustom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371600" y="2819520"/>
              <a:ext cx="4648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047760" y="3352680"/>
            <a:ext cx="5258160" cy="685800"/>
            <a:chOff x="3047760" y="3352680"/>
            <a:chExt cx="5258160" cy="685800"/>
          </a:xfrm>
        </p:grpSpPr>
        <p:sp>
          <p:nvSpPr>
            <p:cNvPr id="448" name=""/>
            <p:cNvSpPr/>
            <p:nvPr/>
          </p:nvSpPr>
          <p:spPr>
            <a:xfrm>
              <a:off x="6477120" y="33526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custom tag name and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047760" y="36576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638320" y="365760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.2   Custom Tag with Attribu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HTML and JSP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ttributes to customize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attributes for custom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ing attributes for a custom ta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 and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0.33: customTagAttribute.jsp  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JSP that uses a custom tag to output content.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taglib directive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glib uri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-taglib.tl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refix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ecifying Custom Tag Attribute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nstrating an attribute with a string 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advjhtp1:welcom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au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nstrating an attribute with an expression 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scriptlet to obtain "name" request parameter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dvjhtp1:welcome2 first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723920" y="3124080"/>
            <a:ext cx="4191480" cy="2438640"/>
            <a:chOff x="4723920" y="3124080"/>
            <a:chExt cx="4191480" cy="2438640"/>
          </a:xfrm>
        </p:grpSpPr>
        <p:sp>
          <p:nvSpPr>
            <p:cNvPr id="456" name=""/>
            <p:cNvSpPr/>
            <p:nvPr/>
          </p:nvSpPr>
          <p:spPr>
            <a:xfrm>
              <a:off x="6858000" y="3124080"/>
              <a:ext cx="20574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lcom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g to insert text in JSP that is customized based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181120" y="38098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723920" y="3809880"/>
              <a:ext cx="21337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ing attributes for a custom ta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4838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2Tag-Hand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for a tag with an attribut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4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34: Welcome2TagHand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 tag handler that handles a simple ta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taglibr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tag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2Tag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g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to begin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StartTa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JspWriter to output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pWriter out = pageContext.getOu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utput cont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rstName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&lt;br /&gt;Welcome to JSP Tag Libraries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hrow IOException to JSP container as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( io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gnore the tag's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657600" y="2438280"/>
            <a:ext cx="5029200" cy="337320"/>
            <a:chOff x="3657600" y="2438280"/>
            <a:chExt cx="5029200" cy="337320"/>
          </a:xfrm>
        </p:grpSpPr>
        <p:sp>
          <p:nvSpPr>
            <p:cNvPr id="464" name=""/>
            <p:cNvSpPr/>
            <p:nvPr/>
          </p:nvSpPr>
          <p:spPr>
            <a:xfrm>
              <a:off x="6019920" y="2438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657600" y="25909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343400" y="3505320"/>
            <a:ext cx="4495680" cy="990360"/>
            <a:chOff x="4343400" y="3505320"/>
            <a:chExt cx="4495680" cy="990360"/>
          </a:xfrm>
        </p:grpSpPr>
        <p:sp>
          <p:nvSpPr>
            <p:cNvPr id="467" name=""/>
            <p:cNvSpPr/>
            <p:nvPr/>
          </p:nvSpPr>
          <p:spPr>
            <a:xfrm>
              <a:off x="5715000" y="35053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 value as part of text output by custom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343400" y="380988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JavaServer Pages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 like standard HTML or XHTM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include HTML or XHTML mar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as fixed-templat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content is mostly fixed-templat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amounts of content generated dyna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small amount of content is fixed-templat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ntent generated dyna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4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2Tag-Hand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for a tag with an attribut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7-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Name attribute to the user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us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user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886200" y="609120"/>
            <a:ext cx="4038480" cy="1038240"/>
            <a:chOff x="3886200" y="609120"/>
            <a:chExt cx="4038480" cy="1038240"/>
          </a:xfrm>
        </p:grpSpPr>
        <p:sp>
          <p:nvSpPr>
            <p:cNvPr id="472" name=""/>
            <p:cNvSpPr/>
            <p:nvPr/>
          </p:nvSpPr>
          <p:spPr>
            <a:xfrm>
              <a:off x="4800600" y="10666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responding set accessor metho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3886200" y="60912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A tag with an attribute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m.deitel.advjhtp1.jsp.taglibrary.Welcome2Tag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tag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cont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cont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s content welcoming user to tag libraries. Us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 "name" to insert the user's na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attribu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require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equire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rtexprvalu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rtexprvalu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attribut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a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191120" y="2971800"/>
            <a:ext cx="4572000" cy="824040"/>
            <a:chOff x="4191120" y="2971800"/>
            <a:chExt cx="4572000" cy="824040"/>
          </a:xfrm>
        </p:grpSpPr>
        <p:sp>
          <p:nvSpPr>
            <p:cNvPr id="477" name=""/>
            <p:cNvSpPr/>
            <p:nvPr/>
          </p:nvSpPr>
          <p:spPr>
            <a:xfrm>
              <a:off x="5867280" y="297180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roduce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ttrib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pecifying the characteristics of a tag’s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191120" y="3429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.3   Evaluating the Body of a Custom Ta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cularly useful for processing element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custom tag that interacts with its body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ustomTagBody.jsp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%-- taglib directive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glib uri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-taglib.t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efix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vjhtp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tyle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css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ahom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elvetic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i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ns-ser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xt-alig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nt-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9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rd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px gro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dd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p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ackground-col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#ddddd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ty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&lt;p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-size: 2em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t Li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custom tag that interacts with its body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1-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495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p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La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100p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First nam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h styl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: 200p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Emai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&lt;/t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%-- guestlist custom tag --%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advjhtp1:guest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&lt;td&gt;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ilto: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&lt;%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%&g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&lt;/t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&lt;/t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&lt;/advjhtp1:guestlis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tab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352680" y="1828800"/>
            <a:ext cx="5639040" cy="1981080"/>
            <a:chOff x="3352680" y="1828800"/>
            <a:chExt cx="5639040" cy="1981080"/>
          </a:xfrm>
        </p:grpSpPr>
        <p:sp>
          <p:nvSpPr>
            <p:cNvPr id="486" name=""/>
            <p:cNvSpPr/>
            <p:nvPr/>
          </p:nvSpPr>
          <p:spPr>
            <a:xfrm>
              <a:off x="6629400" y="228600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cust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uest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g to display last name, first name and e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429000" y="2743200"/>
              <a:ext cx="3200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3352680" y="1828800"/>
              <a:ext cx="32767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4419720" y="266688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custom tag that interacts with its body (Part 3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48387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(Part 1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37: GuestBookTag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 tag handler that reads information from the guest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base and makes that data available in a JS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taglibr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tag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ookTag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dyTag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DataBean guest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ean g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rator it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called to begin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StartTag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ag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uestDat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DataBea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 list = guestData.getGuest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cessNextG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VAL_BODY_TA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tinu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any exceptions occur, do not continue process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ag's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gnore the tag's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body and determine if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uld contin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AfterBod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output body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dyContent.writeOut( getPrevious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exception occurs, terminat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dyContent.clearBod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123720" y="3352680"/>
            <a:ext cx="5486760" cy="824040"/>
            <a:chOff x="3123720" y="3352680"/>
            <a:chExt cx="5486760" cy="824040"/>
          </a:xfrm>
        </p:grpSpPr>
        <p:sp>
          <p:nvSpPr>
            <p:cNvPr id="497" name=""/>
            <p:cNvSpPr/>
            <p:nvPr/>
          </p:nvSpPr>
          <p:spPr>
            <a:xfrm>
              <a:off x="5791320" y="335268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AfterBod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be called many times to process the body of a custom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123720" y="38098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257800" y="4419720"/>
            <a:ext cx="3505320" cy="337320"/>
            <a:chOff x="5257800" y="4419720"/>
            <a:chExt cx="3505320" cy="337320"/>
          </a:xfrm>
        </p:grpSpPr>
        <p:sp>
          <p:nvSpPr>
            <p:cNvPr id="500" name=""/>
            <p:cNvSpPr/>
            <p:nvPr/>
          </p:nvSpPr>
          <p:spPr>
            <a:xfrm>
              <a:off x="6172200" y="441972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the first client’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257800" y="4572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505320" y="228600"/>
            <a:ext cx="5257800" cy="1067400"/>
            <a:chOff x="3505320" y="228600"/>
            <a:chExt cx="5257800" cy="1067400"/>
          </a:xfrm>
        </p:grpSpPr>
        <p:sp>
          <p:nvSpPr>
            <p:cNvPr id="503" name=""/>
            <p:cNvSpPr/>
            <p:nvPr/>
          </p:nvSpPr>
          <p:spPr>
            <a:xfrm>
              <a:off x="6095880" y="2286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ract information for first guest and create variable containing that information in the JSP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505320" y="533160"/>
              <a:ext cx="2590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428640" y="5867280"/>
            <a:ext cx="5486760" cy="824040"/>
            <a:chOff x="3428640" y="5867280"/>
            <a:chExt cx="5486760" cy="824040"/>
          </a:xfrm>
        </p:grpSpPr>
        <p:sp>
          <p:nvSpPr>
            <p:cNvPr id="506" name=""/>
            <p:cNvSpPr/>
            <p:nvPr/>
          </p:nvSpPr>
          <p:spPr>
            <a:xfrm>
              <a:off x="5486400" y="586728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that the outputted body content is not processed in subsequent call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AfterBo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428640" y="6248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T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 handler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0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cessNextG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VAL_BODY_TA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tinu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KIP_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body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s the next GuestBean and extracts it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NextGue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ext g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uest = ( GuestBean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Context.s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Context.s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geContext.setAttribu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uest.getEmail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276360" y="228600"/>
            <a:ext cx="4953240" cy="580680"/>
            <a:chOff x="3276360" y="228600"/>
            <a:chExt cx="4953240" cy="580680"/>
          </a:xfrm>
        </p:grpSpPr>
        <p:sp>
          <p:nvSpPr>
            <p:cNvPr id="511" name=""/>
            <p:cNvSpPr/>
            <p:nvPr/>
          </p:nvSpPr>
          <p:spPr>
            <a:xfrm>
              <a:off x="6095880" y="2286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ract information for next guest (if availa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276360" y="5335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10.3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BookTag-Extra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d by the container to define scripting variables in a JSP that use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est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tag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0.38: GuestBookTagExtraInfo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hat defines the variable names and types created b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stom tag handler GuestBookTa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sp.taglibr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jsp.tag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tBookTagExtraInfo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gExtraInf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that returns information about the variabl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uestBookTag creates for use in a JS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Info [] getVariableInfo( TagData tag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riableInfo fir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ariableInfo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S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riableInfo la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ariableInfo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S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riableInfo emai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Info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ariableInfo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S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riableInfo varableInfo 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firstName, lastName, email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ableInf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2-01T21:34:14Z</dcterms:modified>
  <cp:revision>145</cp:revision>
  <dc:subject/>
  <dc:title>Chapter 10: JavaServer Pages</dc:title>
</cp:coreProperties>
</file>