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0CB9-3A2E-4503-A94F-F3B810F22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5C18-E276-4B63-B738-16005FC3A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206FE-79D2-4542-9DA6-01FD1A155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4AB4-F779-4E75-B823-82BD7749D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B6EBB-7749-401A-8C37-D54A4B31A3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C727A-4E13-4427-A3C2-B0CAA05BE1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2C84C-F98F-4375-93E0-20ABA566FC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4956A-909B-4A30-9AA5-BE9EC1359B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14094-73A5-460D-89DD-867A9A7E5E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B20F2-6FAF-4698-891C-4EE2694ECD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BE201-7ADB-424A-823D-59671D7F14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89E7-48F0-4244-BEC4-86BE58B76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F9041-F149-413D-AB3E-F949CA0F7E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B7547-98FB-4BCD-A3CB-79735B881F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331F9-F524-4F9D-A08F-D165DADDC2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70B49-3ACC-45DD-A03E-735AE5E641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F8DB7-EC88-4A19-8477-6F1EC469C8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1DB2-EF42-4999-ADAC-4E3568AB6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C732-823C-4926-B773-358C514CE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56FB-215C-4100-84DD-F129012F1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BAA70-28BE-47F4-98EB-2374CF432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42E8A-EF5A-4342-8F17-8C6E0ADA5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BF7D-A71A-4210-A4BF-2A6DA6C0D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A15E-5241-45CD-9565-9A4165CC7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D377-1084-4234-BC66-8CE8FFD6A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A749-C982-45F9-B15D-5927F8E47F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4 – Java Management Extensions (JMX)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2209680"/>
            <a:ext cx="6629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4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4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stal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4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4.3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strument Resour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4.3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plement the JMX Management Ag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4.3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roadcasting and Receiving Notifica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4.3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anagement Applic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4.3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mpiling and Running the exampl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4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rfac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MBea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Declaration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6400800" cy="6248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ig. 22.3: PrinterMBea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This class specifies the interface that will be implemen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by Printer, which will function as an MBea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deitel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.deitel.advjhtp1.jmx.PrinterSimul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nterM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is it printing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oolean isPrint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is it online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oolean isOn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is paper jammed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oolean isPaperJa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returns paper amount in t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teger getPaperTra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returns ink level in toner cartrid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teger getTon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returns ID of print job that is currently prin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 getCurrentPrintJob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returns array of all queued up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 [] getPendingPrintJobs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sets availability status of pr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tOnline ( Boolean onlin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266720" y="3352320"/>
            <a:ext cx="3810600" cy="414000"/>
            <a:chOff x="4266720" y="3352320"/>
            <a:chExt cx="3810600" cy="414000"/>
          </a:xfrm>
        </p:grpSpPr>
        <p:sp>
          <p:nvSpPr>
            <p:cNvPr id="160" name=""/>
            <p:cNvSpPr/>
            <p:nvPr/>
          </p:nvSpPr>
          <p:spPr>
            <a:xfrm>
              <a:off x="5943600" y="3429000"/>
              <a:ext cx="2133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agement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4266720" y="3352320"/>
              <a:ext cx="1676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809880" y="1828800"/>
            <a:ext cx="2743200" cy="809280"/>
            <a:chOff x="3809880" y="1828800"/>
            <a:chExt cx="2743200" cy="809280"/>
          </a:xfrm>
        </p:grpSpPr>
        <p:sp>
          <p:nvSpPr>
            <p:cNvPr id="163" name=""/>
            <p:cNvSpPr/>
            <p:nvPr/>
          </p:nvSpPr>
          <p:spPr>
            <a:xfrm>
              <a:off x="4800600" y="205740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face name with MBean suffi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3809880" y="1828800"/>
              <a:ext cx="990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657240" y="4267080"/>
            <a:ext cx="4115160" cy="337320"/>
            <a:chOff x="3657240" y="4267080"/>
            <a:chExt cx="4115160" cy="337320"/>
          </a:xfrm>
        </p:grpSpPr>
        <p:sp>
          <p:nvSpPr>
            <p:cNvPr id="166" name=""/>
            <p:cNvSpPr/>
            <p:nvPr/>
          </p:nvSpPr>
          <p:spPr>
            <a:xfrm>
              <a:off x="5334120" y="426708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value is serializ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3657240" y="4419360"/>
              <a:ext cx="16765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943240" y="5181120"/>
            <a:ext cx="2286360" cy="657360"/>
            <a:chOff x="5943240" y="5181120"/>
            <a:chExt cx="2286360" cy="657360"/>
          </a:xfrm>
        </p:grpSpPr>
        <p:sp>
          <p:nvSpPr>
            <p:cNvPr id="169" name=""/>
            <p:cNvSpPr/>
            <p:nvPr/>
          </p:nvSpPr>
          <p:spPr>
            <a:xfrm>
              <a:off x="7162920" y="5257800"/>
              <a:ext cx="1066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, get, set method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5943240" y="5181120"/>
              <a:ext cx="12193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rfac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EventListen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3000" y="457200"/>
            <a:ext cx="464832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lls up paper tray again with pap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plenishPaperTra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ncel pending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celPendingPrintJob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printing pro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Print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2743200"/>
            <a:ext cx="5181480" cy="2649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ig. 22.4: PrinterEventListener.jav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The listener interface for printer events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Deitel packag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.deitel.advjhtp1.jmx.Printer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 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nterEventListener {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 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utOfPaper(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    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wToner(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    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aperJam(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4  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486040" y="1066680"/>
            <a:ext cx="1829160" cy="337320"/>
            <a:chOff x="5486040" y="1066680"/>
            <a:chExt cx="1829160" cy="337320"/>
          </a:xfrm>
        </p:grpSpPr>
        <p:sp>
          <p:nvSpPr>
            <p:cNvPr id="175" name=""/>
            <p:cNvSpPr/>
            <p:nvPr/>
          </p:nvSpPr>
          <p:spPr>
            <a:xfrm>
              <a:off x="6248520" y="1066680"/>
              <a:ext cx="1066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5486040" y="1218960"/>
              <a:ext cx="7621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Declara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1 connect to printer devi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647676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5: Prin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provides implementation for Printer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face and registers a managing MBean for the Prin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vice, which is simulated by PrinterSimulator.jav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x.PrinterSimul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lang.Threa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Array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MX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anagem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x.Print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Bea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erEventListener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Simulator printerSimul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ic final int PAPER_STACK_SIZE = 50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Instance eventBroadcasterInst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Name eventBroadcaster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Name printer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BeanServer mBean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the printer de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imul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Simulato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hread myThrea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hread( printerSimulator 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Thread.star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638320" y="5257800"/>
            <a:ext cx="2134080" cy="609480"/>
            <a:chOff x="5638320" y="5257800"/>
            <a:chExt cx="2134080" cy="609480"/>
          </a:xfrm>
        </p:grpSpPr>
        <p:sp>
          <p:nvSpPr>
            <p:cNvPr id="180" name=""/>
            <p:cNvSpPr/>
            <p:nvPr/>
          </p:nvSpPr>
          <p:spPr>
            <a:xfrm>
              <a:off x="6400800" y="5257800"/>
              <a:ext cx="1371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 to printer de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638320" y="5562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028840" y="3657600"/>
            <a:ext cx="3277080" cy="580680"/>
            <a:chOff x="5028840" y="3657600"/>
            <a:chExt cx="3277080" cy="580680"/>
          </a:xfrm>
        </p:grpSpPr>
        <p:sp>
          <p:nvSpPr>
            <p:cNvPr id="183" name=""/>
            <p:cNvSpPr/>
            <p:nvPr/>
          </p:nvSpPr>
          <p:spPr>
            <a:xfrm>
              <a:off x="5791320" y="365760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Bean class implements responding MBean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5028840" y="37339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666520" y="5334120"/>
            <a:ext cx="2896200" cy="337320"/>
            <a:chOff x="2666520" y="5334120"/>
            <a:chExt cx="2896200" cy="337320"/>
          </a:xfrm>
        </p:grpSpPr>
        <p:sp>
          <p:nvSpPr>
            <p:cNvPr id="186" name=""/>
            <p:cNvSpPr/>
            <p:nvPr/>
          </p:nvSpPr>
          <p:spPr>
            <a:xfrm>
              <a:off x="3809880" y="5334120"/>
              <a:ext cx="17528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blic constr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2666520" y="5486400"/>
              <a:ext cx="1143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34320" y="838080"/>
            <a:ext cx="2209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2 find MBean server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3 specify MBean server requirem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4 identify MBean serv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662940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all MBean servers in current JV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rrayList arrayLis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BeanServerFactory.findMBeanServ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rieve the MBeanServer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rayList.size()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nnot find a MBeanServer!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he MBeanServer that has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interEventBroadcaster MBean registered with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rrayList.size()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BeanServer foundMBeanServ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MBeanServer )arrayList.get( 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obtain the object name for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PrinterEventBroadcaster 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ring name = foundMBeanServer.getDefaultDo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typ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Broadcas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ventBroadcaster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Name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exception when creating Objec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ObjectName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heck whether the PrinterEventBroadcaster MBean 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gistered with this MBean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oundMBeanServer.isRegister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ventBroadcasterName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BeanServer = foundMBean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409720" y="228600"/>
            <a:ext cx="1600560" cy="580680"/>
            <a:chOff x="5409720" y="228600"/>
            <a:chExt cx="1600560" cy="580680"/>
          </a:xfrm>
        </p:grpSpPr>
        <p:sp>
          <p:nvSpPr>
            <p:cNvPr id="191" name=""/>
            <p:cNvSpPr/>
            <p:nvPr/>
          </p:nvSpPr>
          <p:spPr>
            <a:xfrm>
              <a:off x="5791320" y="228600"/>
              <a:ext cx="1218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 MBean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409720" y="533520"/>
              <a:ext cx="3812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477120" y="2971800"/>
            <a:ext cx="2209680" cy="990720"/>
            <a:chOff x="6477120" y="2971800"/>
            <a:chExt cx="2209680" cy="990720"/>
          </a:xfrm>
        </p:grpSpPr>
        <p:sp>
          <p:nvSpPr>
            <p:cNvPr id="194" name=""/>
            <p:cNvSpPr/>
            <p:nvPr/>
          </p:nvSpPr>
          <p:spPr>
            <a:xfrm>
              <a:off x="7238880" y="2971800"/>
              <a:ext cx="1447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MBean server requi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477120" y="3429000"/>
              <a:ext cx="7617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876560" y="5867280"/>
            <a:ext cx="3124440" cy="381240"/>
            <a:chOff x="4876560" y="5867280"/>
            <a:chExt cx="3124440" cy="381240"/>
          </a:xfrm>
        </p:grpSpPr>
        <p:sp>
          <p:nvSpPr>
            <p:cNvPr id="197" name=""/>
            <p:cNvSpPr/>
            <p:nvPr/>
          </p:nvSpPr>
          <p:spPr>
            <a:xfrm>
              <a:off x="5943600" y="58672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dentify MBean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876560" y="601992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Implement management solu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160" y="0"/>
            <a:ext cx="609588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 lo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-else to get the MBeanServer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nterSimulato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ill stop the printer thread from execut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nce execution should stop.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imulator.sto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it printing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 isPrinting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( printerSimulator.isPrint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online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 isOnlin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Simulator.isOnline(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paper jammed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 isPaperJam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Simulator.isPaperJa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paper tray empty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PaperTra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Simulator.getPaperTra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Implement management solu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58672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toner low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Ton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Simulator.getTon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s ID of print job that is currently prin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urrentPrintJob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Simulator.getCurrentPrintJob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s array of all queued up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getPendingPrintJob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Simulator.getPendingPrintJob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s status availability of pr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nline( Boolean onlin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online.booleanValue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imulator.setOn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imulator.setOff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lls up the paper tray again with pap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plenishPaperTra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imulator.replenishPaperTray 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APER_STACK_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end out-of-paper notificatio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specify notificatio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send notific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586728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ncel pending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celPendingPrintJob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imulator.cancelPendingPrintJob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the printing pro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Printing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imulator.startPrintingProces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out of paper event to JMX lay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eOutOfPaperEv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parameters and signatur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[] parame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ramete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ic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.OUT_OF_PAP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signatur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ignatur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x.management.Notif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BeanServer.invoke( eventBroadcaster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ndNotif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arameter, signature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invoking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flectio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410080" y="3048120"/>
            <a:ext cx="2743200" cy="609480"/>
            <a:chOff x="5410080" y="3048120"/>
            <a:chExt cx="2743200" cy="609480"/>
          </a:xfrm>
        </p:grpSpPr>
        <p:sp>
          <p:nvSpPr>
            <p:cNvPr id="206" name=""/>
            <p:cNvSpPr/>
            <p:nvPr/>
          </p:nvSpPr>
          <p:spPr>
            <a:xfrm>
              <a:off x="6324480" y="304812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no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410080" y="32004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019560" y="4572000"/>
            <a:ext cx="2743560" cy="380880"/>
            <a:chOff x="6019560" y="4572000"/>
            <a:chExt cx="2743560" cy="380880"/>
          </a:xfrm>
        </p:grpSpPr>
        <p:sp>
          <p:nvSpPr>
            <p:cNvPr id="209" name=""/>
            <p:cNvSpPr/>
            <p:nvPr/>
          </p:nvSpPr>
          <p:spPr>
            <a:xfrm>
              <a:off x="7162920" y="457200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 no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6019560" y="4724280"/>
              <a:ext cx="1143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Send low-toner notificatio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1 specify notificatio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2 send notific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609588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communicating with 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Bea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MBean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stanceNotFoun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outOfPaper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low toner event to JMX lay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eLowTonerEv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parameters and signatur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[] parame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ramete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ic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.LOW_TON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signatur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ignatur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x.management.Notif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BeanServer.invoke( eventBroadcaster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ndNotif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arameter, signature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invoking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flectio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105520" y="3048120"/>
            <a:ext cx="3047760" cy="609480"/>
            <a:chOff x="5105520" y="3048120"/>
            <a:chExt cx="3047760" cy="609480"/>
          </a:xfrm>
        </p:grpSpPr>
        <p:sp>
          <p:nvSpPr>
            <p:cNvPr id="214" name=""/>
            <p:cNvSpPr/>
            <p:nvPr/>
          </p:nvSpPr>
          <p:spPr>
            <a:xfrm>
              <a:off x="6324480" y="304812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no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105520" y="3200400"/>
              <a:ext cx="1218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791320" y="4572000"/>
            <a:ext cx="2971800" cy="380880"/>
            <a:chOff x="5791320" y="4572000"/>
            <a:chExt cx="2971800" cy="380880"/>
          </a:xfrm>
        </p:grpSpPr>
        <p:sp>
          <p:nvSpPr>
            <p:cNvPr id="217" name=""/>
            <p:cNvSpPr/>
            <p:nvPr/>
          </p:nvSpPr>
          <p:spPr>
            <a:xfrm>
              <a:off x="7162920" y="457200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 no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791320" y="4800600"/>
              <a:ext cx="1371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Send paper-jam notificatio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1 specify notification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586728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mmunicating with 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Bea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MBean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stanceNotFoun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lowToner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paper jam event to JMX lay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ePaperJamEv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parameters and signatur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[] parame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ramete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ic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.PAPER_J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signatur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ignatur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x.management.Notif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BeanServer.invoke( eventBroadcaster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ndNotif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arameter, signature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invoking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Reflectio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714640" y="3429000"/>
            <a:ext cx="2895840" cy="609480"/>
            <a:chOff x="5714640" y="3429000"/>
            <a:chExt cx="2895840" cy="609480"/>
          </a:xfrm>
        </p:grpSpPr>
        <p:sp>
          <p:nvSpPr>
            <p:cNvPr id="222" name=""/>
            <p:cNvSpPr/>
            <p:nvPr/>
          </p:nvSpPr>
          <p:spPr>
            <a:xfrm>
              <a:off x="6781680" y="342900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no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714640" y="3657600"/>
              <a:ext cx="1066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866920" y="4495680"/>
            <a:ext cx="2439000" cy="457200"/>
            <a:chOff x="5866920" y="4495680"/>
            <a:chExt cx="2439000" cy="457200"/>
          </a:xfrm>
        </p:grpSpPr>
        <p:sp>
          <p:nvSpPr>
            <p:cNvPr id="225" name=""/>
            <p:cNvSpPr/>
            <p:nvPr/>
          </p:nvSpPr>
          <p:spPr>
            <a:xfrm>
              <a:off x="6705720" y="449568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 no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866920" y="4648320"/>
              <a:ext cx="8384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2 send notific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62120" y="380880"/>
            <a:ext cx="579096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mmunicating with 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Bea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MBean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catch( InstanceNotFoun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aperJam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interface implemen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utOfPap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 // delegate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fireOutOfPaperEv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interface implemen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wTon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 // delegate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fireLowTonerEv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interface implemen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aperJam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 // delegate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firePaperJamEv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657600" y="2971440"/>
            <a:ext cx="4267080" cy="2438640"/>
            <a:chOff x="3657600" y="2971440"/>
            <a:chExt cx="4267080" cy="2438640"/>
          </a:xfrm>
        </p:grpSpPr>
        <p:sp>
          <p:nvSpPr>
            <p:cNvPr id="230" name=""/>
            <p:cNvSpPr/>
            <p:nvPr/>
          </p:nvSpPr>
          <p:spPr>
            <a:xfrm>
              <a:off x="5562720" y="3886200"/>
              <a:ext cx="23619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face 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3962160" y="2971440"/>
              <a:ext cx="1600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657600" y="4114800"/>
              <a:ext cx="19051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809520" y="4114800"/>
              <a:ext cx="17528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4.1 Introduc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managemen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network management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 technological adv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M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ee-level management 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mentation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Simula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Declara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Constructor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594360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6: PrinterSimulato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simulates a printer device on a network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x.Prin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St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Simulato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 printerStack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Onli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rint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aperJa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50 sheets of paper in tray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paperInTra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100% full of in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tonerCartrid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urrentPrintJo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 isAliv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Listener eventListener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public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Simulat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EventListener 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Listener =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647960" y="5257800"/>
            <a:ext cx="2972160" cy="824040"/>
            <a:chOff x="4647960" y="5257800"/>
            <a:chExt cx="2972160" cy="824040"/>
          </a:xfrm>
        </p:grpSpPr>
        <p:sp>
          <p:nvSpPr>
            <p:cNvPr id="237" name=""/>
            <p:cNvSpPr/>
            <p:nvPr/>
          </p:nvSpPr>
          <p:spPr>
            <a:xfrm>
              <a:off x="5715000" y="5257800"/>
              <a:ext cx="1905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takes PrinterEventListener as 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4647960" y="5638680"/>
              <a:ext cx="1066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Simulate printer activi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609588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ps execution of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Aliv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in life-cycle of the printer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s one job from print job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1) if offline, it pauses and wai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2) if online, handles one print jo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in loop within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Aliv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ause if off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sOnlin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waits for printer become on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wa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if interrupt occ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ynchroniz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Simulate printer activi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647676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ints one job from print job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rtPrintingProces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PrintingProces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arm up the printer, print top print job from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ck and adjust paper values and toner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arm up printer for incoming batch of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hread.slee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 * 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paperInTray.intValue()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amp;&am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tonerCartridge.intValue()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amp;&am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!isPaperJam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tart the printing pro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PrintJob = getNextPrintJob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sPrint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12 seconds to print a norma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hread.slee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 * 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each print job uses 10 p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pdatePaperInTray( paperInTray.intValue(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pdateTon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pdatePaperJa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sPrintin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make sure no references are left dangl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PrintJob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410080" y="2743200"/>
            <a:ext cx="3276720" cy="718200"/>
            <a:chOff x="5410080" y="2743200"/>
            <a:chExt cx="3276720" cy="718200"/>
          </a:xfrm>
        </p:grpSpPr>
        <p:sp>
          <p:nvSpPr>
            <p:cNvPr id="244" name=""/>
            <p:cNvSpPr/>
            <p:nvPr/>
          </p:nvSpPr>
          <p:spPr>
            <a:xfrm>
              <a:off x="6400800" y="312408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mulate printing 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5410080" y="2743200"/>
              <a:ext cx="990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Simulate printer activi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0"/>
            <a:ext cx="632448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interrupt occ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nterrupte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tartPrintingPro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s current printed jo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urrentPrintJob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rrentPrintJo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printer online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 isOnlin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 ( isOnlin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amount of paper in paper t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PaperInT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perInTra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( newValue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re event if paper tray l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aperInTray.intValue()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Listener.outOfPaperEv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paper jammed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 isPaperJam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( isPaperJa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333760" y="4343400"/>
            <a:ext cx="3124440" cy="642240"/>
            <a:chOff x="5333760" y="4343400"/>
            <a:chExt cx="3124440" cy="642240"/>
          </a:xfrm>
        </p:grpSpPr>
        <p:sp>
          <p:nvSpPr>
            <p:cNvPr id="249" name=""/>
            <p:cNvSpPr/>
            <p:nvPr/>
          </p:nvSpPr>
          <p:spPr>
            <a:xfrm>
              <a:off x="6324480" y="4648320"/>
              <a:ext cx="2133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paper to paper t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5333760" y="4343400"/>
              <a:ext cx="9903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Simulate printer activi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617220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ncel pending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celPendingPrintJob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nterStack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tack.cle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amount of toner available in toner cartrid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Ton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fter every print job, toner levels drop 1%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nerCartrid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nerCartridge.intValue(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re event if toner is l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onerCartridge.intValue()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Listener.lowTonerEv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PaperJam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th.random()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9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sPaperJa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Listener.paperJamEv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s number of pages in paper t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PaperTray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perInTr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181480" y="2895120"/>
            <a:ext cx="3048120" cy="657360"/>
            <a:chOff x="5181480" y="2895120"/>
            <a:chExt cx="3048120" cy="657360"/>
          </a:xfrm>
        </p:grpSpPr>
        <p:sp>
          <p:nvSpPr>
            <p:cNvPr id="254" name=""/>
            <p:cNvSpPr/>
            <p:nvPr/>
          </p:nvSpPr>
          <p:spPr>
            <a:xfrm>
              <a:off x="6705720" y="2971800"/>
              <a:ext cx="1523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 toner in toner cart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5181480" y="2895120"/>
              <a:ext cx="15242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572000" y="4572000"/>
            <a:ext cx="2819520" cy="580680"/>
            <a:chOff x="4572000" y="4572000"/>
            <a:chExt cx="2819520" cy="580680"/>
          </a:xfrm>
        </p:grpSpPr>
        <p:sp>
          <p:nvSpPr>
            <p:cNvPr id="257" name=""/>
            <p:cNvSpPr/>
            <p:nvPr/>
          </p:nvSpPr>
          <p:spPr>
            <a:xfrm>
              <a:off x="5867280" y="4572000"/>
              <a:ext cx="1524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sue paper jam event randoml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4572000" y="4648320"/>
              <a:ext cx="1295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Simulate printer activi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64767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s amount of toner in toner cartrid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Ton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nerCartrid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nerates a random number of print jobs with varying I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pulatePrintStack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OfJobs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 ( 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nerate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nterStack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; i &lt; numOfJobs 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Stack.add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_JOB_ID #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s next print job in stack, populating the stack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f i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NextPrintJob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nterStack.is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populatePrintStack (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imulates absence of print jobs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hread.sleep 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562360" y="2666880"/>
            <a:ext cx="2514960" cy="381240"/>
            <a:chOff x="5562360" y="2666880"/>
            <a:chExt cx="2514960" cy="381240"/>
          </a:xfrm>
        </p:grpSpPr>
        <p:sp>
          <p:nvSpPr>
            <p:cNvPr id="262" name=""/>
            <p:cNvSpPr/>
            <p:nvPr/>
          </p:nvSpPr>
          <p:spPr>
            <a:xfrm>
              <a:off x="6248520" y="266688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print jo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5562360" y="2895480"/>
              <a:ext cx="685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Simulate printer activi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228240" y="151920"/>
            <a:ext cx="662940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interrupt occ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ception.printStackTrace(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xit 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topmost queued resour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printJo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nterStack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Job = ( String ) printerStack.po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Jo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NextPrintJo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s all jobs yet to be prin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getPendingPrintJob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pendingPrintJob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rray of pending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nterStack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[] temp = printerStack.toArray(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ndingPrintJob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temp.length ]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; i &lt; pendingPrintJobs.length 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endingPrintJobs [ i ] = ( String )temp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ndingPrintJob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PendingPrint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5486400" y="4191120"/>
            <a:ext cx="3124080" cy="685800"/>
            <a:chOff x="5486400" y="4191120"/>
            <a:chExt cx="3124080" cy="685800"/>
          </a:xfrm>
        </p:grpSpPr>
        <p:sp>
          <p:nvSpPr>
            <p:cNvPr id="267" name=""/>
            <p:cNvSpPr/>
            <p:nvPr/>
          </p:nvSpPr>
          <p:spPr>
            <a:xfrm>
              <a:off x="6324480" y="419112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all jobs to be prin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486400" y="434340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Simulate printer activi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632448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s printer status to on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nlin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Onli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ify all waiting st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otifyAll(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s printer status to off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fflin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Onli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plenishes amount of paper in paper tray to specifi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plenishPaperTray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perStack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pdatePaperInTray( paperStack 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printer printing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rinting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rint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885840" y="2057400"/>
            <a:ext cx="4267440" cy="580680"/>
            <a:chOff x="3885840" y="2057400"/>
            <a:chExt cx="4267440" cy="580680"/>
          </a:xfrm>
        </p:grpSpPr>
        <p:sp>
          <p:nvSpPr>
            <p:cNvPr id="272" name=""/>
            <p:cNvSpPr/>
            <p:nvPr/>
          </p:nvSpPr>
          <p:spPr>
            <a:xfrm>
              <a:off x="5486400" y="2057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printer becomes online, notify all waiting st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3885840" y="2133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4.3.2 Implementation of the JMX Management Ag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MX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Bean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Beans (managed resour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col adaptor or conn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09920" y="838080"/>
            <a:ext cx="2133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ManagementAg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mai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1 create MBeanServ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2 create RMI connector serv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3 create broadcaster MBe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32448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8: PrinterManagementAg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creates an MBeanServer and starts an RM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nector MBean servi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x.PrinterManage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MX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anagem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Age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Instance rmiConnectorServ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Instance prin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Instance broadcas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Name object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n MBean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BeanServer serv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BeanServerFactory.createMBeanServ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n RMI connector service, a printer simul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Bean and a broadcaster 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n RMI connector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miConnectorServer = server.createMBean 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sun.jdmk.comm.RmiConnector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 broadcaster 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name = server.getDefaultDomai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:typ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Broadcas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class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jmx.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Simulator.PrinterEventBroadcaster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885840" y="3505320"/>
            <a:ext cx="3124440" cy="380880"/>
            <a:chOff x="3885840" y="3505320"/>
            <a:chExt cx="3124440" cy="380880"/>
          </a:xfrm>
        </p:grpSpPr>
        <p:sp>
          <p:nvSpPr>
            <p:cNvPr id="279" name=""/>
            <p:cNvSpPr/>
            <p:nvPr/>
          </p:nvSpPr>
          <p:spPr>
            <a:xfrm>
              <a:off x="5029200" y="3505320"/>
              <a:ext cx="19810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MBean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885840" y="3657600"/>
              <a:ext cx="1143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714640" y="4800600"/>
            <a:ext cx="3353040" cy="533520"/>
            <a:chOff x="5714640" y="4800600"/>
            <a:chExt cx="3353040" cy="533520"/>
          </a:xfrm>
        </p:grpSpPr>
        <p:sp>
          <p:nvSpPr>
            <p:cNvPr id="282" name=""/>
            <p:cNvSpPr/>
            <p:nvPr/>
          </p:nvSpPr>
          <p:spPr>
            <a:xfrm>
              <a:off x="6477120" y="4800600"/>
              <a:ext cx="2590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RMI connector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714640" y="502920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562360" y="5715000"/>
            <a:ext cx="3200760" cy="380880"/>
            <a:chOff x="5562360" y="5715000"/>
            <a:chExt cx="3200760" cy="380880"/>
          </a:xfrm>
        </p:grpSpPr>
        <p:sp>
          <p:nvSpPr>
            <p:cNvPr id="285" name=""/>
            <p:cNvSpPr/>
            <p:nvPr/>
          </p:nvSpPr>
          <p:spPr>
            <a:xfrm>
              <a:off x="6248520" y="571500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broaddcaster M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562360" y="594360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4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MX prov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tform-independ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col-independ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us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lligent ag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4 create printer simulator MBea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5 handle excep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609624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Name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 = server.createMBea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assName, objectName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 printer simulator 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server.getDefaultDo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typ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assName =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jmx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Simulator.Prin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Name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roadcaster = server.createMBea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assName, objec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class not JMX-compliant MBean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otCompliantMBea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MBean constructor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Bea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MBean already exists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stanceAlreadyExists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MBean constructor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flectio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257440" y="2286000"/>
            <a:ext cx="2591280" cy="824040"/>
            <a:chOff x="5257440" y="2286000"/>
            <a:chExt cx="2591280" cy="824040"/>
          </a:xfrm>
        </p:grpSpPr>
        <p:sp>
          <p:nvSpPr>
            <p:cNvPr id="290" name=""/>
            <p:cNvSpPr/>
            <p:nvPr/>
          </p:nvSpPr>
          <p:spPr>
            <a:xfrm>
              <a:off x="6477120" y="2286000"/>
              <a:ext cx="1371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printer simulator M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257440" y="2514240"/>
              <a:ext cx="1219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6 specify RMI connector server por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7 set RMI connector server por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8 start RMI connector serv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632448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nvalid object name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ObjectNameException exception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por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[] parame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ramete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5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signatur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ignatur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method setPort on RmiConnectorServer 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the RMI connector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rver.invok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miConnectorServer.getObjectName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tPo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arameter, signatur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rver.invok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miConnectorServer.getObjectName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executing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flectio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mmunicating with 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Bea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029200" y="1066680"/>
            <a:ext cx="1676520" cy="824040"/>
            <a:chOff x="5029200" y="1066680"/>
            <a:chExt cx="1676520" cy="824040"/>
          </a:xfrm>
        </p:grpSpPr>
        <p:sp>
          <p:nvSpPr>
            <p:cNvPr id="295" name=""/>
            <p:cNvSpPr/>
            <p:nvPr/>
          </p:nvSpPr>
          <p:spPr>
            <a:xfrm>
              <a:off x="5410080" y="1066680"/>
              <a:ext cx="1295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RMI connector server 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029200" y="152388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324480" y="2895480"/>
            <a:ext cx="2362320" cy="580680"/>
            <a:chOff x="6324480" y="2895480"/>
            <a:chExt cx="2362320" cy="580680"/>
          </a:xfrm>
        </p:grpSpPr>
        <p:sp>
          <p:nvSpPr>
            <p:cNvPr id="298" name=""/>
            <p:cNvSpPr/>
            <p:nvPr/>
          </p:nvSpPr>
          <p:spPr>
            <a:xfrm>
              <a:off x="6934320" y="289548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RMI connector server 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6324480" y="3200400"/>
              <a:ext cx="609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248520" y="3809880"/>
            <a:ext cx="2361960" cy="580680"/>
            <a:chOff x="6248520" y="3809880"/>
            <a:chExt cx="2361960" cy="580680"/>
          </a:xfrm>
        </p:grpSpPr>
        <p:sp>
          <p:nvSpPr>
            <p:cNvPr id="301" name=""/>
            <p:cNvSpPr/>
            <p:nvPr/>
          </p:nvSpPr>
          <p:spPr>
            <a:xfrm>
              <a:off x="7010280" y="380988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 RMI connector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6248520" y="3962160"/>
              <a:ext cx="7617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086240" y="3047760"/>
            <a:ext cx="20574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rfac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nterEventBroadcasterMBean</a:t>
            </a:r>
            <a:br>
              <a:rPr sz="900"/>
            </a:br>
            <a:br>
              <a:rPr sz="9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Declaration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65530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MBean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stanceNotFoun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____________________________________________________________________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9: PrinterEventBroadcasterMBea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defines the MBean interfa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x.PrinterSimul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MX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anagement.Notifica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BroadcasterM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Notification( Notification notifi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4.3.3 Broadcasting and Receiving Notific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cast not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ification broadcaster MBe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 not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934320" y="838080"/>
            <a:ext cx="2209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EventBroadcast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Declarations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5943600" cy="4495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0: PrinterEventBroadcas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defines an MBean th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vides events inform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x.PrinterSimul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MX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anagement.MBeanNotificationInfo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anagement.NotificationBroadcasterSuppor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tends NotificationBroadcasterSupport to adopt i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alit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Broadcas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icationBroadcasterSuppo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BroadcasterM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OUT_OF_PAP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.OUT_OF_PAP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LOW_TON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.LOW_TON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PAPER_JA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.PAPER_J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Implement getNotificationInfo to describe even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609588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vide information about deliverable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BeanNotificationInfo[] getNotificationInfo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rray containing descriptor obje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BeanNotificationInfo[] descriptorArra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BeanNotificationInfo[ 1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fferent event 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notificationTyp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3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tificationTyp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EventBroadcast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OUT_OF_PA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tificationTyp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EventBroadcast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W_TON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tificationTyp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EventBroadcast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APER_JA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ification class 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class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x.management.Notif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scription of MBeanNotification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escription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Notification types for PrinterEventBroadcas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opulate descriptor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scriptor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BeanNotificationInfo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otificationTypes, classType, descri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criptorArray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Notification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714640" y="1066680"/>
            <a:ext cx="2972160" cy="1357560"/>
            <a:chOff x="5714640" y="1066680"/>
            <a:chExt cx="2972160" cy="1357560"/>
          </a:xfrm>
        </p:grpSpPr>
        <p:sp>
          <p:nvSpPr>
            <p:cNvPr id="312" name=""/>
            <p:cNvSpPr/>
            <p:nvPr/>
          </p:nvSpPr>
          <p:spPr>
            <a:xfrm>
              <a:off x="6858000" y="1600200"/>
              <a:ext cx="1828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 getNotificationInfo to describe ev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5714640" y="1066680"/>
              <a:ext cx="1143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248160" y="4191120"/>
            <a:ext cx="2743560" cy="337320"/>
            <a:chOff x="6248160" y="4191120"/>
            <a:chExt cx="2743560" cy="337320"/>
          </a:xfrm>
        </p:grpSpPr>
        <p:sp>
          <p:nvSpPr>
            <p:cNvPr id="315" name=""/>
            <p:cNvSpPr/>
            <p:nvPr/>
          </p:nvSpPr>
          <p:spPr>
            <a:xfrm>
              <a:off x="7315200" y="4191120"/>
              <a:ext cx="1676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vent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>
              <a:off x="6248160" y="4267080"/>
              <a:ext cx="1066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105520" y="2590560"/>
            <a:ext cx="3047760" cy="686160"/>
            <a:chOff x="5105520" y="2590560"/>
            <a:chExt cx="3047760" cy="686160"/>
          </a:xfrm>
        </p:grpSpPr>
        <p:sp>
          <p:nvSpPr>
            <p:cNvPr id="318" name=""/>
            <p:cNvSpPr/>
            <p:nvPr/>
          </p:nvSpPr>
          <p:spPr>
            <a:xfrm>
              <a:off x="6324480" y="289548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event typ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5410080" y="2590560"/>
              <a:ext cx="9144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5105520" y="2971440"/>
              <a:ext cx="1218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124080"/>
              <a:ext cx="11430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Eventhandler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nner class NotificationListener</a:t>
            </a:r>
            <a:br>
              <a:rPr sz="1200"/>
            </a:b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0"/>
            <a:ext cx="632448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1: PrinterEventHandl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class adds a listener to the broadcaster MBean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s the event handlers when event occu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x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MX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anagem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DMK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dmk.comm.RmiConnector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dmk.comm.ClientNotificationHand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100000"/>
              </a:lnSpc>
              <a:buClr>
                <a:srgbClr val="5f5f5f"/>
              </a:buClr>
              <a:buFont typeface="Courier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ourier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100000"/>
              </a:lnSpc>
              <a:buClr>
                <a:srgbClr val="5f5f5f"/>
              </a:buClr>
              <a:buFont typeface="Courier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.deitel.advjhtp1.jmx.Print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ourier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Handl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ConnectorClient rmi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Listener eventTarge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tification listener an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icationListener notificationListener =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ica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ndleNotifica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otification notification, Object handback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trieve notification 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 notificationType = notification.getTyp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different notifications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otificationType.equals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.OUT_OF_PAP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handleOutOfPaperEven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866920" y="3657600"/>
            <a:ext cx="2591280" cy="580680"/>
            <a:chOff x="5866920" y="3657600"/>
            <a:chExt cx="2591280" cy="580680"/>
          </a:xfrm>
        </p:grpSpPr>
        <p:sp>
          <p:nvSpPr>
            <p:cNvPr id="325" name=""/>
            <p:cNvSpPr/>
            <p:nvPr/>
          </p:nvSpPr>
          <p:spPr>
            <a:xfrm>
              <a:off x="6553080" y="365760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 class NotificationListe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866920" y="39625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1 set notification mod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2 register listener to RMI connector cli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228240" y="75960"/>
            <a:ext cx="670572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otificationType.equals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.LOW_TON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handleLowTonerEven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otificationType.equals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.PAPER_J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handlePaperJamEv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handle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Handl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miConnectorClient inputRmiClien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nagerSidePrinterEventListener inputEventTarge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miClient = inputRmi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Target = inputEventTarge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notification push 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rmiClient.setMode( ClientNotificationHandl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USH_M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Name object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Nam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miClient.getDefaultDomai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type=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Broadcas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miClient.addNotificationListener( object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otificationListene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409720" y="4038480"/>
            <a:ext cx="3200760" cy="609840"/>
            <a:chOff x="5409720" y="4038480"/>
            <a:chExt cx="3200760" cy="609840"/>
          </a:xfrm>
        </p:grpSpPr>
        <p:sp>
          <p:nvSpPr>
            <p:cNvPr id="330" name=""/>
            <p:cNvSpPr/>
            <p:nvPr/>
          </p:nvSpPr>
          <p:spPr>
            <a:xfrm>
              <a:off x="6629400" y="4038480"/>
              <a:ext cx="19810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notification m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409720" y="419112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486400" y="5334120"/>
            <a:ext cx="2895480" cy="761760"/>
            <a:chOff x="5486400" y="5334120"/>
            <a:chExt cx="2895480" cy="761760"/>
          </a:xfrm>
        </p:grpSpPr>
        <p:sp>
          <p:nvSpPr>
            <p:cNvPr id="333" name=""/>
            <p:cNvSpPr/>
            <p:nvPr/>
          </p:nvSpPr>
          <p:spPr>
            <a:xfrm>
              <a:off x="6400800" y="533412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listener to RMI connector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486400" y="563868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Delegate printer even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601992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MBean does not exist in the MBean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stanceNotFoundException exception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the format of the object name is wro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ObjectName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nterEventHandl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legate out of paper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ndleOutOfPaperEv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Target.outOfPap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legate low toner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ndleLowTonerEv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Target.lowTon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legate paper jam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ndlePaperJamEv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Target.paperJa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571640" y="3428640"/>
            <a:ext cx="3734280" cy="2057760"/>
            <a:chOff x="4571640" y="3428640"/>
            <a:chExt cx="3734280" cy="2057760"/>
          </a:xfrm>
        </p:grpSpPr>
        <p:sp>
          <p:nvSpPr>
            <p:cNvPr id="338" name=""/>
            <p:cNvSpPr/>
            <p:nvPr/>
          </p:nvSpPr>
          <p:spPr>
            <a:xfrm>
              <a:off x="6172200" y="3962520"/>
              <a:ext cx="2133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egate printer ev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4724280" y="342864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4571640" y="4114800"/>
              <a:ext cx="1600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4571640" y="4114800"/>
              <a:ext cx="16002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4.3.4 Management Appli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application for the 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UI for managing the pr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ientPrinter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nagerSidePrinterEvent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erManagement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4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057400" y="1752480"/>
            <a:ext cx="5257800" cy="3733920"/>
            <a:chOff x="2057400" y="1752480"/>
            <a:chExt cx="5257800" cy="3733920"/>
          </a:xfrm>
        </p:grpSpPr>
        <p:sp>
          <p:nvSpPr>
            <p:cNvPr id="96" name=""/>
            <p:cNvSpPr/>
            <p:nvPr/>
          </p:nvSpPr>
          <p:spPr>
            <a:xfrm>
              <a:off x="2057400" y="1752480"/>
              <a:ext cx="5257800" cy="373392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94520" y="1920960"/>
              <a:ext cx="1986120" cy="436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0"/>
                  </a:moveTo>
                  <a:lnTo>
                    <a:pt x="19993" y="19955"/>
                  </a:lnTo>
                  <a:lnTo>
                    <a:pt x="0" y="19955"/>
                  </a:lnTo>
                  <a:lnTo>
                    <a:pt x="0" y="0"/>
                  </a:lnTo>
                  <a:lnTo>
                    <a:pt x="19993" y="0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27440" y="2080080"/>
              <a:ext cx="151956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Management Appli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94520" y="1920960"/>
              <a:ext cx="1986120" cy="436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0"/>
                  </a:moveTo>
                  <a:lnTo>
                    <a:pt x="19993" y="19955"/>
                  </a:lnTo>
                  <a:lnTo>
                    <a:pt x="0" y="19955"/>
                  </a:lnTo>
                  <a:lnTo>
                    <a:pt x="0" y="0"/>
                  </a:lnTo>
                  <a:lnTo>
                    <a:pt x="19993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5120" y="3072960"/>
              <a:ext cx="3184200" cy="676080"/>
            </a:xfrm>
            <a:prstGeom prst="roundRect">
              <a:avLst>
                <a:gd name="adj" fmla="val 16667"/>
              </a:avLst>
            </a:prstGeom>
            <a:solidFill>
              <a:srgbClr val="4db3e6"/>
            </a:solidFill>
            <a:ln w="6480">
              <a:solidFill>
                <a:srgbClr val="4db3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64640" y="3350880"/>
              <a:ext cx="2044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Java Dynamic Management Ag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87040" y="2358000"/>
              <a:ext cx="720" cy="714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2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9720" y="4860000"/>
              <a:ext cx="1227240" cy="477360"/>
            </a:xfrm>
            <a:prstGeom prst="ellipse">
              <a:avLst/>
            </a:prstGeom>
            <a:solidFill>
              <a:srgbClr val="4db3e6"/>
            </a:solidFill>
            <a:ln w="6480">
              <a:solidFill>
                <a:srgbClr val="4db3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44440" y="4860000"/>
              <a:ext cx="1227240" cy="477360"/>
            </a:xfrm>
            <a:prstGeom prst="ellipse">
              <a:avLst/>
            </a:prstGeom>
            <a:solidFill>
              <a:srgbClr val="4db3e6"/>
            </a:solidFill>
            <a:ln w="6480">
              <a:solidFill>
                <a:srgbClr val="4db3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29280" y="4860000"/>
              <a:ext cx="1227240" cy="477360"/>
            </a:xfrm>
            <a:prstGeom prst="ellipse">
              <a:avLst/>
            </a:prstGeom>
            <a:solidFill>
              <a:srgbClr val="4db3e6"/>
            </a:solidFill>
            <a:ln w="6480">
              <a:solidFill>
                <a:srgbClr val="4db3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87040" y="3747960"/>
              <a:ext cx="720" cy="111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2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73040" y="3747960"/>
              <a:ext cx="496440" cy="111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2"/>
                  </a:moveTo>
                  <a:lnTo>
                    <a:pt x="19971" y="0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64000" y="3747960"/>
              <a:ext cx="525240" cy="111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19982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87960" y="5018760"/>
              <a:ext cx="116892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Managed Resou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88400" y="5018760"/>
              <a:ext cx="116856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Managed Resou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02760" y="5018760"/>
              <a:ext cx="116892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Managed Resou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80720" y="3072960"/>
              <a:ext cx="3213360" cy="676080"/>
            </a:xfrm>
            <a:prstGeom prst="roundRect">
              <a:avLst>
                <a:gd name="adj" fmla="val 16667"/>
              </a:avLst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720" y="4860000"/>
              <a:ext cx="1227240" cy="477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44440" y="4860000"/>
              <a:ext cx="1227240" cy="477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29280" y="4860000"/>
              <a:ext cx="1227240" cy="477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15720" y="5018760"/>
              <a:ext cx="141228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Instrumentation Lev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15720" y="3350880"/>
              <a:ext cx="847800" cy="4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Agent Lev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15720" y="2080080"/>
              <a:ext cx="125640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Manager Lev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934320" y="838080"/>
            <a:ext cx="2209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entPrinterManagem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1 get RMI connector cli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64767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2: ClientPrinterManagem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establishes a connection to the MBean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creates an MBean for PrinterSimulato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x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MX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anagem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DMX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dmk.comm.RmiConnector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dmk.comm.RmiConnector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PrinterManageme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ConnectorClient rmi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stantiate client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PrinterManageme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onnector client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miCli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ConnectorCli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ddress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miConnectorAddress rmiAddres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ConnectorAddres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724280" y="4495680"/>
            <a:ext cx="3200400" cy="609840"/>
            <a:chOff x="4724280" y="4495680"/>
            <a:chExt cx="3200400" cy="609840"/>
          </a:xfrm>
        </p:grpSpPr>
        <p:sp>
          <p:nvSpPr>
            <p:cNvPr id="347" name=""/>
            <p:cNvSpPr/>
            <p:nvPr/>
          </p:nvSpPr>
          <p:spPr>
            <a:xfrm>
              <a:off x="5638680" y="449568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RMI connector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4724280" y="464832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2 set RMI client por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3 establish connectio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Get RmiConnectorClient referen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mai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invoke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invoke GU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6324840" cy="6248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pecify po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miAddress.setPor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5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stablish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miClient.connect( rmiAddre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inetPrinterManagem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RmiConnectorClient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ConnectorClient getClie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tantiate client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PrinterManagement clientManag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PrinterManag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RMIConnectorClient hand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miConnectorClient client = clientManager.getCli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ManagementGUI printerManagementGUI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GUI( clien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the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ManagementGUI.set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ManagementGUI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038120" y="228600"/>
            <a:ext cx="2286360" cy="580680"/>
            <a:chOff x="4038120" y="228600"/>
            <a:chExt cx="2286360" cy="580680"/>
          </a:xfrm>
        </p:grpSpPr>
        <p:sp>
          <p:nvSpPr>
            <p:cNvPr id="352" name=""/>
            <p:cNvSpPr/>
            <p:nvPr/>
          </p:nvSpPr>
          <p:spPr>
            <a:xfrm>
              <a:off x="5257800" y="228600"/>
              <a:ext cx="1066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RMI client 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038120" y="533520"/>
              <a:ext cx="1219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495680" y="914400"/>
            <a:ext cx="2133720" cy="580680"/>
            <a:chOff x="4495680" y="914400"/>
            <a:chExt cx="2133720" cy="580680"/>
          </a:xfrm>
        </p:grpSpPr>
        <p:sp>
          <p:nvSpPr>
            <p:cNvPr id="355" name=""/>
            <p:cNvSpPr/>
            <p:nvPr/>
          </p:nvSpPr>
          <p:spPr>
            <a:xfrm>
              <a:off x="5486400" y="914400"/>
              <a:ext cx="1143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ablish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4495680" y="1143000"/>
              <a:ext cx="9907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105160" y="4724280"/>
            <a:ext cx="2362320" cy="337320"/>
            <a:chOff x="5105160" y="4724280"/>
            <a:chExt cx="2362320" cy="337320"/>
          </a:xfrm>
        </p:grpSpPr>
        <p:sp>
          <p:nvSpPr>
            <p:cNvPr id="358" name=""/>
            <p:cNvSpPr/>
            <p:nvPr/>
          </p:nvSpPr>
          <p:spPr>
            <a:xfrm>
              <a:off x="6248520" y="4724280"/>
              <a:ext cx="12189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GU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5105160" y="4876920"/>
              <a:ext cx="11430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erManagementGUI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mport packag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Inner class TextAppender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0"/>
            <a:ext cx="6324480" cy="6781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4: PrinterManagementGUI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defines the GUI for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er management applic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x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AWT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MX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anagem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DMX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dmk.comm.RmiConnector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dmk.comm.RmiConnector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ourier"/>
              <a:buAutoNum type="arabicPlain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ourier"/>
              <a:buAutoNum type="arabicPlain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ourier"/>
              <a:buAutoNum type="arabicPlain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.deitel.advjhtp1.jmx.Print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ourier"/>
              <a:buAutoNum type="arabicPlain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GUI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xtAppender appends text to a JTextArea. This Runn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ject should be executed only using SwingUtili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s invokeLater or invokeAndWait as it modif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 live Swing compon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textAre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419360" y="5791320"/>
            <a:ext cx="2895840" cy="580680"/>
            <a:chOff x="4419360" y="5791320"/>
            <a:chExt cx="2895840" cy="580680"/>
          </a:xfrm>
        </p:grpSpPr>
        <p:sp>
          <p:nvSpPr>
            <p:cNvPr id="363" name=""/>
            <p:cNvSpPr/>
            <p:nvPr/>
          </p:nvSpPr>
          <p:spPr>
            <a:xfrm>
              <a:off x="5943600" y="5791320"/>
              <a:ext cx="1371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 class TextAppen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4419360" y="5943240"/>
              <a:ext cx="1523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define status pan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304560" y="75960"/>
            <a:ext cx="647676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TextAppend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( JTextArea area, String newTex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 = new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Area = are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new text in JTex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new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Area.append( tex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move caret to end of messageArea to ensure n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message is visible on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Area.setCaretPosi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extArea.getText().length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extAppender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Name objec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ConnectorClient 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printerStatusTex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printerEventTex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ManagementGUI( RmiConnectorClient rmiCli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MX Printer Management Exampl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tus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printerStatus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tatusPanel.setPreferred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105520" y="5562720"/>
            <a:ext cx="2133360" cy="838080"/>
            <a:chOff x="5105520" y="5562720"/>
            <a:chExt cx="2133360" cy="838080"/>
          </a:xfrm>
        </p:grpSpPr>
        <p:sp>
          <p:nvSpPr>
            <p:cNvPr id="368" name=""/>
            <p:cNvSpPr/>
            <p:nvPr/>
          </p:nvSpPr>
          <p:spPr>
            <a:xfrm>
              <a:off x="5943600" y="5562720"/>
              <a:ext cx="1295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status pa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105520" y="58672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define buttons panel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.1 define actions for the butt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6476760" cy="6781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ScrollPane statusScroll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usScrollPane.setAutoscroll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usScrollPane.setPreferred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usScrollPane.getViewport().ad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tatusTextAre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tatusPanel.add( statusScrollPan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uttons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button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setPreferred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e action for Check Status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checkStatusButt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eck Statu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eckStatus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heckStatusButtonAction( 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e action for Add Paper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addPaper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 Pap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Paper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ActionEvent event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ddPaperButtonAction( 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800240" y="2057400"/>
            <a:ext cx="2514960" cy="580680"/>
            <a:chOff x="4800240" y="2057400"/>
            <a:chExt cx="2514960" cy="580680"/>
          </a:xfrm>
        </p:grpSpPr>
        <p:sp>
          <p:nvSpPr>
            <p:cNvPr id="373" name=""/>
            <p:cNvSpPr/>
            <p:nvPr/>
          </p:nvSpPr>
          <p:spPr>
            <a:xfrm>
              <a:off x="5867280" y="2057400"/>
              <a:ext cx="1447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buttons pa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4800240" y="2133720"/>
              <a:ext cx="10666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867280" y="3581280"/>
            <a:ext cx="3124440" cy="1981440"/>
            <a:chOff x="5867280" y="3581280"/>
            <a:chExt cx="3124440" cy="1981440"/>
          </a:xfrm>
        </p:grpSpPr>
        <p:sp>
          <p:nvSpPr>
            <p:cNvPr id="376" name=""/>
            <p:cNvSpPr/>
            <p:nvPr/>
          </p:nvSpPr>
          <p:spPr>
            <a:xfrm>
              <a:off x="7315200" y="3886200"/>
              <a:ext cx="167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actions for the butt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6171840" y="3581280"/>
              <a:ext cx="1143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867280" y="4191120"/>
              <a:ext cx="14479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3 define events panel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04560" y="0"/>
            <a:ext cx="647676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e action for Cancel Pending Print Jobs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cancelPendingPrintJobs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ncel Pending Print Job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ancelPendingPrintJobs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ancelPendingPrintJobsButtonAction( 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three buttons to the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checkStatusButto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addPaperButto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cancelPendingPrintJobsButto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vents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printerEven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EventPanel.setPreferred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ScrollPane eventsScroll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sScrollPane.setAutoscroll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sScrollPane.setPreferred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sScrollPane.getViewport().add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EventTextAre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EventPanel.add( eventsScrollPan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the tex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StatusTextArea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 Status: ---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EventTextArea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vents: --- 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ut all the panels toget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printerStatus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printerEvent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OU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button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4952520" y="762120"/>
            <a:ext cx="3124800" cy="580680"/>
            <a:chOff x="4952520" y="762120"/>
            <a:chExt cx="3124800" cy="580680"/>
          </a:xfrm>
        </p:grpSpPr>
        <p:sp>
          <p:nvSpPr>
            <p:cNvPr id="382" name=""/>
            <p:cNvSpPr/>
            <p:nvPr/>
          </p:nvSpPr>
          <p:spPr>
            <a:xfrm>
              <a:off x="6629400" y="762120"/>
              <a:ext cx="1447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actions for the butt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4952520" y="762120"/>
              <a:ext cx="1676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7086600" y="152388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486400" y="3580920"/>
            <a:ext cx="2743200" cy="337680"/>
            <a:chOff x="5486400" y="3580920"/>
            <a:chExt cx="2743200" cy="337680"/>
          </a:xfrm>
        </p:grpSpPr>
        <p:sp>
          <p:nvSpPr>
            <p:cNvPr id="386" name=""/>
            <p:cNvSpPr/>
            <p:nvPr/>
          </p:nvSpPr>
          <p:spPr>
            <a:xfrm>
              <a:off x="6400800" y="358128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events pa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5486400" y="358092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4 start printer simula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5 get PrinterEventHandler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304560" y="0"/>
            <a:ext cx="655308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RmiConnectorClient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 = rmi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method startPrinting of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8dff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erSimulator 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name = client.getDefaultDomai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typ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Name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.invoke( objectNam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Print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alid objec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alformedObjectName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cannot invoke the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flectionException exception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invoked method throws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Bea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MBean is not registered with MBean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stanceNotFoun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tantiate PrinterEventNotifi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erEventHandler printerEventHandl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erEventHandler( clien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5257800" y="533520"/>
            <a:ext cx="1752480" cy="1218960"/>
            <a:chOff x="5257800" y="533520"/>
            <a:chExt cx="1752480" cy="1218960"/>
          </a:xfrm>
        </p:grpSpPr>
        <p:sp>
          <p:nvSpPr>
            <p:cNvPr id="391" name=""/>
            <p:cNvSpPr/>
            <p:nvPr/>
          </p:nvSpPr>
          <p:spPr>
            <a:xfrm>
              <a:off x="5715000" y="533520"/>
              <a:ext cx="1295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 printing via MBea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5257800" y="83808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333760" y="5867280"/>
            <a:ext cx="2895840" cy="685800"/>
            <a:chOff x="5333760" y="5867280"/>
            <a:chExt cx="2895840" cy="685800"/>
          </a:xfrm>
        </p:grpSpPr>
        <p:sp>
          <p:nvSpPr>
            <p:cNvPr id="394" name=""/>
            <p:cNvSpPr/>
            <p:nvPr/>
          </p:nvSpPr>
          <p:spPr>
            <a:xfrm>
              <a:off x="5943600" y="586728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PrinterEventHand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333760" y="6019920"/>
              <a:ext cx="6094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6 define actions when close window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678204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nregister MBean when close the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Window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unregister MBea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unregister the PrinterSimulator 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lient.unregisterMBean( objec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unregister the PrinterEventBroadcas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tring name = client.getDefaultDo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typ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EventBroadcas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object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Name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lient.unregisterMBean( objec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if invalid objec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ObjectNameException exception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if exception is caught from method preDeregis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BeanRegistratio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if MBean is not registered with MBean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nstanceNotFoun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866920" y="2057400"/>
            <a:ext cx="3048480" cy="1295280"/>
            <a:chOff x="5866920" y="2057400"/>
            <a:chExt cx="3048480" cy="1295280"/>
          </a:xfrm>
        </p:grpSpPr>
        <p:sp>
          <p:nvSpPr>
            <p:cNvPr id="399" name=""/>
            <p:cNvSpPr/>
            <p:nvPr/>
          </p:nvSpPr>
          <p:spPr>
            <a:xfrm>
              <a:off x="7086600" y="220968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register Mbeans when close wind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5866920" y="205740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5866920" y="2514600"/>
              <a:ext cx="12193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 display events in events pan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624852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terminate the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windowClo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indowAdapt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Window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nterManagementGUI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 of paper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OfPap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ngUtilities.invokeLa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(</a:t>
            </a:r>
            <a:r>
              <a:rPr b="1" lang="en-US" sz="1200" spc="-1" strike="noStrike">
                <a:solidFill>
                  <a:srgbClr val="40d9ff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erEventTextArea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               "\nEVENT: Out of Paper!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oner low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Ton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ngUtilities.invokeLa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(</a:t>
            </a:r>
            <a:r>
              <a:rPr b="1" lang="en-US" sz="1200" spc="-1" strike="noStrike">
                <a:solidFill>
                  <a:srgbClr val="40d9ff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erEventTextArea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VENT: Toner Low!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per jam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perJam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ngUtilities.invokeLa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(</a:t>
            </a:r>
            <a:r>
              <a:rPr b="1" lang="en-US" sz="1200" spc="-1" strike="noStrike">
                <a:solidFill>
                  <a:srgbClr val="40d9ff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erEventTextArea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VENT: Paper Jam!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876560" y="2819520"/>
            <a:ext cx="3810240" cy="2819160"/>
            <a:chOff x="4876560" y="2819520"/>
            <a:chExt cx="3810240" cy="2819160"/>
          </a:xfrm>
        </p:grpSpPr>
        <p:sp>
          <p:nvSpPr>
            <p:cNvPr id="405" name=""/>
            <p:cNvSpPr/>
            <p:nvPr/>
          </p:nvSpPr>
          <p:spPr>
            <a:xfrm>
              <a:off x="7238880" y="350532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ev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5714640" y="2819520"/>
              <a:ext cx="15238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876560" y="3657600"/>
              <a:ext cx="23619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5562720" y="3657600"/>
              <a:ext cx="16761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Add paper to print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Cancel pending print job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32448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paper to the paper t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PaperButtonAction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.invoke( objectNam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plenishPaperTr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cannot invoke the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flectionException excep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invoked method throws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Bea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MBean is not registered with MBean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stanceNotFoun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ddPaperButton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ncel pending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celPendingPrintJobsButtonAc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.invoke( objectNam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ncelPendingPrintJob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876920" y="1447560"/>
            <a:ext cx="3429000" cy="961920"/>
            <a:chOff x="4876920" y="1447560"/>
            <a:chExt cx="3429000" cy="961920"/>
          </a:xfrm>
        </p:grpSpPr>
        <p:sp>
          <p:nvSpPr>
            <p:cNvPr id="412" name=""/>
            <p:cNvSpPr/>
            <p:nvPr/>
          </p:nvSpPr>
          <p:spPr>
            <a:xfrm>
              <a:off x="5715000" y="182880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paper to paper try when click Add Paper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4876920" y="144756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105160" y="4572000"/>
            <a:ext cx="3581640" cy="1371600"/>
            <a:chOff x="5105160" y="4572000"/>
            <a:chExt cx="3581640" cy="1371600"/>
          </a:xfrm>
        </p:grpSpPr>
        <p:sp>
          <p:nvSpPr>
            <p:cNvPr id="415" name=""/>
            <p:cNvSpPr/>
            <p:nvPr/>
          </p:nvSpPr>
          <p:spPr>
            <a:xfrm>
              <a:off x="6248520" y="457200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ncel pending print jobs when click Cancel Pending Print Jobs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5105160" y="5029200"/>
              <a:ext cx="1143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4.2 Installa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of JM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Dynamic Management Kit (JDM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JDM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ww.sun.com/software/java-dynamic/try.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LASS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dmkrt.jar and jdmktk.j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 Check printer’s statu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1 get printer’s stat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6400800" cy="6248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cannot invoke the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flectionException excep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invoked method throws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Bea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MBean is not registered with MBean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stanceNotFoun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ancelPendingPrintJobsButton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eckStatusButtonAction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onlineRespons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paperJamRespons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printingRespons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paperTrayRespons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pendingPrintJobsRespons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nage printer remote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heck if the printer is on 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nlineResponse = client.invoke( object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Onli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572000" y="4343400"/>
            <a:ext cx="3809880" cy="1295280"/>
            <a:chOff x="4572000" y="4343400"/>
            <a:chExt cx="3809880" cy="1295280"/>
          </a:xfrm>
        </p:grpSpPr>
        <p:sp>
          <p:nvSpPr>
            <p:cNvPr id="420" name=""/>
            <p:cNvSpPr/>
            <p:nvPr/>
          </p:nvSpPr>
          <p:spPr>
            <a:xfrm>
              <a:off x="6400800" y="4343400"/>
              <a:ext cx="1981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eck printer’s status when click Check Status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572000" y="4800600"/>
              <a:ext cx="1828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2 prepare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4560" y="75960"/>
            <a:ext cx="655308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heck if the printer is paper jam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perJamResponse = client.invoke( object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PaperJ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heck if the printing is pring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ingResponse = client.invoke( object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Print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he paper t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perTrayResponse = client.invoke( object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PaperTr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pending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ndingPrintJobsResponse = client.invoke( objectNam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PendingPrintJob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cannot invoke the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flectio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invoked method throws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Bea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MBean is not registered with MBean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stanceNotFoun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tus for the online cond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Onlin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( Boolean ) onlineResponse ).boolean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6400800" y="1523520"/>
            <a:ext cx="2362320" cy="1524960"/>
            <a:chOff x="6400800" y="1523520"/>
            <a:chExt cx="2362320" cy="1524960"/>
          </a:xfrm>
        </p:grpSpPr>
        <p:sp>
          <p:nvSpPr>
            <p:cNvPr id="425" name=""/>
            <p:cNvSpPr/>
            <p:nvPr/>
          </p:nvSpPr>
          <p:spPr>
            <a:xfrm>
              <a:off x="7238880" y="1981080"/>
              <a:ext cx="1524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eck printer’s status by calling methods on Printer M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6400800" y="152352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2 prepare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594360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tat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Onlin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Utilities.invokeLater( new TextAppend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StatusTextArea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rinter is ONLINE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Utilities.invokeLater( new TextAppend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StatusTextArea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rinter is OFFLINE.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tus for the paper jam cond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aperJam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( Boolean ) paperJamResponse ).boolean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tat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PaperJam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Utilities.invokeLater( new TextAppend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StatusTextArea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per jammed.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Utilities.invokeLater( new TextAppend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StatusTextArea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4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No Paper Jam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tus for the printing cond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Printing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( Boolean )printingResponse ).boolean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324120" y="1218960"/>
            <a:ext cx="2591280" cy="3657960"/>
            <a:chOff x="6324120" y="1218960"/>
            <a:chExt cx="2591280" cy="3657960"/>
          </a:xfrm>
        </p:grpSpPr>
        <p:sp>
          <p:nvSpPr>
            <p:cNvPr id="430" name=""/>
            <p:cNvSpPr/>
            <p:nvPr/>
          </p:nvSpPr>
          <p:spPr>
            <a:xfrm>
              <a:off x="7467480" y="2743200"/>
              <a:ext cx="1447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end printer status to output 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6400440" y="1218960"/>
              <a:ext cx="106668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324120" y="2057040"/>
              <a:ext cx="11430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6324120" y="3124080"/>
              <a:ext cx="11430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6324120" y="3124080"/>
              <a:ext cx="114300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2 prepare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624816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tat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Printing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Utilities.invokeLater( new TextAppend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StatusTextArea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 is currently printing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Utilities.invokeLater( new TextAppend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erStatusTextArea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rinter is not printing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tus for paper tray condition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perRemaining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( Integer )paperTrayResponse ).int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tat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ngUtilities.invokeLater( new TextAppen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tatusTextArea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er paper tray ha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paperRemaining +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ages remaining.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us for pending print jo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[] pendingPrintJob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Object[] ) pendingPrintJobsRespon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ndingPrintJobsNumber = pendingPrintJobs.leng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stat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ngUtilities.invokeLat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erStatusTextArea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umber of pending print job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ndingPrintJobsNumber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heckStatusButtonA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867280" y="609480"/>
            <a:ext cx="2895840" cy="4800600"/>
            <a:chOff x="5867280" y="609480"/>
            <a:chExt cx="2895840" cy="4800600"/>
          </a:xfrm>
        </p:grpSpPr>
        <p:sp>
          <p:nvSpPr>
            <p:cNvPr id="438" name=""/>
            <p:cNvSpPr/>
            <p:nvPr/>
          </p:nvSpPr>
          <p:spPr>
            <a:xfrm>
              <a:off x="7315200" y="2209680"/>
              <a:ext cx="1447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end printer status to output 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6095520" y="609480"/>
              <a:ext cx="121932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6095520" y="1600200"/>
              <a:ext cx="12193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5867280" y="2590920"/>
              <a:ext cx="1447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5943600" y="2590920"/>
              <a:ext cx="137160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3.5 Compiling and Running the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dmkrt.jar and jdmktk.j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s in package com.deitel.advjhtp1.jmx.Printer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s in package com.deitel.advjhtp1.jmx.PrinterSimu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erManagementAg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Printer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47" name="Initial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4762800" cy="476244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6248160" y="2971800"/>
            <a:ext cx="2438640" cy="642240"/>
            <a:chOff x="6248160" y="2971800"/>
            <a:chExt cx="2438640" cy="642240"/>
          </a:xfrm>
        </p:grpSpPr>
        <p:sp>
          <p:nvSpPr>
            <p:cNvPr id="449" name=""/>
            <p:cNvSpPr/>
            <p:nvPr/>
          </p:nvSpPr>
          <p:spPr>
            <a:xfrm>
              <a:off x="7238880" y="327672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 wind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6248160" y="2971800"/>
              <a:ext cx="9903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53" name="OutofpaperEvent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4762440" cy="4762800"/>
          </a:xfrm>
          <a:prstGeom prst="rect">
            <a:avLst/>
          </a:prstGeom>
          <a:ln w="0">
            <a:noFill/>
          </a:ln>
        </p:spPr>
      </p:pic>
      <p:grpSp>
        <p:nvGrpSpPr>
          <p:cNvPr id="454" name=""/>
          <p:cNvGrpSpPr/>
          <p:nvPr/>
        </p:nvGrpSpPr>
        <p:grpSpPr>
          <a:xfrm>
            <a:off x="6019560" y="4495680"/>
            <a:ext cx="2210040" cy="580680"/>
            <a:chOff x="6019560" y="4495680"/>
            <a:chExt cx="2210040" cy="580680"/>
          </a:xfrm>
        </p:grpSpPr>
        <p:sp>
          <p:nvSpPr>
            <p:cNvPr id="455" name=""/>
            <p:cNvSpPr/>
            <p:nvPr/>
          </p:nvSpPr>
          <p:spPr>
            <a:xfrm>
              <a:off x="6705720" y="4495680"/>
              <a:ext cx="1523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t-of-paper event happe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6019560" y="4724280"/>
              <a:ext cx="685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019560" y="1981080"/>
            <a:ext cx="2819520" cy="580680"/>
            <a:chOff x="6019560" y="1981080"/>
            <a:chExt cx="2819520" cy="580680"/>
          </a:xfrm>
        </p:grpSpPr>
        <p:sp>
          <p:nvSpPr>
            <p:cNvPr id="458" name=""/>
            <p:cNvSpPr/>
            <p:nvPr/>
          </p:nvSpPr>
          <p:spPr>
            <a:xfrm>
              <a:off x="6629400" y="198108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us after out-of-paper event happe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flipV="1">
              <a:off x="6019560" y="2209680"/>
              <a:ext cx="6094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62" name="AddPaperAction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4762440" cy="4762800"/>
          </a:xfrm>
          <a:prstGeom prst="rect">
            <a:avLst/>
          </a:prstGeom>
          <a:ln w="0">
            <a:noFill/>
          </a:ln>
        </p:spPr>
      </p:pic>
      <p:grpSp>
        <p:nvGrpSpPr>
          <p:cNvPr id="463" name=""/>
          <p:cNvGrpSpPr/>
          <p:nvPr/>
        </p:nvGrpSpPr>
        <p:grpSpPr>
          <a:xfrm>
            <a:off x="6095880" y="2362320"/>
            <a:ext cx="2895840" cy="809280"/>
            <a:chOff x="6095880" y="2362320"/>
            <a:chExt cx="2895840" cy="809280"/>
          </a:xfrm>
        </p:grpSpPr>
        <p:sp>
          <p:nvSpPr>
            <p:cNvPr id="464" name=""/>
            <p:cNvSpPr/>
            <p:nvPr/>
          </p:nvSpPr>
          <p:spPr>
            <a:xfrm>
              <a:off x="7162920" y="259092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us after clicked Add Paper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6095880" y="2362320"/>
              <a:ext cx="10670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68" name="PaperjamEvent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4762440" cy="476244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6019560" y="1981080"/>
            <a:ext cx="2819520" cy="580680"/>
            <a:chOff x="6019560" y="1981080"/>
            <a:chExt cx="2819520" cy="580680"/>
          </a:xfrm>
        </p:grpSpPr>
        <p:sp>
          <p:nvSpPr>
            <p:cNvPr id="470" name=""/>
            <p:cNvSpPr/>
            <p:nvPr/>
          </p:nvSpPr>
          <p:spPr>
            <a:xfrm>
              <a:off x="6629400" y="198108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us after out-of-paper event happe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6019560" y="236232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6095880" y="4495680"/>
            <a:ext cx="2133720" cy="580680"/>
            <a:chOff x="6095880" y="4495680"/>
            <a:chExt cx="2133720" cy="580680"/>
          </a:xfrm>
        </p:grpSpPr>
        <p:sp>
          <p:nvSpPr>
            <p:cNvPr id="473" name=""/>
            <p:cNvSpPr/>
            <p:nvPr/>
          </p:nvSpPr>
          <p:spPr>
            <a:xfrm>
              <a:off x="6705720" y="4495680"/>
              <a:ext cx="1523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t-of-paper event happe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>
              <a:off x="6095880" y="4800600"/>
              <a:ext cx="6098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77" name="RemoveJammedPaperAction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4762440" cy="476280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6095880" y="2362320"/>
            <a:ext cx="2895840" cy="1128600"/>
            <a:chOff x="6095880" y="2362320"/>
            <a:chExt cx="2895840" cy="1128600"/>
          </a:xfrm>
        </p:grpSpPr>
        <p:sp>
          <p:nvSpPr>
            <p:cNvPr id="479" name=""/>
            <p:cNvSpPr/>
            <p:nvPr/>
          </p:nvSpPr>
          <p:spPr>
            <a:xfrm>
              <a:off x="7162920" y="2666880"/>
              <a:ext cx="1828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us after clicked Cancel Pending Print Jobs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 flipV="1">
              <a:off x="6095880" y="2362320"/>
              <a:ext cx="106704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4.3 Case Stud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B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Bean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4.3 Case Stud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362320" y="1447920"/>
            <a:ext cx="4800600" cy="4724280"/>
            <a:chOff x="2362320" y="1447920"/>
            <a:chExt cx="4800600" cy="4724280"/>
          </a:xfrm>
        </p:grpSpPr>
        <p:sp>
          <p:nvSpPr>
            <p:cNvPr id="126" name=""/>
            <p:cNvSpPr/>
            <p:nvPr/>
          </p:nvSpPr>
          <p:spPr>
            <a:xfrm>
              <a:off x="2362320" y="1540800"/>
              <a:ext cx="4800600" cy="46314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42800" y="3230280"/>
              <a:ext cx="1653120" cy="218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02080" y="4419360"/>
              <a:ext cx="1680480" cy="376200"/>
            </a:xfrm>
            <a:prstGeom prst="ellipse">
              <a:avLst/>
            </a:prstGeom>
            <a:solidFill>
              <a:srgbClr val="4db3e6"/>
            </a:solidFill>
            <a:ln w="6480">
              <a:solidFill>
                <a:srgbClr val="4db3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15360" y="4544640"/>
              <a:ext cx="85392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Printer MBe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95360" y="1447920"/>
              <a:ext cx="27000" cy="6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02080" y="4419360"/>
              <a:ext cx="1680480" cy="37620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42800" y="2761200"/>
              <a:ext cx="1653120" cy="218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42800" y="2761200"/>
              <a:ext cx="1653120" cy="218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88960" y="2823840"/>
              <a:ext cx="136080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RmiConnectorClient: 555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42800" y="3230280"/>
              <a:ext cx="1653120" cy="218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75640" y="3292920"/>
              <a:ext cx="138708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 </a:t>
              </a: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RmiConnectorServer: 555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5640" y="3449520"/>
              <a:ext cx="2827440" cy="438480"/>
            </a:xfrm>
            <a:prstGeom prst="roundRect">
              <a:avLst>
                <a:gd name="adj" fmla="val 16667"/>
              </a:avLst>
            </a:prstGeom>
            <a:solidFill>
              <a:srgbClr val="4db3e6"/>
            </a:solidFill>
            <a:ln w="6480">
              <a:solidFill>
                <a:srgbClr val="4db3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55640" y="3449520"/>
              <a:ext cx="2827440" cy="438480"/>
            </a:xfrm>
            <a:prstGeom prst="roundRect">
              <a:avLst>
                <a:gd name="adj" fmla="val 16667"/>
              </a:avLst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09000" y="3637080"/>
              <a:ext cx="72072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MBean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22320" y="4419360"/>
              <a:ext cx="2480400" cy="407520"/>
            </a:xfrm>
            <a:prstGeom prst="ellipse">
              <a:avLst/>
            </a:prstGeom>
            <a:solidFill>
              <a:srgbClr val="4db3e6"/>
            </a:solidFill>
            <a:ln w="6480">
              <a:solidFill>
                <a:srgbClr val="4db3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22320" y="4419360"/>
              <a:ext cx="2480400" cy="4075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22280" y="4575960"/>
              <a:ext cx="16804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PrinterEventBroadcaster MBe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42560" y="5451840"/>
              <a:ext cx="1200240" cy="594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9" y="0"/>
                  </a:moveTo>
                  <a:lnTo>
                    <a:pt x="19989" y="19974"/>
                  </a:lnTo>
                  <a:lnTo>
                    <a:pt x="0" y="19974"/>
                  </a:lnTo>
                  <a:lnTo>
                    <a:pt x="0" y="0"/>
                  </a:lnTo>
                  <a:lnTo>
                    <a:pt x="19989" y="0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2560" y="5451840"/>
              <a:ext cx="1200240" cy="594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9" y="0"/>
                  </a:moveTo>
                  <a:lnTo>
                    <a:pt x="19989" y="19974"/>
                  </a:lnTo>
                  <a:lnTo>
                    <a:pt x="0" y="19974"/>
                  </a:lnTo>
                  <a:lnTo>
                    <a:pt x="0" y="0"/>
                  </a:lnTo>
                  <a:lnTo>
                    <a:pt x="19989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62080" y="5702400"/>
              <a:ext cx="9604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PrinterSimula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22200" y="1666080"/>
              <a:ext cx="1893960" cy="438480"/>
            </a:xfrm>
            <a:prstGeom prst="roundRect">
              <a:avLst>
                <a:gd name="adj" fmla="val 16667"/>
              </a:avLst>
            </a:prstGeom>
            <a:solidFill>
              <a:srgbClr val="4db3e6"/>
            </a:solidFill>
            <a:ln w="6480">
              <a:solidFill>
                <a:srgbClr val="4db3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62320" y="1822320"/>
              <a:ext cx="141372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Management Appli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22200" y="1666080"/>
              <a:ext cx="1893960" cy="438480"/>
            </a:xfrm>
            <a:prstGeom prst="roundRect">
              <a:avLst>
                <a:gd name="adj" fmla="val 16667"/>
              </a:avLst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69000" y="2103840"/>
              <a:ext cx="360" cy="657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6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69480" y="3887640"/>
              <a:ext cx="746640" cy="53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2" y="0"/>
                  </a:moveTo>
                  <a:lnTo>
                    <a:pt x="0" y="1997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69680" y="3887640"/>
              <a:ext cx="640080" cy="53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79" y="1997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41960" y="4794840"/>
              <a:ext cx="720" cy="656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6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4.3.1 Instrument Resour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ment a re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 MBe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Bean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Bean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Bean interface desig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ose attributes of a management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ializa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4.3.1 Instrument Resour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Bean class desig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 MBean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blic and concr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blic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18:47:44Z</dcterms:created>
  <dc:creator>zhang</dc:creator>
  <dc:description/>
  <dc:language>en-US</dc:language>
  <cp:lastModifiedBy>zhang</cp:lastModifiedBy>
  <dcterms:modified xsi:type="dcterms:W3CDTF">2000-08-31T20:27:32Z</dcterms:modified>
  <cp:revision>170</cp:revision>
  <dc:subject/>
  <dc:title>Chapter 24 – Java Management Extensions (JMX)</dc:title>
</cp:coreProperties>
</file>