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D60C3-B6C1-4E5D-AF3D-CAE51BD1F0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A5D96-1AC2-4950-8EA3-ABBB02830BC9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DD03-9FA4-4AB8-B45C-AC3A303F3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152C-96AF-4EAA-B1A0-8F961C192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5899-4C61-45DF-8A44-FC0A38D7B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FC98-8E25-4E10-93EB-E2026BFC7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C912D-4A75-4A21-B645-F0D02B422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A46EB-8412-42BA-961E-2EFB3D6DC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2AEB8-3F2F-42CC-AFDC-1289ADB0C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CEF18-4774-4A4F-9EAE-30528A514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E13D6-7E49-4938-B59D-4B414AF00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7BC04-6028-4065-B166-9F207C100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0B424-AF12-48AD-8B7E-046B757F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7B3A-72B5-4A7A-B48B-37813DF57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69422-AF27-4293-A013-14DD5EBBF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926B8-2FE3-4A66-91CD-95188A7C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618A0-7C43-4651-BB26-B6D4B4DAD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8D8D6-44C6-4470-A172-55C11CDE5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672D8-A22B-4442-8944-5FCD46770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49CF4-D41E-488B-98A5-0EB947178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FDDCC-2463-4AC6-BBA3-DD355C498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23F88-0331-498F-A284-E9886D5CC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B9C05-BB16-4EF1-A20B-D71DAB208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D7C07-6C9E-4E0F-A721-E513F2FC5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017A-02E0-4EB4-9AAB-20D71CC89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6DE4A-C563-487A-8D49-BDE39DD53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4FE16-0AFC-4B03-8617-70AFD62D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C4E4D-4A09-4330-BB08-C2528B61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F821D-8F1B-4455-B1CB-64AA22C7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03E2E-C630-4539-91FA-5B4596216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46997-53A1-4ACE-B9BA-7BE8965B0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CB235-A318-4177-8EE1-FE1DCAB5F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39CB-06FF-4681-8D9B-348FEE9D3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E6B5-2F10-4025-B1F6-23EF8DC7D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331A-3909-4728-8B7A-96B18509C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0F1A-B062-4D75-B46D-781D2CBE8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6289-A674-400E-A461-97E573D4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E08E-8CC8-4647-A452-3D6151B95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3FBA8-2B9A-47D9-911D-F17E2A0DF16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D20F0-87A1-414C-8384-DF93CCDD02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0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2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3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58992-0819-4B1A-A0C7-BE7E700B94A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Object-Oriented_Programming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t_ps3_universeofentertainment.wmv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-559080" y="4851000"/>
            <a:ext cx="7671600" cy="134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Multi-Threaded Programm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5130720" y="480060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By Jonathan Me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0074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orks Cite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arris, Tim, Keir Fraser. “Language Support for Lightweight Transactions.”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Object-Oriented Programming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, Systems, Languages &amp; Applications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Oct. 2003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u, Xingfu.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Performance Evaluation, Prediction and Visualization of Parallel Systems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 Boston: Kluwer Academic Publishers, 1999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u, George. “Intel Ct Leaps Ahead of Multi-Threaded Development.” 18 Mar. 2008.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Real World IT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 2007. &lt;http://blogs.zdnet.com/Ou/?p=554&gt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Xavier, C., S. S. Iyengar.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Introduction to Parallel Algorithms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 New York: John Wiley &amp; Sons, Inc., 1998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anks to Playstation and Fallout 3 for promotional considera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Ques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is a disadvantage of Java’s Synchronized keyword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is one way that storing shared variables in a heap advances the multi-threading proces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5" descr="thumbs-up"/>
          <p:cNvPicPr/>
          <p:nvPr/>
        </p:nvPicPr>
        <p:blipFill>
          <a:blip r:embed="rId1"/>
          <a:stretch/>
        </p:blipFill>
        <p:spPr>
          <a:xfrm>
            <a:off x="5533920" y="2971800"/>
            <a:ext cx="3610080" cy="37623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tages of Multi-Threading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only code desired in the near futu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astest code for current machi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sets us apart from the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 opportun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sadvantages of Multi-Thread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grammed at a very low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thout a conventional algorith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cking in operating system suppor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need of standardized hardwa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ss beneficial per process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WordArt 6"/>
          <p:cNvSpPr txBox="1"/>
          <p:nvPr/>
        </p:nvSpPr>
        <p:spPr>
          <a:xfrm rot="20157600">
            <a:off x="6019920" y="4800600"/>
            <a:ext cx="2581200" cy="14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338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%$*#@&amp;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ipelining Similarit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ata Hazards (Read-after-Writ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struction Hazards (Write-after-Write and Write-after-Read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Line 4"/>
          <p:cNvSpPr/>
          <p:nvPr/>
        </p:nvSpPr>
        <p:spPr>
          <a:xfrm>
            <a:off x="1676520" y="5105520"/>
            <a:ext cx="5331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2209680" y="4876920"/>
            <a:ext cx="1295640" cy="457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ork on X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Line 6"/>
          <p:cNvSpPr/>
          <p:nvPr/>
        </p:nvSpPr>
        <p:spPr>
          <a:xfrm>
            <a:off x="3505320" y="5105520"/>
            <a:ext cx="5331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Line 7"/>
          <p:cNvSpPr/>
          <p:nvPr/>
        </p:nvSpPr>
        <p:spPr>
          <a:xfrm>
            <a:off x="1676520" y="5715000"/>
            <a:ext cx="91440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Rectangle 8"/>
          <p:cNvSpPr/>
          <p:nvPr/>
        </p:nvSpPr>
        <p:spPr>
          <a:xfrm>
            <a:off x="2590920" y="5486400"/>
            <a:ext cx="3124080" cy="457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ad from X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Line 10"/>
          <p:cNvSpPr/>
          <p:nvPr/>
        </p:nvSpPr>
        <p:spPr>
          <a:xfrm>
            <a:off x="5715000" y="5715000"/>
            <a:ext cx="53352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Line 11"/>
          <p:cNvSpPr/>
          <p:nvPr/>
        </p:nvSpPr>
        <p:spPr>
          <a:xfrm>
            <a:off x="1676520" y="6324480"/>
            <a:ext cx="12189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2895480" y="6095880"/>
            <a:ext cx="1295640" cy="457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ork on X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Line 13"/>
          <p:cNvSpPr/>
          <p:nvPr/>
        </p:nvSpPr>
        <p:spPr>
          <a:xfrm>
            <a:off x="4191120" y="6324480"/>
            <a:ext cx="5331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154440" y="4952880"/>
            <a:ext cx="1424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struction 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struction 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struction 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Semaphore Syste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ust be heavily protected to prevent deadloc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ften causes over protection as in Java’s synchronized ca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rces block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1523880" y="5867280"/>
            <a:ext cx="16002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ork on 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2209680" y="5410080"/>
            <a:ext cx="2667240" cy="457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Wait for X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124080" y="5867280"/>
            <a:ext cx="1752840" cy="457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Work on X and 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4876920" y="5410080"/>
            <a:ext cx="1828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Work on X and 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5029200" y="5867280"/>
            <a:ext cx="1676520" cy="457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ait for 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306720" y="54864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rocess 1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306720" y="586728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rocess 2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6705720" y="5867280"/>
            <a:ext cx="144756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ork on 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762120" y="2362320"/>
          <a:ext cx="8153280" cy="2968560"/>
        </p:xfrm>
        <a:graphic>
          <a:graphicData uri="http://schemas.openxmlformats.org/drawingml/2006/table">
            <a:tbl>
              <a:tblPr/>
              <a:tblGrid>
                <a:gridCol w="4076640"/>
                <a:gridCol w="4076640"/>
              </a:tblGrid>
              <a:tr h="298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ocess 1{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f (X == 1)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X = ++Y;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}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ocess 2{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f (Y == 1)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Y = X - 2;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Y++;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}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ocess 1{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f (Y == 1 || X == Y)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++;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}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ocess2{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f (Y == 1)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Z = X + Y;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f (Z == X)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++;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}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Line 69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507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910440" y="45288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omic               Synchroniz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WordArt 71"/>
          <p:cNvSpPr txBox="1"/>
          <p:nvPr/>
        </p:nvSpPr>
        <p:spPr>
          <a:xfrm>
            <a:off x="4267080" y="762120"/>
            <a:ext cx="46692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V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78" name="Rectangle 73"/>
          <p:cNvSpPr/>
          <p:nvPr/>
        </p:nvSpPr>
        <p:spPr>
          <a:xfrm>
            <a:off x="152280" y="1676520"/>
            <a:ext cx="419112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Locks one variabl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hecks a designer condition before executi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Notifies other threads of wait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No busy wait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Rectangle 74"/>
          <p:cNvSpPr/>
          <p:nvPr/>
        </p:nvSpPr>
        <p:spPr>
          <a:xfrm>
            <a:off x="4724280" y="1676520"/>
            <a:ext cx="4191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Locks all variabl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Must be wrapped in an if statement for a conditi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aits without notificati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Busy wait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36"/>
          <p:cNvSpPr/>
          <p:nvPr/>
        </p:nvSpPr>
        <p:spPr>
          <a:xfrm>
            <a:off x="4572000" y="4800600"/>
            <a:ext cx="3200400" cy="60948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ai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Rectangle 30"/>
          <p:cNvSpPr/>
          <p:nvPr/>
        </p:nvSpPr>
        <p:spPr>
          <a:xfrm>
            <a:off x="4572000" y="3809880"/>
            <a:ext cx="320040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ad X = 9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eap Variable Syste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761760" y="228564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llows non-blocking variable acce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tential for excellent hardware suppor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llows multiple reads and a write concurrent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838080" y="2362320"/>
          <a:ext cx="2286000" cy="4064040"/>
        </p:xfrm>
        <a:graphic>
          <a:graphicData uri="http://schemas.openxmlformats.org/drawingml/2006/table">
            <a:tbl>
              <a:tblPr/>
              <a:tblGrid>
                <a:gridCol w="228600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 P1 Read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 P2 Write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 P3 Read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 P2 Write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 P3 Wait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 P3 Read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Rectangle 27"/>
          <p:cNvSpPr/>
          <p:nvPr/>
        </p:nvSpPr>
        <p:spPr>
          <a:xfrm>
            <a:off x="4572000" y="2438280"/>
            <a:ext cx="320040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ad X = 7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Rectangle 28"/>
          <p:cNvSpPr/>
          <p:nvPr/>
        </p:nvSpPr>
        <p:spPr>
          <a:xfrm>
            <a:off x="5943600" y="2666880"/>
            <a:ext cx="2057400" cy="13716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rite X &lt;= 9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Line 31"/>
          <p:cNvSpPr/>
          <p:nvPr/>
        </p:nvSpPr>
        <p:spPr>
          <a:xfrm>
            <a:off x="7620120" y="3352680"/>
            <a:ext cx="0" cy="7621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Line 32"/>
          <p:cNvSpPr/>
          <p:nvPr/>
        </p:nvSpPr>
        <p:spPr>
          <a:xfrm flipH="1">
            <a:off x="5943240" y="4114800"/>
            <a:ext cx="167652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Line 33"/>
          <p:cNvSpPr/>
          <p:nvPr/>
        </p:nvSpPr>
        <p:spPr>
          <a:xfrm>
            <a:off x="7391520" y="3352680"/>
            <a:ext cx="2286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Rectangle 34"/>
          <p:cNvSpPr/>
          <p:nvPr/>
        </p:nvSpPr>
        <p:spPr>
          <a:xfrm>
            <a:off x="5943600" y="4191120"/>
            <a:ext cx="2057400" cy="13716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rite X &lt;= 1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Rectangle 30"/>
          <p:cNvSpPr/>
          <p:nvPr/>
        </p:nvSpPr>
        <p:spPr>
          <a:xfrm>
            <a:off x="4572000" y="5410080"/>
            <a:ext cx="320040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rite X &lt;= 15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Line 31"/>
          <p:cNvSpPr/>
          <p:nvPr/>
        </p:nvSpPr>
        <p:spPr>
          <a:xfrm>
            <a:off x="7924680" y="4876920"/>
            <a:ext cx="0" cy="7617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Line 32"/>
          <p:cNvSpPr/>
          <p:nvPr/>
        </p:nvSpPr>
        <p:spPr>
          <a:xfrm flipH="1">
            <a:off x="6248520" y="5638680"/>
            <a:ext cx="16761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Line 33"/>
          <p:cNvSpPr/>
          <p:nvPr/>
        </p:nvSpPr>
        <p:spPr>
          <a:xfrm>
            <a:off x="7696080" y="4876920"/>
            <a:ext cx="2286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Rectangle 30"/>
          <p:cNvSpPr/>
          <p:nvPr/>
        </p:nvSpPr>
        <p:spPr>
          <a:xfrm>
            <a:off x="4572000" y="5943600"/>
            <a:ext cx="320040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ad X = 15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140"/>
          <p:cNvSpPr/>
          <p:nvPr/>
        </p:nvSpPr>
        <p:spPr>
          <a:xfrm>
            <a:off x="7696080" y="1523880"/>
            <a:ext cx="1371600" cy="175284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ai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Line 129"/>
          <p:cNvSpPr/>
          <p:nvPr/>
        </p:nvSpPr>
        <p:spPr>
          <a:xfrm>
            <a:off x="6095880" y="0"/>
            <a:ext cx="0" cy="6858000"/>
          </a:xfrm>
          <a:prstGeom prst="line">
            <a:avLst/>
          </a:prstGeom>
          <a:ln w="507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Line 130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507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Text Box 131"/>
          <p:cNvSpPr/>
          <p:nvPr/>
        </p:nvSpPr>
        <p:spPr>
          <a:xfrm>
            <a:off x="6401880" y="152280"/>
            <a:ext cx="7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Text Box 132"/>
          <p:cNvSpPr/>
          <p:nvPr/>
        </p:nvSpPr>
        <p:spPr>
          <a:xfrm>
            <a:off x="7925760" y="152280"/>
            <a:ext cx="7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Y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Rectangle 133"/>
          <p:cNvSpPr/>
          <p:nvPr/>
        </p:nvSpPr>
        <p:spPr>
          <a:xfrm>
            <a:off x="7696080" y="609480"/>
            <a:ext cx="13716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ad 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Text Box 134"/>
          <p:cNvSpPr/>
          <p:nvPr/>
        </p:nvSpPr>
        <p:spPr>
          <a:xfrm>
            <a:off x="152280" y="609480"/>
            <a:ext cx="573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f (Y &gt; 2)W++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Rectangle 135"/>
          <p:cNvSpPr/>
          <p:nvPr/>
        </p:nvSpPr>
        <p:spPr>
          <a:xfrm>
            <a:off x="7696080" y="990720"/>
            <a:ext cx="12193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ad 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Text Box 136"/>
          <p:cNvSpPr/>
          <p:nvPr/>
        </p:nvSpPr>
        <p:spPr>
          <a:xfrm>
            <a:off x="152280" y="990720"/>
            <a:ext cx="573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f (Y == X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Y++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Rectangle 137"/>
          <p:cNvSpPr/>
          <p:nvPr/>
        </p:nvSpPr>
        <p:spPr>
          <a:xfrm>
            <a:off x="6172200" y="990720"/>
            <a:ext cx="1371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ad X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Rectangle 138"/>
          <p:cNvSpPr/>
          <p:nvPr/>
        </p:nvSpPr>
        <p:spPr>
          <a:xfrm>
            <a:off x="7696080" y="1371600"/>
            <a:ext cx="121932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Y = 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Text Box 139"/>
          <p:cNvSpPr/>
          <p:nvPr/>
        </p:nvSpPr>
        <p:spPr>
          <a:xfrm>
            <a:off x="152280" y="1600200"/>
            <a:ext cx="573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f (Y &gt; 2)Y++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Text Box 141"/>
          <p:cNvSpPr/>
          <p:nvPr/>
        </p:nvSpPr>
        <p:spPr>
          <a:xfrm>
            <a:off x="152280" y="1981080"/>
            <a:ext cx="573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++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Rectangle 142"/>
          <p:cNvSpPr/>
          <p:nvPr/>
        </p:nvSpPr>
        <p:spPr>
          <a:xfrm>
            <a:off x="6172200" y="1981080"/>
            <a:ext cx="137160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 = 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Text Box 143"/>
          <p:cNvSpPr/>
          <p:nvPr/>
        </p:nvSpPr>
        <p:spPr>
          <a:xfrm>
            <a:off x="152280" y="2438280"/>
            <a:ext cx="573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f (X &gt; 2)Y++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Rectangle 144"/>
          <p:cNvSpPr/>
          <p:nvPr/>
        </p:nvSpPr>
        <p:spPr>
          <a:xfrm>
            <a:off x="6172200" y="2362320"/>
            <a:ext cx="1371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ad X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Text Box 145"/>
          <p:cNvSpPr/>
          <p:nvPr/>
        </p:nvSpPr>
        <p:spPr>
          <a:xfrm>
            <a:off x="152280" y="2971800"/>
            <a:ext cx="573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f (X == 1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Y += X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Rectangle 146"/>
          <p:cNvSpPr/>
          <p:nvPr/>
        </p:nvSpPr>
        <p:spPr>
          <a:xfrm>
            <a:off x="6172200" y="2819520"/>
            <a:ext cx="12193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ad X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Rectangle 147"/>
          <p:cNvSpPr/>
          <p:nvPr/>
        </p:nvSpPr>
        <p:spPr>
          <a:xfrm>
            <a:off x="6172200" y="3200400"/>
            <a:ext cx="2743200" cy="45720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ait                 Wai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15" name="Group 155"/>
          <p:cNvGrpSpPr/>
          <p:nvPr/>
        </p:nvGrpSpPr>
        <p:grpSpPr>
          <a:xfrm>
            <a:off x="1143000" y="1600200"/>
            <a:ext cx="1572480" cy="1846440"/>
            <a:chOff x="1143000" y="1600200"/>
            <a:chExt cx="1572480" cy="1846440"/>
          </a:xfrm>
        </p:grpSpPr>
        <p:sp>
          <p:nvSpPr>
            <p:cNvPr id="216" name="Line 148"/>
            <p:cNvSpPr/>
            <p:nvPr/>
          </p:nvSpPr>
          <p:spPr>
            <a:xfrm flipH="1">
              <a:off x="1828440" y="17524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7" name="Line 149"/>
            <p:cNvSpPr/>
            <p:nvPr/>
          </p:nvSpPr>
          <p:spPr>
            <a:xfrm>
              <a:off x="2514600" y="175248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8" name="Line 150"/>
            <p:cNvSpPr/>
            <p:nvPr/>
          </p:nvSpPr>
          <p:spPr>
            <a:xfrm flipH="1">
              <a:off x="1143000" y="335268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9" name="Text Box 153"/>
            <p:cNvSpPr/>
            <p:nvPr/>
          </p:nvSpPr>
          <p:spPr>
            <a:xfrm>
              <a:off x="2211840" y="1600200"/>
              <a:ext cx="5036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Wake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0" name="Text Box 154"/>
            <p:cNvSpPr/>
            <p:nvPr/>
          </p:nvSpPr>
          <p:spPr>
            <a:xfrm>
              <a:off x="2211840" y="3200400"/>
              <a:ext cx="5036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Wake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21" name="Rectangle 157"/>
          <p:cNvSpPr/>
          <p:nvPr/>
        </p:nvSpPr>
        <p:spPr>
          <a:xfrm>
            <a:off x="7691400" y="2738520"/>
            <a:ext cx="1371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ad 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Text Box 160"/>
          <p:cNvSpPr/>
          <p:nvPr/>
        </p:nvSpPr>
        <p:spPr>
          <a:xfrm>
            <a:off x="228600" y="3733920"/>
            <a:ext cx="573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++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Rectangle 161"/>
          <p:cNvSpPr/>
          <p:nvPr/>
        </p:nvSpPr>
        <p:spPr>
          <a:xfrm>
            <a:off x="6172200" y="3581280"/>
            <a:ext cx="1371600" cy="175284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ai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24" name="Group 162"/>
          <p:cNvGrpSpPr/>
          <p:nvPr/>
        </p:nvGrpSpPr>
        <p:grpSpPr>
          <a:xfrm>
            <a:off x="837720" y="3429000"/>
            <a:ext cx="915480" cy="578160"/>
            <a:chOff x="837720" y="3429000"/>
            <a:chExt cx="915480" cy="578160"/>
          </a:xfrm>
        </p:grpSpPr>
        <p:sp>
          <p:nvSpPr>
            <p:cNvPr id="225" name="Line 163"/>
            <p:cNvSpPr/>
            <p:nvPr/>
          </p:nvSpPr>
          <p:spPr>
            <a:xfrm flipH="1">
              <a:off x="1100160" y="3530520"/>
              <a:ext cx="26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6" name="Line 164"/>
            <p:cNvSpPr/>
            <p:nvPr/>
          </p:nvSpPr>
          <p:spPr>
            <a:xfrm>
              <a:off x="1362600" y="3530520"/>
              <a:ext cx="0" cy="33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7" name="Line 165"/>
            <p:cNvSpPr/>
            <p:nvPr/>
          </p:nvSpPr>
          <p:spPr>
            <a:xfrm flipH="1">
              <a:off x="837720" y="3863160"/>
              <a:ext cx="52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8" name="Text Box 166"/>
            <p:cNvSpPr/>
            <p:nvPr/>
          </p:nvSpPr>
          <p:spPr>
            <a:xfrm>
              <a:off x="1249560" y="3429000"/>
              <a:ext cx="5036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Wake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9" name="Text Box 167"/>
            <p:cNvSpPr/>
            <p:nvPr/>
          </p:nvSpPr>
          <p:spPr>
            <a:xfrm>
              <a:off x="1247760" y="3760920"/>
              <a:ext cx="5036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Wake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30" name="Rectangle 168"/>
          <p:cNvSpPr/>
          <p:nvPr/>
        </p:nvSpPr>
        <p:spPr>
          <a:xfrm>
            <a:off x="6172200" y="3276720"/>
            <a:ext cx="12193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ad X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Rectangle 169"/>
          <p:cNvSpPr/>
          <p:nvPr/>
        </p:nvSpPr>
        <p:spPr>
          <a:xfrm>
            <a:off x="7696080" y="3276720"/>
            <a:ext cx="121932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Y = 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peed Comparis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thout hardware support atomic method is faster on as few as five processo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atomic method can be accelerated by using a hash table and recycling spa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re is the potential for hardware suppor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4" name="Picture 6" descr="done"/>
          <p:cNvPicPr/>
          <p:nvPr/>
        </p:nvPicPr>
        <p:blipFill>
          <a:blip r:embed="rId1"/>
          <a:stretch/>
        </p:blipFill>
        <p:spPr>
          <a:xfrm>
            <a:off x="0" y="0"/>
            <a:ext cx="9144000" cy="67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02:49:48Z</dcterms:created>
  <dc:creator>Ellen Hill</dc:creator>
  <dc:description/>
  <dc:language>en-US</dc:language>
  <cp:lastModifiedBy>Faculty</cp:lastModifiedBy>
  <dcterms:modified xsi:type="dcterms:W3CDTF">2008-03-20T13:48:43Z</dcterms:modified>
  <cp:revision>25</cp:revision>
  <dc:subject/>
  <dc:title>The Number System</dc:title>
</cp:coreProperties>
</file>