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wmf" ContentType="image/x-wmf"/>
  <Override PartName="/ppt/media/image14.jpeg" ContentType="image/jpeg"/>
  <Override PartName="/ppt/media/image56.wmf" ContentType="image/x-wmf"/>
  <Override PartName="/ppt/media/image53.wmf" ContentType="image/x-wmf"/>
  <Override PartName="/ppt/media/image47.wmf" ContentType="image/x-wmf"/>
  <Override PartName="/ppt/media/image13.jpeg" ContentType="image/jpeg"/>
  <Override PartName="/ppt/media/image46.wmf" ContentType="image/x-wmf"/>
  <Override PartName="/ppt/media/image44.wmf" ContentType="image/x-wmf"/>
  <Override PartName="/ppt/media/image43.png" ContentType="image/png"/>
  <Override PartName="/ppt/media/image36.png" ContentType="image/png"/>
  <Override PartName="/ppt/media/image9.jpeg" ContentType="image/jpeg"/>
  <Override PartName="/ppt/media/image34.wmf" ContentType="image/x-wmf"/>
  <Override PartName="/ppt/media/image33.wmf" ContentType="image/x-wmf"/>
  <Override PartName="/ppt/media/image51.wmf" ContentType="image/x-wmf"/>
  <Override PartName="/ppt/media/image29.png" ContentType="image/png"/>
  <Override PartName="/ppt/media/image48.png" ContentType="image/png"/>
  <Override PartName="/ppt/media/image11.jpeg" ContentType="image/jpeg"/>
  <Override PartName="/ppt/media/image28.jpeg" ContentType="image/jpeg"/>
  <Override PartName="/ppt/media/image41.wmf" ContentType="image/x-wmf"/>
  <Override PartName="/ppt/media/image84.png" ContentType="image/png"/>
  <Override PartName="/ppt/media/image38.png" ContentType="image/png"/>
  <Override PartName="/ppt/media/image8.jpeg" ContentType="image/jpeg"/>
  <Override PartName="/ppt/media/image54.wmf" ContentType="image/x-wmf"/>
  <Override PartName="/ppt/media/image10.jpeg" ContentType="image/jpeg"/>
  <Override PartName="/ppt/media/image27.jpeg" ContentType="image/jpeg"/>
  <Override PartName="/ppt/media/image18.jpeg" ContentType="image/jpeg"/>
  <Override PartName="/ppt/media/image55.wmf" ContentType="image/x-wmf"/>
  <Override PartName="/ppt/media/image20.jpeg" ContentType="image/jpeg"/>
  <Override PartName="/ppt/media/image16.jpeg" ContentType="image/jpeg"/>
  <Override PartName="/ppt/media/image77.wmf" ContentType="image/x-wmf"/>
  <Override PartName="/ppt/media/image21.jpeg" ContentType="image/jpeg"/>
  <Override PartName="/ppt/media/image65.png" ContentType="image/png"/>
  <Override PartName="/ppt/media/image60.png" ContentType="image/png"/>
  <Override PartName="/ppt/media/image6.jpeg" ContentType="image/jpeg"/>
  <Override PartName="/ppt/media/image58.wmf" ContentType="image/x-wmf"/>
  <Override PartName="/ppt/media/image45.wmf" ContentType="image/x-wmf"/>
  <Override PartName="/ppt/media/image17.jpeg" ContentType="image/jpeg"/>
  <Override PartName="/ppt/media/image62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19.jpeg" ContentType="image/jpeg"/>
  <Override PartName="/ppt/media/image83.png" ContentType="image/png"/>
  <Override PartName="/ppt/media/image82.png" ContentType="image/png"/>
  <Override PartName="/ppt/media/image35.wmf" ContentType="image/x-wmf"/>
  <Override PartName="/ppt/media/image78.png" ContentType="image/png"/>
  <Override PartName="/ppt/media/image80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72.wmf" ContentType="image/x-wmf"/>
  <Override PartName="/ppt/media/image26.jpeg" ContentType="image/jpeg"/>
  <Override PartName="/ppt/media/image42.png" ContentType="image/png"/>
  <Override PartName="/ppt/media/image67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76.wmf" ContentType="image/x-wmf"/>
  <Override PartName="/ppt/media/image75.wmf" ContentType="image/x-wmf"/>
  <Override PartName="/ppt/media/image70.jpeg" ContentType="image/jpeg"/>
  <Override PartName="/ppt/media/image74.wmf" ContentType="image/x-wmf"/>
  <Override PartName="/ppt/media/image12.jpeg" ContentType="image/jpeg"/>
  <Override PartName="/ppt/media/image73.wmf" ContentType="image/x-wmf"/>
  <Override PartName="/ppt/media/image68.png" ContentType="image/png"/>
  <Override PartName="/ppt/media/image66.png" ContentType="image/png"/>
  <Override PartName="/ppt/media/image32.wmf" ContentType="image/x-wmf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71.wmf" ContentType="image/x-wmf"/>
  <Override PartName="/ppt/media/image49.png" ContentType="image/png"/>
  <Override PartName="/ppt/media/image2.jpeg" ContentType="image/jpeg"/>
  <Override PartName="/ppt/media/image52.wmf" ContentType="image/x-wmf"/>
  <Override PartName="/ppt/media/image24.jpeg" ContentType="image/jpeg"/>
  <Override PartName="/ppt/media/image81.wmf" ContentType="image/x-wmf"/>
  <Override PartName="/ppt/media/image59.png" ContentType="image/png"/>
  <Override PartName="/ppt/media/image4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jpeg" ContentType="image/jpeg"/>
  <Override PartName="/ppt/media/image3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31D-E524-4A75-BAF0-E08B5122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B11-9380-4F79-B925-05A10888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E31-F690-4074-9CC3-737CA095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904-2969-466F-9CA1-31CABEAA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E28-8726-4035-9202-D38A4792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A53-0507-4F25-AA2F-C0B68A5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11D-2F21-4E14-AE8A-8557259B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02A-FC8A-44BF-B7BE-EDF6FFC9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F12-FCEC-4926-9724-C0E32250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15C-5746-4B88-9CB3-3153916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9F6-7FF1-4F3D-9EAE-40DF88A4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018-277D-4D71-B36D-17A4AD71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A031-6B86-4F82-8B3F-78DC340C8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jpeg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with Invariant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ya Frolova, Denis Sima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izmann Institute of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440" y="119052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ory 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324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581280"/>
            <a:ext cx="3581280" cy="2210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87840" y="3962520"/>
            <a:ext cx="2506680" cy="1226880"/>
          </a:xfrm>
          <a:custGeom>
            <a:avLst/>
            <a:gdLst/>
            <a:ahLst/>
            <a:rect l="l" t="t" r="r" b="b"/>
            <a:pathLst>
              <a:path w="672" h="480">
                <a:moveTo>
                  <a:pt x="0" y="480"/>
                </a:moveTo>
                <a:lnTo>
                  <a:pt x="0" y="192"/>
                </a:lnTo>
                <a:lnTo>
                  <a:pt x="384" y="240"/>
                </a:lnTo>
                <a:lnTo>
                  <a:pt x="240" y="0"/>
                </a:lnTo>
                <a:lnTo>
                  <a:pt x="672" y="0"/>
                </a:ln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78400" y="433872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23000" y="440856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56080" y="382428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4008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rris, M.Stephens. “A Combined Corner and Edge Detector”.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hould easily recognize the point by looking through a small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ing a window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uld gi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large 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t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962520"/>
            <a:ext cx="2590560" cy="251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4495680"/>
            <a:ext cx="2027160" cy="1486080"/>
          </a:xfrm>
          <a:custGeom>
            <a:avLst/>
            <a:gdLst/>
            <a:ahLst/>
            <a:rect l="l" t="t" r="r" b="b"/>
            <a:pathLst>
              <a:path w="720" h="528">
                <a:moveTo>
                  <a:pt x="0" y="528"/>
                </a:moveTo>
                <a:lnTo>
                  <a:pt x="48" y="0"/>
                </a:lnTo>
                <a:lnTo>
                  <a:pt x="720" y="336"/>
                </a:lnTo>
              </a:path>
            </a:pathLst>
          </a:custGeom>
          <a:noFill/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4343400"/>
            <a:ext cx="533520" cy="53352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Basic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2361960" cy="2210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4197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lat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g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n al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371600" y="2971440"/>
            <a:ext cx="703440" cy="678240"/>
            <a:chOff x="1371600" y="2971440"/>
            <a:chExt cx="703440" cy="678240"/>
          </a:xfrm>
        </p:grpSpPr>
        <p:sp>
          <p:nvSpPr>
            <p:cNvPr id="149" name=""/>
            <p:cNvSpPr/>
            <p:nvPr/>
          </p:nvSpPr>
          <p:spPr>
            <a:xfrm>
              <a:off x="1479600" y="308448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960560" y="298728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79640" y="355608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71600" y="355752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1380960" y="297144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447560" y="2895120"/>
            <a:ext cx="703080" cy="678240"/>
            <a:chOff x="1447560" y="2895120"/>
            <a:chExt cx="703080" cy="678240"/>
          </a:xfrm>
        </p:grpSpPr>
        <p:sp>
          <p:nvSpPr>
            <p:cNvPr id="155" name=""/>
            <p:cNvSpPr/>
            <p:nvPr/>
          </p:nvSpPr>
          <p:spPr>
            <a:xfrm>
              <a:off x="1555560" y="300816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036520" y="291096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55600" y="347976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447560" y="348120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457280" y="289512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93640" y="2955600"/>
            <a:ext cx="703080" cy="678240"/>
            <a:chOff x="1493640" y="2955600"/>
            <a:chExt cx="703080" cy="678240"/>
          </a:xfrm>
        </p:grpSpPr>
        <p:sp>
          <p:nvSpPr>
            <p:cNvPr id="161" name=""/>
            <p:cNvSpPr/>
            <p:nvPr/>
          </p:nvSpPr>
          <p:spPr>
            <a:xfrm>
              <a:off x="1601640" y="306864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082600" y="297144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1680" y="354024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493640" y="354168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1503360" y="295560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436400" y="3057120"/>
            <a:ext cx="703080" cy="678240"/>
            <a:chOff x="1436400" y="3057120"/>
            <a:chExt cx="703080" cy="678240"/>
          </a:xfrm>
        </p:grpSpPr>
        <p:sp>
          <p:nvSpPr>
            <p:cNvPr id="167" name=""/>
            <p:cNvSpPr/>
            <p:nvPr/>
          </p:nvSpPr>
          <p:spPr>
            <a:xfrm>
              <a:off x="1544400" y="317016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025360" y="307296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44440" y="364176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436400" y="364320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446120" y="305712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349280" y="3014280"/>
            <a:ext cx="703440" cy="678240"/>
            <a:chOff x="1349280" y="3014280"/>
            <a:chExt cx="703440" cy="678240"/>
          </a:xfrm>
        </p:grpSpPr>
        <p:sp>
          <p:nvSpPr>
            <p:cNvPr id="173" name=""/>
            <p:cNvSpPr/>
            <p:nvPr/>
          </p:nvSpPr>
          <p:spPr>
            <a:xfrm>
              <a:off x="1457280" y="312732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938240" y="303012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7320" y="359892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349280" y="360036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1358640" y="301428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407960" y="2941200"/>
            <a:ext cx="703440" cy="678240"/>
            <a:chOff x="1407960" y="2941200"/>
            <a:chExt cx="703440" cy="678240"/>
          </a:xfrm>
        </p:grpSpPr>
        <p:sp>
          <p:nvSpPr>
            <p:cNvPr id="179" name=""/>
            <p:cNvSpPr/>
            <p:nvPr/>
          </p:nvSpPr>
          <p:spPr>
            <a:xfrm>
              <a:off x="1515960" y="305424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996920" y="295704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16000" y="352584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07960" y="352728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1417320" y="294120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990720" y="2133720"/>
            <a:ext cx="1600200" cy="1447560"/>
          </a:xfrm>
          <a:custGeom>
            <a:avLst/>
            <a:gdLst/>
            <a:ahLst/>
            <a:rect l="l" t="t" r="r" b="b"/>
            <a:pathLst>
              <a:path w="1008" h="912">
                <a:moveTo>
                  <a:pt x="0" y="912"/>
                </a:moveTo>
                <a:lnTo>
                  <a:pt x="0" y="0"/>
                </a:lnTo>
                <a:lnTo>
                  <a:pt x="1008" y="528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29000" y="1752480"/>
            <a:ext cx="2361960" cy="2210040"/>
            <a:chOff x="3429000" y="1752480"/>
            <a:chExt cx="2361960" cy="2210040"/>
          </a:xfrm>
        </p:grpSpPr>
        <p:sp>
          <p:nvSpPr>
            <p:cNvPr id="186" name=""/>
            <p:cNvSpPr/>
            <p:nvPr/>
          </p:nvSpPr>
          <p:spPr>
            <a:xfrm>
              <a:off x="3429000" y="1752480"/>
              <a:ext cx="2361960" cy="2210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213372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0" y="912"/>
                  </a:moveTo>
                  <a:lnTo>
                    <a:pt x="0" y="0"/>
                  </a:lnTo>
                  <a:lnTo>
                    <a:pt x="1008" y="528"/>
                  </a:lnTo>
                </a:path>
              </a:pathLst>
            </a:cu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581280" y="2590560"/>
            <a:ext cx="703440" cy="678240"/>
            <a:chOff x="3581280" y="2590560"/>
            <a:chExt cx="703440" cy="678240"/>
          </a:xfrm>
        </p:grpSpPr>
        <p:sp>
          <p:nvSpPr>
            <p:cNvPr id="189" name=""/>
            <p:cNvSpPr/>
            <p:nvPr/>
          </p:nvSpPr>
          <p:spPr>
            <a:xfrm>
              <a:off x="3689280" y="270360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170240" y="260640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89320" y="317520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581280" y="317664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3590640" y="259056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57600" y="2590560"/>
            <a:ext cx="703440" cy="678240"/>
            <a:chOff x="3657600" y="2590560"/>
            <a:chExt cx="703440" cy="678240"/>
          </a:xfrm>
        </p:grpSpPr>
        <p:sp>
          <p:nvSpPr>
            <p:cNvPr id="195" name=""/>
            <p:cNvSpPr/>
            <p:nvPr/>
          </p:nvSpPr>
          <p:spPr>
            <a:xfrm>
              <a:off x="3765600" y="270360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246560" y="260640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5640" y="317520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657600" y="317664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666960" y="259056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617640" y="2409480"/>
            <a:ext cx="703080" cy="678240"/>
            <a:chOff x="3617640" y="2409480"/>
            <a:chExt cx="703080" cy="678240"/>
          </a:xfrm>
        </p:grpSpPr>
        <p:sp>
          <p:nvSpPr>
            <p:cNvPr id="201" name=""/>
            <p:cNvSpPr/>
            <p:nvPr/>
          </p:nvSpPr>
          <p:spPr>
            <a:xfrm>
              <a:off x="3725640" y="252252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206600" y="242532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5680" y="299412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617640" y="299556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27360" y="240948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508200" y="2525400"/>
            <a:ext cx="703440" cy="678240"/>
            <a:chOff x="3508200" y="2525400"/>
            <a:chExt cx="703440" cy="678240"/>
          </a:xfrm>
        </p:grpSpPr>
        <p:sp>
          <p:nvSpPr>
            <p:cNvPr id="207" name=""/>
            <p:cNvSpPr/>
            <p:nvPr/>
          </p:nvSpPr>
          <p:spPr>
            <a:xfrm>
              <a:off x="3616200" y="263844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097160" y="254124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16240" y="311004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508200" y="311148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517560" y="252540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504960" y="2590560"/>
            <a:ext cx="703080" cy="678240"/>
            <a:chOff x="3504960" y="2590560"/>
            <a:chExt cx="703080" cy="678240"/>
          </a:xfrm>
        </p:grpSpPr>
        <p:sp>
          <p:nvSpPr>
            <p:cNvPr id="213" name=""/>
            <p:cNvSpPr/>
            <p:nvPr/>
          </p:nvSpPr>
          <p:spPr>
            <a:xfrm>
              <a:off x="3612960" y="270360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093920" y="260640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3000" y="317520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504960" y="317664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514680" y="259056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504960" y="2666520"/>
            <a:ext cx="703080" cy="678240"/>
            <a:chOff x="3504960" y="2666520"/>
            <a:chExt cx="703080" cy="678240"/>
          </a:xfrm>
        </p:grpSpPr>
        <p:sp>
          <p:nvSpPr>
            <p:cNvPr id="219" name=""/>
            <p:cNvSpPr/>
            <p:nvPr/>
          </p:nvSpPr>
          <p:spPr>
            <a:xfrm>
              <a:off x="3612960" y="277956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093920" y="268236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000" y="325116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504960" y="325260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514680" y="266652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504960" y="2514240"/>
            <a:ext cx="703080" cy="678240"/>
            <a:chOff x="3504960" y="2514240"/>
            <a:chExt cx="703080" cy="678240"/>
          </a:xfrm>
        </p:grpSpPr>
        <p:sp>
          <p:nvSpPr>
            <p:cNvPr id="225" name=""/>
            <p:cNvSpPr/>
            <p:nvPr/>
          </p:nvSpPr>
          <p:spPr>
            <a:xfrm>
              <a:off x="3612960" y="262728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93920" y="253008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13000" y="309888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504960" y="310032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3514680" y="251424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504960" y="2437920"/>
            <a:ext cx="703080" cy="678240"/>
            <a:chOff x="3504960" y="2437920"/>
            <a:chExt cx="703080" cy="678240"/>
          </a:xfrm>
        </p:grpSpPr>
        <p:sp>
          <p:nvSpPr>
            <p:cNvPr id="231" name=""/>
            <p:cNvSpPr/>
            <p:nvPr/>
          </p:nvSpPr>
          <p:spPr>
            <a:xfrm>
              <a:off x="3612960" y="255096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093920" y="245376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3000" y="302256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3504960" y="302400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514680" y="243792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429000" y="44197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dg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along the edg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248520" y="1752480"/>
            <a:ext cx="2361960" cy="2210040"/>
            <a:chOff x="6248520" y="1752480"/>
            <a:chExt cx="2361960" cy="2210040"/>
          </a:xfrm>
        </p:grpSpPr>
        <p:sp>
          <p:nvSpPr>
            <p:cNvPr id="238" name=""/>
            <p:cNvSpPr/>
            <p:nvPr/>
          </p:nvSpPr>
          <p:spPr>
            <a:xfrm>
              <a:off x="6248520" y="1752480"/>
              <a:ext cx="2361960" cy="2210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05720" y="213372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0" y="912"/>
                  </a:moveTo>
                  <a:lnTo>
                    <a:pt x="0" y="0"/>
                  </a:lnTo>
                  <a:lnTo>
                    <a:pt x="1008" y="528"/>
                  </a:lnTo>
                </a:path>
              </a:pathLst>
            </a:cu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00800" y="1828440"/>
            <a:ext cx="703440" cy="678240"/>
            <a:chOff x="6400800" y="1828440"/>
            <a:chExt cx="703440" cy="678240"/>
          </a:xfrm>
        </p:grpSpPr>
        <p:sp>
          <p:nvSpPr>
            <p:cNvPr id="241" name=""/>
            <p:cNvSpPr/>
            <p:nvPr/>
          </p:nvSpPr>
          <p:spPr>
            <a:xfrm>
              <a:off x="6508800" y="194148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989760" y="184428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08840" y="241308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00800" y="241452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10160" y="182844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468840" y="1896840"/>
            <a:ext cx="703080" cy="678240"/>
            <a:chOff x="6468840" y="1896840"/>
            <a:chExt cx="703080" cy="678240"/>
          </a:xfrm>
        </p:grpSpPr>
        <p:sp>
          <p:nvSpPr>
            <p:cNvPr id="247" name=""/>
            <p:cNvSpPr/>
            <p:nvPr/>
          </p:nvSpPr>
          <p:spPr>
            <a:xfrm>
              <a:off x="6576840" y="200988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057800" y="191268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76880" y="248148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468840" y="248292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478560" y="189684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432480" y="1961640"/>
            <a:ext cx="703440" cy="678240"/>
            <a:chOff x="6432480" y="1961640"/>
            <a:chExt cx="703440" cy="678240"/>
          </a:xfrm>
        </p:grpSpPr>
        <p:sp>
          <p:nvSpPr>
            <p:cNvPr id="253" name=""/>
            <p:cNvSpPr/>
            <p:nvPr/>
          </p:nvSpPr>
          <p:spPr>
            <a:xfrm>
              <a:off x="6540480" y="2074680"/>
              <a:ext cx="48600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021440" y="1977480"/>
              <a:ext cx="9072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40520" y="2546280"/>
              <a:ext cx="954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432480" y="2547720"/>
              <a:ext cx="1080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6441840" y="1961640"/>
              <a:ext cx="9828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345000" y="1917360"/>
            <a:ext cx="703080" cy="678240"/>
            <a:chOff x="6345000" y="1917360"/>
            <a:chExt cx="703080" cy="678240"/>
          </a:xfrm>
        </p:grpSpPr>
        <p:sp>
          <p:nvSpPr>
            <p:cNvPr id="259" name=""/>
            <p:cNvSpPr/>
            <p:nvPr/>
          </p:nvSpPr>
          <p:spPr>
            <a:xfrm>
              <a:off x="6453000" y="203040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933960" y="193320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53040" y="250200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345000" y="250344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6354720" y="191736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286320" y="1801440"/>
            <a:ext cx="703080" cy="678240"/>
            <a:chOff x="6286320" y="1801440"/>
            <a:chExt cx="703080" cy="678240"/>
          </a:xfrm>
        </p:grpSpPr>
        <p:sp>
          <p:nvSpPr>
            <p:cNvPr id="265" name=""/>
            <p:cNvSpPr/>
            <p:nvPr/>
          </p:nvSpPr>
          <p:spPr>
            <a:xfrm>
              <a:off x="6394320" y="191448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75280" y="181728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4360" y="238608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86320" y="238752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296040" y="180144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345000" y="1728360"/>
            <a:ext cx="703080" cy="678240"/>
            <a:chOff x="6345000" y="1728360"/>
            <a:chExt cx="703080" cy="678240"/>
          </a:xfrm>
        </p:grpSpPr>
        <p:sp>
          <p:nvSpPr>
            <p:cNvPr id="271" name=""/>
            <p:cNvSpPr/>
            <p:nvPr/>
          </p:nvSpPr>
          <p:spPr>
            <a:xfrm>
              <a:off x="6453000" y="184140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933960" y="174420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53040" y="231300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345000" y="231444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6354720" y="172836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489360" y="1785600"/>
            <a:ext cx="703080" cy="678240"/>
            <a:chOff x="6489360" y="1785600"/>
            <a:chExt cx="703080" cy="678240"/>
          </a:xfrm>
        </p:grpSpPr>
        <p:sp>
          <p:nvSpPr>
            <p:cNvPr id="277" name=""/>
            <p:cNvSpPr/>
            <p:nvPr/>
          </p:nvSpPr>
          <p:spPr>
            <a:xfrm>
              <a:off x="6597360" y="189864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078320" y="180144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97400" y="237024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489360" y="237168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499080" y="178560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30680" y="1828440"/>
            <a:ext cx="703080" cy="678240"/>
            <a:chOff x="6430680" y="1828440"/>
            <a:chExt cx="703080" cy="678240"/>
          </a:xfrm>
        </p:grpSpPr>
        <p:sp>
          <p:nvSpPr>
            <p:cNvPr id="283" name=""/>
            <p:cNvSpPr/>
            <p:nvPr/>
          </p:nvSpPr>
          <p:spPr>
            <a:xfrm>
              <a:off x="6538680" y="1941480"/>
              <a:ext cx="485640" cy="469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019640" y="1844280"/>
              <a:ext cx="90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38720" y="2413080"/>
              <a:ext cx="950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30680" y="2414520"/>
              <a:ext cx="10764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6440400" y="1828440"/>
              <a:ext cx="9792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248520" y="44197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rner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ange in al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5880" y="1633680"/>
            <a:ext cx="4281480" cy="47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2514600"/>
          <a:ext cx="693396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693396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475200" y="1752480"/>
            <a:ext cx="55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of intensity for the shift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477120" y="3048120"/>
            <a:ext cx="1371600" cy="1371600"/>
            <a:chOff x="6477120" y="3048120"/>
            <a:chExt cx="1371600" cy="1371600"/>
          </a:xfrm>
        </p:grpSpPr>
        <p:sp>
          <p:nvSpPr>
            <p:cNvPr id="297" name=""/>
            <p:cNvSpPr/>
            <p:nvPr/>
          </p:nvSpPr>
          <p:spPr>
            <a:xfrm flipH="1" flipV="1">
              <a:off x="6933960" y="3048120"/>
              <a:ext cx="15228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77120" y="3886200"/>
              <a:ext cx="1371600" cy="533520"/>
            </a:xfrm>
            <a:prstGeom prst="roundRect">
              <a:avLst>
                <a:gd name="adj" fmla="val 45486"/>
              </a:avLst>
            </a:prstGeom>
            <a:solidFill>
              <a:srgbClr val="b3ff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7120" y="39466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nt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114800" y="3200040"/>
            <a:ext cx="1386000" cy="1371960"/>
            <a:chOff x="4114800" y="3200040"/>
            <a:chExt cx="1386000" cy="1371960"/>
          </a:xfrm>
        </p:grpSpPr>
        <p:sp>
          <p:nvSpPr>
            <p:cNvPr id="301" name=""/>
            <p:cNvSpPr/>
            <p:nvPr/>
          </p:nvSpPr>
          <p:spPr>
            <a:xfrm>
              <a:off x="4114800" y="3809880"/>
              <a:ext cx="1371600" cy="762120"/>
            </a:xfrm>
            <a:prstGeom prst="roundRect">
              <a:avLst>
                <a:gd name="adj" fmla="val 45486"/>
              </a:avLst>
            </a:prstGeom>
            <a:solidFill>
              <a:srgbClr val="b3ff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29200" y="385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hifted int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647960" y="3200040"/>
              <a:ext cx="759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905120" y="3123720"/>
            <a:ext cx="1385640" cy="1448280"/>
            <a:chOff x="1905120" y="3123720"/>
            <a:chExt cx="1385640" cy="1448280"/>
          </a:xfrm>
        </p:grpSpPr>
        <p:sp>
          <p:nvSpPr>
            <p:cNvPr id="305" name=""/>
            <p:cNvSpPr/>
            <p:nvPr/>
          </p:nvSpPr>
          <p:spPr>
            <a:xfrm>
              <a:off x="1905120" y="3809880"/>
              <a:ext cx="1371600" cy="762120"/>
            </a:xfrm>
            <a:prstGeom prst="roundRect">
              <a:avLst>
                <a:gd name="adj" fmla="val 45486"/>
              </a:avLst>
            </a:prstGeom>
            <a:solidFill>
              <a:srgbClr val="b3ff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19160" y="385272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indow fu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743200" y="3123720"/>
              <a:ext cx="5335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96560" y="5257800"/>
            <a:ext cx="8718840" cy="1286280"/>
            <a:chOff x="196560" y="5257800"/>
            <a:chExt cx="8718840" cy="1286280"/>
          </a:xfrm>
        </p:grpSpPr>
        <p:grpSp>
          <p:nvGrpSpPr>
            <p:cNvPr id="309" name=""/>
            <p:cNvGrpSpPr/>
            <p:nvPr/>
          </p:nvGrpSpPr>
          <p:grpSpPr>
            <a:xfrm>
              <a:off x="6553080" y="5257800"/>
              <a:ext cx="2362320" cy="685440"/>
              <a:chOff x="6553080" y="5257800"/>
              <a:chExt cx="2362320" cy="6854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6553080" y="5679720"/>
                <a:ext cx="2362320" cy="263520"/>
                <a:chOff x="6553080" y="5679720"/>
                <a:chExt cx="2362320" cy="2635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553080" y="5679720"/>
                  <a:ext cx="2362320" cy="263520"/>
                </a:xfrm>
                <a:prstGeom prst="parallelogram">
                  <a:avLst>
                    <a:gd name="adj" fmla="val 224112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084440" y="5732280"/>
                  <a:ext cx="1181160" cy="158040"/>
                </a:xfrm>
                <a:custGeom>
                  <a:avLst/>
                  <a:gdLst/>
                  <a:ahLst/>
                  <a:rect l="l" t="t" r="r" b="b"/>
                  <a:pathLst>
                    <a:path w="960" h="144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960" y="9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612120" y="5257800"/>
                <a:ext cx="2243520" cy="580320"/>
                <a:chOff x="6612120" y="5257800"/>
                <a:chExt cx="2243520" cy="5803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612120" y="5257800"/>
                  <a:ext cx="1060920" cy="580320"/>
                </a:xfrm>
                <a:custGeom>
                  <a:avLst/>
                  <a:gdLst/>
                  <a:ahLst/>
                  <a:rect l="l" t="t" r="r" b="b"/>
                  <a:pathLst>
                    <a:path w="1248" h="816">
                      <a:moveTo>
                        <a:pt x="0" y="816"/>
                      </a:moveTo>
                      <a:cubicBezTo>
                        <a:pt x="104" y="812"/>
                        <a:pt x="208" y="808"/>
                        <a:pt x="336" y="720"/>
                      </a:cubicBezTo>
                      <a:cubicBezTo>
                        <a:pt x="464" y="632"/>
                        <a:pt x="656" y="392"/>
                        <a:pt x="768" y="288"/>
                      </a:cubicBezTo>
                      <a:cubicBezTo>
                        <a:pt x="880" y="184"/>
                        <a:pt x="928" y="144"/>
                        <a:pt x="1008" y="96"/>
                      </a:cubicBezTo>
                      <a:cubicBezTo>
                        <a:pt x="1088" y="48"/>
                        <a:pt x="1208" y="16"/>
                        <a:pt x="1248" y="0"/>
                      </a:cubicBezTo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7795080" y="5257800"/>
                  <a:ext cx="1060560" cy="580320"/>
                </a:xfrm>
                <a:custGeom>
                  <a:avLst/>
                  <a:gdLst/>
                  <a:ahLst/>
                  <a:rect l="l" t="t" r="r" b="b"/>
                  <a:pathLst>
                    <a:path w="1248" h="816">
                      <a:moveTo>
                        <a:pt x="0" y="816"/>
                      </a:moveTo>
                      <a:cubicBezTo>
                        <a:pt x="104" y="812"/>
                        <a:pt x="208" y="808"/>
                        <a:pt x="336" y="720"/>
                      </a:cubicBezTo>
                      <a:cubicBezTo>
                        <a:pt x="464" y="632"/>
                        <a:pt x="656" y="392"/>
                        <a:pt x="768" y="288"/>
                      </a:cubicBezTo>
                      <a:cubicBezTo>
                        <a:pt x="880" y="184"/>
                        <a:pt x="928" y="144"/>
                        <a:pt x="1008" y="96"/>
                      </a:cubicBezTo>
                      <a:cubicBezTo>
                        <a:pt x="1088" y="48"/>
                        <a:pt x="1208" y="16"/>
                        <a:pt x="1248" y="0"/>
                      </a:cubicBezTo>
                    </a:path>
                  </a:pathLst>
                </a:custGeom>
                <a:noFill/>
                <a:ln w="316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73040" y="5257800"/>
                  <a:ext cx="122040" cy="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3505320" y="5334120"/>
              <a:ext cx="2590200" cy="685440"/>
              <a:chOff x="3505320" y="5334120"/>
              <a:chExt cx="2590200" cy="68544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740760" y="5708160"/>
                <a:ext cx="2354760" cy="311400"/>
                <a:chOff x="3740760" y="5708160"/>
                <a:chExt cx="2354760" cy="3114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740760" y="5708160"/>
                  <a:ext cx="2354760" cy="311400"/>
                </a:xfrm>
                <a:prstGeom prst="parallelogram">
                  <a:avLst>
                    <a:gd name="adj" fmla="val 18904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270320" y="5770080"/>
                  <a:ext cx="1177560" cy="186840"/>
                </a:xfrm>
                <a:custGeom>
                  <a:avLst/>
                  <a:gdLst/>
                  <a:ahLst/>
                  <a:rect l="l" t="t" r="r" b="b"/>
                  <a:pathLst>
                    <a:path w="960" h="144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960" y="9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3505320" y="5334120"/>
                <a:ext cx="2531880" cy="561240"/>
              </a:xfrm>
              <a:custGeom>
                <a:avLst/>
                <a:gdLst/>
                <a:ahLst/>
                <a:rect l="l" t="t" r="r" b="b"/>
                <a:pathLst>
                  <a:path w="2064" h="432">
                    <a:moveTo>
                      <a:pt x="0" y="432"/>
                    </a:moveTo>
                    <a:lnTo>
                      <a:pt x="384" y="432"/>
                    </a:lnTo>
                    <a:lnTo>
                      <a:pt x="384" y="0"/>
                    </a:lnTo>
                    <a:lnTo>
                      <a:pt x="1824" y="0"/>
                    </a:lnTo>
                    <a:lnTo>
                      <a:pt x="1824" y="432"/>
                    </a:lnTo>
                    <a:lnTo>
                      <a:pt x="2064" y="432"/>
                    </a:lnTo>
                  </a:path>
                </a:pathLst>
              </a:custGeom>
              <a:noFill/>
              <a:ln w="316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234480" y="53830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6560" y="5334120"/>
              <a:ext cx="312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ndow functio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(x,y)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80200" y="61452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uss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3160" y="6145200"/>
              <a:ext cx="251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in window, 0 out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514600" y="2514600"/>
          <a:ext cx="375300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514600"/>
                    <a:ext cx="37530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457200" y="1752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mall shif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we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line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438280" y="4800600"/>
          <a:ext cx="442296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00600"/>
                    <a:ext cx="44229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09480" y="4191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atrix computed from image deriv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2284560"/>
          <a:ext cx="375300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4560"/>
                    <a:ext cx="37530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304920" y="1614600"/>
            <a:ext cx="87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nsity change in shifting window: eigenvalu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245268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eigen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44197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irection of the slowes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38098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direction of the fastes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992320" y="3911400"/>
            <a:ext cx="4297320" cy="3062160"/>
            <a:chOff x="2992320" y="3911400"/>
            <a:chExt cx="4297320" cy="3062160"/>
          </a:xfrm>
        </p:grpSpPr>
        <p:sp>
          <p:nvSpPr>
            <p:cNvPr id="341" name=""/>
            <p:cNvSpPr/>
            <p:nvPr/>
          </p:nvSpPr>
          <p:spPr>
            <a:xfrm rot="20492400">
              <a:off x="3197880" y="4476960"/>
              <a:ext cx="3885840" cy="1931040"/>
            </a:xfrm>
            <a:prstGeom prst="ellipse">
              <a:avLst/>
            </a:prstGeom>
            <a:solidFill>
              <a:srgbClr val="7cf6d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3325680" y="4825440"/>
              <a:ext cx="3677400" cy="12358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4846320" y="4508640"/>
              <a:ext cx="636480" cy="18486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5020400">
              <a:off x="5987520" y="4508640"/>
              <a:ext cx="304920" cy="1738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5000 h 1738080"/>
                <a:gd name="textAreaBottom" fmla="*/ 1693080 h 17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8"/>
                  </a:lnTo>
                  <a:cubicBezTo>
                    <a:pt x="10800" y="9698"/>
                    <a:pt x="5400" y="10598"/>
                    <a:pt x="0" y="10598"/>
                  </a:cubicBezTo>
                  <a:cubicBezTo>
                    <a:pt x="5400" y="10598"/>
                    <a:pt x="10800" y="11498"/>
                    <a:pt x="10800" y="1239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420400">
              <a:off x="4559040" y="4652280"/>
              <a:ext cx="387720" cy="812880"/>
            </a:xfrm>
            <a:custGeom>
              <a:avLst/>
              <a:gdLst>
                <a:gd name="textAreaLeft" fmla="*/ 247680 w 387720"/>
                <a:gd name="textAreaRight" fmla="*/ 388080 w 387720"/>
                <a:gd name="textAreaTop" fmla="*/ 20880 h 812880"/>
                <a:gd name="textAreaBottom" fmla="*/ 79200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8"/>
                  </a:lnTo>
                  <a:cubicBezTo>
                    <a:pt x="10800" y="9698"/>
                    <a:pt x="5400" y="10598"/>
                    <a:pt x="0" y="10598"/>
                  </a:cubicBezTo>
                  <a:cubicBezTo>
                    <a:pt x="5400" y="10598"/>
                    <a:pt x="10800" y="11498"/>
                    <a:pt x="10800" y="1239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352680" y="504360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-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33960" y="548640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-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2670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(u,v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838080" y="4800600"/>
            <a:ext cx="3124440" cy="1219320"/>
          </a:xfrm>
          <a:prstGeom prst="rightArrowCallout">
            <a:avLst>
              <a:gd name="adj1" fmla="val 25002"/>
              <a:gd name="adj2" fmla="val 24093"/>
              <a:gd name="adj3" fmla="val 41580"/>
              <a:gd name="adj4" fmla="val 7566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1752480"/>
            <a:ext cx="4343400" cy="4343400"/>
          </a:xfrm>
          <a:prstGeom prst="rect">
            <a:avLst/>
          </a:prstGeom>
          <a:solidFill>
            <a:srgbClr val="f38f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6095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182880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95680" y="1752480"/>
            <a:ext cx="3886200" cy="3936960"/>
          </a:xfrm>
          <a:custGeom>
            <a:avLst/>
            <a:gdLst/>
            <a:ahLst/>
            <a:rect l="l" t="t" r="r" b="b"/>
            <a:pathLst>
              <a:path w="2448" h="2480">
                <a:moveTo>
                  <a:pt x="0" y="1920"/>
                </a:moveTo>
                <a:lnTo>
                  <a:pt x="672" y="0"/>
                </a:lnTo>
                <a:lnTo>
                  <a:pt x="2448" y="0"/>
                </a:lnTo>
                <a:lnTo>
                  <a:pt x="2448" y="1872"/>
                </a:lnTo>
                <a:lnTo>
                  <a:pt x="555" y="2480"/>
                </a:lnTo>
                <a:lnTo>
                  <a:pt x="0" y="19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343400"/>
            <a:ext cx="1749600" cy="1752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2362320"/>
            <a:ext cx="266688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rner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lar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0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ases in all di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4800600"/>
            <a:ext cx="23623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small;</a:t>
            </a:r>
            <a:br>
              <a:rPr sz="20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most constant in all di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2920" y="5105520"/>
            <a:ext cx="1295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dge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14800" y="1905120"/>
            <a:ext cx="1295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dge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518148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lat”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905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of image points using eigen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89560" y="2522520"/>
            <a:ext cx="16524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84640" y="1828800"/>
            <a:ext cx="927000" cy="125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87800" y="4751280"/>
            <a:ext cx="414360" cy="4161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5541600">
            <a:off x="6650640" y="5556960"/>
            <a:ext cx="927000" cy="125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1766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corner respon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209680" y="2514600"/>
          <a:ext cx="384840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38484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2666880" y="3886200"/>
          <a:ext cx="26719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2671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1975680" y="556272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empirical constan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04-0.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Build a Pano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00" descr=""/>
          <p:cNvPicPr/>
          <p:nvPr/>
        </p:nvPicPr>
        <p:blipFill>
          <a:blip r:embed="rId1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45" name="01" descr=""/>
          <p:cNvPicPr/>
          <p:nvPr/>
        </p:nvPicPr>
        <p:blipFill>
          <a:blip r:embed="rId2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46" name="02" descr=""/>
          <p:cNvPicPr/>
          <p:nvPr/>
        </p:nvPicPr>
        <p:blipFill>
          <a:blip r:embed="rId3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03" descr=""/>
          <p:cNvPicPr/>
          <p:nvPr/>
        </p:nvPicPr>
        <p:blipFill>
          <a:blip r:embed="rId4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48" name="04" descr=""/>
          <p:cNvPicPr/>
          <p:nvPr/>
        </p:nvPicPr>
        <p:blipFill>
          <a:blip r:embed="rId5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49" name="05" descr=""/>
          <p:cNvPicPr/>
          <p:nvPr/>
        </p:nvPicPr>
        <p:blipFill>
          <a:blip r:embed="rId6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0" name="06" descr=""/>
          <p:cNvPicPr/>
          <p:nvPr/>
        </p:nvPicPr>
        <p:blipFill>
          <a:blip r:embed="rId7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1" name="07" descr=""/>
          <p:cNvPicPr/>
          <p:nvPr/>
        </p:nvPicPr>
        <p:blipFill>
          <a:blip r:embed="rId8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2" name="08" descr=""/>
          <p:cNvPicPr/>
          <p:nvPr/>
        </p:nvPicPr>
        <p:blipFill>
          <a:blip r:embed="rId9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3" name="09" descr=""/>
          <p:cNvPicPr/>
          <p:nvPr/>
        </p:nvPicPr>
        <p:blipFill>
          <a:blip r:embed="rId10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4" name="10" descr=""/>
          <p:cNvPicPr/>
          <p:nvPr/>
        </p:nvPicPr>
        <p:blipFill>
          <a:blip r:embed="rId11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5" name="11" descr=""/>
          <p:cNvPicPr/>
          <p:nvPr/>
        </p:nvPicPr>
        <p:blipFill>
          <a:blip r:embed="rId12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6" name="12" descr=""/>
          <p:cNvPicPr/>
          <p:nvPr/>
        </p:nvPicPr>
        <p:blipFill>
          <a:blip r:embed="rId13"/>
          <a:stretch/>
        </p:blipFill>
        <p:spPr>
          <a:xfrm>
            <a:off x="0" y="2590920"/>
            <a:ext cx="9196560" cy="2298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20" descr=""/>
          <p:cNvPicPr/>
          <p:nvPr/>
        </p:nvPicPr>
        <p:blipFill>
          <a:blip r:embed="rId14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59" name="28" descr=""/>
          <p:cNvPicPr/>
          <p:nvPr/>
        </p:nvPicPr>
        <p:blipFill>
          <a:blip r:embed="rId15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0" name="36" descr=""/>
          <p:cNvPicPr/>
          <p:nvPr/>
        </p:nvPicPr>
        <p:blipFill>
          <a:blip r:embed="rId16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1" name="44" descr=""/>
          <p:cNvPicPr/>
          <p:nvPr/>
        </p:nvPicPr>
        <p:blipFill>
          <a:blip r:embed="rId17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2" name="52" descr=""/>
          <p:cNvPicPr/>
          <p:nvPr/>
        </p:nvPicPr>
        <p:blipFill>
          <a:blip r:embed="rId18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3" name="60" descr=""/>
          <p:cNvPicPr/>
          <p:nvPr/>
        </p:nvPicPr>
        <p:blipFill>
          <a:blip r:embed="rId19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4" name="68" descr=""/>
          <p:cNvPicPr/>
          <p:nvPr/>
        </p:nvPicPr>
        <p:blipFill>
          <a:blip r:embed="rId20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5" name="76" descr=""/>
          <p:cNvPicPr/>
          <p:nvPr/>
        </p:nvPicPr>
        <p:blipFill>
          <a:blip r:embed="rId21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78" descr=""/>
          <p:cNvPicPr/>
          <p:nvPr/>
        </p:nvPicPr>
        <p:blipFill>
          <a:blip r:embed="rId22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pic>
        <p:nvPicPr>
          <p:cNvPr id="67" name="pano" descr=""/>
          <p:cNvPicPr/>
          <p:nvPr/>
        </p:nvPicPr>
        <p:blipFill>
          <a:blip r:embed="rId23"/>
          <a:stretch/>
        </p:blipFill>
        <p:spPr>
          <a:xfrm>
            <a:off x="0" y="2592360"/>
            <a:ext cx="9196560" cy="229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6324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M. Brown and D. G. 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Recognising Panora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. ICC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Mathe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1752480"/>
            <a:ext cx="4343400" cy="4343400"/>
          </a:xfrm>
          <a:prstGeom prst="rect">
            <a:avLst/>
          </a:prstGeom>
          <a:solidFill>
            <a:srgbClr val="f38f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72400" y="6095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82880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1752480"/>
            <a:ext cx="3886200" cy="3936960"/>
          </a:xfrm>
          <a:custGeom>
            <a:avLst/>
            <a:gdLst/>
            <a:ahLst/>
            <a:rect l="l" t="t" r="r" b="b"/>
            <a:pathLst>
              <a:path w="2448" h="2480">
                <a:moveTo>
                  <a:pt x="0" y="1920"/>
                </a:moveTo>
                <a:lnTo>
                  <a:pt x="672" y="0"/>
                </a:lnTo>
                <a:lnTo>
                  <a:pt x="2448" y="0"/>
                </a:lnTo>
                <a:lnTo>
                  <a:pt x="2448" y="1872"/>
                </a:lnTo>
                <a:lnTo>
                  <a:pt x="555" y="2480"/>
                </a:lnTo>
                <a:lnTo>
                  <a:pt x="0" y="192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38480" y="4343400"/>
            <a:ext cx="1749600" cy="175248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1981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rn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dg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1480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dg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la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80" y="2286000"/>
            <a:ext cx="35053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s only on eigenvalues of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arge for a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gative with large magnitude for an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small for a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30720" y="3276720"/>
            <a:ext cx="8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2200" y="2362320"/>
            <a:ext cx="8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16280" y="5562720"/>
            <a:ext cx="8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60800" y="55627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R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points with large corner response function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thresho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points of local maxima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ris Detector: Work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cows_step0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ris Detector: Work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cows_step1_corner_response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68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828000" y="635040"/>
            <a:ext cx="35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corner respon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ris Detector: Work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2680" y="635040"/>
            <a:ext cx="68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points with large corner respons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cows_step2_thresh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ris Detector: Work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1960" y="635040"/>
            <a:ext cx="53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only the points of local maxima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cows_step3_thresh&amp;max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ris Detector: Work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cows_step4_harris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intensity change in dir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,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expressed as a bilinear form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a point in terms of eigen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asure of corner respons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ood (corner) point should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rge intensity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dir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larg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2743200" y="2943360"/>
          <a:ext cx="29718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43360"/>
                    <a:ext cx="2971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965320" y="4906800"/>
          <a:ext cx="2826000" cy="5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5320" y="4906800"/>
                    <a:ext cx="28260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440" y="207648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Som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on in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666880" y="2819520"/>
            <a:ext cx="685800" cy="685800"/>
            <a:chOff x="2666880" y="2819520"/>
            <a:chExt cx="685800" cy="685800"/>
          </a:xfrm>
        </p:grpSpPr>
        <p:sp>
          <p:nvSpPr>
            <p:cNvPr id="415" name=""/>
            <p:cNvSpPr/>
            <p:nvPr/>
          </p:nvSpPr>
          <p:spPr>
            <a:xfrm>
              <a:off x="2666880" y="2819520"/>
              <a:ext cx="685800" cy="685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59480" y="3056760"/>
              <a:ext cx="492840" cy="44820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528"/>
                  </a:moveTo>
                  <a:lnTo>
                    <a:pt x="48" y="0"/>
                  </a:lnTo>
                  <a:lnTo>
                    <a:pt x="720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105520" y="2819520"/>
            <a:ext cx="763200" cy="796680"/>
            <a:chOff x="5105520" y="2819520"/>
            <a:chExt cx="763200" cy="796680"/>
          </a:xfrm>
        </p:grpSpPr>
        <p:sp>
          <p:nvSpPr>
            <p:cNvPr id="418" name=""/>
            <p:cNvSpPr/>
            <p:nvPr/>
          </p:nvSpPr>
          <p:spPr>
            <a:xfrm>
              <a:off x="5105520" y="2819520"/>
              <a:ext cx="685800" cy="685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3029400">
              <a:off x="5198040" y="2973960"/>
              <a:ext cx="577800" cy="51264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528"/>
                  </a:moveTo>
                  <a:lnTo>
                    <a:pt x="48" y="0"/>
                  </a:lnTo>
                  <a:lnTo>
                    <a:pt x="720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886200" y="3048120"/>
            <a:ext cx="762120" cy="761760"/>
          </a:xfrm>
          <a:custGeom>
            <a:avLst/>
            <a:gdLst>
              <a:gd name="textAreaLeft" fmla="*/ 118800 w 762120"/>
              <a:gd name="textAreaRight" fmla="*/ 667080 w 7621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4572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se rotates but its shape (i.e. eigenvalues) remain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556360" y="3807360"/>
            <a:ext cx="996120" cy="675360"/>
            <a:chOff x="2556360" y="3807360"/>
            <a:chExt cx="996120" cy="675360"/>
          </a:xfrm>
        </p:grpSpPr>
        <p:sp>
          <p:nvSpPr>
            <p:cNvPr id="423" name=""/>
            <p:cNvSpPr/>
            <p:nvPr/>
          </p:nvSpPr>
          <p:spPr>
            <a:xfrm rot="20330400">
              <a:off x="2590920" y="3962520"/>
              <a:ext cx="927000" cy="365040"/>
            </a:xfrm>
            <a:prstGeom prst="ellipse">
              <a:avLst/>
            </a:prstGeom>
            <a:solidFill>
              <a:srgbClr val="7cf6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21880" y="3977280"/>
              <a:ext cx="86472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88360" y="3974760"/>
              <a:ext cx="1317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919400" y="3833280"/>
            <a:ext cx="993960" cy="623880"/>
            <a:chOff x="4919400" y="3833280"/>
            <a:chExt cx="993960" cy="623880"/>
          </a:xfrm>
        </p:grpSpPr>
        <p:sp>
          <p:nvSpPr>
            <p:cNvPr id="427" name=""/>
            <p:cNvSpPr/>
            <p:nvPr/>
          </p:nvSpPr>
          <p:spPr>
            <a:xfrm rot="1035600">
              <a:off x="4952520" y="3962520"/>
              <a:ext cx="927360" cy="365040"/>
            </a:xfrm>
            <a:prstGeom prst="ellipse">
              <a:avLst/>
            </a:prstGeom>
            <a:solidFill>
              <a:srgbClr val="7cf6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73760" y="4007160"/>
              <a:ext cx="88560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362560" y="3970800"/>
              <a:ext cx="10800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447920" y="5638680"/>
            <a:ext cx="6324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Corner response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is invariant to image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build panora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match (align)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19000" y="3435480"/>
            <a:ext cx="7486920" cy="2660400"/>
            <a:chOff x="819000" y="3435480"/>
            <a:chExt cx="7486920" cy="2660400"/>
          </a:xfrm>
        </p:grpSpPr>
        <p:pic>
          <p:nvPicPr>
            <p:cNvPr id="73" name="image1" descr=""/>
            <p:cNvPicPr/>
            <p:nvPr/>
          </p:nvPicPr>
          <p:blipFill>
            <a:blip r:embed="rId1"/>
            <a:stretch/>
          </p:blipFill>
          <p:spPr>
            <a:xfrm>
              <a:off x="819000" y="3435480"/>
              <a:ext cx="3676680" cy="26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image2" descr=""/>
            <p:cNvPicPr/>
            <p:nvPr/>
          </p:nvPicPr>
          <p:blipFill>
            <a:blip r:embed="rId2"/>
            <a:stretch/>
          </p:blipFill>
          <p:spPr>
            <a:xfrm>
              <a:off x="4629240" y="3435480"/>
              <a:ext cx="3676680" cy="266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Som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invariance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fine int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25909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derivatives are used =&gt; invariance to intensity shif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66680" y="3733920"/>
            <a:ext cx="8295840" cy="2863080"/>
            <a:chOff x="166680" y="3733920"/>
            <a:chExt cx="8295840" cy="2863080"/>
          </a:xfrm>
        </p:grpSpPr>
        <p:sp>
          <p:nvSpPr>
            <p:cNvPr id="435" name=""/>
            <p:cNvSpPr/>
            <p:nvPr/>
          </p:nvSpPr>
          <p:spPr>
            <a:xfrm>
              <a:off x="1295280" y="3733920"/>
              <a:ext cx="51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nsity scale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47920" y="4749840"/>
              <a:ext cx="2514600" cy="1193760"/>
            </a:xfrm>
            <a:custGeom>
              <a:avLst/>
              <a:gdLst/>
              <a:ahLst/>
              <a:rect l="l" t="t" r="r" b="b"/>
              <a:pathLst>
                <a:path w="1584" h="752">
                  <a:moveTo>
                    <a:pt x="0" y="752"/>
                  </a:moveTo>
                  <a:cubicBezTo>
                    <a:pt x="40" y="516"/>
                    <a:pt x="80" y="280"/>
                    <a:pt x="144" y="224"/>
                  </a:cubicBezTo>
                  <a:cubicBezTo>
                    <a:pt x="208" y="168"/>
                    <a:pt x="320" y="448"/>
                    <a:pt x="384" y="416"/>
                  </a:cubicBezTo>
                  <a:cubicBezTo>
                    <a:pt x="448" y="384"/>
                    <a:pt x="464" y="0"/>
                    <a:pt x="528" y="32"/>
                  </a:cubicBezTo>
                  <a:cubicBezTo>
                    <a:pt x="592" y="64"/>
                    <a:pt x="704" y="536"/>
                    <a:pt x="768" y="608"/>
                  </a:cubicBezTo>
                  <a:cubicBezTo>
                    <a:pt x="832" y="680"/>
                    <a:pt x="856" y="456"/>
                    <a:pt x="912" y="464"/>
                  </a:cubicBezTo>
                  <a:cubicBezTo>
                    <a:pt x="968" y="472"/>
                    <a:pt x="1048" y="688"/>
                    <a:pt x="1104" y="656"/>
                  </a:cubicBezTo>
                  <a:cubicBezTo>
                    <a:pt x="1160" y="624"/>
                    <a:pt x="1168" y="272"/>
                    <a:pt x="1248" y="272"/>
                  </a:cubicBezTo>
                  <a:cubicBezTo>
                    <a:pt x="1328" y="272"/>
                    <a:pt x="1456" y="464"/>
                    <a:pt x="1584" y="6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67320" y="3962520"/>
              <a:ext cx="2514600" cy="1955520"/>
            </a:xfrm>
            <a:custGeom>
              <a:avLst/>
              <a:gdLst/>
              <a:ahLst/>
              <a:rect l="l" t="t" r="r" b="b"/>
              <a:pathLst>
                <a:path w="1584" h="752">
                  <a:moveTo>
                    <a:pt x="0" y="752"/>
                  </a:moveTo>
                  <a:cubicBezTo>
                    <a:pt x="40" y="516"/>
                    <a:pt x="80" y="280"/>
                    <a:pt x="144" y="224"/>
                  </a:cubicBezTo>
                  <a:cubicBezTo>
                    <a:pt x="208" y="168"/>
                    <a:pt x="320" y="448"/>
                    <a:pt x="384" y="416"/>
                  </a:cubicBezTo>
                  <a:cubicBezTo>
                    <a:pt x="448" y="384"/>
                    <a:pt x="464" y="0"/>
                    <a:pt x="528" y="32"/>
                  </a:cubicBezTo>
                  <a:cubicBezTo>
                    <a:pt x="592" y="64"/>
                    <a:pt x="704" y="536"/>
                    <a:pt x="768" y="608"/>
                  </a:cubicBezTo>
                  <a:cubicBezTo>
                    <a:pt x="832" y="680"/>
                    <a:pt x="856" y="456"/>
                    <a:pt x="912" y="464"/>
                  </a:cubicBezTo>
                  <a:cubicBezTo>
                    <a:pt x="968" y="472"/>
                    <a:pt x="1048" y="688"/>
                    <a:pt x="1104" y="656"/>
                  </a:cubicBezTo>
                  <a:cubicBezTo>
                    <a:pt x="1160" y="624"/>
                    <a:pt x="1168" y="272"/>
                    <a:pt x="1248" y="272"/>
                  </a:cubicBezTo>
                  <a:cubicBezTo>
                    <a:pt x="1328" y="272"/>
                    <a:pt x="1456" y="464"/>
                    <a:pt x="1584" y="6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927000" y="4572000"/>
              <a:ext cx="3527280" cy="2025000"/>
              <a:chOff x="927000" y="4572000"/>
              <a:chExt cx="3527280" cy="20250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927000" y="4572000"/>
                <a:ext cx="3527280" cy="2025000"/>
                <a:chOff x="927000" y="4572000"/>
                <a:chExt cx="3527280" cy="2025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295280" y="617220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V="1">
                  <a:off x="1295280" y="4724280"/>
                  <a:ext cx="0" cy="144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927000" y="457200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129040" y="6137280"/>
                  <a:ext cx="232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image coordinate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1295280" y="5257800"/>
                <a:ext cx="2895840" cy="9144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166680" y="50896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resh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935240" y="4572000"/>
              <a:ext cx="3527280" cy="2025000"/>
              <a:chOff x="4935240" y="4572000"/>
              <a:chExt cx="3527280" cy="202500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4935240" y="4572000"/>
                <a:ext cx="3527280" cy="2025000"/>
                <a:chOff x="4935240" y="4572000"/>
                <a:chExt cx="3527280" cy="20250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303520" y="617220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5303520" y="4724280"/>
                  <a:ext cx="0" cy="144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35240" y="457200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37280" y="6137280"/>
                  <a:ext cx="232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image coordinate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5303520" y="5257800"/>
                <a:ext cx="2895840" cy="9144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662120" y="5043600"/>
              <a:ext cx="90360" cy="745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24080" y="4753080"/>
              <a:ext cx="90360" cy="745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8760" y="5145120"/>
              <a:ext cx="90720" cy="745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02400" y="4492800"/>
              <a:ext cx="90360" cy="745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53200" y="4013280"/>
              <a:ext cx="90360" cy="745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0" y="5105520"/>
              <a:ext cx="90360" cy="74520"/>
            </a:xfrm>
            <a:prstGeom prst="ellipse">
              <a:avLst/>
            </a:prstGeom>
            <a:solidFill>
              <a:srgbClr val="00cc99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415280" y="4665600"/>
              <a:ext cx="90360" cy="745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Som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 non-invaria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age sca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86600" y="3556080"/>
            <a:ext cx="380880" cy="330120"/>
          </a:xfrm>
          <a:custGeom>
            <a:avLst/>
            <a:gdLst/>
            <a:ahLst/>
            <a:rect l="l" t="t" r="r" b="b"/>
            <a:pathLst>
              <a:path w="1728" h="1264">
                <a:moveTo>
                  <a:pt x="0" y="1264"/>
                </a:moveTo>
                <a:cubicBezTo>
                  <a:pt x="12" y="932"/>
                  <a:pt x="24" y="600"/>
                  <a:pt x="96" y="400"/>
                </a:cubicBezTo>
                <a:cubicBezTo>
                  <a:pt x="168" y="200"/>
                  <a:pt x="272" y="128"/>
                  <a:pt x="432" y="64"/>
                </a:cubicBezTo>
                <a:cubicBezTo>
                  <a:pt x="592" y="0"/>
                  <a:pt x="840" y="0"/>
                  <a:pt x="1056" y="16"/>
                </a:cubicBezTo>
                <a:cubicBezTo>
                  <a:pt x="1272" y="32"/>
                  <a:pt x="1500" y="96"/>
                  <a:pt x="1728" y="1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24680" y="3451320"/>
            <a:ext cx="38088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3174840"/>
            <a:ext cx="2743200" cy="2006640"/>
          </a:xfrm>
          <a:custGeom>
            <a:avLst/>
            <a:gdLst/>
            <a:ahLst/>
            <a:rect l="l" t="t" r="r" b="b"/>
            <a:pathLst>
              <a:path w="1728" h="1264">
                <a:moveTo>
                  <a:pt x="0" y="1264"/>
                </a:moveTo>
                <a:cubicBezTo>
                  <a:pt x="12" y="932"/>
                  <a:pt x="24" y="600"/>
                  <a:pt x="96" y="400"/>
                </a:cubicBezTo>
                <a:cubicBezTo>
                  <a:pt x="168" y="200"/>
                  <a:pt x="272" y="128"/>
                  <a:pt x="432" y="64"/>
                </a:cubicBezTo>
                <a:cubicBezTo>
                  <a:pt x="592" y="0"/>
                  <a:pt x="840" y="0"/>
                  <a:pt x="1056" y="16"/>
                </a:cubicBezTo>
                <a:cubicBezTo>
                  <a:pt x="1272" y="32"/>
                  <a:pt x="1500" y="96"/>
                  <a:pt x="1728" y="1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3733920"/>
            <a:ext cx="38088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3200400"/>
            <a:ext cx="38088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52680" y="2986200"/>
            <a:ext cx="38088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3276720"/>
            <a:ext cx="1676520" cy="83808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54864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oints will be classified as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81680" y="5486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rner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Som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Harris detector for different scal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4648320" cy="34261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76212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epeatability 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295280" y="4272120"/>
            <a:ext cx="1600200" cy="1976400"/>
            <a:chOff x="1295280" y="4272120"/>
            <a:chExt cx="1600200" cy="1976400"/>
          </a:xfrm>
        </p:grpSpPr>
        <p:pic>
          <p:nvPicPr>
            <p:cNvPr id="476" name="" descr=""/>
            <p:cNvPicPr/>
            <p:nvPr/>
          </p:nvPicPr>
          <p:blipFill>
            <a:blip r:embed="rId2"/>
            <a:stretch/>
          </p:blipFill>
          <p:spPr>
            <a:xfrm>
              <a:off x="1305000" y="5400720"/>
              <a:ext cx="15620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3"/>
            <a:stretch/>
          </p:blipFill>
          <p:spPr>
            <a:xfrm>
              <a:off x="1295280" y="4272120"/>
              <a:ext cx="160020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1863720" y="455292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50960" y="4835520"/>
              <a:ext cx="71280" cy="6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09640" y="465300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19400" y="476424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00280" y="5781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76320" y="60102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90800" y="57056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1400" y="5781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24040" y="54770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625400" y="4921200"/>
              <a:ext cx="44640" cy="827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1740960" y="4638600"/>
              <a:ext cx="135000" cy="838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0800" y="4791240"/>
              <a:ext cx="1764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85800" y="501984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85800" y="3549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# correspondences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# possible correspond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1440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3320" y="6424560"/>
            <a:ext cx="64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Schmid et.al. “Evaluation of Interest Point Detectors”. IJCV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1480" y="250344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1447920"/>
            <a:ext cx="3200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ant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752480" y="30481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tect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the same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interest points regardless of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imag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 of Image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ity (rotation + uniform scal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ne (scale dependent on directio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for: orthographic camera, locally planar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ne intensity chan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he-I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+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2438280"/>
            <a:ext cx="45720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2351400">
            <a:off x="4114440" y="2438280"/>
            <a:ext cx="45720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81680" y="2895480"/>
            <a:ext cx="45720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72400" y="2743200"/>
            <a:ext cx="685800" cy="6094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0" y="3733920"/>
            <a:ext cx="45720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772400" y="3733920"/>
            <a:ext cx="1143000" cy="380880"/>
          </a:xfrm>
          <a:prstGeom prst="parallelogram">
            <a:avLst>
              <a:gd name="adj" fmla="val 75024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51460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15200" y="2971800"/>
            <a:ext cx="304920" cy="228600"/>
          </a:xfrm>
          <a:custGeom>
            <a:avLst/>
            <a:gdLst>
              <a:gd name="textAreaLeft" fmla="*/ 47520 w 304920"/>
              <a:gd name="textAreaRight" fmla="*/ 267120 w 3049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91520" y="3809880"/>
            <a:ext cx="304560" cy="228600"/>
          </a:xfrm>
          <a:custGeom>
            <a:avLst/>
            <a:gdLst>
              <a:gd name="textAreaLeft" fmla="*/ 47520 w 304560"/>
              <a:gd name="textAreaRight" fmla="*/ 266760 w 304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0" y="5715000"/>
            <a:ext cx="45720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77320" y="5715000"/>
            <a:ext cx="457200" cy="380880"/>
          </a:xfrm>
          <a:prstGeom prst="rect">
            <a:avLst/>
          </a:prstGeom>
          <a:solidFill>
            <a:srgbClr val="9fb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5791320"/>
            <a:ext cx="381240" cy="228600"/>
          </a:xfrm>
          <a:custGeom>
            <a:avLst/>
            <a:gdLst>
              <a:gd name="textAreaLeft" fmla="*/ 59400 w 381240"/>
              <a:gd name="textAreaRight" fmla="*/ 333720 w 381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8480" y="2989440"/>
            <a:ext cx="4281480" cy="47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ion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is Corne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029200" cy="37065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73320" y="6424560"/>
            <a:ext cx="64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Schmid et.al. “Evaluation of Interest Point Detectors”. IJCV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4440" y="343224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egions (e.g. circles) of different sizes around a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f corresponding sizes will look the same in both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09680" y="4775040"/>
            <a:ext cx="2743200" cy="2006640"/>
          </a:xfrm>
          <a:custGeom>
            <a:avLst/>
            <a:gdLst/>
            <a:ahLst/>
            <a:rect l="l" t="t" r="r" b="b"/>
            <a:pathLst>
              <a:path w="1728" h="1264">
                <a:moveTo>
                  <a:pt x="0" y="1264"/>
                </a:moveTo>
                <a:cubicBezTo>
                  <a:pt x="12" y="932"/>
                  <a:pt x="24" y="600"/>
                  <a:pt x="96" y="400"/>
                </a:cubicBezTo>
                <a:cubicBezTo>
                  <a:pt x="168" y="200"/>
                  <a:pt x="272" y="128"/>
                  <a:pt x="432" y="64"/>
                </a:cubicBezTo>
                <a:cubicBezTo>
                  <a:pt x="592" y="0"/>
                  <a:pt x="840" y="0"/>
                  <a:pt x="1056" y="16"/>
                </a:cubicBezTo>
                <a:cubicBezTo>
                  <a:pt x="1272" y="32"/>
                  <a:pt x="1500" y="96"/>
                  <a:pt x="1728" y="1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81280" y="4727520"/>
            <a:ext cx="380880" cy="3808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81120" y="4546440"/>
            <a:ext cx="795600" cy="7905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47760" y="4255920"/>
            <a:ext cx="1447920" cy="13716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00200" y="3689280"/>
            <a:ext cx="2514600" cy="25146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705720" y="4545000"/>
            <a:ext cx="609120" cy="560520"/>
            <a:chOff x="6705720" y="4545000"/>
            <a:chExt cx="609120" cy="560520"/>
          </a:xfrm>
        </p:grpSpPr>
        <p:sp>
          <p:nvSpPr>
            <p:cNvPr id="533" name=""/>
            <p:cNvSpPr/>
            <p:nvPr/>
          </p:nvSpPr>
          <p:spPr>
            <a:xfrm>
              <a:off x="6816240" y="4741920"/>
              <a:ext cx="498600" cy="363600"/>
            </a:xfrm>
            <a:custGeom>
              <a:avLst/>
              <a:gdLst/>
              <a:ahLst/>
              <a:rect l="l" t="t" r="r" b="b"/>
              <a:pathLst>
                <a:path w="1728" h="1264">
                  <a:moveTo>
                    <a:pt x="0" y="1264"/>
                  </a:moveTo>
                  <a:cubicBezTo>
                    <a:pt x="12" y="932"/>
                    <a:pt x="24" y="600"/>
                    <a:pt x="96" y="400"/>
                  </a:cubicBezTo>
                  <a:cubicBezTo>
                    <a:pt x="168" y="200"/>
                    <a:pt x="272" y="128"/>
                    <a:pt x="432" y="64"/>
                  </a:cubicBezTo>
                  <a:cubicBezTo>
                    <a:pt x="592" y="0"/>
                    <a:pt x="840" y="0"/>
                    <a:pt x="1056" y="16"/>
                  </a:cubicBezTo>
                  <a:cubicBezTo>
                    <a:pt x="1272" y="32"/>
                    <a:pt x="1500" y="96"/>
                    <a:pt x="1728" y="1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05720" y="4545000"/>
              <a:ext cx="457200" cy="4557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820800" y="3436920"/>
            <a:ext cx="7485120" cy="2663640"/>
            <a:chOff x="820800" y="3436920"/>
            <a:chExt cx="7485120" cy="2663640"/>
          </a:xfrm>
        </p:grpSpPr>
        <p:pic>
          <p:nvPicPr>
            <p:cNvPr id="76" name="SIFT2" descr=""/>
            <p:cNvPicPr/>
            <p:nvPr/>
          </p:nvPicPr>
          <p:blipFill>
            <a:blip r:embed="rId1"/>
            <a:stretch/>
          </p:blipFill>
          <p:spPr>
            <a:xfrm>
              <a:off x="4631040" y="3436920"/>
              <a:ext cx="367488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SIFT1" descr=""/>
            <p:cNvPicPr/>
            <p:nvPr/>
          </p:nvPicPr>
          <p:blipFill>
            <a:blip r:embed="rId2"/>
            <a:stretch/>
          </p:blipFill>
          <p:spPr>
            <a:xfrm>
              <a:off x="820800" y="3436920"/>
              <a:ext cx="3675240" cy="26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with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219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 feature points in both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7162920" y="2803680"/>
            <a:ext cx="863640" cy="1955520"/>
          </a:xfrm>
          <a:custGeom>
            <a:avLst/>
            <a:gdLst/>
            <a:ahLst/>
            <a:rect l="l" t="t" r="r" b="b"/>
            <a:pathLst>
              <a:path w="544" h="1232">
                <a:moveTo>
                  <a:pt x="0" y="1104"/>
                </a:moveTo>
                <a:cubicBezTo>
                  <a:pt x="172" y="1168"/>
                  <a:pt x="344" y="1232"/>
                  <a:pt x="432" y="1152"/>
                </a:cubicBezTo>
                <a:cubicBezTo>
                  <a:pt x="520" y="1072"/>
                  <a:pt x="544" y="776"/>
                  <a:pt x="528" y="624"/>
                </a:cubicBezTo>
                <a:cubicBezTo>
                  <a:pt x="512" y="472"/>
                  <a:pt x="336" y="344"/>
                  <a:pt x="336" y="240"/>
                </a:cubicBezTo>
                <a:cubicBezTo>
                  <a:pt x="336" y="136"/>
                  <a:pt x="432" y="68"/>
                  <a:pt x="52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4871880"/>
            <a:ext cx="1054080" cy="1344600"/>
          </a:xfrm>
          <a:custGeom>
            <a:avLst/>
            <a:gdLst/>
            <a:ahLst/>
            <a:rect l="l" t="t" r="r" b="b"/>
            <a:pathLst>
              <a:path w="664" h="847">
                <a:moveTo>
                  <a:pt x="0" y="791"/>
                </a:moveTo>
                <a:cubicBezTo>
                  <a:pt x="208" y="819"/>
                  <a:pt x="416" y="847"/>
                  <a:pt x="480" y="791"/>
                </a:cubicBezTo>
                <a:cubicBezTo>
                  <a:pt x="544" y="735"/>
                  <a:pt x="360" y="527"/>
                  <a:pt x="384" y="455"/>
                </a:cubicBezTo>
                <a:cubicBezTo>
                  <a:pt x="408" y="383"/>
                  <a:pt x="584" y="399"/>
                  <a:pt x="624" y="359"/>
                </a:cubicBezTo>
                <a:cubicBezTo>
                  <a:pt x="664" y="319"/>
                  <a:pt x="628" y="275"/>
                  <a:pt x="624" y="215"/>
                </a:cubicBezTo>
                <a:cubicBezTo>
                  <a:pt x="620" y="155"/>
                  <a:pt x="610" y="77"/>
                  <a:pt x="60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: how do we choose corresponding circles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independ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each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4546440"/>
            <a:ext cx="2743200" cy="2006640"/>
          </a:xfrm>
          <a:custGeom>
            <a:avLst/>
            <a:gdLst/>
            <a:ahLst/>
            <a:rect l="l" t="t" r="r" b="b"/>
            <a:pathLst>
              <a:path w="1728" h="1264">
                <a:moveTo>
                  <a:pt x="0" y="1264"/>
                </a:moveTo>
                <a:cubicBezTo>
                  <a:pt x="12" y="932"/>
                  <a:pt x="24" y="600"/>
                  <a:pt x="96" y="400"/>
                </a:cubicBezTo>
                <a:cubicBezTo>
                  <a:pt x="168" y="200"/>
                  <a:pt x="272" y="128"/>
                  <a:pt x="432" y="64"/>
                </a:cubicBezTo>
                <a:cubicBezTo>
                  <a:pt x="592" y="0"/>
                  <a:pt x="840" y="0"/>
                  <a:pt x="1056" y="16"/>
                </a:cubicBezTo>
                <a:cubicBezTo>
                  <a:pt x="1272" y="32"/>
                  <a:pt x="1500" y="96"/>
                  <a:pt x="1728" y="1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29000" y="4498920"/>
            <a:ext cx="380880" cy="3808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328840" y="4317840"/>
            <a:ext cx="795240" cy="7905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95480" y="4027320"/>
            <a:ext cx="1447920" cy="13716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47920" y="3460680"/>
            <a:ext cx="2514600" cy="2514600"/>
          </a:xfrm>
          <a:prstGeom prst="ellipse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64320" y="4513320"/>
            <a:ext cx="498600" cy="363600"/>
          </a:xfrm>
          <a:custGeom>
            <a:avLst/>
            <a:gdLst/>
            <a:ahLst/>
            <a:rect l="l" t="t" r="r" b="b"/>
            <a:pathLst>
              <a:path w="1728" h="1264">
                <a:moveTo>
                  <a:pt x="0" y="1264"/>
                </a:moveTo>
                <a:cubicBezTo>
                  <a:pt x="12" y="932"/>
                  <a:pt x="24" y="600"/>
                  <a:pt x="96" y="400"/>
                </a:cubicBezTo>
                <a:cubicBezTo>
                  <a:pt x="168" y="200"/>
                  <a:pt x="272" y="128"/>
                  <a:pt x="432" y="64"/>
                </a:cubicBezTo>
                <a:cubicBezTo>
                  <a:pt x="592" y="0"/>
                  <a:pt x="840" y="0"/>
                  <a:pt x="1056" y="16"/>
                </a:cubicBezTo>
                <a:cubicBezTo>
                  <a:pt x="1272" y="32"/>
                  <a:pt x="1500" y="96"/>
                  <a:pt x="1728" y="1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81720" y="4151160"/>
            <a:ext cx="795240" cy="7905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48360" y="3860640"/>
            <a:ext cx="1447920" cy="13716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500800" y="3294000"/>
            <a:ext cx="2514600" cy="25146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53080" y="4316400"/>
            <a:ext cx="457200" cy="455760"/>
          </a:xfrm>
          <a:prstGeom prst="ellipse">
            <a:avLst/>
          </a:prstGeom>
          <a:solidFill>
            <a:srgbClr val="00cc99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function on the region (circle), which is “scale invariant” (the same for corresponding regions, even if they are at different scales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3048120"/>
            <a:ext cx="60958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verage intensity. For corresponding regions (even of different sizes) it will be the s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896640" y="5318280"/>
            <a:ext cx="1285560" cy="625320"/>
            <a:chOff x="3896640" y="5318280"/>
            <a:chExt cx="1285560" cy="625320"/>
          </a:xfrm>
        </p:grpSpPr>
        <p:sp>
          <p:nvSpPr>
            <p:cNvPr id="553" name=""/>
            <p:cNvSpPr/>
            <p:nvPr/>
          </p:nvSpPr>
          <p:spPr>
            <a:xfrm>
              <a:off x="4267080" y="563868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96640" y="53182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scale = 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3733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point in one image, we can consider it as a function of region size (circle radiu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6320" y="4849920"/>
            <a:ext cx="3678120" cy="2026080"/>
            <a:chOff x="76320" y="4849920"/>
            <a:chExt cx="3678120" cy="2026080"/>
          </a:xfrm>
        </p:grpSpPr>
        <p:sp>
          <p:nvSpPr>
            <p:cNvPr id="557" name=""/>
            <p:cNvSpPr/>
            <p:nvPr/>
          </p:nvSpPr>
          <p:spPr>
            <a:xfrm>
              <a:off x="471600" y="647712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71600" y="50292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320" y="4876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62760" y="647712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gion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39120" y="484992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Imag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8080" y="5346720"/>
              <a:ext cx="2590920" cy="901800"/>
            </a:xfrm>
            <a:custGeom>
              <a:avLst/>
              <a:gdLst/>
              <a:ahLst/>
              <a:rect l="l" t="t" r="r" b="b"/>
              <a:pathLst>
                <a:path w="1632" h="568">
                  <a:moveTo>
                    <a:pt x="0" y="568"/>
                  </a:moveTo>
                  <a:cubicBezTo>
                    <a:pt x="68" y="324"/>
                    <a:pt x="136" y="80"/>
                    <a:pt x="288" y="40"/>
                  </a:cubicBezTo>
                  <a:cubicBezTo>
                    <a:pt x="440" y="0"/>
                    <a:pt x="728" y="256"/>
                    <a:pt x="912" y="328"/>
                  </a:cubicBezTo>
                  <a:cubicBezTo>
                    <a:pt x="1096" y="400"/>
                    <a:pt x="1272" y="440"/>
                    <a:pt x="1392" y="472"/>
                  </a:cubicBezTo>
                  <a:cubicBezTo>
                    <a:pt x="1512" y="504"/>
                    <a:pt x="1572" y="512"/>
                    <a:pt x="1632" y="5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391000" y="4861080"/>
            <a:ext cx="3678120" cy="1999080"/>
            <a:chOff x="5391000" y="4861080"/>
            <a:chExt cx="3678120" cy="1999080"/>
          </a:xfrm>
        </p:grpSpPr>
        <p:sp>
          <p:nvSpPr>
            <p:cNvPr id="564" name=""/>
            <p:cNvSpPr/>
            <p:nvPr/>
          </p:nvSpPr>
          <p:spPr>
            <a:xfrm>
              <a:off x="5786280" y="64612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86280" y="50133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91000" y="4861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77440" y="646128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gion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25520" y="491004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Imag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43600" y="5330880"/>
              <a:ext cx="1371600" cy="901800"/>
            </a:xfrm>
            <a:custGeom>
              <a:avLst/>
              <a:gdLst/>
              <a:ahLst/>
              <a:rect l="l" t="t" r="r" b="b"/>
              <a:pathLst>
                <a:path w="1632" h="568">
                  <a:moveTo>
                    <a:pt x="0" y="568"/>
                  </a:moveTo>
                  <a:cubicBezTo>
                    <a:pt x="68" y="324"/>
                    <a:pt x="136" y="80"/>
                    <a:pt x="288" y="40"/>
                  </a:cubicBezTo>
                  <a:cubicBezTo>
                    <a:pt x="440" y="0"/>
                    <a:pt x="728" y="256"/>
                    <a:pt x="912" y="328"/>
                  </a:cubicBezTo>
                  <a:cubicBezTo>
                    <a:pt x="1096" y="400"/>
                    <a:pt x="1272" y="440"/>
                    <a:pt x="1392" y="472"/>
                  </a:cubicBezTo>
                  <a:cubicBezTo>
                    <a:pt x="1512" y="504"/>
                    <a:pt x="1572" y="512"/>
                    <a:pt x="1632" y="5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appro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896640" y="5318280"/>
            <a:ext cx="1285560" cy="625320"/>
            <a:chOff x="3896640" y="5318280"/>
            <a:chExt cx="1285560" cy="625320"/>
          </a:xfrm>
        </p:grpSpPr>
        <p:sp>
          <p:nvSpPr>
            <p:cNvPr id="573" name=""/>
            <p:cNvSpPr/>
            <p:nvPr/>
          </p:nvSpPr>
          <p:spPr>
            <a:xfrm>
              <a:off x="4267080" y="563868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96640" y="53182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scale = 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6320" y="4849920"/>
            <a:ext cx="3678120" cy="2026080"/>
            <a:chOff x="76320" y="4849920"/>
            <a:chExt cx="3678120" cy="2026080"/>
          </a:xfrm>
        </p:grpSpPr>
        <p:sp>
          <p:nvSpPr>
            <p:cNvPr id="576" name=""/>
            <p:cNvSpPr/>
            <p:nvPr/>
          </p:nvSpPr>
          <p:spPr>
            <a:xfrm>
              <a:off x="471600" y="647712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71600" y="50292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320" y="4876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62760" y="647712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gion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39120" y="484992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Imag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38080" y="5346720"/>
              <a:ext cx="2590920" cy="901800"/>
            </a:xfrm>
            <a:custGeom>
              <a:avLst/>
              <a:gdLst/>
              <a:ahLst/>
              <a:rect l="l" t="t" r="r" b="b"/>
              <a:pathLst>
                <a:path w="1632" h="568">
                  <a:moveTo>
                    <a:pt x="0" y="568"/>
                  </a:moveTo>
                  <a:cubicBezTo>
                    <a:pt x="68" y="324"/>
                    <a:pt x="136" y="80"/>
                    <a:pt x="288" y="40"/>
                  </a:cubicBezTo>
                  <a:cubicBezTo>
                    <a:pt x="440" y="0"/>
                    <a:pt x="728" y="256"/>
                    <a:pt x="912" y="328"/>
                  </a:cubicBezTo>
                  <a:cubicBezTo>
                    <a:pt x="1096" y="400"/>
                    <a:pt x="1272" y="440"/>
                    <a:pt x="1392" y="472"/>
                  </a:cubicBezTo>
                  <a:cubicBezTo>
                    <a:pt x="1512" y="504"/>
                    <a:pt x="1572" y="512"/>
                    <a:pt x="1632" y="5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391000" y="4861080"/>
            <a:ext cx="3678120" cy="1999080"/>
            <a:chOff x="5391000" y="4861080"/>
            <a:chExt cx="3678120" cy="1999080"/>
          </a:xfrm>
        </p:grpSpPr>
        <p:sp>
          <p:nvSpPr>
            <p:cNvPr id="583" name=""/>
            <p:cNvSpPr/>
            <p:nvPr/>
          </p:nvSpPr>
          <p:spPr>
            <a:xfrm>
              <a:off x="5786280" y="64612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786280" y="501336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1000" y="4861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77440" y="646128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gion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5520" y="4910040"/>
              <a:ext cx="10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Imag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43600" y="5330880"/>
              <a:ext cx="1371600" cy="901800"/>
            </a:xfrm>
            <a:custGeom>
              <a:avLst/>
              <a:gdLst/>
              <a:ahLst/>
              <a:rect l="l" t="t" r="r" b="b"/>
              <a:pathLst>
                <a:path w="1632" h="568">
                  <a:moveTo>
                    <a:pt x="0" y="568"/>
                  </a:moveTo>
                  <a:cubicBezTo>
                    <a:pt x="68" y="324"/>
                    <a:pt x="136" y="80"/>
                    <a:pt x="288" y="40"/>
                  </a:cubicBezTo>
                  <a:cubicBezTo>
                    <a:pt x="440" y="0"/>
                    <a:pt x="728" y="256"/>
                    <a:pt x="912" y="328"/>
                  </a:cubicBezTo>
                  <a:cubicBezTo>
                    <a:pt x="1096" y="400"/>
                    <a:pt x="1272" y="440"/>
                    <a:pt x="1392" y="472"/>
                  </a:cubicBezTo>
                  <a:cubicBezTo>
                    <a:pt x="1512" y="504"/>
                    <a:pt x="1572" y="512"/>
                    <a:pt x="1632" y="5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295280" y="5334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57800" y="530532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69320" y="205740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a local maximum of this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76520" y="2666880"/>
            <a:ext cx="68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gion size, for which the maximum is achieved, shoul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mage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227600" y="5486400"/>
            <a:ext cx="388080" cy="1424520"/>
            <a:chOff x="1227600" y="5486400"/>
            <a:chExt cx="388080" cy="1424520"/>
          </a:xfrm>
        </p:grpSpPr>
        <p:sp>
          <p:nvSpPr>
            <p:cNvPr id="594" name=""/>
            <p:cNvSpPr/>
            <p:nvPr/>
          </p:nvSpPr>
          <p:spPr>
            <a:xfrm>
              <a:off x="1371600" y="5486400"/>
              <a:ext cx="0" cy="99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7600" y="640080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104160" y="5486400"/>
            <a:ext cx="388080" cy="1424520"/>
            <a:chOff x="6104160" y="5486400"/>
            <a:chExt cx="388080" cy="1424520"/>
          </a:xfrm>
        </p:grpSpPr>
        <p:sp>
          <p:nvSpPr>
            <p:cNvPr id="597" name=""/>
            <p:cNvSpPr/>
            <p:nvPr/>
          </p:nvSpPr>
          <p:spPr>
            <a:xfrm>
              <a:off x="6248520" y="5486400"/>
              <a:ext cx="0" cy="9907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04160" y="640080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1447920" y="3657600"/>
            <a:ext cx="6553080" cy="94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rtan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is scale invariant region size is found in each imag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epend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good” function for scale detec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has one stable sharp p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98600" y="2666880"/>
            <a:ext cx="2502720" cy="1247040"/>
            <a:chOff x="498600" y="2666880"/>
            <a:chExt cx="2502720" cy="1247040"/>
          </a:xfrm>
        </p:grpSpPr>
        <p:grpSp>
          <p:nvGrpSpPr>
            <p:cNvPr id="603" name=""/>
            <p:cNvGrpSpPr/>
            <p:nvPr/>
          </p:nvGrpSpPr>
          <p:grpSpPr>
            <a:xfrm>
              <a:off x="498600" y="2666880"/>
              <a:ext cx="2502720" cy="1247040"/>
              <a:chOff x="498600" y="2666880"/>
              <a:chExt cx="2502720" cy="1247040"/>
            </a:xfrm>
          </p:grpSpPr>
          <p:sp>
            <p:nvSpPr>
              <p:cNvPr id="604" name=""/>
              <p:cNvSpPr/>
              <p:nvPr/>
            </p:nvSpPr>
            <p:spPr>
              <a:xfrm>
                <a:off x="747360" y="3521880"/>
                <a:ext cx="192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747360" y="2747880"/>
                <a:ext cx="0" cy="77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600" y="2666880"/>
                <a:ext cx="2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0880" y="3545640"/>
                <a:ext cx="11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Times New Roman"/>
                  </a:rPr>
                  <a:t>region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90680" y="2820600"/>
                <a:ext cx="1189440" cy="89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14760" y="2828880"/>
                <a:ext cx="2022840" cy="524520"/>
              </a:xfrm>
              <a:custGeom>
                <a:avLst/>
                <a:gdLst/>
                <a:ahLst/>
                <a:rect l="l" t="t" r="r" b="b"/>
                <a:pathLst>
                  <a:path w="1632" h="440">
                    <a:moveTo>
                      <a:pt x="0" y="440"/>
                    </a:moveTo>
                    <a:cubicBezTo>
                      <a:pt x="44" y="308"/>
                      <a:pt x="88" y="176"/>
                      <a:pt x="240" y="104"/>
                    </a:cubicBezTo>
                    <a:cubicBezTo>
                      <a:pt x="392" y="32"/>
                      <a:pt x="720" y="16"/>
                      <a:pt x="912" y="8"/>
                    </a:cubicBezTo>
                    <a:cubicBezTo>
                      <a:pt x="1104" y="0"/>
                      <a:pt x="1272" y="32"/>
                      <a:pt x="1392" y="56"/>
                    </a:cubicBezTo>
                    <a:cubicBezTo>
                      <a:pt x="1512" y="80"/>
                      <a:pt x="1572" y="116"/>
                      <a:pt x="1632" y="1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1445400" y="3068640"/>
              <a:ext cx="5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b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41800" y="2590920"/>
            <a:ext cx="2701080" cy="1360440"/>
            <a:chOff x="3241800" y="2590920"/>
            <a:chExt cx="2701080" cy="1360440"/>
          </a:xfrm>
        </p:grpSpPr>
        <p:grpSp>
          <p:nvGrpSpPr>
            <p:cNvPr id="612" name=""/>
            <p:cNvGrpSpPr/>
            <p:nvPr/>
          </p:nvGrpSpPr>
          <p:grpSpPr>
            <a:xfrm>
              <a:off x="3241800" y="2590920"/>
              <a:ext cx="2701080" cy="1360440"/>
              <a:chOff x="3241800" y="2590920"/>
              <a:chExt cx="2701080" cy="1360440"/>
            </a:xfrm>
          </p:grpSpPr>
          <p:sp>
            <p:nvSpPr>
              <p:cNvPr id="613" name=""/>
              <p:cNvSpPr/>
              <p:nvPr/>
            </p:nvSpPr>
            <p:spPr>
              <a:xfrm>
                <a:off x="3516480" y="3560040"/>
                <a:ext cx="212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516480" y="2682360"/>
                <a:ext cx="0" cy="87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241800" y="2590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62440" y="3583080"/>
                <a:ext cx="11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Times New Roman"/>
                  </a:rPr>
                  <a:t>region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898080" y="2850480"/>
                <a:ext cx="104760" cy="91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766680" y="2785320"/>
                <a:ext cx="1837440" cy="519120"/>
              </a:xfrm>
              <a:custGeom>
                <a:avLst/>
                <a:gdLst/>
                <a:ahLst/>
                <a:rect l="l" t="t" r="r" b="b"/>
                <a:pathLst>
                  <a:path w="1344" h="384">
                    <a:moveTo>
                      <a:pt x="0" y="384"/>
                    </a:moveTo>
                    <a:cubicBezTo>
                      <a:pt x="24" y="248"/>
                      <a:pt x="48" y="112"/>
                      <a:pt x="144" y="96"/>
                    </a:cubicBezTo>
                    <a:cubicBezTo>
                      <a:pt x="240" y="80"/>
                      <a:pt x="448" y="280"/>
                      <a:pt x="576" y="288"/>
                    </a:cubicBezTo>
                    <a:cubicBezTo>
                      <a:pt x="704" y="296"/>
                      <a:pt x="832" y="144"/>
                      <a:pt x="912" y="144"/>
                    </a:cubicBezTo>
                    <a:cubicBezTo>
                      <a:pt x="992" y="144"/>
                      <a:pt x="1016" y="312"/>
                      <a:pt x="1056" y="288"/>
                    </a:cubicBezTo>
                    <a:cubicBezTo>
                      <a:pt x="1096" y="264"/>
                      <a:pt x="1104" y="0"/>
                      <a:pt x="1152" y="0"/>
                    </a:cubicBezTo>
                    <a:cubicBezTo>
                      <a:pt x="1200" y="0"/>
                      <a:pt x="1272" y="144"/>
                      <a:pt x="1344" y="2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984920" y="2934000"/>
                <a:ext cx="105120" cy="91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297760" y="2748960"/>
                <a:ext cx="105120" cy="91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4285080" y="3110040"/>
              <a:ext cx="6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b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060960" y="2590920"/>
            <a:ext cx="2701440" cy="1304640"/>
            <a:chOff x="6060960" y="2590920"/>
            <a:chExt cx="2701440" cy="1304640"/>
          </a:xfrm>
        </p:grpSpPr>
        <p:grpSp>
          <p:nvGrpSpPr>
            <p:cNvPr id="623" name=""/>
            <p:cNvGrpSpPr/>
            <p:nvPr/>
          </p:nvGrpSpPr>
          <p:grpSpPr>
            <a:xfrm>
              <a:off x="6060960" y="2590920"/>
              <a:ext cx="2701440" cy="1304640"/>
              <a:chOff x="6060960" y="2590920"/>
              <a:chExt cx="2701440" cy="1304640"/>
            </a:xfrm>
          </p:grpSpPr>
          <p:sp>
            <p:nvSpPr>
              <p:cNvPr id="624" name=""/>
              <p:cNvSpPr/>
              <p:nvPr/>
            </p:nvSpPr>
            <p:spPr>
              <a:xfrm>
                <a:off x="6336000" y="3503520"/>
                <a:ext cx="212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336000" y="2677680"/>
                <a:ext cx="0" cy="82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60960" y="259092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581960" y="3527280"/>
                <a:ext cx="11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Times New Roman"/>
                  </a:rPr>
                  <a:t>region s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91240" y="2859120"/>
                <a:ext cx="1803600" cy="514080"/>
              </a:xfrm>
              <a:custGeom>
                <a:avLst/>
                <a:gdLst/>
                <a:ahLst/>
                <a:rect l="l" t="t" r="r" b="b"/>
                <a:pathLst>
                  <a:path w="1632" h="568">
                    <a:moveTo>
                      <a:pt x="0" y="568"/>
                    </a:moveTo>
                    <a:cubicBezTo>
                      <a:pt x="68" y="324"/>
                      <a:pt x="136" y="80"/>
                      <a:pt x="288" y="40"/>
                    </a:cubicBezTo>
                    <a:cubicBezTo>
                      <a:pt x="440" y="0"/>
                      <a:pt x="728" y="256"/>
                      <a:pt x="912" y="328"/>
                    </a:cubicBezTo>
                    <a:cubicBezTo>
                      <a:pt x="1096" y="400"/>
                      <a:pt x="1272" y="440"/>
                      <a:pt x="1392" y="472"/>
                    </a:cubicBezTo>
                    <a:cubicBezTo>
                      <a:pt x="1512" y="504"/>
                      <a:pt x="1572" y="512"/>
                      <a:pt x="1632" y="5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09480" y="2851560"/>
                <a:ext cx="106200" cy="86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373520" y="2712960"/>
              <a:ext cx="91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Good </a:t>
              </a: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762120" y="4419720"/>
            <a:ext cx="8001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ual images: a good function would be a one which responds to contrast (sharp local intensity ch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for determining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295280" y="5487840"/>
          <a:ext cx="327672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487840"/>
                    <a:ext cx="32767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457200" y="2590920"/>
          <a:ext cx="43117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90920"/>
                    <a:ext cx="4311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457200" y="3794040"/>
          <a:ext cx="388620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794040"/>
                    <a:ext cx="38862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5715000" y="1447920"/>
          <a:ext cx="30844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447920"/>
                    <a:ext cx="3084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398880" y="1981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1080" y="492768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Gaus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9"/>
          <a:stretch/>
        </p:blipFill>
        <p:spPr>
          <a:xfrm>
            <a:off x="4952880" y="2286000"/>
            <a:ext cx="3810240" cy="301464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5105520" y="5689440"/>
            <a:ext cx="3809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kernels are invarian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760" y="3124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(Laplaci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3240" y="417528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(Difference of Gauss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o human vision: eye’s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Center_Surround_3D_RF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732040" cy="36687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2960" y="6461280"/>
            <a:ext cx="84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mon Ullman, Introduction to Computer and Human Vision Course, Fall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Harris-Laplaci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d local maximum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is corner detector in space (image coordin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placian in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600" y="6095880"/>
            <a:ext cx="90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.Mikolajczyk, C.Schmid. “Indexing Based on Scale Invariant Interest Points”. ICCV 2001</a:t>
            </a:r>
            <a:br>
              <a:rPr sz="1800"/>
            </a:b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Lowe. “Distinctive Image Features from Scale-Invariant Keypoints”. Accepted to IJC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95680" y="1118520"/>
            <a:ext cx="4269960" cy="2388960"/>
            <a:chOff x="4495680" y="1118520"/>
            <a:chExt cx="4269960" cy="2388960"/>
          </a:xfrm>
        </p:grpSpPr>
        <p:sp>
          <p:nvSpPr>
            <p:cNvPr id="658" name=""/>
            <p:cNvSpPr/>
            <p:nvPr/>
          </p:nvSpPr>
          <p:spPr>
            <a:xfrm>
              <a:off x="5257800" y="2514240"/>
              <a:ext cx="3200400" cy="381240"/>
            </a:xfrm>
            <a:prstGeom prst="parallelogram">
              <a:avLst>
                <a:gd name="adj" fmla="val 209868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724280" y="159984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24280" y="304776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724280" y="2498400"/>
              <a:ext cx="1060560" cy="54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95680" y="12189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45560" y="30207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278680" y="23349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40040" y="3047760"/>
              <a:ext cx="15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Harris </a:t>
              </a: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48520" y="2653920"/>
              <a:ext cx="609480" cy="16524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104"/>
                  </a:moveTo>
                  <a:cubicBezTo>
                    <a:pt x="64" y="60"/>
                    <a:pt x="128" y="16"/>
                    <a:pt x="192" y="8"/>
                  </a:cubicBezTo>
                  <a:cubicBezTo>
                    <a:pt x="256" y="0"/>
                    <a:pt x="352" y="48"/>
                    <a:pt x="384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00800" y="2590560"/>
              <a:ext cx="228600" cy="152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57800" y="1981080"/>
              <a:ext cx="3200400" cy="380880"/>
            </a:xfrm>
            <a:prstGeom prst="parallelogram">
              <a:avLst>
                <a:gd name="adj" fmla="val 210066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8520" y="2120760"/>
              <a:ext cx="609480" cy="16488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104"/>
                  </a:moveTo>
                  <a:cubicBezTo>
                    <a:pt x="64" y="60"/>
                    <a:pt x="128" y="16"/>
                    <a:pt x="192" y="8"/>
                  </a:cubicBezTo>
                  <a:cubicBezTo>
                    <a:pt x="256" y="0"/>
                    <a:pt x="352" y="48"/>
                    <a:pt x="384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372360" y="2020680"/>
              <a:ext cx="304560" cy="203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57800" y="1447560"/>
              <a:ext cx="3200400" cy="380880"/>
            </a:xfrm>
            <a:prstGeom prst="parallelogram">
              <a:avLst>
                <a:gd name="adj" fmla="val 210066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48520" y="1587240"/>
              <a:ext cx="609480" cy="16524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104"/>
                  </a:moveTo>
                  <a:cubicBezTo>
                    <a:pt x="64" y="60"/>
                    <a:pt x="128" y="16"/>
                    <a:pt x="192" y="8"/>
                  </a:cubicBezTo>
                  <a:cubicBezTo>
                    <a:pt x="256" y="0"/>
                    <a:pt x="352" y="48"/>
                    <a:pt x="384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62560" y="1481040"/>
              <a:ext cx="533520" cy="3045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7520040" y="1904040"/>
              <a:ext cx="203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Laplacian </a:t>
              </a: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0" y="3505320"/>
            <a:ext cx="9144000" cy="2440800"/>
            <a:chOff x="0" y="3505320"/>
            <a:chExt cx="9144000" cy="2440800"/>
          </a:xfrm>
        </p:grpSpPr>
        <p:sp>
          <p:nvSpPr>
            <p:cNvPr id="676" name=""/>
            <p:cNvSpPr/>
            <p:nvPr/>
          </p:nvSpPr>
          <p:spPr>
            <a:xfrm>
              <a:off x="380880" y="3733920"/>
              <a:ext cx="419112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Arial"/>
                  <a:ea typeface="Arial"/>
                </a:rPr>
                <a:t>SIFT (Lowe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br>
                <a:rPr sz="28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ind local maximum o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erence of Gaussians in space and 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257800" y="4952880"/>
              <a:ext cx="3200400" cy="381240"/>
            </a:xfrm>
            <a:prstGeom prst="parallelogram">
              <a:avLst>
                <a:gd name="adj" fmla="val 209868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4724280" y="403848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724280" y="5486400"/>
              <a:ext cx="342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724280" y="4937040"/>
              <a:ext cx="1060560" cy="54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36576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945560" y="54594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78680" y="47736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26440" y="5486400"/>
              <a:ext cx="141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DoG </a:t>
              </a: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48520" y="5092560"/>
              <a:ext cx="609480" cy="16524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104"/>
                  </a:moveTo>
                  <a:cubicBezTo>
                    <a:pt x="64" y="60"/>
                    <a:pt x="128" y="16"/>
                    <a:pt x="192" y="8"/>
                  </a:cubicBezTo>
                  <a:cubicBezTo>
                    <a:pt x="256" y="0"/>
                    <a:pt x="352" y="48"/>
                    <a:pt x="384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400800" y="5029200"/>
              <a:ext cx="228600" cy="1522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57800" y="4419720"/>
              <a:ext cx="3200400" cy="380880"/>
            </a:xfrm>
            <a:prstGeom prst="parallelogram">
              <a:avLst>
                <a:gd name="adj" fmla="val 210066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48520" y="4559400"/>
              <a:ext cx="609480" cy="16488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104"/>
                  </a:moveTo>
                  <a:cubicBezTo>
                    <a:pt x="64" y="60"/>
                    <a:pt x="128" y="16"/>
                    <a:pt x="192" y="8"/>
                  </a:cubicBezTo>
                  <a:cubicBezTo>
                    <a:pt x="256" y="0"/>
                    <a:pt x="352" y="48"/>
                    <a:pt x="384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72360" y="4459320"/>
              <a:ext cx="304560" cy="2030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7800" y="3886200"/>
              <a:ext cx="3200400" cy="380880"/>
            </a:xfrm>
            <a:prstGeom prst="parallelogram">
              <a:avLst>
                <a:gd name="adj" fmla="val 210066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48520" y="4025880"/>
              <a:ext cx="609480" cy="165240"/>
            </a:xfrm>
            <a:custGeom>
              <a:avLst/>
              <a:gdLst/>
              <a:ahLst/>
              <a:rect l="l" t="t" r="r" b="b"/>
              <a:pathLst>
                <a:path w="384" h="104">
                  <a:moveTo>
                    <a:pt x="0" y="104"/>
                  </a:moveTo>
                  <a:cubicBezTo>
                    <a:pt x="64" y="60"/>
                    <a:pt x="128" y="16"/>
                    <a:pt x="192" y="8"/>
                  </a:cubicBezTo>
                  <a:cubicBezTo>
                    <a:pt x="256" y="0"/>
                    <a:pt x="352" y="48"/>
                    <a:pt x="384" y="5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62560" y="3919680"/>
              <a:ext cx="533520" cy="3045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6200000">
              <a:off x="7826400" y="4340160"/>
              <a:ext cx="141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DoG </a:t>
              </a:r>
              <a:r>
                <a:rPr b="0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0" y="3505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60" y="6477120"/>
            <a:ext cx="86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.Mikolajczyk, C.Schmid. “Indexing Based on Scale Invariant Interest Points”. ICCV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evaluation of detect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.r.t. sca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4920" y="3043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Repeatability 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838080" y="4191120"/>
            <a:ext cx="1600200" cy="1976400"/>
            <a:chOff x="838080" y="4191120"/>
            <a:chExt cx="1600200" cy="197640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847800" y="5319720"/>
              <a:ext cx="15620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2"/>
            <a:stretch/>
          </p:blipFill>
          <p:spPr>
            <a:xfrm>
              <a:off x="838080" y="4191120"/>
              <a:ext cx="160020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406520" y="447192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93760" y="4754520"/>
              <a:ext cx="71280" cy="6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52440" y="457200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62200" y="468324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43080" y="5700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19120" y="59292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33600" y="56246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14200" y="570060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66840" y="5396040"/>
              <a:ext cx="7596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168200" y="4840200"/>
              <a:ext cx="44640" cy="827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1283760" y="4557600"/>
              <a:ext cx="135000" cy="838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63600" y="4710240"/>
              <a:ext cx="1764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28600" y="493884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228600" y="3468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# correspondences</a:t>
            </a:r>
            <a:br>
              <a:rPr sz="1800"/>
            </a:b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# possible correspond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3805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3429000" y="2168640"/>
            <a:ext cx="53341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 Invariant Detection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Given: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images of the same scene with a lar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le dif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est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pend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each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uitable function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ver the im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876920"/>
            <a:ext cx="7924680" cy="1692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Harris-Laplac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Mikolajczyk, Schmid]: maximize Laplacian over scale, Harris’ measure of corner response over th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IF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Lowe]: maximize Difference of Gaussians over scale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4440" y="386244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with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21932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 feature points in both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corresponding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2240" y="3436920"/>
            <a:ext cx="7485120" cy="2663640"/>
            <a:chOff x="822240" y="3436920"/>
            <a:chExt cx="7485120" cy="2663640"/>
          </a:xfrm>
        </p:grpSpPr>
        <p:pic>
          <p:nvPicPr>
            <p:cNvPr id="83" name="SIFT2" descr=""/>
            <p:cNvPicPr/>
            <p:nvPr/>
          </p:nvPicPr>
          <p:blipFill>
            <a:blip r:embed="rId1"/>
            <a:stretch/>
          </p:blipFill>
          <p:spPr>
            <a:xfrm>
              <a:off x="4632480" y="3436920"/>
              <a:ext cx="3674880" cy="266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SIFT1" descr=""/>
            <p:cNvPicPr/>
            <p:nvPr/>
          </p:nvPicPr>
          <p:blipFill>
            <a:blip r:embed="rId2"/>
            <a:stretch/>
          </p:blipFill>
          <p:spPr>
            <a:xfrm>
              <a:off x="822240" y="3436920"/>
              <a:ext cx="367524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flipV="1">
              <a:off x="3260880" y="4236840"/>
              <a:ext cx="190476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03720" y="4506840"/>
              <a:ext cx="1816200" cy="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695760" y="5608080"/>
              <a:ext cx="169848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152960" y="5150880"/>
              <a:ext cx="1736640" cy="41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416400" y="4732200"/>
              <a:ext cx="1825560" cy="130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 we consider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ity transform (rotation + uniform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2629080" y="2278800"/>
            <a:ext cx="3146760" cy="1264320"/>
            <a:chOff x="2629080" y="2278800"/>
            <a:chExt cx="3146760" cy="1264320"/>
          </a:xfrm>
        </p:grpSpPr>
        <p:sp>
          <p:nvSpPr>
            <p:cNvPr id="728" name=""/>
            <p:cNvSpPr/>
            <p:nvPr/>
          </p:nvSpPr>
          <p:spPr>
            <a:xfrm>
              <a:off x="3543480" y="2712960"/>
              <a:ext cx="685800" cy="38088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2629080" y="2682720"/>
              <a:ext cx="487440" cy="487440"/>
              <a:chOff x="2629080" y="2682720"/>
              <a:chExt cx="487440" cy="487440"/>
            </a:xfrm>
          </p:grpSpPr>
          <p:sp>
            <p:nvSpPr>
              <p:cNvPr id="730" name=""/>
              <p:cNvSpPr/>
              <p:nvPr/>
            </p:nvSpPr>
            <p:spPr>
              <a:xfrm>
                <a:off x="2629080" y="2682720"/>
                <a:ext cx="487440" cy="4874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872080" y="2698560"/>
                <a:ext cx="0" cy="4572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2638440" y="2923560"/>
                <a:ext cx="476280" cy="32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4511520" y="2278800"/>
              <a:ext cx="1264320" cy="1264320"/>
              <a:chOff x="4511520" y="2278800"/>
              <a:chExt cx="1264320" cy="1264320"/>
            </a:xfrm>
          </p:grpSpPr>
          <p:sp>
            <p:nvSpPr>
              <p:cNvPr id="734" name=""/>
              <p:cNvSpPr/>
              <p:nvPr/>
            </p:nvSpPr>
            <p:spPr>
              <a:xfrm rot="1978800">
                <a:off x="4686480" y="2453760"/>
                <a:ext cx="914040" cy="9140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908240" y="2551680"/>
                <a:ext cx="466560" cy="71892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774320" y="2672280"/>
                <a:ext cx="752040" cy="48132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7" name=""/>
          <p:cNvSpPr/>
          <p:nvPr/>
        </p:nvSpPr>
        <p:spPr>
          <a:xfrm>
            <a:off x="685800" y="3578400"/>
            <a:ext cx="77724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go on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ne transform (rotation + non-uniform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50068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523960" y="4976640"/>
            <a:ext cx="487440" cy="487440"/>
            <a:chOff x="2523960" y="4976640"/>
            <a:chExt cx="487440" cy="487440"/>
          </a:xfrm>
        </p:grpSpPr>
        <p:sp>
          <p:nvSpPr>
            <p:cNvPr id="740" name=""/>
            <p:cNvSpPr/>
            <p:nvPr/>
          </p:nvSpPr>
          <p:spPr>
            <a:xfrm>
              <a:off x="2523960" y="4976640"/>
              <a:ext cx="487440" cy="4874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66960" y="499248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2533320" y="5217480"/>
              <a:ext cx="476280" cy="32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4310640" y="4513320"/>
            <a:ext cx="1890000" cy="1423080"/>
            <a:chOff x="4310640" y="4513320"/>
            <a:chExt cx="1890000" cy="1423080"/>
          </a:xfrm>
        </p:grpSpPr>
        <p:sp>
          <p:nvSpPr>
            <p:cNvPr id="744" name=""/>
            <p:cNvSpPr/>
            <p:nvPr/>
          </p:nvSpPr>
          <p:spPr>
            <a:xfrm rot="4195800">
              <a:off x="4805280" y="4383000"/>
              <a:ext cx="900000" cy="16833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511520" y="4953240"/>
              <a:ext cx="1483200" cy="54216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05160" y="4819320"/>
              <a:ext cx="312120" cy="82188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99520" y="1537920"/>
            <a:ext cx="77994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a local intensity extremum as initi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along every ray starting from this point and stop when extremum of function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9360" y="6248520"/>
            <a:ext cx="76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Tuytelaars, L.V.Gool. “Wide Baseline Stereo Matching Based on Local, Affinely Invariant Regions”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BMV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138560" y="4602240"/>
            <a:ext cx="1654200" cy="1149120"/>
            <a:chOff x="4138560" y="4602240"/>
            <a:chExt cx="1654200" cy="1149120"/>
          </a:xfrm>
        </p:grpSpPr>
        <p:sp>
          <p:nvSpPr>
            <p:cNvPr id="752" name=""/>
            <p:cNvSpPr/>
            <p:nvPr/>
          </p:nvSpPr>
          <p:spPr>
            <a:xfrm>
              <a:off x="4377600" y="4818240"/>
              <a:ext cx="1050120" cy="698760"/>
            </a:xfrm>
            <a:custGeom>
              <a:avLst/>
              <a:gdLst/>
              <a:ahLst/>
              <a:rect l="l" t="t" r="r" b="b"/>
              <a:pathLst>
                <a:path w="1689" h="1180">
                  <a:moveTo>
                    <a:pt x="39" y="1020"/>
                  </a:moveTo>
                  <a:cubicBezTo>
                    <a:pt x="0" y="894"/>
                    <a:pt x="26" y="531"/>
                    <a:pt x="113" y="417"/>
                  </a:cubicBezTo>
                  <a:cubicBezTo>
                    <a:pt x="200" y="303"/>
                    <a:pt x="474" y="404"/>
                    <a:pt x="561" y="335"/>
                  </a:cubicBezTo>
                  <a:cubicBezTo>
                    <a:pt x="648" y="266"/>
                    <a:pt x="550" y="10"/>
                    <a:pt x="634" y="5"/>
                  </a:cubicBezTo>
                  <a:cubicBezTo>
                    <a:pt x="718" y="0"/>
                    <a:pt x="924" y="263"/>
                    <a:pt x="1063" y="307"/>
                  </a:cubicBezTo>
                  <a:cubicBezTo>
                    <a:pt x="1202" y="351"/>
                    <a:pt x="1407" y="215"/>
                    <a:pt x="1466" y="271"/>
                  </a:cubicBezTo>
                  <a:cubicBezTo>
                    <a:pt x="1525" y="327"/>
                    <a:pt x="1413" y="526"/>
                    <a:pt x="1420" y="645"/>
                  </a:cubicBezTo>
                  <a:cubicBezTo>
                    <a:pt x="1427" y="764"/>
                    <a:pt x="1689" y="896"/>
                    <a:pt x="1511" y="984"/>
                  </a:cubicBezTo>
                  <a:cubicBezTo>
                    <a:pt x="1333" y="1072"/>
                    <a:pt x="592" y="1172"/>
                    <a:pt x="350" y="1176"/>
                  </a:cubicBezTo>
                  <a:cubicBezTo>
                    <a:pt x="108" y="1180"/>
                    <a:pt x="78" y="1146"/>
                    <a:pt x="39" y="102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953960" y="4818240"/>
              <a:ext cx="550800" cy="40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4948560" y="4602240"/>
              <a:ext cx="170280" cy="60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4677840" y="4642200"/>
              <a:ext cx="259200" cy="579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4496760" y="4739400"/>
              <a:ext cx="435240" cy="492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4246920" y="4939560"/>
              <a:ext cx="691200" cy="29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4155480" y="5167080"/>
              <a:ext cx="793080" cy="64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138560" y="5221440"/>
              <a:ext cx="81000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4297680" y="5232240"/>
              <a:ext cx="65088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689360" y="5221440"/>
              <a:ext cx="263880" cy="529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47840" y="5220720"/>
              <a:ext cx="248040" cy="44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59000" y="5226120"/>
              <a:ext cx="566280" cy="204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947840" y="5139000"/>
              <a:ext cx="84492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08600" y="5194800"/>
              <a:ext cx="65880" cy="6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207120" y="4507920"/>
            <a:ext cx="2417040" cy="1519560"/>
            <a:chOff x="6207120" y="4507920"/>
            <a:chExt cx="2417040" cy="1519560"/>
          </a:xfrm>
        </p:grpSpPr>
        <p:sp>
          <p:nvSpPr>
            <p:cNvPr id="767" name=""/>
            <p:cNvSpPr/>
            <p:nvPr/>
          </p:nvSpPr>
          <p:spPr>
            <a:xfrm rot="20125800">
              <a:off x="6457680" y="4860000"/>
              <a:ext cx="1713240" cy="745200"/>
            </a:xfrm>
            <a:custGeom>
              <a:avLst/>
              <a:gdLst/>
              <a:ahLst/>
              <a:rect l="l" t="t" r="r" b="b"/>
              <a:pathLst>
                <a:path w="1689" h="1180">
                  <a:moveTo>
                    <a:pt x="39" y="1020"/>
                  </a:moveTo>
                  <a:cubicBezTo>
                    <a:pt x="0" y="894"/>
                    <a:pt x="26" y="531"/>
                    <a:pt x="113" y="417"/>
                  </a:cubicBezTo>
                  <a:cubicBezTo>
                    <a:pt x="200" y="303"/>
                    <a:pt x="474" y="404"/>
                    <a:pt x="561" y="335"/>
                  </a:cubicBezTo>
                  <a:cubicBezTo>
                    <a:pt x="648" y="266"/>
                    <a:pt x="550" y="10"/>
                    <a:pt x="634" y="5"/>
                  </a:cubicBezTo>
                  <a:cubicBezTo>
                    <a:pt x="718" y="0"/>
                    <a:pt x="924" y="263"/>
                    <a:pt x="1063" y="307"/>
                  </a:cubicBezTo>
                  <a:cubicBezTo>
                    <a:pt x="1202" y="351"/>
                    <a:pt x="1407" y="215"/>
                    <a:pt x="1466" y="271"/>
                  </a:cubicBezTo>
                  <a:cubicBezTo>
                    <a:pt x="1525" y="327"/>
                    <a:pt x="1413" y="526"/>
                    <a:pt x="1420" y="645"/>
                  </a:cubicBezTo>
                  <a:cubicBezTo>
                    <a:pt x="1427" y="764"/>
                    <a:pt x="1689" y="896"/>
                    <a:pt x="1511" y="984"/>
                  </a:cubicBezTo>
                  <a:cubicBezTo>
                    <a:pt x="1333" y="1072"/>
                    <a:pt x="592" y="1172"/>
                    <a:pt x="350" y="1176"/>
                  </a:cubicBezTo>
                  <a:cubicBezTo>
                    <a:pt x="108" y="1180"/>
                    <a:pt x="78" y="1146"/>
                    <a:pt x="39" y="102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407360" y="4507920"/>
              <a:ext cx="638640" cy="765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7371360" y="4547160"/>
              <a:ext cx="17640" cy="706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6736680" y="4869360"/>
              <a:ext cx="641880" cy="386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6512760" y="5079960"/>
              <a:ext cx="865440" cy="18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6236280" y="5250600"/>
              <a:ext cx="1155600" cy="184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6207120" y="5240520"/>
              <a:ext cx="1206720" cy="47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286680" y="5229720"/>
              <a:ext cx="1125720" cy="71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6611400" y="5245560"/>
              <a:ext cx="811080" cy="78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273080" y="5245200"/>
              <a:ext cx="156960" cy="69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418520" y="5265360"/>
              <a:ext cx="566640" cy="26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31480" y="5089680"/>
              <a:ext cx="931680" cy="18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408800" y="4633920"/>
              <a:ext cx="1215360" cy="656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125800">
              <a:off x="7373520" y="5235480"/>
              <a:ext cx="86760" cy="7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81" name=""/>
          <p:cNvGraphicFramePr/>
          <p:nvPr/>
        </p:nvGraphicFramePr>
        <p:xfrm>
          <a:off x="4830840" y="2881440"/>
          <a:ext cx="226224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0840" y="2881440"/>
                    <a:ext cx="226224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3" name=""/>
          <p:cNvGrpSpPr/>
          <p:nvPr/>
        </p:nvGrpSpPr>
        <p:grpSpPr>
          <a:xfrm>
            <a:off x="1631880" y="2827440"/>
            <a:ext cx="2397240" cy="1125720"/>
            <a:chOff x="1631880" y="2827440"/>
            <a:chExt cx="2397240" cy="1125720"/>
          </a:xfrm>
        </p:grpSpPr>
        <p:sp>
          <p:nvSpPr>
            <p:cNvPr id="784" name=""/>
            <p:cNvSpPr/>
            <p:nvPr/>
          </p:nvSpPr>
          <p:spPr>
            <a:xfrm>
              <a:off x="1936800" y="360216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936800" y="2900160"/>
              <a:ext cx="0" cy="7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31880" y="282744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98720" y="3584880"/>
              <a:ext cx="203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Times New Roman"/>
                </a:rPr>
                <a:t>points along the r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108160" y="2929320"/>
              <a:ext cx="1587600" cy="573120"/>
            </a:xfrm>
            <a:custGeom>
              <a:avLst/>
              <a:gdLst/>
              <a:ahLst/>
              <a:rect l="l" t="t" r="r" b="b"/>
              <a:pathLst>
                <a:path w="1052" h="398">
                  <a:moveTo>
                    <a:pt x="0" y="398"/>
                  </a:moveTo>
                  <a:cubicBezTo>
                    <a:pt x="178" y="398"/>
                    <a:pt x="356" y="398"/>
                    <a:pt x="458" y="380"/>
                  </a:cubicBezTo>
                  <a:cubicBezTo>
                    <a:pt x="560" y="362"/>
                    <a:pt x="575" y="350"/>
                    <a:pt x="613" y="288"/>
                  </a:cubicBezTo>
                  <a:cubicBezTo>
                    <a:pt x="651" y="226"/>
                    <a:pt x="649" y="0"/>
                    <a:pt x="686" y="5"/>
                  </a:cubicBezTo>
                  <a:cubicBezTo>
                    <a:pt x="723" y="10"/>
                    <a:pt x="779" y="261"/>
                    <a:pt x="832" y="316"/>
                  </a:cubicBezTo>
                  <a:cubicBezTo>
                    <a:pt x="885" y="371"/>
                    <a:pt x="970" y="343"/>
                    <a:pt x="1006" y="334"/>
                  </a:cubicBezTo>
                  <a:cubicBezTo>
                    <a:pt x="1042" y="325"/>
                    <a:pt x="1047" y="293"/>
                    <a:pt x="1052" y="26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089160" y="2910240"/>
              <a:ext cx="96840" cy="81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206280" y="4084560"/>
            <a:ext cx="437508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obtain approximately corresponding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98320" y="5211720"/>
            <a:ext cx="3243600" cy="703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ar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e search for scale in every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9520" y="1538280"/>
            <a:ext cx="7799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gions found may not exactly correspond, so we approximate them with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llip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8600" y="2509920"/>
            <a:ext cx="8470800" cy="1545840"/>
            <a:chOff x="228600" y="2509920"/>
            <a:chExt cx="8470800" cy="1545840"/>
          </a:xfrm>
        </p:grpSpPr>
        <p:sp>
          <p:nvSpPr>
            <p:cNvPr id="795" name=""/>
            <p:cNvSpPr/>
            <p:nvPr/>
          </p:nvSpPr>
          <p:spPr>
            <a:xfrm>
              <a:off x="228600" y="2509920"/>
              <a:ext cx="77994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ometric Moment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6" name=""/>
            <p:cNvGraphicFramePr/>
            <p:nvPr/>
          </p:nvGraphicFramePr>
          <p:xfrm>
            <a:off x="1074600" y="3124080"/>
            <a:ext cx="3517920" cy="84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4600" y="3124080"/>
                      <a:ext cx="351792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8" name=""/>
            <p:cNvSpPr/>
            <p:nvPr/>
          </p:nvSpPr>
          <p:spPr>
            <a:xfrm>
              <a:off x="4840200" y="3049560"/>
              <a:ext cx="3859200" cy="100620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Fact: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moments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99"/>
                  </a:solidFill>
                  <a:latin typeface="Times New Roman"/>
                </a:rPr>
                <a:t>pq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uniquely determine the function </a:t>
              </a:r>
              <a:r>
                <a:rPr b="0" i="1" lang="en-US" sz="28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696960" y="4192560"/>
            <a:ext cx="8103240" cy="2259000"/>
            <a:chOff x="696960" y="4192560"/>
            <a:chExt cx="8103240" cy="2259000"/>
          </a:xfrm>
        </p:grpSpPr>
        <p:sp>
          <p:nvSpPr>
            <p:cNvPr id="800" name=""/>
            <p:cNvSpPr/>
            <p:nvPr/>
          </p:nvSpPr>
          <p:spPr>
            <a:xfrm>
              <a:off x="696960" y="4335480"/>
              <a:ext cx="5852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king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to be the characteristic function of a region (1 inside, 0 outside), moments of orders up to 2 allow to approximate the region by an ellip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08720" y="4567320"/>
              <a:ext cx="1157040" cy="1177920"/>
            </a:xfrm>
            <a:custGeom>
              <a:avLst/>
              <a:gdLst/>
              <a:ahLst/>
              <a:rect l="l" t="t" r="r" b="b"/>
              <a:pathLst>
                <a:path w="922" h="979">
                  <a:moveTo>
                    <a:pt x="0" y="839"/>
                  </a:moveTo>
                  <a:cubicBezTo>
                    <a:pt x="0" y="699"/>
                    <a:pt x="17" y="232"/>
                    <a:pt x="156" y="116"/>
                  </a:cubicBezTo>
                  <a:cubicBezTo>
                    <a:pt x="295" y="0"/>
                    <a:pt x="742" y="62"/>
                    <a:pt x="832" y="144"/>
                  </a:cubicBezTo>
                  <a:cubicBezTo>
                    <a:pt x="922" y="226"/>
                    <a:pt x="692" y="490"/>
                    <a:pt x="695" y="610"/>
                  </a:cubicBezTo>
                  <a:cubicBezTo>
                    <a:pt x="698" y="730"/>
                    <a:pt x="897" y="842"/>
                    <a:pt x="851" y="866"/>
                  </a:cubicBezTo>
                  <a:cubicBezTo>
                    <a:pt x="805" y="890"/>
                    <a:pt x="537" y="741"/>
                    <a:pt x="421" y="756"/>
                  </a:cubicBezTo>
                  <a:cubicBezTo>
                    <a:pt x="305" y="771"/>
                    <a:pt x="226" y="949"/>
                    <a:pt x="156" y="957"/>
                  </a:cubicBezTo>
                  <a:cubicBezTo>
                    <a:pt x="86" y="965"/>
                    <a:pt x="0" y="979"/>
                    <a:pt x="0" y="839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7473200">
              <a:off x="7045560" y="4514040"/>
              <a:ext cx="1633680" cy="13777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4760" y="5626080"/>
              <a:ext cx="5905080" cy="825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This ellipse will have the same moments of orders up to 2 as the original r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543480" y="1932120"/>
            <a:ext cx="1041120" cy="774720"/>
            <a:chOff x="3543480" y="1932120"/>
            <a:chExt cx="1041120" cy="774720"/>
          </a:xfrm>
        </p:grpSpPr>
        <p:graphicFrame>
          <p:nvGraphicFramePr>
            <p:cNvPr id="806" name=""/>
            <p:cNvGraphicFramePr/>
            <p:nvPr/>
          </p:nvGraphicFramePr>
          <p:xfrm>
            <a:off x="3543480" y="1932120"/>
            <a:ext cx="1041120" cy="45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43480" y="1932120"/>
                      <a:ext cx="10411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8" name=""/>
            <p:cNvSpPr/>
            <p:nvPr/>
          </p:nvSpPr>
          <p:spPr>
            <a:xfrm>
              <a:off x="3583080" y="2387520"/>
              <a:ext cx="985680" cy="319320"/>
            </a:xfrm>
            <a:custGeom>
              <a:avLst/>
              <a:gdLst>
                <a:gd name="textAreaLeft" fmla="*/ 153720 w 985680"/>
                <a:gd name="textAreaRight" fmla="*/ 862560 w 985680"/>
                <a:gd name="textAreaTop" fmla="*/ 79920 h 319320"/>
                <a:gd name="textAreaBottom" fmla="*/ 239760 h 3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9" name=""/>
          <p:cNvGraphicFramePr/>
          <p:nvPr/>
        </p:nvGraphicFramePr>
        <p:xfrm>
          <a:off x="3362400" y="5021280"/>
          <a:ext cx="16891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2400" y="5021280"/>
                    <a:ext cx="16891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1" name=""/>
          <p:cNvGrpSpPr/>
          <p:nvPr/>
        </p:nvGrpSpPr>
        <p:grpSpPr>
          <a:xfrm>
            <a:off x="5016240" y="1431000"/>
            <a:ext cx="2372040" cy="3090240"/>
            <a:chOff x="5016240" y="1431000"/>
            <a:chExt cx="2372040" cy="3090240"/>
          </a:xfrm>
        </p:grpSpPr>
        <p:grpSp>
          <p:nvGrpSpPr>
            <p:cNvPr id="812" name=""/>
            <p:cNvGrpSpPr/>
            <p:nvPr/>
          </p:nvGrpSpPr>
          <p:grpSpPr>
            <a:xfrm>
              <a:off x="5016240" y="1431000"/>
              <a:ext cx="2166120" cy="1905120"/>
              <a:chOff x="5016240" y="1431000"/>
              <a:chExt cx="2166120" cy="1905120"/>
            </a:xfrm>
          </p:grpSpPr>
          <p:sp>
            <p:nvSpPr>
              <p:cNvPr id="813" name=""/>
              <p:cNvSpPr/>
              <p:nvPr/>
            </p:nvSpPr>
            <p:spPr>
              <a:xfrm rot="20125800">
                <a:off x="5238720" y="1938240"/>
                <a:ext cx="1712880" cy="744480"/>
              </a:xfrm>
              <a:custGeom>
                <a:avLst/>
                <a:gdLst/>
                <a:ahLst/>
                <a:rect l="l" t="t" r="r" b="b"/>
                <a:pathLst>
                  <a:path w="1689" h="1180">
                    <a:moveTo>
                      <a:pt x="39" y="1020"/>
                    </a:moveTo>
                    <a:cubicBezTo>
                      <a:pt x="0" y="894"/>
                      <a:pt x="26" y="531"/>
                      <a:pt x="113" y="417"/>
                    </a:cubicBezTo>
                    <a:cubicBezTo>
                      <a:pt x="200" y="303"/>
                      <a:pt x="474" y="404"/>
                      <a:pt x="561" y="335"/>
                    </a:cubicBezTo>
                    <a:cubicBezTo>
                      <a:pt x="648" y="266"/>
                      <a:pt x="550" y="10"/>
                      <a:pt x="634" y="5"/>
                    </a:cubicBezTo>
                    <a:cubicBezTo>
                      <a:pt x="718" y="0"/>
                      <a:pt x="924" y="263"/>
                      <a:pt x="1063" y="307"/>
                    </a:cubicBezTo>
                    <a:cubicBezTo>
                      <a:pt x="1202" y="351"/>
                      <a:pt x="1407" y="215"/>
                      <a:pt x="1466" y="271"/>
                    </a:cubicBezTo>
                    <a:cubicBezTo>
                      <a:pt x="1525" y="327"/>
                      <a:pt x="1413" y="526"/>
                      <a:pt x="1420" y="645"/>
                    </a:cubicBezTo>
                    <a:cubicBezTo>
                      <a:pt x="1427" y="764"/>
                      <a:pt x="1689" y="896"/>
                      <a:pt x="1511" y="984"/>
                    </a:cubicBezTo>
                    <a:cubicBezTo>
                      <a:pt x="1333" y="1072"/>
                      <a:pt x="592" y="1172"/>
                      <a:pt x="350" y="1176"/>
                    </a:cubicBezTo>
                    <a:cubicBezTo>
                      <a:pt x="108" y="1180"/>
                      <a:pt x="78" y="1146"/>
                      <a:pt x="39" y="1020"/>
                    </a:cubicBez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9647600">
                <a:off x="5148000" y="1860120"/>
                <a:ext cx="1901880" cy="10461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15" name=""/>
            <p:cNvGraphicFramePr/>
            <p:nvPr/>
          </p:nvGraphicFramePr>
          <p:xfrm>
            <a:off x="5398920" y="3211560"/>
            <a:ext cx="1463760" cy="5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8920" y="3211560"/>
                      <a:ext cx="146376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5164200" y="3840120"/>
            <a:ext cx="2224080" cy="681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64200" y="3840120"/>
                      <a:ext cx="222408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9" name=""/>
          <p:cNvSpPr/>
          <p:nvPr/>
        </p:nvSpPr>
        <p:spPr>
          <a:xfrm>
            <a:off x="343080" y="1246320"/>
            <a:ext cx="81327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variance matr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egion points defines an ellip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92280" y="2000520"/>
            <a:ext cx="2768400" cy="3388680"/>
            <a:chOff x="692280" y="2000520"/>
            <a:chExt cx="2768400" cy="3388680"/>
          </a:xfrm>
        </p:grpSpPr>
        <p:graphicFrame>
          <p:nvGraphicFramePr>
            <p:cNvPr id="821" name=""/>
            <p:cNvGraphicFramePr/>
            <p:nvPr/>
          </p:nvGraphicFramePr>
          <p:xfrm>
            <a:off x="1146240" y="3182760"/>
            <a:ext cx="1547640" cy="53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6240" y="3182760"/>
                      <a:ext cx="1547640" cy="53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1254960" y="2000520"/>
              <a:ext cx="1452600" cy="1141920"/>
              <a:chOff x="1254960" y="2000520"/>
              <a:chExt cx="1452600" cy="1141920"/>
            </a:xfrm>
          </p:grpSpPr>
          <p:sp>
            <p:nvSpPr>
              <p:cNvPr id="824" name=""/>
              <p:cNvSpPr/>
              <p:nvPr/>
            </p:nvSpPr>
            <p:spPr>
              <a:xfrm>
                <a:off x="1474560" y="2180880"/>
                <a:ext cx="1049400" cy="698400"/>
              </a:xfrm>
              <a:custGeom>
                <a:avLst/>
                <a:gdLst/>
                <a:ahLst/>
                <a:rect l="l" t="t" r="r" b="b"/>
                <a:pathLst>
                  <a:path w="1689" h="1180">
                    <a:moveTo>
                      <a:pt x="39" y="1020"/>
                    </a:moveTo>
                    <a:cubicBezTo>
                      <a:pt x="0" y="894"/>
                      <a:pt x="26" y="531"/>
                      <a:pt x="113" y="417"/>
                    </a:cubicBezTo>
                    <a:cubicBezTo>
                      <a:pt x="200" y="303"/>
                      <a:pt x="474" y="404"/>
                      <a:pt x="561" y="335"/>
                    </a:cubicBezTo>
                    <a:cubicBezTo>
                      <a:pt x="648" y="266"/>
                      <a:pt x="550" y="10"/>
                      <a:pt x="634" y="5"/>
                    </a:cubicBezTo>
                    <a:cubicBezTo>
                      <a:pt x="718" y="0"/>
                      <a:pt x="924" y="263"/>
                      <a:pt x="1063" y="307"/>
                    </a:cubicBezTo>
                    <a:cubicBezTo>
                      <a:pt x="1202" y="351"/>
                      <a:pt x="1407" y="215"/>
                      <a:pt x="1466" y="271"/>
                    </a:cubicBezTo>
                    <a:cubicBezTo>
                      <a:pt x="1525" y="327"/>
                      <a:pt x="1413" y="526"/>
                      <a:pt x="1420" y="645"/>
                    </a:cubicBezTo>
                    <a:cubicBezTo>
                      <a:pt x="1427" y="764"/>
                      <a:pt x="1689" y="896"/>
                      <a:pt x="1511" y="984"/>
                    </a:cubicBezTo>
                    <a:cubicBezTo>
                      <a:pt x="1333" y="1072"/>
                      <a:pt x="592" y="1172"/>
                      <a:pt x="350" y="1176"/>
                    </a:cubicBezTo>
                    <a:cubicBezTo>
                      <a:pt x="108" y="1180"/>
                      <a:pt x="78" y="1146"/>
                      <a:pt x="39" y="1020"/>
                    </a:cubicBez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0931600">
                <a:off x="1330200" y="2117520"/>
                <a:ext cx="1301760" cy="90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26" name=""/>
            <p:cNvGraphicFramePr/>
            <p:nvPr/>
          </p:nvGraphicFramePr>
          <p:xfrm>
            <a:off x="841320" y="3836880"/>
            <a:ext cx="2251080" cy="680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1320" y="3836880"/>
                      <a:ext cx="2251080" cy="68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8" name=""/>
            <p:cNvSpPr/>
            <p:nvPr/>
          </p:nvSpPr>
          <p:spPr>
            <a:xfrm>
              <a:off x="692280" y="4563720"/>
              <a:ext cx="2768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, 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s relative to the center of ma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1757520" y="5786280"/>
            <a:ext cx="5040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ses, computed for corresponding regions, also correspo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99880" y="1538280"/>
            <a:ext cx="8251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orithm summary (detection of affine invariant reg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from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 intensity extre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 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the point of extremum of some function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 connecting the points is the region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ometric mo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orders up to 2 for thi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 regio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9360" y="6248520"/>
            <a:ext cx="76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Tuytelaars, L.V.Gool. “Wide Baseline Stereo Matching Based on Local, Affinely Invariant Regions”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BMV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4254480" y="4589640"/>
            <a:ext cx="1654200" cy="1149120"/>
            <a:chOff x="4254480" y="4589640"/>
            <a:chExt cx="1654200" cy="1149120"/>
          </a:xfrm>
        </p:grpSpPr>
        <p:sp>
          <p:nvSpPr>
            <p:cNvPr id="835" name=""/>
            <p:cNvSpPr/>
            <p:nvPr/>
          </p:nvSpPr>
          <p:spPr>
            <a:xfrm>
              <a:off x="4493520" y="4805640"/>
              <a:ext cx="1050120" cy="698760"/>
            </a:xfrm>
            <a:custGeom>
              <a:avLst/>
              <a:gdLst/>
              <a:ahLst/>
              <a:rect l="l" t="t" r="r" b="b"/>
              <a:pathLst>
                <a:path w="1689" h="1180">
                  <a:moveTo>
                    <a:pt x="39" y="1020"/>
                  </a:moveTo>
                  <a:cubicBezTo>
                    <a:pt x="0" y="894"/>
                    <a:pt x="26" y="531"/>
                    <a:pt x="113" y="417"/>
                  </a:cubicBezTo>
                  <a:cubicBezTo>
                    <a:pt x="200" y="303"/>
                    <a:pt x="474" y="404"/>
                    <a:pt x="561" y="335"/>
                  </a:cubicBezTo>
                  <a:cubicBezTo>
                    <a:pt x="648" y="266"/>
                    <a:pt x="550" y="10"/>
                    <a:pt x="634" y="5"/>
                  </a:cubicBezTo>
                  <a:cubicBezTo>
                    <a:pt x="718" y="0"/>
                    <a:pt x="924" y="263"/>
                    <a:pt x="1063" y="307"/>
                  </a:cubicBezTo>
                  <a:cubicBezTo>
                    <a:pt x="1202" y="351"/>
                    <a:pt x="1407" y="215"/>
                    <a:pt x="1466" y="271"/>
                  </a:cubicBezTo>
                  <a:cubicBezTo>
                    <a:pt x="1525" y="327"/>
                    <a:pt x="1413" y="526"/>
                    <a:pt x="1420" y="645"/>
                  </a:cubicBezTo>
                  <a:cubicBezTo>
                    <a:pt x="1427" y="764"/>
                    <a:pt x="1689" y="896"/>
                    <a:pt x="1511" y="984"/>
                  </a:cubicBezTo>
                  <a:cubicBezTo>
                    <a:pt x="1333" y="1072"/>
                    <a:pt x="592" y="1172"/>
                    <a:pt x="350" y="1176"/>
                  </a:cubicBezTo>
                  <a:cubicBezTo>
                    <a:pt x="108" y="1180"/>
                    <a:pt x="78" y="1146"/>
                    <a:pt x="39" y="102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5069880" y="4805640"/>
              <a:ext cx="550800" cy="40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5064480" y="4589640"/>
              <a:ext cx="170280" cy="60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4793760" y="4629600"/>
              <a:ext cx="259200" cy="579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4612680" y="4726800"/>
              <a:ext cx="435240" cy="492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4362840" y="4926960"/>
              <a:ext cx="691200" cy="292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4271400" y="5154480"/>
              <a:ext cx="793080" cy="64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254480" y="5208840"/>
              <a:ext cx="81000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413600" y="5219640"/>
              <a:ext cx="65088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805280" y="5208840"/>
              <a:ext cx="263880" cy="529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63760" y="5208120"/>
              <a:ext cx="248040" cy="448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74920" y="5213520"/>
              <a:ext cx="566280" cy="204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063760" y="5126400"/>
              <a:ext cx="844920" cy="8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24520" y="5182200"/>
              <a:ext cx="65880" cy="6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6207120" y="4365360"/>
            <a:ext cx="2417040" cy="1519560"/>
            <a:chOff x="6207120" y="4365360"/>
            <a:chExt cx="2417040" cy="1519560"/>
          </a:xfrm>
        </p:grpSpPr>
        <p:sp>
          <p:nvSpPr>
            <p:cNvPr id="850" name=""/>
            <p:cNvSpPr/>
            <p:nvPr/>
          </p:nvSpPr>
          <p:spPr>
            <a:xfrm rot="20125800">
              <a:off x="6457680" y="4717080"/>
              <a:ext cx="1713240" cy="745200"/>
            </a:xfrm>
            <a:custGeom>
              <a:avLst/>
              <a:gdLst/>
              <a:ahLst/>
              <a:rect l="l" t="t" r="r" b="b"/>
              <a:pathLst>
                <a:path w="1689" h="1180">
                  <a:moveTo>
                    <a:pt x="39" y="1020"/>
                  </a:moveTo>
                  <a:cubicBezTo>
                    <a:pt x="0" y="894"/>
                    <a:pt x="26" y="531"/>
                    <a:pt x="113" y="417"/>
                  </a:cubicBezTo>
                  <a:cubicBezTo>
                    <a:pt x="200" y="303"/>
                    <a:pt x="474" y="404"/>
                    <a:pt x="561" y="335"/>
                  </a:cubicBezTo>
                  <a:cubicBezTo>
                    <a:pt x="648" y="266"/>
                    <a:pt x="550" y="10"/>
                    <a:pt x="634" y="5"/>
                  </a:cubicBezTo>
                  <a:cubicBezTo>
                    <a:pt x="718" y="0"/>
                    <a:pt x="924" y="263"/>
                    <a:pt x="1063" y="307"/>
                  </a:cubicBezTo>
                  <a:cubicBezTo>
                    <a:pt x="1202" y="351"/>
                    <a:pt x="1407" y="215"/>
                    <a:pt x="1466" y="271"/>
                  </a:cubicBezTo>
                  <a:cubicBezTo>
                    <a:pt x="1525" y="327"/>
                    <a:pt x="1413" y="526"/>
                    <a:pt x="1420" y="645"/>
                  </a:cubicBezTo>
                  <a:cubicBezTo>
                    <a:pt x="1427" y="764"/>
                    <a:pt x="1689" y="896"/>
                    <a:pt x="1511" y="984"/>
                  </a:cubicBezTo>
                  <a:cubicBezTo>
                    <a:pt x="1333" y="1072"/>
                    <a:pt x="592" y="1172"/>
                    <a:pt x="350" y="1176"/>
                  </a:cubicBezTo>
                  <a:cubicBezTo>
                    <a:pt x="108" y="1180"/>
                    <a:pt x="78" y="1146"/>
                    <a:pt x="39" y="102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7407360" y="4365360"/>
              <a:ext cx="638640" cy="765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7371360" y="4403880"/>
              <a:ext cx="17640" cy="70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736680" y="4726800"/>
              <a:ext cx="641880" cy="386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6512760" y="4937040"/>
              <a:ext cx="865440" cy="182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236280" y="5107680"/>
              <a:ext cx="1155600" cy="184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6207120" y="5097960"/>
              <a:ext cx="1206720" cy="475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286680" y="5086800"/>
              <a:ext cx="1125720" cy="71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612120" y="5103000"/>
              <a:ext cx="810720" cy="78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273080" y="5103000"/>
              <a:ext cx="156600" cy="69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18520" y="5122440"/>
              <a:ext cx="566640" cy="26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431480" y="4947120"/>
              <a:ext cx="931680" cy="18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408800" y="4491000"/>
              <a:ext cx="1215360" cy="656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125800">
              <a:off x="7373520" y="5092560"/>
              <a:ext cx="86760" cy="77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 rot="20335800">
            <a:off x="4354560" y="4762440"/>
            <a:ext cx="1306440" cy="9000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19792800">
            <a:off x="6257880" y="4704840"/>
            <a:ext cx="2095560" cy="91764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60200" y="1115640"/>
            <a:ext cx="5988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ally Stable Extrem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age intensiti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“Extremal Region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threshold when an extrem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 is “Maximally Stable”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 min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relat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its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a region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643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6434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Matas et.al. “Distinguished Regions for Wide-baseline Stereo”. Research Report of CMP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mini_israel_230" descr=""/>
          <p:cNvPicPr/>
          <p:nvPr/>
        </p:nvPicPr>
        <p:blipFill>
          <a:blip r:embed="rId1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1" name="mini_israel_227" descr=""/>
          <p:cNvPicPr/>
          <p:nvPr/>
        </p:nvPicPr>
        <p:blipFill>
          <a:blip r:embed="rId2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2" name="mini_israel_224" descr=""/>
          <p:cNvPicPr/>
          <p:nvPr/>
        </p:nvPicPr>
        <p:blipFill>
          <a:blip r:embed="rId3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3" name="mini_israel_221" descr=""/>
          <p:cNvPicPr/>
          <p:nvPr/>
        </p:nvPicPr>
        <p:blipFill>
          <a:blip r:embed="rId4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4" name="mini_israel_218" descr=""/>
          <p:cNvPicPr/>
          <p:nvPr/>
        </p:nvPicPr>
        <p:blipFill>
          <a:blip r:embed="rId5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5" name="mini_israel_215" descr=""/>
          <p:cNvPicPr/>
          <p:nvPr/>
        </p:nvPicPr>
        <p:blipFill>
          <a:blip r:embed="rId6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6" name="mini_israel_212" descr=""/>
          <p:cNvPicPr/>
          <p:nvPr/>
        </p:nvPicPr>
        <p:blipFill>
          <a:blip r:embed="rId7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7" name="mini_israel_209" descr=""/>
          <p:cNvPicPr/>
          <p:nvPr/>
        </p:nvPicPr>
        <p:blipFill>
          <a:blip r:embed="rId8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8" name="mini_israel_206" descr=""/>
          <p:cNvPicPr/>
          <p:nvPr/>
        </p:nvPicPr>
        <p:blipFill>
          <a:blip r:embed="rId9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79" name="mini_israel_203" descr=""/>
          <p:cNvPicPr/>
          <p:nvPr/>
        </p:nvPicPr>
        <p:blipFill>
          <a:blip r:embed="rId10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80" name="mini_israel_200" descr=""/>
          <p:cNvPicPr/>
          <p:nvPr/>
        </p:nvPicPr>
        <p:blipFill>
          <a:blip r:embed="rId11"/>
          <a:stretch/>
        </p:blipFill>
        <p:spPr>
          <a:xfrm>
            <a:off x="5397480" y="1839960"/>
            <a:ext cx="3375000" cy="4495680"/>
          </a:xfrm>
          <a:prstGeom prst="rect">
            <a:avLst/>
          </a:prstGeom>
          <a:ln w="0">
            <a:noFill/>
          </a:ln>
        </p:spPr>
      </p:pic>
      <p:pic>
        <p:nvPicPr>
          <p:cNvPr id="881" name="mini_israel" descr=""/>
          <p:cNvPicPr/>
          <p:nvPr/>
        </p:nvPicPr>
        <p:blipFill>
          <a:blip r:embed="rId12"/>
          <a:stretch/>
        </p:blipFill>
        <p:spPr>
          <a:xfrm>
            <a:off x="5398920" y="1841400"/>
            <a:ext cx="3383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tection 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647360"/>
            <a:ext cx="78487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affine transformation, we do not know in advance shapes of the corresponding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ipse given by geometric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variance matr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region robustly approximates thi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rresponding regions ellipses also corresp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0240" y="4516560"/>
            <a:ext cx="7925040" cy="138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Search for extremum along r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Tuytelaars, Van Gool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Maximally Stable Extremal Reg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Matas et.al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4440" y="427824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Descri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9" name="SIFT2" descr=""/>
          <p:cNvPicPr/>
          <p:nvPr/>
        </p:nvPicPr>
        <p:blipFill>
          <a:blip r:embed="rId1"/>
          <a:stretch/>
        </p:blipFill>
        <p:spPr>
          <a:xfrm>
            <a:off x="4660920" y="2562120"/>
            <a:ext cx="3674880" cy="2660760"/>
          </a:xfrm>
          <a:prstGeom prst="rect">
            <a:avLst/>
          </a:prstGeom>
          <a:ln w="0">
            <a:noFill/>
          </a:ln>
        </p:spPr>
      </p:pic>
      <p:pic>
        <p:nvPicPr>
          <p:cNvPr id="890" name="SIFT1" descr=""/>
          <p:cNvPicPr/>
          <p:nvPr/>
        </p:nvPicPr>
        <p:blipFill>
          <a:blip r:embed="rId2"/>
          <a:stretch/>
        </p:blipFill>
        <p:spPr>
          <a:xfrm>
            <a:off x="851040" y="2562120"/>
            <a:ext cx="3674880" cy="266400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 flipV="1">
            <a:off x="3289320" y="3362040"/>
            <a:ext cx="1905120" cy="152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32160" y="3632040"/>
            <a:ext cx="1816200" cy="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3724200" y="4733640"/>
            <a:ext cx="1698840" cy="142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4181400" y="4276800"/>
            <a:ext cx="1736640" cy="410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444840" y="3857400"/>
            <a:ext cx="1825560" cy="129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85880" y="1152000"/>
            <a:ext cx="757080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know how to detec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 to match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06960" y="26607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08280" y="5392800"/>
            <a:ext cx="3471840" cy="11912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oint descriptor should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stin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28480" y="4721400"/>
            <a:ext cx="4281480" cy="47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with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219320"/>
            <a:ext cx="7086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 feature points in both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corresponding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se pairs to align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homography" descr=""/>
          <p:cNvPicPr/>
          <p:nvPr/>
        </p:nvPicPr>
        <p:blipFill>
          <a:blip r:embed="rId1"/>
          <a:stretch/>
        </p:blipFill>
        <p:spPr>
          <a:xfrm>
            <a:off x="822240" y="3436920"/>
            <a:ext cx="56912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ors Invariant to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785880" y="1152000"/>
            <a:ext cx="757080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arris corner response mea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only on the eigenvalues of the matri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2811600" y="4022640"/>
            <a:ext cx="685800" cy="685800"/>
            <a:chOff x="2811600" y="4022640"/>
            <a:chExt cx="685800" cy="685800"/>
          </a:xfrm>
        </p:grpSpPr>
        <p:sp>
          <p:nvSpPr>
            <p:cNvPr id="905" name=""/>
            <p:cNvSpPr/>
            <p:nvPr/>
          </p:nvSpPr>
          <p:spPr>
            <a:xfrm>
              <a:off x="2811600" y="4022640"/>
              <a:ext cx="685800" cy="685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04200" y="4259880"/>
              <a:ext cx="492840" cy="44820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528"/>
                  </a:moveTo>
                  <a:lnTo>
                    <a:pt x="48" y="0"/>
                  </a:lnTo>
                  <a:lnTo>
                    <a:pt x="720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249880" y="4022640"/>
            <a:ext cx="763200" cy="796680"/>
            <a:chOff x="5249880" y="4022640"/>
            <a:chExt cx="763200" cy="796680"/>
          </a:xfrm>
        </p:grpSpPr>
        <p:sp>
          <p:nvSpPr>
            <p:cNvPr id="908" name=""/>
            <p:cNvSpPr/>
            <p:nvPr/>
          </p:nvSpPr>
          <p:spPr>
            <a:xfrm>
              <a:off x="5249880" y="4022640"/>
              <a:ext cx="685800" cy="6858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3029400">
              <a:off x="5342400" y="4177080"/>
              <a:ext cx="577800" cy="512640"/>
            </a:xfrm>
            <a:custGeom>
              <a:avLst/>
              <a:gdLst/>
              <a:ahLst/>
              <a:rect l="l" t="t" r="r" b="b"/>
              <a:pathLst>
                <a:path w="720" h="528">
                  <a:moveTo>
                    <a:pt x="0" y="528"/>
                  </a:moveTo>
                  <a:lnTo>
                    <a:pt x="48" y="0"/>
                  </a:lnTo>
                  <a:lnTo>
                    <a:pt x="720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4030560" y="4251240"/>
            <a:ext cx="762120" cy="7621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700720" y="5010480"/>
            <a:ext cx="996120" cy="675360"/>
            <a:chOff x="2700720" y="5010480"/>
            <a:chExt cx="996120" cy="675360"/>
          </a:xfrm>
        </p:grpSpPr>
        <p:sp>
          <p:nvSpPr>
            <p:cNvPr id="912" name=""/>
            <p:cNvSpPr/>
            <p:nvPr/>
          </p:nvSpPr>
          <p:spPr>
            <a:xfrm rot="20330400">
              <a:off x="2735280" y="5165640"/>
              <a:ext cx="927000" cy="365040"/>
            </a:xfrm>
            <a:prstGeom prst="ellipse">
              <a:avLst/>
            </a:prstGeom>
            <a:solidFill>
              <a:srgbClr val="7cf6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2766240" y="5180400"/>
              <a:ext cx="86472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32720" y="5177880"/>
              <a:ext cx="1317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064120" y="5036400"/>
            <a:ext cx="993600" cy="623520"/>
            <a:chOff x="5064120" y="5036400"/>
            <a:chExt cx="993600" cy="623520"/>
          </a:xfrm>
        </p:grpSpPr>
        <p:sp>
          <p:nvSpPr>
            <p:cNvPr id="916" name=""/>
            <p:cNvSpPr/>
            <p:nvPr/>
          </p:nvSpPr>
          <p:spPr>
            <a:xfrm rot="1035600">
              <a:off x="5097240" y="5165640"/>
              <a:ext cx="927000" cy="365040"/>
            </a:xfrm>
            <a:prstGeom prst="ellipse">
              <a:avLst/>
            </a:prstGeom>
            <a:solidFill>
              <a:srgbClr val="7cf6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18480" y="5210280"/>
              <a:ext cx="885240" cy="2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506920" y="5173920"/>
              <a:ext cx="10800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9" name=""/>
          <p:cNvGraphicFramePr/>
          <p:nvPr/>
        </p:nvGraphicFramePr>
        <p:xfrm>
          <a:off x="2174760" y="2397240"/>
          <a:ext cx="442296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760" y="2397240"/>
                    <a:ext cx="44229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04920" y="64008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Harris, M.Stephens. “A Combined Corner and Edge Detector”. 19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ors Invariant to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85880" y="1152000"/>
            <a:ext cx="7570800" cy="8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mage moments in polar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2411280" y="1862280"/>
          <a:ext cx="354492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862280"/>
                    <a:ext cx="354492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6400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Matas et.al. “Rotational Invariants for Wide-baseline Stereo”. Research Report of CMP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19040" y="2836800"/>
            <a:ext cx="6963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in polar coordinates is translation of the angl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ransformation changes only the phase of the moments, but not its magn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795240" y="4446720"/>
            <a:ext cx="5859720" cy="825480"/>
            <a:chOff x="795240" y="4446720"/>
            <a:chExt cx="5859720" cy="825480"/>
          </a:xfrm>
        </p:grpSpPr>
        <p:graphicFrame>
          <p:nvGraphicFramePr>
            <p:cNvPr id="931" name=""/>
            <p:cNvGraphicFramePr/>
            <p:nvPr/>
          </p:nvGraphicFramePr>
          <p:xfrm>
            <a:off x="5921280" y="4525920"/>
            <a:ext cx="733680" cy="6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1280" y="4525920"/>
                      <a:ext cx="733680" cy="6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3" name=""/>
            <p:cNvSpPr/>
            <p:nvPr/>
          </p:nvSpPr>
          <p:spPr>
            <a:xfrm>
              <a:off x="795240" y="4446720"/>
              <a:ext cx="487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ion invariant descriptor consists of magnitudes of momen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793800" y="5538960"/>
            <a:ext cx="739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ing is done by comparing vecto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]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,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ors Invariant to 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785880" y="1195560"/>
            <a:ext cx="7570800" cy="5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d local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03240" y="1779480"/>
            <a:ext cx="39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direction of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68960" y="2305080"/>
            <a:ext cx="1029960" cy="93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87560" y="2319480"/>
            <a:ext cx="1030320" cy="93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411360" y="2422080"/>
            <a:ext cx="0" cy="4352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805280" y="2481120"/>
            <a:ext cx="349200" cy="3621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27200" y="3560760"/>
            <a:ext cx="762768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mpute image derivatives relative to this 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2320" y="6216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920" y="6216480"/>
            <a:ext cx="90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.Mikolajczyk, C.Schmid. “Indexing Based on Scale Invariant Interest Points”. ICCV 2001</a:t>
            </a:r>
            <a:br>
              <a:rPr sz="1800"/>
            </a:b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Lowe. “Distinctive Image Features from Scale-Invariant Keypoints”. Accepted to IJC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14440" y="514980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ors Invariant to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785880" y="1195560"/>
            <a:ext cx="7338960" cy="10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se the scale determined by detector to compute descriptor in a normalized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745640" y="2489040"/>
            <a:ext cx="6305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ments integrated over an adapted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tives adapted to sca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15960" y="1206360"/>
            <a:ext cx="771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Harris Corne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otation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cal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5480" y="5592600"/>
            <a:ext cx="4281480" cy="4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scri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85880" y="1195200"/>
            <a:ext cx="733896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ffine invariant color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407960" y="2022480"/>
          <a:ext cx="62200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7960" y="2022480"/>
                    <a:ext cx="6220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8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-57240" y="6400800"/>
            <a:ext cx="9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.Mindru et.al. “Recognizing Color Patterns Irrespective of Viewpoint and Illumination”. CVPR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170000" y="33624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ombinations of these moments are fully affine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76480" y="4581360"/>
            <a:ext cx="544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invariant to affine transformation of intens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he-I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+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87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fine Invariant Descri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22400" y="952200"/>
            <a:ext cx="733896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nd affine normalized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6400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Matas et.al. “Rotational Invariants for Wide-baseline Stereo”. Research Report of CMP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38520" y="2075040"/>
            <a:ext cx="1071720" cy="34740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86760 h 347400"/>
              <a:gd name="textAreaBottom" fmla="*/ 260640 h 34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679640" y="1102320"/>
            <a:ext cx="2166120" cy="1905120"/>
            <a:chOff x="4679640" y="1102320"/>
            <a:chExt cx="2166120" cy="1905120"/>
          </a:xfrm>
        </p:grpSpPr>
        <p:sp>
          <p:nvSpPr>
            <p:cNvPr id="968" name=""/>
            <p:cNvSpPr/>
            <p:nvPr/>
          </p:nvSpPr>
          <p:spPr>
            <a:xfrm rot="20125800">
              <a:off x="4902120" y="1609560"/>
              <a:ext cx="1712880" cy="744480"/>
            </a:xfrm>
            <a:custGeom>
              <a:avLst/>
              <a:gdLst/>
              <a:ahLst/>
              <a:rect l="l" t="t" r="r" b="b"/>
              <a:pathLst>
                <a:path w="1689" h="1180">
                  <a:moveTo>
                    <a:pt x="39" y="1020"/>
                  </a:moveTo>
                  <a:cubicBezTo>
                    <a:pt x="0" y="894"/>
                    <a:pt x="26" y="531"/>
                    <a:pt x="113" y="417"/>
                  </a:cubicBezTo>
                  <a:cubicBezTo>
                    <a:pt x="200" y="303"/>
                    <a:pt x="474" y="404"/>
                    <a:pt x="561" y="335"/>
                  </a:cubicBezTo>
                  <a:cubicBezTo>
                    <a:pt x="648" y="266"/>
                    <a:pt x="550" y="10"/>
                    <a:pt x="634" y="5"/>
                  </a:cubicBezTo>
                  <a:cubicBezTo>
                    <a:pt x="718" y="0"/>
                    <a:pt x="924" y="263"/>
                    <a:pt x="1063" y="307"/>
                  </a:cubicBezTo>
                  <a:cubicBezTo>
                    <a:pt x="1202" y="351"/>
                    <a:pt x="1407" y="215"/>
                    <a:pt x="1466" y="271"/>
                  </a:cubicBezTo>
                  <a:cubicBezTo>
                    <a:pt x="1525" y="327"/>
                    <a:pt x="1413" y="526"/>
                    <a:pt x="1420" y="645"/>
                  </a:cubicBezTo>
                  <a:cubicBezTo>
                    <a:pt x="1427" y="764"/>
                    <a:pt x="1689" y="896"/>
                    <a:pt x="1511" y="984"/>
                  </a:cubicBezTo>
                  <a:cubicBezTo>
                    <a:pt x="1333" y="1072"/>
                    <a:pt x="592" y="1172"/>
                    <a:pt x="350" y="1176"/>
                  </a:cubicBezTo>
                  <a:cubicBezTo>
                    <a:pt x="108" y="1180"/>
                    <a:pt x="78" y="1146"/>
                    <a:pt x="39" y="102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19647600">
              <a:off x="4811400" y="1531440"/>
              <a:ext cx="1901880" cy="1046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0" name=""/>
          <p:cNvGraphicFramePr/>
          <p:nvPr/>
        </p:nvGraphicFramePr>
        <p:xfrm>
          <a:off x="6904080" y="1930320"/>
          <a:ext cx="139392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080" y="1930320"/>
                    <a:ext cx="13939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"/>
          <p:cNvGrpSpPr/>
          <p:nvPr/>
        </p:nvGrpSpPr>
        <p:grpSpPr>
          <a:xfrm>
            <a:off x="2061000" y="1641600"/>
            <a:ext cx="1452600" cy="1142280"/>
            <a:chOff x="2061000" y="1641600"/>
            <a:chExt cx="1452600" cy="1142280"/>
          </a:xfrm>
        </p:grpSpPr>
        <p:sp>
          <p:nvSpPr>
            <p:cNvPr id="973" name=""/>
            <p:cNvSpPr/>
            <p:nvPr/>
          </p:nvSpPr>
          <p:spPr>
            <a:xfrm>
              <a:off x="2280960" y="1822320"/>
              <a:ext cx="1049400" cy="698760"/>
            </a:xfrm>
            <a:custGeom>
              <a:avLst/>
              <a:gdLst/>
              <a:ahLst/>
              <a:rect l="l" t="t" r="r" b="b"/>
              <a:pathLst>
                <a:path w="1689" h="1180">
                  <a:moveTo>
                    <a:pt x="39" y="1020"/>
                  </a:moveTo>
                  <a:cubicBezTo>
                    <a:pt x="0" y="894"/>
                    <a:pt x="26" y="531"/>
                    <a:pt x="113" y="417"/>
                  </a:cubicBezTo>
                  <a:cubicBezTo>
                    <a:pt x="200" y="303"/>
                    <a:pt x="474" y="404"/>
                    <a:pt x="561" y="335"/>
                  </a:cubicBezTo>
                  <a:cubicBezTo>
                    <a:pt x="648" y="266"/>
                    <a:pt x="550" y="10"/>
                    <a:pt x="634" y="5"/>
                  </a:cubicBezTo>
                  <a:cubicBezTo>
                    <a:pt x="718" y="0"/>
                    <a:pt x="924" y="263"/>
                    <a:pt x="1063" y="307"/>
                  </a:cubicBezTo>
                  <a:cubicBezTo>
                    <a:pt x="1202" y="351"/>
                    <a:pt x="1407" y="215"/>
                    <a:pt x="1466" y="271"/>
                  </a:cubicBezTo>
                  <a:cubicBezTo>
                    <a:pt x="1525" y="327"/>
                    <a:pt x="1413" y="526"/>
                    <a:pt x="1420" y="645"/>
                  </a:cubicBezTo>
                  <a:cubicBezTo>
                    <a:pt x="1427" y="764"/>
                    <a:pt x="1689" y="896"/>
                    <a:pt x="1511" y="984"/>
                  </a:cubicBezTo>
                  <a:cubicBezTo>
                    <a:pt x="1333" y="1072"/>
                    <a:pt x="592" y="1172"/>
                    <a:pt x="350" y="1176"/>
                  </a:cubicBezTo>
                  <a:cubicBezTo>
                    <a:pt x="108" y="1180"/>
                    <a:pt x="78" y="1146"/>
                    <a:pt x="39" y="102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20931600">
              <a:off x="2136240" y="1758600"/>
              <a:ext cx="1301760" cy="9079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5" name=""/>
          <p:cNvGraphicFramePr/>
          <p:nvPr/>
        </p:nvGraphicFramePr>
        <p:xfrm>
          <a:off x="552600" y="1971720"/>
          <a:ext cx="140004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2600" y="1971720"/>
                    <a:ext cx="14000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"/>
          <p:cNvSpPr/>
          <p:nvPr/>
        </p:nvSpPr>
        <p:spPr>
          <a:xfrm>
            <a:off x="3893040" y="1530360"/>
            <a:ext cx="39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61960" y="2959200"/>
            <a:ext cx="2910240" cy="2447640"/>
            <a:chOff x="561960" y="2959200"/>
            <a:chExt cx="2910240" cy="2447640"/>
          </a:xfrm>
        </p:grpSpPr>
        <p:grpSp>
          <p:nvGrpSpPr>
            <p:cNvPr id="979" name=""/>
            <p:cNvGrpSpPr/>
            <p:nvPr/>
          </p:nvGrpSpPr>
          <p:grpSpPr>
            <a:xfrm>
              <a:off x="2160000" y="4141080"/>
              <a:ext cx="1312200" cy="1265760"/>
              <a:chOff x="2160000" y="4141080"/>
              <a:chExt cx="1312200" cy="1265760"/>
            </a:xfrm>
          </p:grpSpPr>
          <p:sp>
            <p:nvSpPr>
              <p:cNvPr id="980" name=""/>
              <p:cNvSpPr/>
              <p:nvPr/>
            </p:nvSpPr>
            <p:spPr>
              <a:xfrm>
                <a:off x="2377440" y="4314600"/>
                <a:ext cx="908640" cy="822240"/>
              </a:xfrm>
              <a:custGeom>
                <a:avLst/>
                <a:gdLst/>
                <a:ahLst/>
                <a:rect l="l" t="t" r="r" b="b"/>
                <a:pathLst>
                  <a:path w="1689" h="1180">
                    <a:moveTo>
                      <a:pt x="39" y="1020"/>
                    </a:moveTo>
                    <a:cubicBezTo>
                      <a:pt x="0" y="894"/>
                      <a:pt x="26" y="531"/>
                      <a:pt x="113" y="417"/>
                    </a:cubicBezTo>
                    <a:cubicBezTo>
                      <a:pt x="200" y="303"/>
                      <a:pt x="474" y="404"/>
                      <a:pt x="561" y="335"/>
                    </a:cubicBezTo>
                    <a:cubicBezTo>
                      <a:pt x="648" y="266"/>
                      <a:pt x="550" y="10"/>
                      <a:pt x="634" y="5"/>
                    </a:cubicBezTo>
                    <a:cubicBezTo>
                      <a:pt x="718" y="0"/>
                      <a:pt x="924" y="263"/>
                      <a:pt x="1063" y="307"/>
                    </a:cubicBezTo>
                    <a:cubicBezTo>
                      <a:pt x="1202" y="351"/>
                      <a:pt x="1407" y="215"/>
                      <a:pt x="1466" y="271"/>
                    </a:cubicBezTo>
                    <a:cubicBezTo>
                      <a:pt x="1525" y="327"/>
                      <a:pt x="1413" y="526"/>
                      <a:pt x="1420" y="645"/>
                    </a:cubicBezTo>
                    <a:cubicBezTo>
                      <a:pt x="1427" y="764"/>
                      <a:pt x="1689" y="896"/>
                      <a:pt x="1511" y="984"/>
                    </a:cubicBezTo>
                    <a:cubicBezTo>
                      <a:pt x="1333" y="1072"/>
                      <a:pt x="592" y="1172"/>
                      <a:pt x="350" y="1176"/>
                    </a:cubicBezTo>
                    <a:cubicBezTo>
                      <a:pt x="108" y="1180"/>
                      <a:pt x="78" y="1146"/>
                      <a:pt x="39" y="1020"/>
                    </a:cubicBez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931600">
                <a:off x="2252520" y="4239720"/>
                <a:ext cx="1127160" cy="10681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 rot="5400000">
              <a:off x="2298240" y="3292200"/>
              <a:ext cx="985680" cy="319320"/>
            </a:xfrm>
            <a:custGeom>
              <a:avLst/>
              <a:gdLst>
                <a:gd name="textAreaLeft" fmla="*/ 153720 w 985680"/>
                <a:gd name="textAreaRight" fmla="*/ 862560 w 985680"/>
                <a:gd name="textAreaTop" fmla="*/ 79920 h 319320"/>
                <a:gd name="textAreaBottom" fmla="*/ 239760 h 3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25440" y="3083040"/>
              <a:ext cx="500760" cy="579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84" name=""/>
            <p:cNvGraphicFramePr/>
            <p:nvPr/>
          </p:nvGraphicFramePr>
          <p:xfrm>
            <a:off x="561960" y="3140280"/>
            <a:ext cx="132732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60" y="3140280"/>
                      <a:ext cx="13273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86" name=""/>
          <p:cNvGrpSpPr/>
          <p:nvPr/>
        </p:nvGrpSpPr>
        <p:grpSpPr>
          <a:xfrm>
            <a:off x="5074920" y="2946240"/>
            <a:ext cx="3225960" cy="2627640"/>
            <a:chOff x="5074920" y="2946240"/>
            <a:chExt cx="3225960" cy="2627640"/>
          </a:xfrm>
        </p:grpSpPr>
        <p:grpSp>
          <p:nvGrpSpPr>
            <p:cNvPr id="987" name=""/>
            <p:cNvGrpSpPr/>
            <p:nvPr/>
          </p:nvGrpSpPr>
          <p:grpSpPr>
            <a:xfrm>
              <a:off x="5074920" y="4031280"/>
              <a:ext cx="1530720" cy="1542600"/>
              <a:chOff x="5074920" y="4031280"/>
              <a:chExt cx="1530720" cy="1542600"/>
            </a:xfrm>
          </p:grpSpPr>
          <p:sp>
            <p:nvSpPr>
              <p:cNvPr id="988" name=""/>
              <p:cNvSpPr/>
              <p:nvPr/>
            </p:nvSpPr>
            <p:spPr>
              <a:xfrm rot="19078200">
                <a:off x="5364720" y="4344840"/>
                <a:ext cx="908640" cy="822240"/>
              </a:xfrm>
              <a:custGeom>
                <a:avLst/>
                <a:gdLst/>
                <a:ahLst/>
                <a:rect l="l" t="t" r="r" b="b"/>
                <a:pathLst>
                  <a:path w="1689" h="1180">
                    <a:moveTo>
                      <a:pt x="39" y="1020"/>
                    </a:moveTo>
                    <a:cubicBezTo>
                      <a:pt x="0" y="894"/>
                      <a:pt x="26" y="531"/>
                      <a:pt x="113" y="417"/>
                    </a:cubicBezTo>
                    <a:cubicBezTo>
                      <a:pt x="200" y="303"/>
                      <a:pt x="474" y="404"/>
                      <a:pt x="561" y="335"/>
                    </a:cubicBezTo>
                    <a:cubicBezTo>
                      <a:pt x="648" y="266"/>
                      <a:pt x="550" y="10"/>
                      <a:pt x="634" y="5"/>
                    </a:cubicBezTo>
                    <a:cubicBezTo>
                      <a:pt x="718" y="0"/>
                      <a:pt x="924" y="263"/>
                      <a:pt x="1063" y="307"/>
                    </a:cubicBezTo>
                    <a:cubicBezTo>
                      <a:pt x="1202" y="351"/>
                      <a:pt x="1407" y="215"/>
                      <a:pt x="1466" y="271"/>
                    </a:cubicBezTo>
                    <a:cubicBezTo>
                      <a:pt x="1525" y="327"/>
                      <a:pt x="1413" y="526"/>
                      <a:pt x="1420" y="645"/>
                    </a:cubicBezTo>
                    <a:cubicBezTo>
                      <a:pt x="1427" y="764"/>
                      <a:pt x="1689" y="896"/>
                      <a:pt x="1511" y="984"/>
                    </a:cubicBezTo>
                    <a:cubicBezTo>
                      <a:pt x="1333" y="1072"/>
                      <a:pt x="592" y="1172"/>
                      <a:pt x="350" y="1176"/>
                    </a:cubicBezTo>
                    <a:cubicBezTo>
                      <a:pt x="108" y="1180"/>
                      <a:pt x="78" y="1146"/>
                      <a:pt x="39" y="1020"/>
                    </a:cubicBezTo>
                    <a:close/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8409800">
                <a:off x="5276520" y="4268160"/>
                <a:ext cx="1127160" cy="10681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 rot="5400000">
              <a:off x="5205600" y="3279600"/>
              <a:ext cx="985680" cy="318960"/>
            </a:xfrm>
            <a:custGeom>
              <a:avLst/>
              <a:gdLst>
                <a:gd name="textAreaLeft" fmla="*/ 153720 w 985680"/>
                <a:gd name="textAreaRight" fmla="*/ 862560 w 985680"/>
                <a:gd name="textAreaTop" fmla="*/ 79560 h 318960"/>
                <a:gd name="textAreaBottom" fmla="*/ 239400 h 3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74840" y="3126960"/>
              <a:ext cx="500760" cy="579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2" name=""/>
            <p:cNvGraphicFramePr/>
            <p:nvPr/>
          </p:nvGraphicFramePr>
          <p:xfrm>
            <a:off x="6948360" y="3184200"/>
            <a:ext cx="135252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48360" y="3184200"/>
                      <a:ext cx="13525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4" name=""/>
          <p:cNvGrpSpPr/>
          <p:nvPr/>
        </p:nvGrpSpPr>
        <p:grpSpPr>
          <a:xfrm>
            <a:off x="3658320" y="4238640"/>
            <a:ext cx="1153440" cy="723960"/>
            <a:chOff x="3658320" y="4238640"/>
            <a:chExt cx="1153440" cy="723960"/>
          </a:xfrm>
        </p:grpSpPr>
        <p:sp>
          <p:nvSpPr>
            <p:cNvPr id="995" name=""/>
            <p:cNvSpPr/>
            <p:nvPr/>
          </p:nvSpPr>
          <p:spPr>
            <a:xfrm>
              <a:off x="3740040" y="4614840"/>
              <a:ext cx="1071720" cy="347760"/>
            </a:xfrm>
            <a:custGeom>
              <a:avLst/>
              <a:gdLst>
                <a:gd name="textAreaLeft" fmla="*/ 167400 w 1071720"/>
                <a:gd name="textAreaRight" fmla="*/ 937800 w 1071720"/>
                <a:gd name="textAreaTop" fmla="*/ 86760 h 347760"/>
                <a:gd name="textAreaBottom" fmla="*/ 261000 h 3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58320" y="423864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r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114480" y="5495760"/>
            <a:ext cx="8475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ompute rotational invariant descriptor in this normalized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00200" y="-3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FT – Scale Invariant Feature Transfor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68440" y="1044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ly fo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how very good performance, invarian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age r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nsity 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o mod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320" y="6230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0920" y="6230880"/>
            <a:ext cx="90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Lowe. “Distinctive Image Features from Scale-Invariant Keypoints”. Accepted to IJCV 2004</a:t>
            </a:r>
            <a:br>
              <a:rPr sz="1800"/>
            </a:b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.Mikolajczyk, C.Schmid. “A Performance Evaluation of Local Descriptors”. CVPR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3247920" y="2513160"/>
            <a:ext cx="4676760" cy="337176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990000" y="2825640"/>
            <a:ext cx="195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e = 2.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=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00200" y="-3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FT – Scale Invariant Featur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68440" y="1044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or over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c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y maximizing DoG in scale and in space),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ocal orient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dominant gradient direc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is scale and orientation to make all further computations invariant to scale and r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gradient orientation histogra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several small windows (128 values for each 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ize the descriptor to make it invariant to intensity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320" y="645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3720" y="6459480"/>
            <a:ext cx="89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.Lowe. “Distinctive Image Features from Scale-Invariant Keypoints”. Accepted to IJC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2822400" y="3835440"/>
            <a:ext cx="5180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with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penden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oth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81080" y="3809880"/>
            <a:ext cx="4077000" cy="1000080"/>
            <a:chOff x="1981080" y="3809880"/>
            <a:chExt cx="4077000" cy="10000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981080" y="3809880"/>
              <a:ext cx="17146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4495680" y="3886200"/>
              <a:ext cx="15624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590920" y="41148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2320" y="4419720"/>
              <a:ext cx="759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6880" y="45720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43434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91320" y="42670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720" y="457200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4191120"/>
              <a:ext cx="7632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48320" y="4495680"/>
              <a:ext cx="7596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91880" y="4876920"/>
            <a:ext cx="22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 chance to matc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5562720"/>
            <a:ext cx="5410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e need a repeatable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ffine Invariant Texture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07880" y="1025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 the image into regions of different textures (by a non-invariant 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the same as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is detector) over these region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trix defines the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4654440" y="1633680"/>
            <a:ext cx="4200480" cy="280980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7920" y="6073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6132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.Schaffalitzky, A.Zisserman. “Viewpoint Invariant Texture Matching and Wide Baseline Stereo”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CC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735120" y="2514600"/>
          <a:ext cx="3844800" cy="110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5120" y="2514600"/>
                    <a:ext cx="3844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1579680" y="4316400"/>
          <a:ext cx="1920600" cy="88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79680" y="4316400"/>
                    <a:ext cx="19206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8" name=""/>
          <p:cNvSpPr/>
          <p:nvPr/>
        </p:nvSpPr>
        <p:spPr>
          <a:xfrm>
            <a:off x="4243320" y="4532400"/>
            <a:ext cx="468648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s described by these ellipses are invariant under affine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ffine normalized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rotation invariant 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00200" y="29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variance to Intensity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99840" y="1417320"/>
            <a:ext cx="78404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ly invariant to affine (linear) change in image intensity, because we are searching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re based on derivatives =&gt; invariant to intensity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re normalized to tolerate intensity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ethod: pre-normalize intensity of a region (eliminate shift and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k Re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5600" y="1206360"/>
            <a:ext cx="77310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table (repeatable) feature points can be detected regardless of imag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al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search for correct scale as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of appropriat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ffin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approximate regions with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ellipse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(this operation is affine invari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Invariant and distinctive descriptors can be comp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varian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mo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Normaliz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with respect to scale and affine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2816280" y="1757520"/>
            <a:ext cx="3911400" cy="24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Happy End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ris Detector: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062520" y="2209680"/>
            <a:ext cx="2541240" cy="2345760"/>
            <a:chOff x="3062520" y="2209680"/>
            <a:chExt cx="2541240" cy="2345760"/>
          </a:xfrm>
        </p:grpSpPr>
        <p:pic>
          <p:nvPicPr>
            <p:cNvPr id="1026" name="" descr=""/>
            <p:cNvPicPr/>
            <p:nvPr/>
          </p:nvPicPr>
          <p:blipFill>
            <a:blip r:embed="rId1"/>
            <a:stretch/>
          </p:blipFill>
          <p:spPr>
            <a:xfrm>
              <a:off x="3156120" y="2971800"/>
              <a:ext cx="7221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" descr=""/>
            <p:cNvPicPr/>
            <p:nvPr/>
          </p:nvPicPr>
          <p:blipFill>
            <a:blip r:embed="rId2"/>
            <a:stretch/>
          </p:blipFill>
          <p:spPr>
            <a:xfrm>
              <a:off x="4146480" y="2209680"/>
              <a:ext cx="1457280" cy="18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3062520" y="3657600"/>
              <a:ext cx="90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97240" y="4114800"/>
              <a:ext cx="1285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1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with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point correctly recognize the corresponding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1714680" cy="100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1562400" cy="847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90920" y="4114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419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4343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7240" y="4267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00760" y="446724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962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4267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110040" y="3984120"/>
            <a:ext cx="1839960" cy="373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24080" y="4267080"/>
            <a:ext cx="1600200" cy="144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1200" y="4411800"/>
            <a:ext cx="1831680" cy="83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24080" y="4317480"/>
            <a:ext cx="2246400" cy="101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486400"/>
            <a:ext cx="76960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e need a reliable and distinctive 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motivation…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points are used also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alignment (homography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a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tr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 and database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7:55:50Z</dcterms:created>
  <dc:creator>den</dc:creator>
  <dc:description/>
  <dc:language>en-US</dc:language>
  <cp:lastModifiedBy>den</cp:lastModifiedBy>
  <dcterms:modified xsi:type="dcterms:W3CDTF">2004-03-21T11:37:13Z</dcterms:modified>
  <cp:revision>369</cp:revision>
  <dc:subject/>
  <dc:title>Detect Features</dc:title>
</cp:coreProperties>
</file>